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media/image8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DA3-0157-48C3-9A4C-CA746C5E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355-D127-44C3-B0C3-07CD846D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B93E7-761D-426D-BEE2-AB47B5D6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C0F58-A06A-44CC-957D-B2DD685C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E910A-DD18-4A8A-A7D0-DA8F419A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470E4-F4C5-43DF-9932-8B3F4987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9991C-5DA4-4600-9779-D1C31D42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F9090-261F-4E06-851D-0202B199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000D6-01A2-4FDB-9676-6C1D9C9D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59161-0E9D-4DFB-A767-8D7A3E60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AC779-4BE8-4CEF-A7F1-BBEF3E11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F97-0E81-4267-8410-1BBAC7D3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B8A-3518-4927-B08B-F6BB5F21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8E62-8D46-4CE1-8174-BDB82565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8B64-687D-46BA-A1E3-C3EF9366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2928-AEDE-4EED-A05C-7FEA2DFE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AB47-A606-4B80-ADFF-413898E3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DFD3-B53D-4A22-8546-3F66A896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D0FE-E94B-42C1-BB68-FB87EA14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8917-AA9E-4BD5-9411-0F02013F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C66-8A41-47B4-A9F3-F599F377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FB4F-14FE-42AF-92CE-50360906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0451-8A44-4BD9-BF9B-DA13BC2A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AD6D-6992-46D4-A787-E567CBAB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74F6-AC06-4C13-86E1-741E5794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27E6-D56A-47A1-BD7B-E7D3CD92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F682-94E1-474A-8ADD-3C14CD58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C0AB3-8041-4BA5-A266-9EADE8A0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C4EF-AED7-47B3-AF66-C87404A3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24F5-FCC3-4761-A5C5-25991C95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5F16D-2063-491A-BCFA-4432B6A2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B10-B8E6-44C8-B8C7-FD1C6578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0D623-5E12-4E4A-919C-6C62E498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A227D-362C-469E-B161-C7529621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41BE-C812-4D71-B2E2-5477FDA0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C2C4D-C930-4508-8A51-507B965A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506DB-EE7F-4A54-9835-237231D9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5D3C8-6FE2-4CDD-A499-EE4BB71D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C8CD0-4C3A-4F6D-BD09-A21F1880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952A6-F1F9-4CAB-A6CC-589B0F3B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E22A3-7E77-4624-BE21-EC3D028C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CE684-5CB1-4F8E-A410-B8800DF2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9C0-58D4-4ECE-895B-EF42BC5E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0C73E-8F91-4C32-A85A-2DE2467A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59A92-04E0-4624-BE7C-0023E106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5968-9EA1-4A3D-B1AF-C2F318CC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D8FFD-09A6-4193-A1C6-9495459F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68DC2-516B-45C8-9121-66834E2D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BF7E2-BE23-4646-A844-023702A6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A8010-2B81-4ABB-8F72-7A4B079A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5446F-C0F5-488E-A631-8995C051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B6C02-1653-42BE-AD28-32C901C2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CBB14-7557-4BCD-B70B-7EAF100B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66E-9B64-4E1F-AC42-B071B508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6701B-0FC1-437C-999A-3FC7AF21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16F7B-F39B-4D52-9AFF-77CEDCFD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69456-5B46-4631-99BA-6AAB4830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36E8E-E82F-4E84-A1A9-095C7CCB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7DBAA-E90A-4D07-93DD-54C4BCEC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80028-909C-4E99-BD51-78BDAF86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213C5-EDA8-47E6-A6A2-54060CE7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382EA-D793-49B1-BE5F-2EBEBFE1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A3295-BE36-476D-AA83-D7E6B8A3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40AF1-B9CC-4771-AB3A-E40D8622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85C-6B05-4000-93ED-6B8AFBE1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940ED-1157-4CDC-ACE4-A7CBF345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E3D36-3F3F-45DB-9098-87D3079E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87AA6-6EF9-41AF-AD14-4EDE4E11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2F67D-F7AA-4946-B568-9A26031B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C7BED-02CF-42B1-940E-B64AFA7D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4404B-C30F-49B4-9662-E02FEC03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18964-75C8-4B4A-BAA4-E132D480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D4959-375A-48CE-932B-5F9C7781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3F025-21C6-436F-B5E3-B1078AB4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ED6A4-BDC1-4A43-8412-BC0DDD9F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6CA-1C16-41DD-BC01-9B2B1520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5D49D-0D27-4781-B654-BFB4A7F1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5E5BE-F41E-4D0C-8F7C-E849161E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68BBA-2E16-4C8C-AE5B-B569F5FC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7CC42-F0D8-4348-91EF-CB77722B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71074-6002-4564-914A-4771FAFC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72EF6-8994-4550-80FB-E1C98F9C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027EC-7C50-4B18-B0A5-4E21EC9C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70028-06AA-43A2-A156-0EF2F2EE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BE5F0-CB38-4920-8BB1-8646F906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88EFE-C3A6-4CFB-A4EF-52D1F8C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476-73D3-49AC-B141-10FBE01E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2A4FE-8F28-4A7A-B908-E51AFA66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BB544-35D5-40EE-9DD6-87F767D6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9E684-18C7-4963-B36D-A527CE0C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05E63-1905-4D35-A43E-1D0BA041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1E1E8-C108-4C80-A319-C7E90671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EAD00-19A2-4B25-A8D4-60F298EC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7F21B-ACE9-4EA1-AB95-8FF794CC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EA1A0-FA90-4420-A23E-61B653AF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7AA47-4002-410E-8A56-64859DC3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7CAD3-2128-48B2-A27E-46A87F9F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990B-3584-49D3-8F0C-9DA184BA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CBA4D-6B22-4EC1-BC94-AA960242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993D7-ACFA-42F3-B810-FF3A3E16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400AF-8180-4562-9A69-EFCF1EDA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4AFCE-92F4-4493-A0EE-0F835834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CF897-90BC-4201-A986-F715475B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2C9F4-F8F9-4193-B7A7-FF6DDD33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577F3-C411-40E4-8EE3-81E70A5E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6E3AC-51C6-4D38-93F2-BF3AE629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A29AE-FCE6-4E71-8EBF-DF7C284D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6A007-FB24-472A-90E5-E3984B84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9F52-A1B1-4C75-98B8-525E1E42ADA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7F01-0892-4823-8659-BF15496FC18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3822-F90D-4192-91CE-8662BEF6BB4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5218-A70C-42F9-BCAA-8B96647195E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C813-3B30-4454-9FC2-B343C83FF20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FB3B-ACC5-46D6-A627-44E5EEB552B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9459-8D0F-4AEE-8AEA-B9DF2296C5D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5A4D-D98D-4B43-B79A-A824065EDAE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F146-A7C6-4836-8201-A83F5A2E506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ый треугольник 7"/>
          <p:cNvSpPr/>
          <p:nvPr/>
        </p:nvSpPr>
        <p:spPr>
          <a:xfrm rot="9626400">
            <a:off x="1402920" y="2133360"/>
            <a:ext cx="6105600" cy="2212920"/>
          </a:xfrm>
          <a:prstGeom prst="rtTriangle">
            <a:avLst/>
          </a:prstGeom>
          <a:solidFill>
            <a:srgbClr val="acf0e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68000" y="31417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32a05"/>
                </a:solidFill>
                <a:latin typeface="Franklin Gothic Book"/>
              </a:rPr>
              <a:t>Прототип задания </a:t>
            </a:r>
            <a:r>
              <a:rPr b="1" lang="en-US" sz="3600" spc="-1" strike="noStrike">
                <a:solidFill>
                  <a:srgbClr val="432a05"/>
                </a:solidFill>
                <a:latin typeface="Franklin Gothic Book"/>
              </a:rPr>
              <a:t>(№ 27770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6"/>
          <p:cNvSpPr/>
          <p:nvPr/>
        </p:nvSpPr>
        <p:spPr>
          <a:xfrm>
            <a:off x="103680" y="4005360"/>
            <a:ext cx="91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3bd"/>
                </a:solidFill>
                <a:latin typeface="Franklin Gothic Book"/>
              </a:rPr>
              <a:t>Угол между выссотой и биссектрис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3bd"/>
                </a:solidFill>
                <a:latin typeface="Franklin Gothic Book"/>
              </a:rPr>
              <a:t>выходящие из вершины прямого угла прямоуго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3bd"/>
                </a:solidFill>
                <a:latin typeface="Franklin Gothic Book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9"/>
          <p:cNvSpPr/>
          <p:nvPr/>
        </p:nvSpPr>
        <p:spPr>
          <a:xfrm>
            <a:off x="6956280" y="1162080"/>
            <a:ext cx="5040" cy="210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ая соединительная линия 15"/>
          <p:cNvSpPr/>
          <p:nvPr/>
        </p:nvSpPr>
        <p:spPr>
          <a:xfrm flipH="1">
            <a:off x="6227640" y="1197000"/>
            <a:ext cx="72072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Равнобедренный треугольник 4"/>
          <p:cNvSpPr/>
          <p:nvPr/>
        </p:nvSpPr>
        <p:spPr>
          <a:xfrm>
            <a:off x="1692360" y="3284640"/>
            <a:ext cx="2663640" cy="1512720"/>
          </a:xfrm>
          <a:prstGeom prst="triangle">
            <a:avLst>
              <a:gd name="adj" fmla="val 34838"/>
            </a:avLst>
          </a:prstGeom>
          <a:solidFill>
            <a:srgbClr val="bbe0e3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98440" y="365040"/>
            <a:ext cx="8699400" cy="11397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179280" y="1125000"/>
            <a:ext cx="89647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anklin Gothic Book"/>
              </a:rPr>
              <a:t>    </a:t>
            </a:r>
            <a:r>
              <a:rPr b="1" lang="en-US" sz="2400" spc="-1" strike="noStrike">
                <a:solidFill>
                  <a:srgbClr val="c00000"/>
                </a:solidFill>
                <a:latin typeface="Franklin Gothic Book"/>
              </a:rPr>
              <a:t>Биссектриса</a:t>
            </a:r>
            <a:r>
              <a:rPr b="1" lang="en-US" sz="2400" spc="-1" strike="noStrike">
                <a:solidFill>
                  <a:srgbClr val="0000cc"/>
                </a:solidFill>
                <a:latin typeface="Franklin Gothic Book"/>
              </a:rPr>
              <a:t> внутреннего угла треугольника - отрезок прямой, делящей данный угол на две равные части, соединяющий вершину угла с точкой на противоположной сторон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5"/>
          <p:cNvSpPr/>
          <p:nvPr/>
        </p:nvSpPr>
        <p:spPr>
          <a:xfrm>
            <a:off x="1419840" y="4653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2432880" y="2924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7"/>
          <p:cNvSpPr/>
          <p:nvPr/>
        </p:nvSpPr>
        <p:spPr>
          <a:xfrm>
            <a:off x="4284720" y="4581360"/>
            <a:ext cx="3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8"/>
          <p:cNvSpPr/>
          <p:nvPr/>
        </p:nvSpPr>
        <p:spPr>
          <a:xfrm>
            <a:off x="2618640" y="3284640"/>
            <a:ext cx="29700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9"/>
          <p:cNvSpPr/>
          <p:nvPr/>
        </p:nvSpPr>
        <p:spPr>
          <a:xfrm>
            <a:off x="2710800" y="47973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10"/>
          <p:cNvSpPr/>
          <p:nvPr/>
        </p:nvSpPr>
        <p:spPr>
          <a:xfrm>
            <a:off x="2411640" y="3860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cc"/>
                </a:solidFill>
                <a:latin typeface="Calibri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2843640" y="3860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cc"/>
                </a:solidFill>
                <a:latin typeface="Calibri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2"/>
          <p:cNvSpPr/>
          <p:nvPr/>
        </p:nvSpPr>
        <p:spPr>
          <a:xfrm>
            <a:off x="4522320" y="2852640"/>
            <a:ext cx="399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ВМ - биссектр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Дуга 13"/>
          <p:cNvSpPr/>
          <p:nvPr/>
        </p:nvSpPr>
        <p:spPr>
          <a:xfrm rot="8662200">
            <a:off x="2279160" y="3241440"/>
            <a:ext cx="576360" cy="718920"/>
          </a:xfrm>
          <a:custGeom>
            <a:avLst/>
            <a:gdLst>
              <a:gd name="textAreaLeft" fmla="*/ 326520 w 576360"/>
              <a:gd name="textAreaRight" fmla="*/ 576720 w 576360"/>
              <a:gd name="textAreaTop" fmla="*/ 2880 h 718920"/>
              <a:gd name="textAreaBottom" fmla="*/ 359640 h 718920"/>
            </a:gdLst>
            <a:ahLst/>
            <a:rect l="textAreaLeft" t="textAreaTop" r="textAreaRight" b="textAreaBottom"/>
            <a:pathLst>
              <a:path stroke="0" w="576263" h="719138">
                <a:moveTo>
                  <a:pt x="326474" y="3198"/>
                </a:moveTo>
                <a:lnTo>
                  <a:pt x="326474" y="3198"/>
                </a:lnTo>
                <a:arcTo wR="288132" hR="359569" stAng="-5031550" swAng="5031562"/>
                <a:lnTo>
                  <a:pt x="288132" y="359569"/>
                </a:lnTo>
                <a:close/>
              </a:path>
              <a:path fill="none" w="576263" h="719138">
                <a:moveTo>
                  <a:pt x="326474" y="3198"/>
                </a:moveTo>
                <a:lnTo>
                  <a:pt x="326474" y="3198"/>
                </a:lnTo>
                <a:arcTo wR="288132" hR="359569" stAng="-5031550" swAng="5031562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Дуга 14"/>
          <p:cNvSpPr/>
          <p:nvPr/>
        </p:nvSpPr>
        <p:spPr>
          <a:xfrm rot="8525400">
            <a:off x="2671560" y="3370320"/>
            <a:ext cx="758520" cy="401760"/>
          </a:xfrm>
          <a:custGeom>
            <a:avLst/>
            <a:gdLst>
              <a:gd name="textAreaLeft" fmla="*/ 402480 w 758520"/>
              <a:gd name="textAreaRight" fmla="*/ 758880 w 758520"/>
              <a:gd name="textAreaTop" fmla="*/ 360 h 401760"/>
              <a:gd name="textAreaBottom" fmla="*/ 200880 h 401760"/>
            </a:gdLst>
            <a:ahLst/>
            <a:rect l="textAreaLeft" t="textAreaTop" r="textAreaRight" b="textAreaBottom"/>
            <a:pathLst>
              <a:path stroke="0" w="758825" h="401637">
                <a:moveTo>
                  <a:pt x="402454" y="371"/>
                </a:moveTo>
                <a:lnTo>
                  <a:pt x="402454" y="371"/>
                </a:lnTo>
                <a:arcTo wR="379413" hR="200819" stAng="-5006549" swAng="5006558"/>
                <a:lnTo>
                  <a:pt x="379413" y="200819"/>
                </a:lnTo>
                <a:close/>
              </a:path>
              <a:path fill="none" w="758825" h="401637">
                <a:moveTo>
                  <a:pt x="402454" y="371"/>
                </a:moveTo>
                <a:lnTo>
                  <a:pt x="402454" y="371"/>
                </a:lnTo>
                <a:arcTo wR="379413" hR="200819" stAng="-5006549" swAng="5006558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24720" y="6381720"/>
            <a:ext cx="684360" cy="260280"/>
          </a:xfrm>
          <a:custGeom>
            <a:avLst/>
            <a:gdLst>
              <a:gd name="textAreaLeft" fmla="*/ 16560 w 684360"/>
              <a:gd name="textAreaRight" fmla="*/ 667800 w 684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6745" h="21600">
                <a:moveTo>
                  <a:pt x="0" y="0"/>
                </a:moveTo>
                <a:lnTo>
                  <a:pt x="56745" y="0"/>
                </a:lnTo>
                <a:lnTo>
                  <a:pt x="56745" y="21600"/>
                </a:lnTo>
                <a:lnTo>
                  <a:pt x="0" y="21600"/>
                </a:lnTo>
                <a:close/>
              </a:path>
              <a:path fill="lightenLess" w="56745" h="21600">
                <a:moveTo>
                  <a:pt x="0" y="0"/>
                </a:moveTo>
                <a:lnTo>
                  <a:pt x="56745" y="0"/>
                </a:lnTo>
                <a:lnTo>
                  <a:pt x="55345" y="1400"/>
                </a:lnTo>
                <a:lnTo>
                  <a:pt x="1400" y="1400"/>
                </a:lnTo>
                <a:close/>
              </a:path>
              <a:path fill="darken" w="56745" h="21600">
                <a:moveTo>
                  <a:pt x="56745" y="0"/>
                </a:moveTo>
                <a:lnTo>
                  <a:pt x="56745" y="21600"/>
                </a:lnTo>
                <a:lnTo>
                  <a:pt x="55345" y="20200"/>
                </a:lnTo>
                <a:lnTo>
                  <a:pt x="55345" y="1400"/>
                </a:lnTo>
                <a:close/>
              </a:path>
              <a:path fill="darkenLess" w="56745" h="21600">
                <a:moveTo>
                  <a:pt x="56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45" y="20200"/>
                </a:lnTo>
                <a:close/>
              </a:path>
              <a:path fill="lighten" w="56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745" h="21600">
                <a:moveTo>
                  <a:pt x="21366" y="3794"/>
                </a:moveTo>
                <a:lnTo>
                  <a:pt x="35379" y="10800"/>
                </a:lnTo>
                <a:lnTo>
                  <a:pt x="21366" y="17806"/>
                </a:lnTo>
                <a:close/>
              </a:path>
            </a:pathLst>
          </a:custGeom>
          <a:solidFill>
            <a:srgbClr val="fcecd5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Управляющая кнопка: справка 18"/>
          <p:cNvSpPr/>
          <p:nvPr/>
        </p:nvSpPr>
        <p:spPr>
          <a:xfrm>
            <a:off x="1187280" y="333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88" h="21600">
                <a:moveTo>
                  <a:pt x="14649" y="14281"/>
                </a:moveTo>
                <a:lnTo>
                  <a:pt x="14649" y="12323"/>
                </a:lnTo>
                <a:cubicBezTo>
                  <a:pt x="14649" y="11496"/>
                  <a:pt x="14980" y="10800"/>
                  <a:pt x="15581" y="10800"/>
                </a:cubicBezTo>
                <a:cubicBezTo>
                  <a:pt x="16712" y="10800"/>
                  <a:pt x="17609" y="9434"/>
                  <a:pt x="17609" y="7849"/>
                </a:cubicBezTo>
                <a:cubicBezTo>
                  <a:pt x="17609" y="5534"/>
                  <a:pt x="15755" y="3794"/>
                  <a:pt x="13544" y="3794"/>
                </a:cubicBezTo>
                <a:cubicBezTo>
                  <a:pt x="11333" y="3794"/>
                  <a:pt x="9662" y="5534"/>
                  <a:pt x="9662" y="7849"/>
                </a:cubicBezTo>
                <a:lnTo>
                  <a:pt x="11516" y="7849"/>
                </a:lnTo>
                <a:cubicBezTo>
                  <a:pt x="11516" y="6709"/>
                  <a:pt x="12439" y="5821"/>
                  <a:pt x="13544" y="5821"/>
                </a:cubicBezTo>
                <a:cubicBezTo>
                  <a:pt x="14649" y="5821"/>
                  <a:pt x="15581" y="6709"/>
                  <a:pt x="15581" y="7849"/>
                </a:cubicBezTo>
                <a:cubicBezTo>
                  <a:pt x="15581" y="8589"/>
                  <a:pt x="15111" y="9320"/>
                  <a:pt x="14649" y="9320"/>
                </a:cubicBezTo>
                <a:cubicBezTo>
                  <a:pt x="13544" y="9320"/>
                  <a:pt x="12439" y="10800"/>
                  <a:pt x="12439" y="12323"/>
                </a:cubicBezTo>
                <a:lnTo>
                  <a:pt x="12439" y="14281"/>
                </a:lnTo>
                <a:close/>
              </a:path>
            </a:pathLst>
          </a:custGeom>
          <a:solidFill>
            <a:srgbClr val="cc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Управляющая кнопка: назад 19">
            <a:hlinkClick r:id="" action="ppaction://hlinkshowjump?jump=previousslide"/>
          </p:cNvPr>
          <p:cNvSpPr/>
          <p:nvPr/>
        </p:nvSpPr>
        <p:spPr>
          <a:xfrm>
            <a:off x="8459640" y="630864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19" h="21600">
                <a:moveTo>
                  <a:pt x="11853" y="10800"/>
                </a:moveTo>
                <a:lnTo>
                  <a:pt x="25866" y="3794"/>
                </a:lnTo>
                <a:lnTo>
                  <a:pt x="25866" y="1780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298440" y="365040"/>
            <a:ext cx="8699400" cy="11397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Franklin Gothic Book"/>
              </a:rPr>
              <a:t>В прямоугольном треугольнике сумма острых углов рана 90</a:t>
            </a:r>
            <a:r>
              <a:rPr b="1" lang="en-US" sz="3200" spc="-1" strike="noStrike" baseline="30000">
                <a:solidFill>
                  <a:srgbClr val="0000cc"/>
                </a:solidFill>
                <a:latin typeface="Franklin Gothic Book"/>
              </a:rPr>
              <a:t>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42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524720" y="6381720"/>
            <a:ext cx="684360" cy="260280"/>
          </a:xfrm>
          <a:custGeom>
            <a:avLst/>
            <a:gdLst>
              <a:gd name="textAreaLeft" fmla="*/ 16560 w 684360"/>
              <a:gd name="textAreaRight" fmla="*/ 667800 w 684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6745" h="21600">
                <a:moveTo>
                  <a:pt x="0" y="0"/>
                </a:moveTo>
                <a:lnTo>
                  <a:pt x="56745" y="0"/>
                </a:lnTo>
                <a:lnTo>
                  <a:pt x="56745" y="21600"/>
                </a:lnTo>
                <a:lnTo>
                  <a:pt x="0" y="21600"/>
                </a:lnTo>
                <a:close/>
              </a:path>
              <a:path fill="lightenLess" w="56745" h="21600">
                <a:moveTo>
                  <a:pt x="0" y="0"/>
                </a:moveTo>
                <a:lnTo>
                  <a:pt x="56745" y="0"/>
                </a:lnTo>
                <a:lnTo>
                  <a:pt x="55345" y="1400"/>
                </a:lnTo>
                <a:lnTo>
                  <a:pt x="1400" y="1400"/>
                </a:lnTo>
                <a:close/>
              </a:path>
              <a:path fill="darken" w="56745" h="21600">
                <a:moveTo>
                  <a:pt x="56745" y="0"/>
                </a:moveTo>
                <a:lnTo>
                  <a:pt x="56745" y="21600"/>
                </a:lnTo>
                <a:lnTo>
                  <a:pt x="55345" y="20200"/>
                </a:lnTo>
                <a:lnTo>
                  <a:pt x="55345" y="1400"/>
                </a:lnTo>
                <a:close/>
              </a:path>
              <a:path fill="darkenLess" w="56745" h="21600">
                <a:moveTo>
                  <a:pt x="56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45" y="20200"/>
                </a:lnTo>
                <a:close/>
              </a:path>
              <a:path fill="lighten" w="56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745" h="21600">
                <a:moveTo>
                  <a:pt x="21366" y="3794"/>
                </a:moveTo>
                <a:lnTo>
                  <a:pt x="35379" y="10800"/>
                </a:lnTo>
                <a:lnTo>
                  <a:pt x="21366" y="17806"/>
                </a:lnTo>
                <a:close/>
              </a:path>
            </a:pathLst>
          </a:custGeom>
          <a:solidFill>
            <a:srgbClr val="fcecd5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Управляющая кнопка: сведения 6"/>
          <p:cNvSpPr/>
          <p:nvPr/>
        </p:nvSpPr>
        <p:spPr>
          <a:xfrm>
            <a:off x="1187280" y="18900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1153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059" h="21600">
                <a:moveTo>
                  <a:pt x="1153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059" h="21600">
                <a:moveTo>
                  <a:pt x="8953" y="8224"/>
                </a:moveTo>
                <a:lnTo>
                  <a:pt x="12818" y="8224"/>
                </a:lnTo>
                <a:lnTo>
                  <a:pt x="12818" y="15221"/>
                </a:lnTo>
                <a:lnTo>
                  <a:pt x="14106" y="15221"/>
                </a:lnTo>
                <a:lnTo>
                  <a:pt x="14106" y="16144"/>
                </a:lnTo>
                <a:lnTo>
                  <a:pt x="8953" y="16144"/>
                </a:lnTo>
                <a:lnTo>
                  <a:pt x="8953" y="15221"/>
                </a:lnTo>
                <a:lnTo>
                  <a:pt x="10241" y="15221"/>
                </a:lnTo>
                <a:lnTo>
                  <a:pt x="10241" y="9129"/>
                </a:lnTo>
                <a:lnTo>
                  <a:pt x="8953" y="9129"/>
                </a:lnTo>
                <a:close/>
              </a:path>
            </a:pathLst>
          </a:custGeom>
          <a:solidFill>
            <a:srgbClr val="fdf8e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ый треугольник 7"/>
          <p:cNvSpPr/>
          <p:nvPr/>
        </p:nvSpPr>
        <p:spPr>
          <a:xfrm>
            <a:off x="1187280" y="2924280"/>
            <a:ext cx="1152720" cy="1728720"/>
          </a:xfrm>
          <a:prstGeom prst="rtTriangle">
            <a:avLst/>
          </a:prstGeom>
          <a:solidFill>
            <a:srgbClr val="fdf8e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8"/>
          <p:cNvSpPr/>
          <p:nvPr/>
        </p:nvSpPr>
        <p:spPr>
          <a:xfrm>
            <a:off x="1134720" y="4221000"/>
            <a:ext cx="3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Дуга 9"/>
          <p:cNvSpPr/>
          <p:nvPr/>
        </p:nvSpPr>
        <p:spPr>
          <a:xfrm rot="7560600">
            <a:off x="1086480" y="2981880"/>
            <a:ext cx="505080" cy="363600"/>
          </a:xfrm>
          <a:custGeom>
            <a:avLst/>
            <a:gdLst>
              <a:gd name="textAreaLeft" fmla="*/ 299880 w 505080"/>
              <a:gd name="textAreaRight" fmla="*/ 505440 w 505080"/>
              <a:gd name="textAreaTop" fmla="*/ 2880 h 363600"/>
              <a:gd name="textAreaBottom" fmla="*/ 181800 h 363600"/>
            </a:gdLst>
            <a:ahLst/>
            <a:rect l="textAreaLeft" t="textAreaTop" r="textAreaRight" b="textAreaBottom"/>
            <a:pathLst>
              <a:path stroke="0" w="504825" h="363537">
                <a:moveTo>
                  <a:pt x="299694" y="3217"/>
                </a:moveTo>
                <a:lnTo>
                  <a:pt x="299694" y="3217"/>
                </a:lnTo>
                <a:arcTo wR="252413" hR="181769" stAng="-4510083" swAng="4510083"/>
                <a:lnTo>
                  <a:pt x="252413" y="181769"/>
                </a:lnTo>
                <a:close/>
              </a:path>
              <a:path fill="none" w="504825" h="363537">
                <a:moveTo>
                  <a:pt x="299694" y="3217"/>
                </a:moveTo>
                <a:lnTo>
                  <a:pt x="299694" y="3217"/>
                </a:lnTo>
                <a:arcTo wR="252413" hR="181769" stAng="-4510083" swAng="4510083"/>
              </a:path>
            </a:pathLst>
          </a:custGeom>
          <a:noFill/>
          <a:ln w="381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Дуга 10"/>
          <p:cNvSpPr/>
          <p:nvPr/>
        </p:nvSpPr>
        <p:spPr>
          <a:xfrm rot="16200000">
            <a:off x="1704600" y="4568400"/>
            <a:ext cx="909720" cy="503280"/>
          </a:xfrm>
          <a:custGeom>
            <a:avLst/>
            <a:gdLst>
              <a:gd name="textAreaLeft" fmla="*/ 639360 w 909720"/>
              <a:gd name="textAreaRight" fmla="*/ 910080 w 909720"/>
              <a:gd name="textAreaTop" fmla="*/ 21240 h 503280"/>
              <a:gd name="textAreaBottom" fmla="*/ 251640 h 503280"/>
            </a:gdLst>
            <a:ahLst/>
            <a:rect l="textAreaLeft" t="textAreaTop" r="textAreaRight" b="textAreaBottom"/>
            <a:pathLst>
              <a:path stroke="0" w="909638" h="503238">
                <a:moveTo>
                  <a:pt x="639087" y="21576"/>
                </a:moveTo>
                <a:lnTo>
                  <a:pt x="639087" y="21576"/>
                </a:lnTo>
                <a:arcTo wR="454819" hR="251619" stAng="-3078284" swAng="3078292"/>
                <a:lnTo>
                  <a:pt x="454819" y="251619"/>
                </a:lnTo>
                <a:close/>
              </a:path>
              <a:path fill="none" w="909638" h="503238">
                <a:moveTo>
                  <a:pt x="639087" y="21576"/>
                </a:moveTo>
                <a:lnTo>
                  <a:pt x="639087" y="21576"/>
                </a:lnTo>
                <a:arcTo wR="454819" hR="251619" stAng="-3078284" swAng="3078292"/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1"/>
          <p:cNvSpPr/>
          <p:nvPr/>
        </p:nvSpPr>
        <p:spPr>
          <a:xfrm>
            <a:off x="1199520" y="328464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99"/>
                </a:solidFill>
                <a:latin typeface="Tahoma"/>
                <a:ea typeface="Tahoma"/>
              </a:rPr>
              <a:t>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12"/>
          <p:cNvSpPr/>
          <p:nvPr/>
        </p:nvSpPr>
        <p:spPr>
          <a:xfrm>
            <a:off x="1703160" y="422100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3"/>
          <p:cNvSpPr/>
          <p:nvPr/>
        </p:nvSpPr>
        <p:spPr>
          <a:xfrm>
            <a:off x="1763640" y="314172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всех углов в треугольнике равна:  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ahoma"/>
              </a:rPr>
              <a:t>ɑ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ahoma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= 18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14"/>
          <p:cNvSpPr/>
          <p:nvPr/>
        </p:nvSpPr>
        <p:spPr>
          <a:xfrm>
            <a:off x="4140360" y="3716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ahoma"/>
              </a:rPr>
              <a:t>ɑ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ahoma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= 18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–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15"/>
          <p:cNvSpPr/>
          <p:nvPr/>
        </p:nvSpPr>
        <p:spPr>
          <a:xfrm>
            <a:off x="4211640" y="4437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ahoma"/>
              </a:rPr>
              <a:t>ɑ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ahoma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=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Управляющая кнопка: назад 16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1500" autoRev="1" fill="hold"/>
                                        <p:tgtEl>
                                          <p:spTgt spid="4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539280" y="1125000"/>
            <a:ext cx="82184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Острые углы прямоугольного треугольника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равны 29</a:t>
            </a:r>
            <a:r>
              <a:rPr b="1" lang="en-US" sz="2200" spc="-1" strike="noStrike" baseline="30000">
                <a:solidFill>
                  <a:srgbClr val="4e3b30"/>
                </a:solidFill>
                <a:latin typeface="Franklin Gothic Book"/>
              </a:rPr>
              <a:t>о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 и 61</a:t>
            </a:r>
            <a:r>
              <a:rPr b="1" lang="en-US" sz="2200" spc="-1" strike="noStrike" baseline="30000">
                <a:solidFill>
                  <a:srgbClr val="4e3b30"/>
                </a:solidFill>
                <a:latin typeface="Franklin Gothic Book"/>
              </a:rPr>
              <a:t>о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. Найдите угол между высотой и биссектрисой, проведенными из вершины прямого угла. Ответ дайте в градусах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228960" indent="-22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28960" indent="-22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28960" indent="-22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439" name="Управляющая кнопка: далее 34">
            <a:hlinkClick r:id="" action="ppaction://hlinkshowjump?jump=nextslide"/>
          </p:cNvPr>
          <p:cNvSpPr/>
          <p:nvPr/>
        </p:nvSpPr>
        <p:spPr>
          <a:xfrm>
            <a:off x="8459640" y="6381720"/>
            <a:ext cx="684360" cy="260280"/>
          </a:xfrm>
          <a:custGeom>
            <a:avLst/>
            <a:gdLst>
              <a:gd name="textAreaLeft" fmla="*/ 16560 w 684360"/>
              <a:gd name="textAreaRight" fmla="*/ 667800 w 684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6745" h="21600">
                <a:moveTo>
                  <a:pt x="0" y="0"/>
                </a:moveTo>
                <a:lnTo>
                  <a:pt x="56745" y="0"/>
                </a:lnTo>
                <a:lnTo>
                  <a:pt x="56745" y="21600"/>
                </a:lnTo>
                <a:lnTo>
                  <a:pt x="0" y="21600"/>
                </a:lnTo>
                <a:close/>
              </a:path>
              <a:path fill="lightenLess" w="56745" h="21600">
                <a:moveTo>
                  <a:pt x="0" y="0"/>
                </a:moveTo>
                <a:lnTo>
                  <a:pt x="56745" y="0"/>
                </a:lnTo>
                <a:lnTo>
                  <a:pt x="55345" y="1400"/>
                </a:lnTo>
                <a:lnTo>
                  <a:pt x="1400" y="1400"/>
                </a:lnTo>
                <a:close/>
              </a:path>
              <a:path fill="darken" w="56745" h="21600">
                <a:moveTo>
                  <a:pt x="56745" y="0"/>
                </a:moveTo>
                <a:lnTo>
                  <a:pt x="56745" y="21600"/>
                </a:lnTo>
                <a:lnTo>
                  <a:pt x="55345" y="20200"/>
                </a:lnTo>
                <a:lnTo>
                  <a:pt x="55345" y="1400"/>
                </a:lnTo>
                <a:close/>
              </a:path>
              <a:path fill="darkenLess" w="56745" h="21600">
                <a:moveTo>
                  <a:pt x="56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45" y="20200"/>
                </a:lnTo>
                <a:close/>
              </a:path>
              <a:path fill="lighten" w="56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745" h="21600">
                <a:moveTo>
                  <a:pt x="21366" y="3794"/>
                </a:moveTo>
                <a:lnTo>
                  <a:pt x="35379" y="10800"/>
                </a:lnTo>
                <a:lnTo>
                  <a:pt x="21366" y="17806"/>
                </a:lnTo>
                <a:close/>
              </a:path>
            </a:pathLst>
          </a:custGeom>
          <a:solidFill>
            <a:srgbClr val="fcecd5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36"/>
          <p:cNvSpPr/>
          <p:nvPr/>
        </p:nvSpPr>
        <p:spPr>
          <a:xfrm>
            <a:off x="7596360" y="5877000"/>
            <a:ext cx="1296720" cy="360360"/>
          </a:xfrm>
          <a:prstGeom prst="rect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8" descr="MA.OB10.B4.30/innerimg0.jpg"/>
          <p:cNvPicPr/>
          <p:nvPr/>
        </p:nvPicPr>
        <p:blipFill>
          <a:blip r:embed="rId2"/>
          <a:stretch/>
        </p:blipFill>
        <p:spPr>
          <a:xfrm>
            <a:off x="611280" y="3141720"/>
            <a:ext cx="4008240" cy="251928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38"/>
          <p:cNvSpPr/>
          <p:nvPr/>
        </p:nvSpPr>
        <p:spPr>
          <a:xfrm>
            <a:off x="1032120" y="4941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29</a:t>
            </a:r>
            <a:r>
              <a:rPr b="1" lang="en-US" sz="1800" spc="-1" strike="noStrike" baseline="30000">
                <a:solidFill>
                  <a:srgbClr val="0000cc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39"/>
          <p:cNvSpPr/>
          <p:nvPr/>
        </p:nvSpPr>
        <p:spPr>
          <a:xfrm>
            <a:off x="3840480" y="4870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61</a:t>
            </a:r>
            <a:r>
              <a:rPr b="1" lang="en-US" sz="1800" spc="-1" strike="noStrike" baseline="30000">
                <a:solidFill>
                  <a:srgbClr val="7030a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Дуга 40"/>
          <p:cNvSpPr/>
          <p:nvPr/>
        </p:nvSpPr>
        <p:spPr>
          <a:xfrm rot="9631800">
            <a:off x="2968200" y="3615840"/>
            <a:ext cx="792360" cy="576360"/>
          </a:xfrm>
          <a:custGeom>
            <a:avLst/>
            <a:gdLst>
              <a:gd name="textAreaLeft" fmla="*/ 591840 w 792360"/>
              <a:gd name="textAreaRight" fmla="*/ 729360 w 792360"/>
              <a:gd name="textAreaTop" fmla="*/ 37440 h 576360"/>
              <a:gd name="textAreaBottom" fmla="*/ 131760 h 576360"/>
            </a:gdLst>
            <a:ahLst/>
            <a:rect l="textAreaLeft" t="textAreaTop" r="textAreaRight" b="textAreaBottom"/>
            <a:pathLst>
              <a:path stroke="0" w="792163" h="576263">
                <a:moveTo>
                  <a:pt x="591655" y="37575"/>
                </a:moveTo>
                <a:lnTo>
                  <a:pt x="591655" y="37575"/>
                </a:lnTo>
                <a:arcTo wR="396082" hR="288132" stAng="-3121556" swAng="1612672"/>
                <a:lnTo>
                  <a:pt x="396082" y="288132"/>
                </a:lnTo>
                <a:close/>
              </a:path>
              <a:path fill="none" w="792163" h="576263">
                <a:moveTo>
                  <a:pt x="591655" y="37575"/>
                </a:moveTo>
                <a:lnTo>
                  <a:pt x="591655" y="37575"/>
                </a:lnTo>
                <a:arcTo wR="396082" hR="288132" stAng="-3121556" swAng="1612672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41"/>
          <p:cNvSpPr/>
          <p:nvPr/>
        </p:nvSpPr>
        <p:spPr>
          <a:xfrm>
            <a:off x="762480" y="234936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условию ∟АСВ = 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Двойная стрелка влево/вверх 42"/>
          <p:cNvSpPr/>
          <p:nvPr/>
        </p:nvSpPr>
        <p:spPr>
          <a:xfrm rot="2997000">
            <a:off x="2939040" y="3506040"/>
            <a:ext cx="432000" cy="503280"/>
          </a:xfrm>
          <a:custGeom>
            <a:avLst/>
            <a:gdLst>
              <a:gd name="textAreaLeft" fmla="*/ 44280 w 432000"/>
              <a:gd name="textAreaRight" fmla="*/ 353520 w 432000"/>
              <a:gd name="textAreaTop" fmla="*/ 399240 h 503280"/>
              <a:gd name="textAreaBottom" fmla="*/ 450360 h 503280"/>
            </a:gdLst>
            <a:ahLst/>
            <a:rect l="textAreaLeft" t="textAreaTop" r="textAreaRight" b="textAreaBottom"/>
            <a:pathLst>
              <a:path w="431800" h="503237">
                <a:moveTo>
                  <a:pt x="0" y="424636"/>
                </a:moveTo>
                <a:lnTo>
                  <a:pt x="136397" y="346036"/>
                </a:lnTo>
                <a:lnTo>
                  <a:pt x="136397" y="399108"/>
                </a:lnTo>
                <a:lnTo>
                  <a:pt x="327671" y="399108"/>
                </a:lnTo>
                <a:lnTo>
                  <a:pt x="327671" y="136397"/>
                </a:lnTo>
                <a:lnTo>
                  <a:pt x="274599" y="136397"/>
                </a:lnTo>
                <a:lnTo>
                  <a:pt x="353199" y="0"/>
                </a:lnTo>
                <a:lnTo>
                  <a:pt x="431800" y="136397"/>
                </a:lnTo>
                <a:lnTo>
                  <a:pt x="378727" y="136397"/>
                </a:lnTo>
                <a:lnTo>
                  <a:pt x="378727" y="450164"/>
                </a:lnTo>
                <a:lnTo>
                  <a:pt x="136397" y="450164"/>
                </a:lnTo>
                <a:lnTo>
                  <a:pt x="136397" y="503237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3"/>
          <p:cNvSpPr/>
          <p:nvPr/>
        </p:nvSpPr>
        <p:spPr>
          <a:xfrm>
            <a:off x="3851640" y="234936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иссектр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Управляющая кнопка: справка 44">
            <a:hlinkClick r:id="rId3" action="ppaction://hlinksldjump"/>
          </p:cNvPr>
          <p:cNvSpPr/>
          <p:nvPr/>
        </p:nvSpPr>
        <p:spPr>
          <a:xfrm>
            <a:off x="6443640" y="234936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1352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54" h="21600">
                <a:moveTo>
                  <a:pt x="14632" y="14281"/>
                </a:moveTo>
                <a:lnTo>
                  <a:pt x="14632" y="12323"/>
                </a:lnTo>
                <a:cubicBezTo>
                  <a:pt x="14632" y="11496"/>
                  <a:pt x="14963" y="10800"/>
                  <a:pt x="15564" y="10800"/>
                </a:cubicBezTo>
                <a:cubicBezTo>
                  <a:pt x="16695" y="10800"/>
                  <a:pt x="17592" y="9434"/>
                  <a:pt x="17592" y="7849"/>
                </a:cubicBezTo>
                <a:cubicBezTo>
                  <a:pt x="17592" y="5534"/>
                  <a:pt x="15738" y="3794"/>
                  <a:pt x="13527" y="3794"/>
                </a:cubicBezTo>
                <a:cubicBezTo>
                  <a:pt x="11316" y="3794"/>
                  <a:pt x="9645" y="5534"/>
                  <a:pt x="9645" y="7849"/>
                </a:cubicBezTo>
                <a:lnTo>
                  <a:pt x="11499" y="7849"/>
                </a:lnTo>
                <a:cubicBezTo>
                  <a:pt x="11499" y="6709"/>
                  <a:pt x="12422" y="5821"/>
                  <a:pt x="13527" y="5821"/>
                </a:cubicBezTo>
                <a:cubicBezTo>
                  <a:pt x="14632" y="5821"/>
                  <a:pt x="15564" y="6709"/>
                  <a:pt x="15564" y="7849"/>
                </a:cubicBezTo>
                <a:cubicBezTo>
                  <a:pt x="15564" y="8589"/>
                  <a:pt x="15094" y="9320"/>
                  <a:pt x="14632" y="9320"/>
                </a:cubicBezTo>
                <a:cubicBezTo>
                  <a:pt x="13527" y="9320"/>
                  <a:pt x="12422" y="10800"/>
                  <a:pt x="12422" y="12323"/>
                </a:cubicBezTo>
                <a:lnTo>
                  <a:pt x="12422" y="14281"/>
                </a:lnTo>
                <a:close/>
              </a:path>
            </a:pathLst>
          </a:custGeom>
          <a:solidFill>
            <a:srgbClr val="ffcc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45"/>
          <p:cNvSpPr/>
          <p:nvPr/>
        </p:nvSpPr>
        <p:spPr>
          <a:xfrm>
            <a:off x="5154840" y="2781360"/>
            <a:ext cx="25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D = 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46"/>
          <p:cNvSpPr/>
          <p:nvPr/>
        </p:nvSpPr>
        <p:spPr>
          <a:xfrm>
            <a:off x="2758320" y="3718080"/>
            <a:ext cx="41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47"/>
          <p:cNvSpPr/>
          <p:nvPr/>
        </p:nvSpPr>
        <p:spPr>
          <a:xfrm>
            <a:off x="3189960" y="3860640"/>
            <a:ext cx="41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Дуга 48"/>
          <p:cNvSpPr/>
          <p:nvPr/>
        </p:nvSpPr>
        <p:spPr>
          <a:xfrm rot="9486000">
            <a:off x="3050640" y="3141360"/>
            <a:ext cx="497160" cy="550800"/>
          </a:xfrm>
          <a:custGeom>
            <a:avLst/>
            <a:gdLst>
              <a:gd name="textAreaLeft" fmla="*/ 411480 w 497160"/>
              <a:gd name="textAreaRight" fmla="*/ 491040 w 497160"/>
              <a:gd name="textAreaTop" fmla="*/ 66960 h 550800"/>
              <a:gd name="textAreaBottom" fmla="*/ 213120 h 550800"/>
            </a:gdLst>
            <a:ahLst/>
            <a:rect l="textAreaLeft" t="textAreaTop" r="textAreaRight" b="textAreaBottom"/>
            <a:pathLst>
              <a:path stroke="0" w="496888" h="550862">
                <a:moveTo>
                  <a:pt x="411116" y="67251"/>
                </a:moveTo>
                <a:lnTo>
                  <a:pt x="411116" y="67251"/>
                </a:lnTo>
                <a:arcTo wR="248444" hR="275431" stAng="-3119754" swAng="2254247"/>
                <a:lnTo>
                  <a:pt x="248444" y="275431"/>
                </a:lnTo>
                <a:close/>
              </a:path>
              <a:path fill="none" w="496888" h="550862">
                <a:moveTo>
                  <a:pt x="411116" y="67251"/>
                </a:moveTo>
                <a:lnTo>
                  <a:pt x="411116" y="67251"/>
                </a:lnTo>
                <a:arcTo wR="248444" hR="275431" stAng="-3119754" swAng="2254247"/>
              </a:path>
            </a:pathLst>
          </a:custGeom>
          <a:solidFill>
            <a:srgbClr val="ccffff"/>
          </a:solidFill>
          <a:ln w="10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49"/>
          <p:cNvSpPr/>
          <p:nvPr/>
        </p:nvSpPr>
        <p:spPr>
          <a:xfrm>
            <a:off x="5150520" y="306864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Н – прямоуголь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51"/>
          <p:cNvSpPr/>
          <p:nvPr/>
        </p:nvSpPr>
        <p:spPr>
          <a:xfrm>
            <a:off x="5166360" y="3357720"/>
            <a:ext cx="270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 =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29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61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Дуга 52"/>
          <p:cNvSpPr/>
          <p:nvPr/>
        </p:nvSpPr>
        <p:spPr>
          <a:xfrm rot="9558000">
            <a:off x="2563560" y="3269880"/>
            <a:ext cx="1279440" cy="803160"/>
          </a:xfrm>
          <a:custGeom>
            <a:avLst/>
            <a:gdLst>
              <a:gd name="textAreaLeft" fmla="*/ 710280 w 1279440"/>
              <a:gd name="textAreaRight" fmla="*/ 1277280 w 1279440"/>
              <a:gd name="textAreaTop" fmla="*/ 2160 h 803160"/>
              <a:gd name="textAreaBottom" fmla="*/ 368640 h 803160"/>
            </a:gdLst>
            <a:ahLst/>
            <a:rect l="textAreaLeft" t="textAreaTop" r="textAreaRight" b="textAreaBottom"/>
            <a:pathLst>
              <a:path stroke="0" w="1279525" h="803275">
                <a:moveTo>
                  <a:pt x="710369" y="2453"/>
                </a:moveTo>
                <a:lnTo>
                  <a:pt x="710369" y="2453"/>
                </a:lnTo>
                <a:arcTo wR="639763" hR="401638" stAng="-4798172" swAng="4620399"/>
                <a:lnTo>
                  <a:pt x="639763" y="401638"/>
                </a:lnTo>
                <a:close/>
              </a:path>
              <a:path fill="none" w="1279525" h="803275">
                <a:moveTo>
                  <a:pt x="710369" y="2453"/>
                </a:moveTo>
                <a:lnTo>
                  <a:pt x="710369" y="2453"/>
                </a:lnTo>
                <a:arcTo wR="639763" hR="401638" stAng="-4798172" swAng="4620399"/>
              </a:path>
            </a:pathLst>
          </a:custGeom>
          <a:noFill/>
          <a:ln w="38160">
            <a:solidFill>
              <a:srgbClr val="05af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53"/>
          <p:cNvSpPr/>
          <p:nvPr/>
        </p:nvSpPr>
        <p:spPr>
          <a:xfrm>
            <a:off x="2542680" y="4078440"/>
            <a:ext cx="4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Calibri"/>
              </a:rPr>
              <a:t>61</a:t>
            </a:r>
            <a:r>
              <a:rPr b="1" lang="ru-RU" sz="1400" spc="-1" strike="noStrike" baseline="30000">
                <a:solidFill>
                  <a:srgbClr val="008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54"/>
          <p:cNvSpPr/>
          <p:nvPr/>
        </p:nvSpPr>
        <p:spPr>
          <a:xfrm>
            <a:off x="4877280" y="3716280"/>
            <a:ext cx="37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мый 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 = 61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55"/>
          <p:cNvSpPr/>
          <p:nvPr/>
        </p:nvSpPr>
        <p:spPr>
          <a:xfrm>
            <a:off x="2987640" y="4365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6</a:t>
            </a:r>
            <a:r>
              <a:rPr b="1" lang="ru-RU" sz="1200" spc="-1" strike="noStrike" baseline="30000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56"/>
          <p:cNvSpPr/>
          <p:nvPr/>
        </p:nvSpPr>
        <p:spPr>
          <a:xfrm>
            <a:off x="5222520" y="42210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способ ре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ый треугольник 57"/>
          <p:cNvSpPr/>
          <p:nvPr/>
        </p:nvSpPr>
        <p:spPr>
          <a:xfrm>
            <a:off x="3255840" y="3429000"/>
            <a:ext cx="1079640" cy="1800360"/>
          </a:xfrm>
          <a:prstGeom prst="rtTriangle">
            <a:avLst/>
          </a:prstGeom>
          <a:noFill/>
          <a:ln w="38160">
            <a:solidFill>
              <a:srgbClr val="05af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58"/>
          <p:cNvSpPr/>
          <p:nvPr/>
        </p:nvSpPr>
        <p:spPr>
          <a:xfrm>
            <a:off x="4934520" y="4581360"/>
            <a:ext cx="29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Н – прямоуголь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59"/>
          <p:cNvSpPr/>
          <p:nvPr/>
        </p:nvSpPr>
        <p:spPr>
          <a:xfrm>
            <a:off x="4950720" y="4941720"/>
            <a:ext cx="269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 =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61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29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Дуга 60"/>
          <p:cNvSpPr/>
          <p:nvPr/>
        </p:nvSpPr>
        <p:spPr>
          <a:xfrm rot="6514200">
            <a:off x="3090960" y="3756600"/>
            <a:ext cx="648000" cy="576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576360"/>
              <a:gd name="textAreaBottom" fmla="*/ 288360 h 576360"/>
            </a:gdLst>
            <a:ahLst/>
            <a:rect l="textAreaLeft" t="textAreaTop" r="textAreaRight" b="textAreaBottom"/>
            <a:pathLst>
              <a:path stroke="0" w="647700" h="576263">
                <a:moveTo>
                  <a:pt x="323850" y="0"/>
                </a:moveTo>
                <a:lnTo>
                  <a:pt x="323850" y="0"/>
                </a:lnTo>
                <a:arcTo wR="323850" hR="288132" stAng="-5400000" swAng="5400011"/>
                <a:lnTo>
                  <a:pt x="323850" y="288132"/>
                </a:lnTo>
                <a:close/>
              </a:path>
              <a:path fill="none" w="647700" h="576263">
                <a:moveTo>
                  <a:pt x="323850" y="0"/>
                </a:moveTo>
                <a:lnTo>
                  <a:pt x="323850" y="0"/>
                </a:lnTo>
                <a:arcTo wR="323850" hR="288132" stAng="-5400000" swAng="5400011"/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61"/>
          <p:cNvSpPr/>
          <p:nvPr/>
        </p:nvSpPr>
        <p:spPr>
          <a:xfrm>
            <a:off x="3335040" y="4221000"/>
            <a:ext cx="4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29</a:t>
            </a:r>
            <a:r>
              <a:rPr b="1" lang="ru-RU" sz="1400" spc="-1" strike="noStrike" baseline="30000">
                <a:solidFill>
                  <a:srgbClr val="0000cc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62"/>
          <p:cNvSpPr/>
          <p:nvPr/>
        </p:nvSpPr>
        <p:spPr>
          <a:xfrm>
            <a:off x="4661280" y="5300640"/>
            <a:ext cx="37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мый 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 =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29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63"/>
          <p:cNvSpPr/>
          <p:nvPr/>
        </p:nvSpPr>
        <p:spPr>
          <a:xfrm>
            <a:off x="7600320" y="587700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 1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Дуга 17"/>
          <p:cNvSpPr/>
          <p:nvPr/>
        </p:nvSpPr>
        <p:spPr>
          <a:xfrm rot="7518000">
            <a:off x="2950920" y="2981160"/>
            <a:ext cx="622440" cy="936720"/>
          </a:xfrm>
          <a:custGeom>
            <a:avLst/>
            <a:gdLst>
              <a:gd name="textAreaLeft" fmla="*/ 446400 w 622440"/>
              <a:gd name="textAreaRight" fmla="*/ 609480 w 622440"/>
              <a:gd name="textAreaTop" fmla="*/ 46440 h 936720"/>
              <a:gd name="textAreaBottom" fmla="*/ 334080 h 936720"/>
            </a:gdLst>
            <a:ahLst/>
            <a:rect l="textAreaLeft" t="textAreaTop" r="textAreaRight" b="textAreaBottom"/>
            <a:pathLst>
              <a:path stroke="0" w="622300" h="936625">
                <a:moveTo>
                  <a:pt x="446310" y="46492"/>
                </a:moveTo>
                <a:lnTo>
                  <a:pt x="446310" y="46492"/>
                </a:lnTo>
                <a:arcTo wR="311150" hR="468313" stAng="-4334009" swAng="2881233"/>
                <a:lnTo>
                  <a:pt x="311150" y="468313"/>
                </a:lnTo>
                <a:close/>
              </a:path>
              <a:path fill="none" w="622300" h="936625">
                <a:moveTo>
                  <a:pt x="446310" y="46492"/>
                </a:moveTo>
                <a:lnTo>
                  <a:pt x="446310" y="46492"/>
                </a:lnTo>
                <a:arcTo wR="311150" hR="468313" stAng="-4334009" swAng="2881233"/>
              </a:path>
            </a:pathLst>
          </a:custGeom>
          <a:solidFill>
            <a:srgbClr val="00b0f0"/>
          </a:solidFill>
          <a:ln w="10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ый треугольник 50"/>
          <p:cNvSpPr/>
          <p:nvPr/>
        </p:nvSpPr>
        <p:spPr>
          <a:xfrm rot="16200000">
            <a:off x="1167480" y="3140640"/>
            <a:ext cx="1800360" cy="2376360"/>
          </a:xfrm>
          <a:prstGeom prst="rtTriangl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Управляющая кнопка: сведения 64">
            <a:hlinkClick r:id="rId4" action="ppaction://hlinksldjump"/>
          </p:cNvPr>
          <p:cNvSpPr/>
          <p:nvPr/>
        </p:nvSpPr>
        <p:spPr>
          <a:xfrm>
            <a:off x="8388360" y="306864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1152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040" h="21600">
                <a:moveTo>
                  <a:pt x="1152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040" h="21600">
                <a:moveTo>
                  <a:pt x="8944" y="8224"/>
                </a:moveTo>
                <a:lnTo>
                  <a:pt x="12808" y="8224"/>
                </a:lnTo>
                <a:lnTo>
                  <a:pt x="12808" y="15221"/>
                </a:lnTo>
                <a:lnTo>
                  <a:pt x="14096" y="15221"/>
                </a:lnTo>
                <a:lnTo>
                  <a:pt x="14096" y="16144"/>
                </a:lnTo>
                <a:lnTo>
                  <a:pt x="8944" y="16144"/>
                </a:lnTo>
                <a:lnTo>
                  <a:pt x="8944" y="15221"/>
                </a:lnTo>
                <a:lnTo>
                  <a:pt x="10232" y="15221"/>
                </a:lnTo>
                <a:lnTo>
                  <a:pt x="10232" y="9129"/>
                </a:lnTo>
                <a:lnTo>
                  <a:pt x="8944" y="9129"/>
                </a:lnTo>
                <a:close/>
              </a:path>
            </a:pathLst>
          </a:custGeom>
          <a:solidFill>
            <a:srgbClr val="fdf8e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Управляющая кнопка: назад 65">
            <a:hlinkClick r:id="" action="ppaction://hlinkshowjump?jump=previousslide"/>
          </p:cNvPr>
          <p:cNvSpPr/>
          <p:nvPr/>
        </p:nvSpPr>
        <p:spPr>
          <a:xfrm>
            <a:off x="781200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6360" y="16020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1604"/>
                </a:solidFill>
                <a:latin typeface="Arial"/>
              </a:rPr>
              <a:t>1.1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3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3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3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458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179280" y="112536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Острые углы прямоугольного треугольника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равны 86</a:t>
            </a:r>
            <a:r>
              <a:rPr b="1" lang="en-US" sz="2400" spc="-1" strike="noStrike" baseline="30000">
                <a:solidFill>
                  <a:srgbClr val="4e3b30"/>
                </a:solidFill>
                <a:latin typeface="Franklin Gothic Book"/>
              </a:rPr>
              <a:t>о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и 4</a:t>
            </a:r>
            <a:r>
              <a:rPr b="1" lang="en-US" sz="2400" spc="-1" strike="noStrike" baseline="30000">
                <a:solidFill>
                  <a:srgbClr val="4e3b30"/>
                </a:solidFill>
                <a:latin typeface="Franklin Gothic Book"/>
              </a:rPr>
              <a:t>о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. Найдите угол между высотой и биссектрисой, проведенными из вершины прямого угла. Ответ дайте в градусах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MA.OB10.B4.30/innerimg0.jpg"/>
          <p:cNvPicPr/>
          <p:nvPr/>
        </p:nvPicPr>
        <p:blipFill>
          <a:blip r:embed="rId2"/>
          <a:stretch/>
        </p:blipFill>
        <p:spPr>
          <a:xfrm>
            <a:off x="539640" y="3500280"/>
            <a:ext cx="3337200" cy="1800360"/>
          </a:xfrm>
          <a:prstGeom prst="rect">
            <a:avLst/>
          </a:prstGeom>
          <a:ln w="0">
            <a:noFill/>
          </a:ln>
        </p:spPr>
      </p:pic>
      <p:sp>
        <p:nvSpPr>
          <p:cNvPr id="475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459640" y="6381720"/>
            <a:ext cx="684360" cy="260280"/>
          </a:xfrm>
          <a:custGeom>
            <a:avLst/>
            <a:gdLst>
              <a:gd name="textAreaLeft" fmla="*/ 16560 w 684360"/>
              <a:gd name="textAreaRight" fmla="*/ 667800 w 684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6745" h="21600">
                <a:moveTo>
                  <a:pt x="0" y="0"/>
                </a:moveTo>
                <a:lnTo>
                  <a:pt x="56745" y="0"/>
                </a:lnTo>
                <a:lnTo>
                  <a:pt x="56745" y="21600"/>
                </a:lnTo>
                <a:lnTo>
                  <a:pt x="0" y="21600"/>
                </a:lnTo>
                <a:close/>
              </a:path>
              <a:path fill="lightenLess" w="56745" h="21600">
                <a:moveTo>
                  <a:pt x="0" y="0"/>
                </a:moveTo>
                <a:lnTo>
                  <a:pt x="56745" y="0"/>
                </a:lnTo>
                <a:lnTo>
                  <a:pt x="55345" y="1400"/>
                </a:lnTo>
                <a:lnTo>
                  <a:pt x="1400" y="1400"/>
                </a:lnTo>
                <a:close/>
              </a:path>
              <a:path fill="darken" w="56745" h="21600">
                <a:moveTo>
                  <a:pt x="56745" y="0"/>
                </a:moveTo>
                <a:lnTo>
                  <a:pt x="56745" y="21600"/>
                </a:lnTo>
                <a:lnTo>
                  <a:pt x="55345" y="20200"/>
                </a:lnTo>
                <a:lnTo>
                  <a:pt x="55345" y="1400"/>
                </a:lnTo>
                <a:close/>
              </a:path>
              <a:path fill="darkenLess" w="56745" h="21600">
                <a:moveTo>
                  <a:pt x="56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45" y="20200"/>
                </a:lnTo>
                <a:close/>
              </a:path>
              <a:path fill="lighten" w="56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745" h="21600">
                <a:moveTo>
                  <a:pt x="21366" y="3794"/>
                </a:moveTo>
                <a:lnTo>
                  <a:pt x="35379" y="10800"/>
                </a:lnTo>
                <a:lnTo>
                  <a:pt x="21366" y="17806"/>
                </a:lnTo>
                <a:close/>
              </a:path>
            </a:pathLst>
          </a:custGeom>
          <a:solidFill>
            <a:srgbClr val="fcecd5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Дуга 10"/>
          <p:cNvSpPr/>
          <p:nvPr/>
        </p:nvSpPr>
        <p:spPr>
          <a:xfrm>
            <a:off x="250920" y="4724280"/>
            <a:ext cx="1008000" cy="576360"/>
          </a:xfrm>
          <a:custGeom>
            <a:avLst/>
            <a:gdLst>
              <a:gd name="textAreaLeft" fmla="*/ 797040 w 1008000"/>
              <a:gd name="textAreaRight" fmla="*/ 1005120 w 1008000"/>
              <a:gd name="textAreaTop" fmla="*/ 53640 h 576360"/>
              <a:gd name="textAreaBottom" fmla="*/ 255600 h 576360"/>
            </a:gdLst>
            <a:ahLst/>
            <a:rect l="textAreaLeft" t="textAreaTop" r="textAreaRight" b="textAreaBottom"/>
            <a:pathLst>
              <a:path stroke="0" w="1008063" h="576263">
                <a:moveTo>
                  <a:pt x="796883" y="53624"/>
                </a:moveTo>
                <a:lnTo>
                  <a:pt x="796883" y="53624"/>
                </a:lnTo>
                <a:arcTo wR="504032" hR="288132" stAng="-2321208" swAng="2098112"/>
                <a:lnTo>
                  <a:pt x="504032" y="288132"/>
                </a:lnTo>
                <a:close/>
              </a:path>
              <a:path fill="none" w="1008063" h="576263">
                <a:moveTo>
                  <a:pt x="796883" y="53624"/>
                </a:moveTo>
                <a:lnTo>
                  <a:pt x="796883" y="53624"/>
                </a:lnTo>
                <a:arcTo wR="504032" hR="288132" stAng="-2321208" swAng="2098112"/>
              </a:path>
            </a:pathLst>
          </a:custGeom>
          <a:solidFill>
            <a:srgbClr val="00b0f0"/>
          </a:solidFill>
          <a:ln w="1008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Дуга 13"/>
          <p:cNvSpPr/>
          <p:nvPr/>
        </p:nvSpPr>
        <p:spPr>
          <a:xfrm rot="16200000">
            <a:off x="3420000" y="4725000"/>
            <a:ext cx="432000" cy="576360"/>
          </a:xfrm>
          <a:custGeom>
            <a:avLst/>
            <a:gdLst>
              <a:gd name="textAreaLeft" fmla="*/ 216000 w 432000"/>
              <a:gd name="textAreaRight" fmla="*/ 417240 w 432000"/>
              <a:gd name="textAreaTop" fmla="*/ 0 h 576360"/>
              <a:gd name="textAreaBottom" fmla="*/ 183240 h 576360"/>
            </a:gdLst>
            <a:ahLst/>
            <a:rect l="textAreaLeft" t="textAreaTop" r="textAreaRight" b="textAreaBottom"/>
            <a:pathLst>
              <a:path stroke="0" w="431800" h="576262">
                <a:moveTo>
                  <a:pt x="215900" y="0"/>
                </a:moveTo>
                <a:lnTo>
                  <a:pt x="215900" y="0"/>
                </a:lnTo>
                <a:arcTo wR="215900" hR="288131" stAng="-5400000" swAng="3746227"/>
                <a:lnTo>
                  <a:pt x="215900" y="288131"/>
                </a:lnTo>
                <a:close/>
              </a:path>
              <a:path fill="none" w="431800" h="576262">
                <a:moveTo>
                  <a:pt x="215900" y="0"/>
                </a:moveTo>
                <a:lnTo>
                  <a:pt x="215900" y="0"/>
                </a:lnTo>
                <a:arcTo wR="215900" hR="288131" stAng="-5400000" swAng="3746227"/>
              </a:path>
            </a:pathLst>
          </a:custGeom>
          <a:solidFill>
            <a:srgbClr val="92d050"/>
          </a:solidFill>
          <a:ln w="1008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11"/>
          <p:cNvSpPr/>
          <p:nvPr/>
        </p:nvSpPr>
        <p:spPr>
          <a:xfrm>
            <a:off x="3207600" y="479736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Franklin Gothic Book"/>
              </a:rPr>
              <a:t>86</a:t>
            </a:r>
            <a:r>
              <a:rPr b="1" lang="en-US" sz="1200" spc="-1" strike="noStrike" baseline="30000">
                <a:solidFill>
                  <a:srgbClr val="0000ff"/>
                </a:solidFill>
                <a:latin typeface="Franklin Gothic Book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5"/>
          <p:cNvSpPr/>
          <p:nvPr/>
        </p:nvSpPr>
        <p:spPr>
          <a:xfrm>
            <a:off x="326880" y="2637000"/>
            <a:ext cx="60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биссектриса прямого угла прямоугольного ∆ А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6"/>
          <p:cNvSpPr/>
          <p:nvPr/>
        </p:nvSpPr>
        <p:spPr>
          <a:xfrm>
            <a:off x="6387480" y="2637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═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7"/>
          <p:cNvSpPr/>
          <p:nvPr/>
        </p:nvSpPr>
        <p:spPr>
          <a:xfrm>
            <a:off x="6643080" y="2637000"/>
            <a:ext cx="24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D = 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ый треугольник 20"/>
          <p:cNvSpPr/>
          <p:nvPr/>
        </p:nvSpPr>
        <p:spPr>
          <a:xfrm rot="16200000">
            <a:off x="1114920" y="3356280"/>
            <a:ext cx="1297080" cy="2016000"/>
          </a:xfrm>
          <a:prstGeom prst="rtTriangle">
            <a:avLst/>
          </a:prstGeom>
          <a:solidFill>
            <a:srgbClr val="95fdf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Дуга 18"/>
          <p:cNvSpPr/>
          <p:nvPr/>
        </p:nvSpPr>
        <p:spPr>
          <a:xfrm rot="8579400">
            <a:off x="2197080" y="3260520"/>
            <a:ext cx="1179360" cy="898200"/>
          </a:xfrm>
          <a:custGeom>
            <a:avLst/>
            <a:gdLst>
              <a:gd name="textAreaLeft" fmla="*/ 1019160 w 1179360"/>
              <a:gd name="textAreaRight" fmla="*/ 1179360 w 1179360"/>
              <a:gd name="textAreaTop" fmla="*/ 141120 h 898200"/>
              <a:gd name="textAreaBottom" fmla="*/ 515520 h 898200"/>
            </a:gdLst>
            <a:ahLst/>
            <a:rect l="textAreaLeft" t="textAreaTop" r="textAreaRight" b="textAreaBottom"/>
            <a:pathLst>
              <a:path stroke="0" w="1179513" h="898525">
                <a:moveTo>
                  <a:pt x="1019076" y="141239"/>
                </a:moveTo>
                <a:lnTo>
                  <a:pt x="1019076" y="141239"/>
                </a:lnTo>
                <a:arcTo wR="589757" hR="449263" stAng="-2139492" swAng="2530330"/>
                <a:lnTo>
                  <a:pt x="589757" y="449263"/>
                </a:lnTo>
                <a:close/>
              </a:path>
              <a:path fill="none" w="1179513" h="898525">
                <a:moveTo>
                  <a:pt x="1019076" y="141239"/>
                </a:moveTo>
                <a:lnTo>
                  <a:pt x="1019076" y="141239"/>
                </a:lnTo>
                <a:arcTo wR="589757" hR="449263" stAng="-2139492" swAng="2530330"/>
              </a:path>
            </a:pathLst>
          </a:custGeom>
          <a:solidFill>
            <a:srgbClr val="ffccff"/>
          </a:solidFill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19"/>
          <p:cNvSpPr/>
          <p:nvPr/>
        </p:nvSpPr>
        <p:spPr>
          <a:xfrm rot="18372000">
            <a:off x="2337840" y="38124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ая соединительная линия 22"/>
          <p:cNvSpPr/>
          <p:nvPr/>
        </p:nvSpPr>
        <p:spPr>
          <a:xfrm flipH="1">
            <a:off x="2410920" y="3710160"/>
            <a:ext cx="376200" cy="130320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Дуга 14"/>
          <p:cNvSpPr/>
          <p:nvPr/>
        </p:nvSpPr>
        <p:spPr>
          <a:xfrm rot="9634200">
            <a:off x="2568240" y="3614400"/>
            <a:ext cx="792000" cy="647640"/>
          </a:xfrm>
          <a:custGeom>
            <a:avLst/>
            <a:gdLst>
              <a:gd name="textAreaLeft" fmla="*/ 691560 w 792000"/>
              <a:gd name="textAreaRight" fmla="*/ 757080 w 792000"/>
              <a:gd name="textAreaTop" fmla="*/ 108000 h 647640"/>
              <a:gd name="textAreaBottom" fmla="*/ 190440 h 647640"/>
            </a:gdLst>
            <a:ahLst/>
            <a:rect l="textAreaLeft" t="textAreaTop" r="textAreaRight" b="textAreaBottom"/>
            <a:pathLst>
              <a:path stroke="0" w="792163" h="647700">
                <a:moveTo>
                  <a:pt x="691551" y="108176"/>
                </a:moveTo>
                <a:lnTo>
                  <a:pt x="691551" y="108176"/>
                </a:lnTo>
                <a:arcTo wR="396082" hR="323850" stAng="-2167627" swAng="951023"/>
                <a:lnTo>
                  <a:pt x="396082" y="323850"/>
                </a:lnTo>
                <a:close/>
              </a:path>
              <a:path fill="none" w="792163" h="647700">
                <a:moveTo>
                  <a:pt x="691551" y="108176"/>
                </a:moveTo>
                <a:lnTo>
                  <a:pt x="691551" y="108176"/>
                </a:lnTo>
                <a:arcTo wR="396082" hR="323850" stAng="-2167627" swAng="951023"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12"/>
          <p:cNvSpPr/>
          <p:nvPr/>
        </p:nvSpPr>
        <p:spPr>
          <a:xfrm>
            <a:off x="832680" y="4797360"/>
            <a:ext cx="3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1" lang="en-US" sz="12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23"/>
          <p:cNvSpPr/>
          <p:nvPr/>
        </p:nvSpPr>
        <p:spPr>
          <a:xfrm>
            <a:off x="2484360" y="314172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угольном ∆АСН:      ∟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 =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8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Дуга 24"/>
          <p:cNvSpPr/>
          <p:nvPr/>
        </p:nvSpPr>
        <p:spPr>
          <a:xfrm rot="9107400">
            <a:off x="1966680" y="3344760"/>
            <a:ext cx="1152360" cy="1152720"/>
          </a:xfrm>
          <a:custGeom>
            <a:avLst/>
            <a:gdLst>
              <a:gd name="textAreaLeft" fmla="*/ 619920 w 1152360"/>
              <a:gd name="textAreaRight" fmla="*/ 1152720 w 1152360"/>
              <a:gd name="textAreaTop" fmla="*/ 1440 h 1152720"/>
              <a:gd name="textAreaBottom" fmla="*/ 576360 h 1152720"/>
            </a:gdLst>
            <a:ahLst/>
            <a:rect l="textAreaLeft" t="textAreaTop" r="textAreaRight" b="textAreaBottom"/>
            <a:pathLst>
              <a:path stroke="0" w="1152525" h="1152525">
                <a:moveTo>
                  <a:pt x="619937" y="1657"/>
                </a:moveTo>
                <a:lnTo>
                  <a:pt x="619937" y="1657"/>
                </a:lnTo>
                <a:arcTo wR="576263" hR="576263" stAng="-5139203" swAng="5139209"/>
                <a:lnTo>
                  <a:pt x="576263" y="576263"/>
                </a:lnTo>
                <a:close/>
              </a:path>
              <a:path fill="none" w="1152525" h="1152525">
                <a:moveTo>
                  <a:pt x="619937" y="1657"/>
                </a:moveTo>
                <a:lnTo>
                  <a:pt x="619937" y="1657"/>
                </a:lnTo>
                <a:arcTo wR="576263" hR="576263" stAng="-5139203" swAng="5139209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25"/>
          <p:cNvSpPr/>
          <p:nvPr/>
        </p:nvSpPr>
        <p:spPr>
          <a:xfrm>
            <a:off x="2060640" y="4437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ая соединительная линия 27"/>
          <p:cNvSpPr/>
          <p:nvPr/>
        </p:nvSpPr>
        <p:spPr>
          <a:xfrm>
            <a:off x="3348000" y="191628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28"/>
          <p:cNvSpPr/>
          <p:nvPr/>
        </p:nvSpPr>
        <p:spPr>
          <a:xfrm>
            <a:off x="4374720" y="3573360"/>
            <a:ext cx="37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мый 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 = 8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1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29"/>
          <p:cNvSpPr/>
          <p:nvPr/>
        </p:nvSpPr>
        <p:spPr>
          <a:xfrm>
            <a:off x="7596360" y="5877000"/>
            <a:ext cx="1296720" cy="360360"/>
          </a:xfrm>
          <a:prstGeom prst="rect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7603200" y="58770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5280" y="8748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1604"/>
                </a:solidFill>
                <a:latin typeface="Arial"/>
              </a:rPr>
              <a:t>1.2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9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5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179280" y="1125000"/>
            <a:ext cx="8964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Острые углы прямоугольного треугольника</a:t>
            </a: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равны 69</a:t>
            </a:r>
            <a:r>
              <a:rPr b="1" lang="en-US" sz="2500" spc="-1" strike="noStrike" baseline="30000">
                <a:solidFill>
                  <a:srgbClr val="4e3b30"/>
                </a:solidFill>
                <a:latin typeface="Franklin Gothic Book"/>
              </a:rPr>
              <a:t>о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 и 21</a:t>
            </a:r>
            <a:r>
              <a:rPr b="1" lang="en-US" sz="2500" spc="-1" strike="noStrike" baseline="30000">
                <a:solidFill>
                  <a:srgbClr val="4e3b30"/>
                </a:solidFill>
                <a:latin typeface="Franklin Gothic Book"/>
              </a:rPr>
              <a:t>о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. Найдите угол между высотой и биссектрисой, проведенными из вершины прямого угла. Ответ дайте в градусах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498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459640" y="6381720"/>
            <a:ext cx="684360" cy="260280"/>
          </a:xfrm>
          <a:custGeom>
            <a:avLst/>
            <a:gdLst>
              <a:gd name="textAreaLeft" fmla="*/ 16560 w 684360"/>
              <a:gd name="textAreaRight" fmla="*/ 667800 w 684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6745" h="21600">
                <a:moveTo>
                  <a:pt x="0" y="0"/>
                </a:moveTo>
                <a:lnTo>
                  <a:pt x="56745" y="0"/>
                </a:lnTo>
                <a:lnTo>
                  <a:pt x="56745" y="21600"/>
                </a:lnTo>
                <a:lnTo>
                  <a:pt x="0" y="21600"/>
                </a:lnTo>
                <a:close/>
              </a:path>
              <a:path fill="lightenLess" w="56745" h="21600">
                <a:moveTo>
                  <a:pt x="0" y="0"/>
                </a:moveTo>
                <a:lnTo>
                  <a:pt x="56745" y="0"/>
                </a:lnTo>
                <a:lnTo>
                  <a:pt x="55345" y="1400"/>
                </a:lnTo>
                <a:lnTo>
                  <a:pt x="1400" y="1400"/>
                </a:lnTo>
                <a:close/>
              </a:path>
              <a:path fill="darken" w="56745" h="21600">
                <a:moveTo>
                  <a:pt x="56745" y="0"/>
                </a:moveTo>
                <a:lnTo>
                  <a:pt x="56745" y="21600"/>
                </a:lnTo>
                <a:lnTo>
                  <a:pt x="55345" y="20200"/>
                </a:lnTo>
                <a:lnTo>
                  <a:pt x="55345" y="1400"/>
                </a:lnTo>
                <a:close/>
              </a:path>
              <a:path fill="darkenLess" w="56745" h="21600">
                <a:moveTo>
                  <a:pt x="56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45" y="20200"/>
                </a:lnTo>
                <a:close/>
              </a:path>
              <a:path fill="lighten" w="56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745" h="21600">
                <a:moveTo>
                  <a:pt x="21366" y="3794"/>
                </a:moveTo>
                <a:lnTo>
                  <a:pt x="35379" y="10800"/>
                </a:lnTo>
                <a:lnTo>
                  <a:pt x="21366" y="17806"/>
                </a:lnTo>
                <a:close/>
              </a:path>
            </a:pathLst>
          </a:custGeom>
          <a:solidFill>
            <a:srgbClr val="fcecd5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9"/>
          <p:cNvSpPr/>
          <p:nvPr/>
        </p:nvSpPr>
        <p:spPr>
          <a:xfrm>
            <a:off x="7596360" y="5877000"/>
            <a:ext cx="1296720" cy="360360"/>
          </a:xfrm>
          <a:prstGeom prst="rect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8" descr="MA.OB10.B4.30/innerimg0.jpg"/>
          <p:cNvPicPr/>
          <p:nvPr/>
        </p:nvPicPr>
        <p:blipFill>
          <a:blip r:embed="rId2"/>
          <a:stretch/>
        </p:blipFill>
        <p:spPr>
          <a:xfrm>
            <a:off x="539640" y="3860640"/>
            <a:ext cx="3337200" cy="1800360"/>
          </a:xfrm>
          <a:prstGeom prst="rect">
            <a:avLst/>
          </a:prstGeom>
          <a:ln w="0">
            <a:noFill/>
          </a:ln>
        </p:spPr>
      </p:pic>
      <p:sp>
        <p:nvSpPr>
          <p:cNvPr id="501" name="Дуга 11"/>
          <p:cNvSpPr/>
          <p:nvPr/>
        </p:nvSpPr>
        <p:spPr>
          <a:xfrm rot="16200000">
            <a:off x="3420000" y="5085360"/>
            <a:ext cx="432000" cy="576360"/>
          </a:xfrm>
          <a:custGeom>
            <a:avLst/>
            <a:gdLst>
              <a:gd name="textAreaLeft" fmla="*/ 216000 w 432000"/>
              <a:gd name="textAreaRight" fmla="*/ 417240 w 432000"/>
              <a:gd name="textAreaTop" fmla="*/ 0 h 576360"/>
              <a:gd name="textAreaBottom" fmla="*/ 183240 h 576360"/>
            </a:gdLst>
            <a:ahLst/>
            <a:rect l="textAreaLeft" t="textAreaTop" r="textAreaRight" b="textAreaBottom"/>
            <a:pathLst>
              <a:path stroke="0" w="431800" h="576262">
                <a:moveTo>
                  <a:pt x="215900" y="0"/>
                </a:moveTo>
                <a:lnTo>
                  <a:pt x="215900" y="0"/>
                </a:lnTo>
                <a:arcTo wR="215900" hR="288131" stAng="-5400000" swAng="3746227"/>
                <a:lnTo>
                  <a:pt x="215900" y="288131"/>
                </a:lnTo>
                <a:close/>
              </a:path>
              <a:path fill="none" w="431800" h="576262">
                <a:moveTo>
                  <a:pt x="215900" y="0"/>
                </a:moveTo>
                <a:lnTo>
                  <a:pt x="215900" y="0"/>
                </a:lnTo>
                <a:arcTo wR="215900" hR="288131" stAng="-5400000" swAng="3746227"/>
              </a:path>
            </a:pathLst>
          </a:custGeom>
          <a:solidFill>
            <a:srgbClr val="92d050"/>
          </a:solidFill>
          <a:ln w="1008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Дуга 15"/>
          <p:cNvSpPr/>
          <p:nvPr/>
        </p:nvSpPr>
        <p:spPr>
          <a:xfrm rot="9634200">
            <a:off x="2568240" y="3973320"/>
            <a:ext cx="792000" cy="649080"/>
          </a:xfrm>
          <a:custGeom>
            <a:avLst/>
            <a:gdLst>
              <a:gd name="textAreaLeft" fmla="*/ 691920 w 792000"/>
              <a:gd name="textAreaRight" fmla="*/ 757080 w 792000"/>
              <a:gd name="textAreaTop" fmla="*/ 108720 h 649080"/>
              <a:gd name="textAreaBottom" fmla="*/ 191160 h 649080"/>
            </a:gdLst>
            <a:ahLst/>
            <a:rect l="textAreaLeft" t="textAreaTop" r="textAreaRight" b="textAreaBottom"/>
            <a:pathLst>
              <a:path stroke="0" w="792163" h="649287">
                <a:moveTo>
                  <a:pt x="691871" y="108736"/>
                </a:moveTo>
                <a:lnTo>
                  <a:pt x="691871" y="108736"/>
                </a:lnTo>
                <a:arcTo wR="396082" hR="324644" stAng="-2167625" swAng="951024"/>
                <a:lnTo>
                  <a:pt x="396082" y="324644"/>
                </a:lnTo>
                <a:close/>
              </a:path>
              <a:path fill="none" w="792163" h="649287">
                <a:moveTo>
                  <a:pt x="691871" y="108736"/>
                </a:moveTo>
                <a:lnTo>
                  <a:pt x="691871" y="108736"/>
                </a:lnTo>
                <a:arcTo wR="396082" hR="324644" stAng="-2167625" swAng="951024"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Дуга 18"/>
          <p:cNvSpPr/>
          <p:nvPr/>
        </p:nvSpPr>
        <p:spPr>
          <a:xfrm>
            <a:off x="250920" y="5013360"/>
            <a:ext cx="865080" cy="719280"/>
          </a:xfrm>
          <a:custGeom>
            <a:avLst/>
            <a:gdLst>
              <a:gd name="textAreaLeft" fmla="*/ 798840 w 865080"/>
              <a:gd name="textAreaRight" fmla="*/ 865440 w 865080"/>
              <a:gd name="textAreaTop" fmla="*/ 16776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865188" h="719138">
                <a:moveTo>
                  <a:pt x="798638" y="167944"/>
                </a:moveTo>
                <a:lnTo>
                  <a:pt x="798638" y="167944"/>
                </a:lnTo>
                <a:arcTo wR="432594" hR="359569" stAng="-1657931" swAng="1657939"/>
                <a:lnTo>
                  <a:pt x="432594" y="359569"/>
                </a:lnTo>
                <a:close/>
              </a:path>
              <a:path fill="none" w="865188" h="719138">
                <a:moveTo>
                  <a:pt x="798638" y="167944"/>
                </a:moveTo>
                <a:lnTo>
                  <a:pt x="798638" y="167944"/>
                </a:lnTo>
                <a:arcTo wR="432594" hR="359569" stAng="-1657931" swAng="1657939"/>
              </a:path>
            </a:pathLst>
          </a:custGeom>
          <a:solidFill>
            <a:srgbClr val="95fdfb"/>
          </a:solidFill>
          <a:ln w="1008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16"/>
          <p:cNvSpPr/>
          <p:nvPr/>
        </p:nvSpPr>
        <p:spPr>
          <a:xfrm>
            <a:off x="830880" y="51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2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19"/>
          <p:cNvSpPr/>
          <p:nvPr/>
        </p:nvSpPr>
        <p:spPr>
          <a:xfrm>
            <a:off x="755640" y="249228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рямоугольном ∆ ВСН:      ∟ВСН =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69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21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ый треугольник 20"/>
          <p:cNvSpPr/>
          <p:nvPr/>
        </p:nvSpPr>
        <p:spPr>
          <a:xfrm>
            <a:off x="2771640" y="4076640"/>
            <a:ext cx="863640" cy="1297080"/>
          </a:xfrm>
          <a:prstGeom prst="rtTriangle">
            <a:avLst/>
          </a:prstGeom>
          <a:solidFill>
            <a:srgbClr val="9dfb8d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2"/>
          <p:cNvSpPr/>
          <p:nvPr/>
        </p:nvSpPr>
        <p:spPr>
          <a:xfrm>
            <a:off x="3207600" y="51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Franklin Gothic Book"/>
              </a:rPr>
              <a:t>69</a:t>
            </a:r>
            <a:r>
              <a:rPr b="1" lang="en-US" sz="1200" spc="-1" strike="noStrike" baseline="30000">
                <a:solidFill>
                  <a:srgbClr val="0000ff"/>
                </a:solidFill>
                <a:latin typeface="Franklin Gothic Book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2778480" y="44370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1"/>
          <p:cNvSpPr/>
          <p:nvPr/>
        </p:nvSpPr>
        <p:spPr>
          <a:xfrm>
            <a:off x="755640" y="2781360"/>
            <a:ext cx="60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биссектриса прямого угла прямоугольного ∆ А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Дуга 22"/>
          <p:cNvSpPr/>
          <p:nvPr/>
        </p:nvSpPr>
        <p:spPr>
          <a:xfrm rot="7721400">
            <a:off x="2384640" y="3979080"/>
            <a:ext cx="936720" cy="934920"/>
          </a:xfrm>
          <a:custGeom>
            <a:avLst/>
            <a:gdLst>
              <a:gd name="textAreaLeft" fmla="*/ 468360 w 936720"/>
              <a:gd name="textAreaRight" fmla="*/ 937080 w 936720"/>
              <a:gd name="textAreaTop" fmla="*/ 0 h 934920"/>
              <a:gd name="textAreaBottom" fmla="*/ 467640 h 934920"/>
            </a:gdLst>
            <a:ahLst/>
            <a:rect l="textAreaLeft" t="textAreaTop" r="textAreaRight" b="textAreaBottom"/>
            <a:pathLst>
              <a:path stroke="0" w="936625" h="935037">
                <a:moveTo>
                  <a:pt x="468313" y="0"/>
                </a:moveTo>
                <a:lnTo>
                  <a:pt x="468313" y="0"/>
                </a:lnTo>
                <a:arcTo wR="468313" hR="467519" stAng="-5399993" swAng="5400000"/>
                <a:lnTo>
                  <a:pt x="468313" y="467519"/>
                </a:lnTo>
                <a:close/>
              </a:path>
              <a:path fill="none" w="936625" h="935037">
                <a:moveTo>
                  <a:pt x="468313" y="0"/>
                </a:moveTo>
                <a:lnTo>
                  <a:pt x="468313" y="0"/>
                </a:lnTo>
                <a:arcTo wR="468313" hR="467519" stAng="-5399993" swAng="5400000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13"/>
          <p:cNvSpPr/>
          <p:nvPr/>
        </p:nvSpPr>
        <p:spPr>
          <a:xfrm>
            <a:off x="2700360" y="4653000"/>
            <a:ext cx="5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23"/>
          <p:cNvSpPr/>
          <p:nvPr/>
        </p:nvSpPr>
        <p:spPr>
          <a:xfrm>
            <a:off x="3059280" y="31417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комый 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 =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21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2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24"/>
          <p:cNvSpPr/>
          <p:nvPr/>
        </p:nvSpPr>
        <p:spPr>
          <a:xfrm>
            <a:off x="7603200" y="58770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96360" y="16020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1604"/>
                </a:solidFill>
                <a:latin typeface="Arial"/>
              </a:rPr>
              <a:t>1.3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90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0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70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000"/>
                            </p:stCondLst>
                            <p:childTnLst>
                              <p:par>
                                <p:cTn id="3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8" descr="MA.OB10.B4.30/innerimg0.jpg"/>
          <p:cNvPicPr/>
          <p:nvPr/>
        </p:nvPicPr>
        <p:blipFill>
          <a:blip r:embed="rId1"/>
          <a:stretch/>
        </p:blipFill>
        <p:spPr>
          <a:xfrm>
            <a:off x="539640" y="3860640"/>
            <a:ext cx="3337200" cy="18003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179280" y="112536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Острые углы прямоугольного треугольника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равны 53</a:t>
            </a:r>
            <a:r>
              <a:rPr b="1" lang="en-US" sz="2400" spc="-1" strike="noStrike" baseline="30000">
                <a:solidFill>
                  <a:srgbClr val="4e3b30"/>
                </a:solidFill>
                <a:latin typeface="Franklin Gothic Book"/>
              </a:rPr>
              <a:t>о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и 37</a:t>
            </a:r>
            <a:r>
              <a:rPr b="1" lang="en-US" sz="2400" spc="-1" strike="noStrike" baseline="30000">
                <a:solidFill>
                  <a:srgbClr val="4e3b30"/>
                </a:solidFill>
                <a:latin typeface="Franklin Gothic Book"/>
              </a:rPr>
              <a:t>о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. Найдите угол между высотой и биссектрисой, проведенными из вершины прямого угла. Ответ дайте в градусах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518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459640" y="6381720"/>
            <a:ext cx="684360" cy="260280"/>
          </a:xfrm>
          <a:custGeom>
            <a:avLst/>
            <a:gdLst>
              <a:gd name="textAreaLeft" fmla="*/ 16560 w 684360"/>
              <a:gd name="textAreaRight" fmla="*/ 667800 w 684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6745" h="21600">
                <a:moveTo>
                  <a:pt x="0" y="0"/>
                </a:moveTo>
                <a:lnTo>
                  <a:pt x="56745" y="0"/>
                </a:lnTo>
                <a:lnTo>
                  <a:pt x="56745" y="21600"/>
                </a:lnTo>
                <a:lnTo>
                  <a:pt x="0" y="21600"/>
                </a:lnTo>
                <a:close/>
              </a:path>
              <a:path fill="lightenLess" w="56745" h="21600">
                <a:moveTo>
                  <a:pt x="0" y="0"/>
                </a:moveTo>
                <a:lnTo>
                  <a:pt x="56745" y="0"/>
                </a:lnTo>
                <a:lnTo>
                  <a:pt x="55345" y="1400"/>
                </a:lnTo>
                <a:lnTo>
                  <a:pt x="1400" y="1400"/>
                </a:lnTo>
                <a:close/>
              </a:path>
              <a:path fill="darken" w="56745" h="21600">
                <a:moveTo>
                  <a:pt x="56745" y="0"/>
                </a:moveTo>
                <a:lnTo>
                  <a:pt x="56745" y="21600"/>
                </a:lnTo>
                <a:lnTo>
                  <a:pt x="55345" y="20200"/>
                </a:lnTo>
                <a:lnTo>
                  <a:pt x="55345" y="1400"/>
                </a:lnTo>
                <a:close/>
              </a:path>
              <a:path fill="darkenLess" w="56745" h="21600">
                <a:moveTo>
                  <a:pt x="56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45" y="20200"/>
                </a:lnTo>
                <a:close/>
              </a:path>
              <a:path fill="lighten" w="56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745" h="21600">
                <a:moveTo>
                  <a:pt x="21366" y="3794"/>
                </a:moveTo>
                <a:lnTo>
                  <a:pt x="35379" y="10800"/>
                </a:lnTo>
                <a:lnTo>
                  <a:pt x="21366" y="17806"/>
                </a:lnTo>
                <a:close/>
              </a:path>
            </a:pathLst>
          </a:custGeom>
          <a:solidFill>
            <a:srgbClr val="fcecd5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8"/>
          <p:cNvSpPr/>
          <p:nvPr/>
        </p:nvSpPr>
        <p:spPr>
          <a:xfrm>
            <a:off x="7596360" y="5877000"/>
            <a:ext cx="1296720" cy="360360"/>
          </a:xfrm>
          <a:prstGeom prst="rect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Дуга 11"/>
          <p:cNvSpPr/>
          <p:nvPr/>
        </p:nvSpPr>
        <p:spPr>
          <a:xfrm rot="16200000">
            <a:off x="3420000" y="5085360"/>
            <a:ext cx="432000" cy="576360"/>
          </a:xfrm>
          <a:custGeom>
            <a:avLst/>
            <a:gdLst>
              <a:gd name="textAreaLeft" fmla="*/ 216000 w 432000"/>
              <a:gd name="textAreaRight" fmla="*/ 417240 w 432000"/>
              <a:gd name="textAreaTop" fmla="*/ 0 h 576360"/>
              <a:gd name="textAreaBottom" fmla="*/ 183240 h 576360"/>
            </a:gdLst>
            <a:ahLst/>
            <a:rect l="textAreaLeft" t="textAreaTop" r="textAreaRight" b="textAreaBottom"/>
            <a:pathLst>
              <a:path stroke="0" w="431800" h="576262">
                <a:moveTo>
                  <a:pt x="215900" y="0"/>
                </a:moveTo>
                <a:lnTo>
                  <a:pt x="215900" y="0"/>
                </a:lnTo>
                <a:arcTo wR="215900" hR="288131" stAng="-5400000" swAng="3746227"/>
                <a:lnTo>
                  <a:pt x="215900" y="288131"/>
                </a:lnTo>
                <a:close/>
              </a:path>
              <a:path fill="none" w="431800" h="576262">
                <a:moveTo>
                  <a:pt x="215900" y="0"/>
                </a:moveTo>
                <a:lnTo>
                  <a:pt x="215900" y="0"/>
                </a:lnTo>
                <a:arcTo wR="215900" hR="288131" stAng="-5400000" swAng="3746227"/>
              </a:path>
            </a:pathLst>
          </a:custGeom>
          <a:solidFill>
            <a:srgbClr val="92d050"/>
          </a:solidFill>
          <a:ln w="1008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ый треугольник 15"/>
          <p:cNvSpPr/>
          <p:nvPr/>
        </p:nvSpPr>
        <p:spPr>
          <a:xfrm rot="16200000">
            <a:off x="1079280" y="3681000"/>
            <a:ext cx="1297080" cy="2087280"/>
          </a:xfrm>
          <a:prstGeom prst="rtTriangle">
            <a:avLst/>
          </a:prstGeom>
          <a:solidFill>
            <a:srgbClr val="9dfb8d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6"/>
          <p:cNvSpPr/>
          <p:nvPr/>
        </p:nvSpPr>
        <p:spPr>
          <a:xfrm>
            <a:off x="3207600" y="51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Franklin Gothic Book"/>
              </a:rPr>
              <a:t>53</a:t>
            </a:r>
            <a:r>
              <a:rPr b="1" lang="en-US" sz="1200" spc="-1" strike="noStrike" baseline="30000">
                <a:solidFill>
                  <a:srgbClr val="0000ff"/>
                </a:solidFill>
                <a:latin typeface="Franklin Gothic Book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17"/>
          <p:cNvSpPr/>
          <p:nvPr/>
        </p:nvSpPr>
        <p:spPr>
          <a:xfrm>
            <a:off x="2057760" y="479736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Дуга 18"/>
          <p:cNvSpPr/>
          <p:nvPr/>
        </p:nvSpPr>
        <p:spPr>
          <a:xfrm rot="7721400">
            <a:off x="1953000" y="3907440"/>
            <a:ext cx="936720" cy="935280"/>
          </a:xfrm>
          <a:custGeom>
            <a:avLst/>
            <a:gdLst>
              <a:gd name="textAreaLeft" fmla="*/ 468360 w 936720"/>
              <a:gd name="textAreaRight" fmla="*/ 937080 w 936720"/>
              <a:gd name="textAreaTop" fmla="*/ 0 h 935280"/>
              <a:gd name="textAreaBottom" fmla="*/ 670680 h 935280"/>
            </a:gdLst>
            <a:ahLst/>
            <a:rect l="textAreaLeft" t="textAreaTop" r="textAreaRight" b="textAreaBottom"/>
            <a:pathLst>
              <a:path stroke="0" w="936625" h="935037">
                <a:moveTo>
                  <a:pt x="468313" y="0"/>
                </a:moveTo>
                <a:lnTo>
                  <a:pt x="468313" y="0"/>
                </a:lnTo>
                <a:arcTo wR="468313" hR="467519" stAng="-5399993" swAng="6939821"/>
                <a:lnTo>
                  <a:pt x="468313" y="467519"/>
                </a:lnTo>
                <a:close/>
              </a:path>
              <a:path fill="none" w="936625" h="935037">
                <a:moveTo>
                  <a:pt x="468313" y="0"/>
                </a:moveTo>
                <a:lnTo>
                  <a:pt x="468313" y="0"/>
                </a:lnTo>
                <a:arcTo wR="468313" hR="467519" stAng="-5399993" swAng="6939821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Дуга 20"/>
          <p:cNvSpPr/>
          <p:nvPr/>
        </p:nvSpPr>
        <p:spPr>
          <a:xfrm>
            <a:off x="324000" y="4869000"/>
            <a:ext cx="863280" cy="1008000"/>
          </a:xfrm>
          <a:custGeom>
            <a:avLst/>
            <a:gdLst>
              <a:gd name="textAreaLeft" fmla="*/ 798840 w 863280"/>
              <a:gd name="textAreaRight" fmla="*/ 863640 w 863280"/>
              <a:gd name="textAreaTop" fmla="*/ 238680 h 1008000"/>
              <a:gd name="textAreaBottom" fmla="*/ 504000 h 1008000"/>
            </a:gdLst>
            <a:ahLst/>
            <a:rect l="textAreaLeft" t="textAreaTop" r="textAreaRight" b="textAreaBottom"/>
            <a:pathLst>
              <a:path stroke="0" w="863600" h="1008062">
                <a:moveTo>
                  <a:pt x="798909" y="238665"/>
                </a:moveTo>
                <a:lnTo>
                  <a:pt x="798909" y="238665"/>
                </a:lnTo>
                <a:arcTo wR="431800" hR="504031" stAng="-2151685" swAng="2151693"/>
                <a:lnTo>
                  <a:pt x="431800" y="504031"/>
                </a:lnTo>
                <a:close/>
              </a:path>
              <a:path fill="none" w="863600" h="1008062">
                <a:moveTo>
                  <a:pt x="798909" y="238665"/>
                </a:moveTo>
                <a:lnTo>
                  <a:pt x="798909" y="238665"/>
                </a:lnTo>
                <a:arcTo wR="431800" hR="504031" stAng="-2151685" swAng="2151693"/>
              </a:path>
            </a:pathLst>
          </a:custGeom>
          <a:solidFill>
            <a:srgbClr val="ffc000"/>
          </a:solidFill>
          <a:ln w="1008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14"/>
          <p:cNvSpPr/>
          <p:nvPr/>
        </p:nvSpPr>
        <p:spPr>
          <a:xfrm>
            <a:off x="826920" y="51577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3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22"/>
          <p:cNvSpPr/>
          <p:nvPr/>
        </p:nvSpPr>
        <p:spPr>
          <a:xfrm flipV="1">
            <a:off x="2410560" y="4076280"/>
            <a:ext cx="360360" cy="129708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Дуга 13"/>
          <p:cNvSpPr/>
          <p:nvPr/>
        </p:nvSpPr>
        <p:spPr>
          <a:xfrm rot="7261800">
            <a:off x="2352960" y="3755160"/>
            <a:ext cx="792000" cy="647640"/>
          </a:xfrm>
          <a:custGeom>
            <a:avLst/>
            <a:gdLst>
              <a:gd name="textAreaLeft" fmla="*/ 691560 w 792000"/>
              <a:gd name="textAreaRight" fmla="*/ 758880 w 792000"/>
              <a:gd name="textAreaTop" fmla="*/ 108000 h 647640"/>
              <a:gd name="textAreaBottom" fmla="*/ 194040 h 647640"/>
            </a:gdLst>
            <a:ahLst/>
            <a:rect l="textAreaLeft" t="textAreaTop" r="textAreaRight" b="textAreaBottom"/>
            <a:pathLst>
              <a:path stroke="0" w="792163" h="647700">
                <a:moveTo>
                  <a:pt x="691551" y="108176"/>
                </a:moveTo>
                <a:lnTo>
                  <a:pt x="691551" y="108176"/>
                </a:lnTo>
                <a:arcTo wR="396082" hR="323850" stAng="-2167627" swAng="987357"/>
                <a:lnTo>
                  <a:pt x="396082" y="323850"/>
                </a:lnTo>
                <a:close/>
              </a:path>
              <a:path fill="none" w="792163" h="647700">
                <a:moveTo>
                  <a:pt x="691551" y="108176"/>
                </a:moveTo>
                <a:lnTo>
                  <a:pt x="691551" y="108176"/>
                </a:lnTo>
                <a:arcTo wR="396082" hR="323850" stAng="-2167627" swAng="987357"/>
              </a:path>
            </a:pathLst>
          </a:custGeom>
          <a:solidFill>
            <a:srgbClr val="00b0f0"/>
          </a:solidFill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24"/>
          <p:cNvSpPr/>
          <p:nvPr/>
        </p:nvSpPr>
        <p:spPr>
          <a:xfrm>
            <a:off x="1908000" y="24922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рямоугольном ∆ АСН:      ∟АСН =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37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5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25"/>
          <p:cNvSpPr/>
          <p:nvPr/>
        </p:nvSpPr>
        <p:spPr>
          <a:xfrm>
            <a:off x="468360" y="292428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Запомнить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сота опущенная из вершины прямого угла прямоугольного треугольника разбивает треугольник на два подобных прямоугольных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26"/>
          <p:cNvSpPr/>
          <p:nvPr/>
        </p:nvSpPr>
        <p:spPr>
          <a:xfrm>
            <a:off x="3132000" y="414972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биссектриса прямого угла прямоугольного ∆ А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Дуга 27"/>
          <p:cNvSpPr/>
          <p:nvPr/>
        </p:nvSpPr>
        <p:spPr>
          <a:xfrm rot="8725800">
            <a:off x="2307600" y="3784320"/>
            <a:ext cx="927000" cy="584280"/>
          </a:xfrm>
          <a:custGeom>
            <a:avLst/>
            <a:gdLst>
              <a:gd name="textAreaLeft" fmla="*/ 759600 w 927000"/>
              <a:gd name="textAreaRight" fmla="*/ 927360 w 927000"/>
              <a:gd name="textAreaTop" fmla="*/ 67320 h 584280"/>
              <a:gd name="textAreaBottom" fmla="*/ 292320 h 584280"/>
            </a:gdLst>
            <a:ahLst/>
            <a:rect l="textAreaLeft" t="textAreaTop" r="textAreaRight" b="textAreaBottom"/>
            <a:pathLst>
              <a:path stroke="0" w="927100" h="584200">
                <a:moveTo>
                  <a:pt x="759641" y="67353"/>
                </a:moveTo>
                <a:lnTo>
                  <a:pt x="759641" y="67353"/>
                </a:lnTo>
                <a:arcTo wR="463550" hR="292100" stAng="-2232013" swAng="2232020"/>
                <a:lnTo>
                  <a:pt x="463550" y="292100"/>
                </a:lnTo>
                <a:close/>
              </a:path>
              <a:path fill="none" w="927100" h="584200">
                <a:moveTo>
                  <a:pt x="759641" y="67353"/>
                </a:moveTo>
                <a:lnTo>
                  <a:pt x="759641" y="67353"/>
                </a:lnTo>
                <a:arcTo wR="463550" hR="292100" stAng="-2232013" swAng="2232020"/>
              </a:path>
            </a:pathLst>
          </a:custGeom>
          <a:solidFill>
            <a:srgbClr val="007dda"/>
          </a:solidFill>
          <a:ln w="10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19"/>
          <p:cNvSpPr/>
          <p:nvPr/>
        </p:nvSpPr>
        <p:spPr>
          <a:xfrm rot="20373000">
            <a:off x="2314080" y="4087800"/>
            <a:ext cx="5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28"/>
          <p:cNvSpPr/>
          <p:nvPr/>
        </p:nvSpPr>
        <p:spPr>
          <a:xfrm>
            <a:off x="4356000" y="472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комый 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 = 5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29"/>
          <p:cNvSpPr/>
          <p:nvPr/>
        </p:nvSpPr>
        <p:spPr>
          <a:xfrm>
            <a:off x="7602480" y="587700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30"/>
          <p:cNvSpPr/>
          <p:nvPr/>
        </p:nvSpPr>
        <p:spPr>
          <a:xfrm>
            <a:off x="2562120" y="44370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31"/>
          <p:cNvSpPr/>
          <p:nvPr/>
        </p:nvSpPr>
        <p:spPr>
          <a:xfrm>
            <a:off x="4825800" y="36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СН  ≈  ∆ ВС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95280" y="16020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1604"/>
                </a:solidFill>
                <a:latin typeface="Arial"/>
              </a:rPr>
              <a:t>1.4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800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90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90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" dur="3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Скругленный прямоугольник 27"/>
          <p:cNvSpPr/>
          <p:nvPr/>
        </p:nvSpPr>
        <p:spPr>
          <a:xfrm>
            <a:off x="1763640" y="1700280"/>
            <a:ext cx="4824360" cy="360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79280" y="1197000"/>
            <a:ext cx="8964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Острые углы прямоугольного треугольника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равны 67</a:t>
            </a:r>
            <a:r>
              <a:rPr b="1" lang="en-US" sz="2400" spc="-1" strike="noStrike" baseline="30000">
                <a:solidFill>
                  <a:srgbClr val="4e3b30"/>
                </a:solidFill>
                <a:latin typeface="Franklin Gothic Book"/>
              </a:rPr>
              <a:t>о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и 23</a:t>
            </a:r>
            <a:r>
              <a:rPr b="1" lang="en-US" sz="2400" spc="-1" strike="noStrike" baseline="30000">
                <a:solidFill>
                  <a:srgbClr val="4e3b30"/>
                </a:solidFill>
                <a:latin typeface="Franklin Gothic Book"/>
              </a:rPr>
              <a:t>о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. Найдите угол между высотой и биссектрисой, проведенными из вершины прямого угла. Ответ дайте в градусах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MA.OB10.B4.30/innerimg0.jpg"/>
          <p:cNvPicPr/>
          <p:nvPr/>
        </p:nvPicPr>
        <p:blipFill>
          <a:blip r:embed="rId2"/>
          <a:stretch/>
        </p:blipFill>
        <p:spPr>
          <a:xfrm>
            <a:off x="684360" y="3213000"/>
            <a:ext cx="3201840" cy="1728720"/>
          </a:xfrm>
          <a:prstGeom prst="rect">
            <a:avLst/>
          </a:prstGeom>
          <a:ln w="0">
            <a:noFill/>
          </a:ln>
        </p:spPr>
      </p:pic>
      <p:sp>
        <p:nvSpPr>
          <p:cNvPr id="543" name="Дуга 6"/>
          <p:cNvSpPr/>
          <p:nvPr/>
        </p:nvSpPr>
        <p:spPr>
          <a:xfrm>
            <a:off x="971640" y="4437000"/>
            <a:ext cx="431640" cy="432000"/>
          </a:xfrm>
          <a:custGeom>
            <a:avLst/>
            <a:gdLst>
              <a:gd name="textAreaLeft" fmla="*/ 216000 w 431640"/>
              <a:gd name="textAreaRight" fmla="*/ 431280 w 431640"/>
              <a:gd name="textAreaTop" fmla="*/ 0 h 432000"/>
              <a:gd name="textAreaBottom" fmla="*/ 200880 h 432000"/>
            </a:gdLst>
            <a:ahLst/>
            <a:rect l="textAreaLeft" t="textAreaTop" r="textAreaRight" b="textAreaBottom"/>
            <a:pathLst>
              <a:path stroke="0" w="431800" h="431800">
                <a:moveTo>
                  <a:pt x="215900" y="0"/>
                </a:moveTo>
                <a:lnTo>
                  <a:pt x="215900" y="0"/>
                </a:lnTo>
                <a:arcTo wR="215900" hR="215900" stAng="-5400000" swAng="5161890"/>
                <a:lnTo>
                  <a:pt x="215900" y="215900"/>
                </a:lnTo>
                <a:close/>
              </a:path>
              <a:path fill="none" w="431800" h="431800">
                <a:moveTo>
                  <a:pt x="215900" y="0"/>
                </a:moveTo>
                <a:lnTo>
                  <a:pt x="215900" y="0"/>
                </a:lnTo>
                <a:arcTo wR="215900" hR="215900" stAng="-5400000" swAng="5161890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7"/>
          <p:cNvSpPr/>
          <p:nvPr/>
        </p:nvSpPr>
        <p:spPr>
          <a:xfrm>
            <a:off x="3269880" y="44370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6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8"/>
          <p:cNvSpPr/>
          <p:nvPr/>
        </p:nvSpPr>
        <p:spPr>
          <a:xfrm>
            <a:off x="965520" y="44370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2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Дуга 9"/>
          <p:cNvSpPr/>
          <p:nvPr/>
        </p:nvSpPr>
        <p:spPr>
          <a:xfrm rot="13857000">
            <a:off x="3334320" y="4237200"/>
            <a:ext cx="504720" cy="576360"/>
          </a:xfrm>
          <a:custGeom>
            <a:avLst/>
            <a:gdLst>
              <a:gd name="textAreaLeft" fmla="*/ 296640 w 504720"/>
              <a:gd name="textAreaRight" fmla="*/ 505080 w 504720"/>
              <a:gd name="textAreaTop" fmla="*/ 4320 h 576360"/>
              <a:gd name="textAreaBottom" fmla="*/ 288360 h 576360"/>
            </a:gdLst>
            <a:ahLst/>
            <a:rect l="textAreaLeft" t="textAreaTop" r="textAreaRight" b="textAreaBottom"/>
            <a:pathLst>
              <a:path stroke="0" w="504825" h="576263">
                <a:moveTo>
                  <a:pt x="296694" y="4469"/>
                </a:moveTo>
                <a:lnTo>
                  <a:pt x="296694" y="4469"/>
                </a:lnTo>
                <a:arcTo wR="252413" hR="288132" stAng="-4867638" swAng="4867651"/>
                <a:lnTo>
                  <a:pt x="252413" y="288132"/>
                </a:lnTo>
                <a:close/>
              </a:path>
              <a:path fill="none" w="504825" h="576263">
                <a:moveTo>
                  <a:pt x="296694" y="4469"/>
                </a:moveTo>
                <a:lnTo>
                  <a:pt x="296694" y="4469"/>
                </a:lnTo>
                <a:arcTo wR="252413" hR="288132" stAng="-4867638" swAng="4867651"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10"/>
          <p:cNvSpPr/>
          <p:nvPr/>
        </p:nvSpPr>
        <p:spPr>
          <a:xfrm>
            <a:off x="4416120" y="278136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Franklin Gothic Book"/>
              </a:rPr>
              <a:t>Теоретические с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11"/>
          <p:cNvSpPr/>
          <p:nvPr/>
        </p:nvSpPr>
        <p:spPr>
          <a:xfrm>
            <a:off x="5105880" y="3645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80"/>
                </a:solidFill>
                <a:uFillTx/>
                <a:latin typeface="Franklin Gothic Book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12"/>
          <p:cNvSpPr/>
          <p:nvPr/>
        </p:nvSpPr>
        <p:spPr>
          <a:xfrm>
            <a:off x="5398200" y="472428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80"/>
                </a:solidFill>
                <a:uFillTx/>
                <a:latin typeface="Franklin Gothic Book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Дуга 13"/>
          <p:cNvSpPr/>
          <p:nvPr/>
        </p:nvSpPr>
        <p:spPr>
          <a:xfrm rot="10800000">
            <a:off x="2484360" y="3357360"/>
            <a:ext cx="432000" cy="502920"/>
          </a:xfrm>
          <a:custGeom>
            <a:avLst/>
            <a:gdLst>
              <a:gd name="textAreaLeft" fmla="*/ 216000 w 432000"/>
              <a:gd name="textAreaRight" fmla="*/ 432360 w 432000"/>
              <a:gd name="textAreaTop" fmla="*/ 0 h 502920"/>
              <a:gd name="textAreaBottom" fmla="*/ 251640 h 502920"/>
            </a:gdLst>
            <a:ahLst/>
            <a:rect l="textAreaLeft" t="textAreaTop" r="textAreaRight" b="textAreaBottom"/>
            <a:pathLst>
              <a:path stroke="0" w="431800" h="503237">
                <a:moveTo>
                  <a:pt x="215900" y="0"/>
                </a:moveTo>
                <a:lnTo>
                  <a:pt x="215900" y="0"/>
                </a:lnTo>
                <a:arcTo wR="215900" hR="251619" stAng="-5400000" swAng="5400016"/>
                <a:lnTo>
                  <a:pt x="215900" y="251619"/>
                </a:lnTo>
                <a:close/>
              </a:path>
              <a:path fill="none" w="431800" h="503237">
                <a:moveTo>
                  <a:pt x="215900" y="0"/>
                </a:moveTo>
                <a:lnTo>
                  <a:pt x="215900" y="0"/>
                </a:lnTo>
                <a:arcTo wR="215900" hR="251619" stAng="-5400000" swAng="5400016"/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Дуга 14"/>
          <p:cNvSpPr/>
          <p:nvPr/>
        </p:nvSpPr>
        <p:spPr>
          <a:xfrm rot="7119600">
            <a:off x="2624040" y="3325680"/>
            <a:ext cx="431640" cy="574560"/>
          </a:xfrm>
          <a:custGeom>
            <a:avLst/>
            <a:gdLst>
              <a:gd name="textAreaLeft" fmla="*/ 265680 w 431640"/>
              <a:gd name="textAreaRight" fmla="*/ 432000 w 431640"/>
              <a:gd name="textAreaTop" fmla="*/ 7560 h 574560"/>
              <a:gd name="textAreaBottom" fmla="*/ 294840 h 574560"/>
            </a:gdLst>
            <a:ahLst/>
            <a:rect l="textAreaLeft" t="textAreaTop" r="textAreaRight" b="textAreaBottom"/>
            <a:pathLst>
              <a:path stroke="0" w="431800" h="574675">
                <a:moveTo>
                  <a:pt x="265897" y="7811"/>
                </a:moveTo>
                <a:lnTo>
                  <a:pt x="265897" y="7811"/>
                </a:lnTo>
                <a:arcTo wR="215900" hR="287338" stAng="-4791549" swAng="4914705"/>
                <a:lnTo>
                  <a:pt x="215900" y="287338"/>
                </a:lnTo>
                <a:close/>
              </a:path>
              <a:path fill="none" w="431800" h="574675">
                <a:moveTo>
                  <a:pt x="265897" y="7811"/>
                </a:moveTo>
                <a:lnTo>
                  <a:pt x="265897" y="7811"/>
                </a:lnTo>
                <a:arcTo wR="215900" hR="287338" stAng="-4791549" swAng="4914705"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15"/>
          <p:cNvSpPr/>
          <p:nvPr/>
        </p:nvSpPr>
        <p:spPr>
          <a:xfrm>
            <a:off x="2477880" y="3500280"/>
            <a:ext cx="39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Franklin Gothic Book"/>
              </a:rPr>
              <a:t>45</a:t>
            </a:r>
            <a:r>
              <a:rPr b="1" lang="en-US" sz="11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16"/>
          <p:cNvSpPr/>
          <p:nvPr/>
        </p:nvSpPr>
        <p:spPr>
          <a:xfrm>
            <a:off x="2771640" y="3500280"/>
            <a:ext cx="4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17"/>
          <p:cNvSpPr/>
          <p:nvPr/>
        </p:nvSpPr>
        <p:spPr>
          <a:xfrm>
            <a:off x="5175360" y="4221000"/>
            <a:ext cx="150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C = 11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;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Управляющая кнопка: справка 18"/>
          <p:cNvSpPr/>
          <p:nvPr/>
        </p:nvSpPr>
        <p:spPr>
          <a:xfrm>
            <a:off x="5651640" y="328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88" h="21600">
                <a:moveTo>
                  <a:pt x="14649" y="14281"/>
                </a:moveTo>
                <a:lnTo>
                  <a:pt x="14649" y="12323"/>
                </a:lnTo>
                <a:cubicBezTo>
                  <a:pt x="14649" y="11496"/>
                  <a:pt x="14980" y="10800"/>
                  <a:pt x="15581" y="10800"/>
                </a:cubicBezTo>
                <a:cubicBezTo>
                  <a:pt x="16712" y="10800"/>
                  <a:pt x="17609" y="9434"/>
                  <a:pt x="17609" y="7849"/>
                </a:cubicBezTo>
                <a:cubicBezTo>
                  <a:pt x="17609" y="5534"/>
                  <a:pt x="15755" y="3794"/>
                  <a:pt x="13544" y="3794"/>
                </a:cubicBezTo>
                <a:cubicBezTo>
                  <a:pt x="11333" y="3794"/>
                  <a:pt x="9662" y="5534"/>
                  <a:pt x="9662" y="7849"/>
                </a:cubicBezTo>
                <a:lnTo>
                  <a:pt x="11516" y="7849"/>
                </a:lnTo>
                <a:cubicBezTo>
                  <a:pt x="11516" y="6709"/>
                  <a:pt x="12439" y="5821"/>
                  <a:pt x="13544" y="5821"/>
                </a:cubicBezTo>
                <a:cubicBezTo>
                  <a:pt x="14649" y="5821"/>
                  <a:pt x="15581" y="6709"/>
                  <a:pt x="15581" y="7849"/>
                </a:cubicBezTo>
                <a:cubicBezTo>
                  <a:pt x="15581" y="8589"/>
                  <a:pt x="15111" y="9320"/>
                  <a:pt x="14649" y="9320"/>
                </a:cubicBezTo>
                <a:cubicBezTo>
                  <a:pt x="13544" y="9320"/>
                  <a:pt x="12439" y="10800"/>
                  <a:pt x="12439" y="12323"/>
                </a:cubicBezTo>
                <a:lnTo>
                  <a:pt x="12439" y="14281"/>
                </a:lnTo>
                <a:close/>
              </a:path>
            </a:pathLst>
          </a:custGeom>
          <a:solidFill>
            <a:srgbClr val="cc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20"/>
          <p:cNvSpPr/>
          <p:nvPr/>
        </p:nvSpPr>
        <p:spPr>
          <a:xfrm>
            <a:off x="1702440" y="53737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DH = 6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1"/>
          <p:cNvSpPr/>
          <p:nvPr/>
        </p:nvSpPr>
        <p:spPr>
          <a:xfrm>
            <a:off x="3635280" y="5373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ямоугольном 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CH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 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0 – 68 =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2"/>
          <p:cNvSpPr/>
          <p:nvPr/>
        </p:nvSpPr>
        <p:spPr>
          <a:xfrm>
            <a:off x="7818840" y="58053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Управляющая кнопка: далее 23">
            <a:hlinkClick r:id="" action="ppaction://hlinkshowjump?jump=nextslide"/>
          </p:cNvPr>
          <p:cNvSpPr/>
          <p:nvPr/>
        </p:nvSpPr>
        <p:spPr>
          <a:xfrm>
            <a:off x="8459640" y="6381720"/>
            <a:ext cx="684360" cy="260280"/>
          </a:xfrm>
          <a:custGeom>
            <a:avLst/>
            <a:gdLst>
              <a:gd name="textAreaLeft" fmla="*/ 16560 w 684360"/>
              <a:gd name="textAreaRight" fmla="*/ 667800 w 684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6745" h="21600">
                <a:moveTo>
                  <a:pt x="0" y="0"/>
                </a:moveTo>
                <a:lnTo>
                  <a:pt x="56745" y="0"/>
                </a:lnTo>
                <a:lnTo>
                  <a:pt x="56745" y="21600"/>
                </a:lnTo>
                <a:lnTo>
                  <a:pt x="0" y="21600"/>
                </a:lnTo>
                <a:close/>
              </a:path>
              <a:path fill="lightenLess" w="56745" h="21600">
                <a:moveTo>
                  <a:pt x="0" y="0"/>
                </a:moveTo>
                <a:lnTo>
                  <a:pt x="56745" y="0"/>
                </a:lnTo>
                <a:lnTo>
                  <a:pt x="55345" y="1400"/>
                </a:lnTo>
                <a:lnTo>
                  <a:pt x="1400" y="1400"/>
                </a:lnTo>
                <a:close/>
              </a:path>
              <a:path fill="darken" w="56745" h="21600">
                <a:moveTo>
                  <a:pt x="56745" y="0"/>
                </a:moveTo>
                <a:lnTo>
                  <a:pt x="56745" y="21600"/>
                </a:lnTo>
                <a:lnTo>
                  <a:pt x="55345" y="20200"/>
                </a:lnTo>
                <a:lnTo>
                  <a:pt x="55345" y="1400"/>
                </a:lnTo>
                <a:close/>
              </a:path>
              <a:path fill="darkenLess" w="56745" h="21600">
                <a:moveTo>
                  <a:pt x="56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45" y="20200"/>
                </a:lnTo>
                <a:close/>
              </a:path>
              <a:path fill="lighten" w="56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745" h="21600">
                <a:moveTo>
                  <a:pt x="21366" y="3794"/>
                </a:moveTo>
                <a:lnTo>
                  <a:pt x="35379" y="10800"/>
                </a:lnTo>
                <a:lnTo>
                  <a:pt x="21366" y="17806"/>
                </a:lnTo>
                <a:close/>
              </a:path>
            </a:pathLst>
          </a:custGeom>
          <a:solidFill>
            <a:srgbClr val="fcecd5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Дуга 25"/>
          <p:cNvSpPr/>
          <p:nvPr/>
        </p:nvSpPr>
        <p:spPr>
          <a:xfrm rot="16996800">
            <a:off x="2180160" y="4407120"/>
            <a:ext cx="546120" cy="487440"/>
          </a:xfrm>
          <a:custGeom>
            <a:avLst/>
            <a:gdLst>
              <a:gd name="textAreaLeft" fmla="*/ 204480 w 546120"/>
              <a:gd name="textAreaRight" fmla="*/ 546480 w 546120"/>
              <a:gd name="textAreaTop" fmla="*/ 0 h 487440"/>
              <a:gd name="textAreaBottom" fmla="*/ 308880 h 487440"/>
            </a:gdLst>
            <a:ahLst/>
            <a:rect l="textAreaLeft" t="textAreaTop" r="textAreaRight" b="textAreaBottom"/>
            <a:pathLst>
              <a:path stroke="0" w="546100" h="487363">
                <a:moveTo>
                  <a:pt x="204382" y="7832"/>
                </a:moveTo>
                <a:lnTo>
                  <a:pt x="204382" y="7832"/>
                </a:lnTo>
                <a:arcTo wR="273050" hR="243682" stAng="-6373979" swAng="7208153"/>
                <a:lnTo>
                  <a:pt x="273050" y="243682"/>
                </a:lnTo>
                <a:close/>
              </a:path>
              <a:path fill="none" w="546100" h="487363">
                <a:moveTo>
                  <a:pt x="204382" y="7832"/>
                </a:moveTo>
                <a:lnTo>
                  <a:pt x="204382" y="7832"/>
                </a:lnTo>
                <a:arcTo wR="273050" hR="243682" stAng="-6373979" swAng="7208153"/>
              </a:path>
            </a:pathLst>
          </a:custGeom>
          <a:solidFill>
            <a:srgbClr val="fdbff1"/>
          </a:solidFill>
          <a:ln w="1008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 rot="20364600">
            <a:off x="2057760" y="4365360"/>
            <a:ext cx="44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112</a:t>
            </a:r>
            <a:r>
              <a:rPr b="1" lang="ru-RU" sz="11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95280" y="2318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1604"/>
                </a:solidFill>
                <a:latin typeface="Arial"/>
              </a:rPr>
              <a:t>1.5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7" dur="5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8000"/>
                            </p:stCondLst>
                            <p:childTnLst>
                              <p:par>
                                <p:cTn id="5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Заголовок 1" descr=""/>
          <p:cNvPicPr/>
          <p:nvPr/>
        </p:nvPicPr>
        <p:blipFill>
          <a:blip r:embed="rId1"/>
          <a:stretch/>
        </p:blipFill>
        <p:spPr>
          <a:xfrm>
            <a:off x="3176640" y="2341440"/>
            <a:ext cx="2913120" cy="9446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1042560" y="3068280"/>
            <a:ext cx="698508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Еще есть время подготовиться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08764"/>
          <p:cNvPicPr/>
          <p:nvPr/>
        </p:nvPicPr>
        <p:blipFill>
          <a:blip r:embed="rId3"/>
          <a:stretch/>
        </p:blipFill>
        <p:spPr>
          <a:xfrm>
            <a:off x="3635280" y="4076640"/>
            <a:ext cx="187344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1:45:51Z</dcterms:created>
  <dc:creator>zenalla</dc:creator>
  <dc:description/>
  <dc:language>en-US</dc:language>
  <cp:lastModifiedBy>Admin</cp:lastModifiedBy>
  <dcterms:modified xsi:type="dcterms:W3CDTF">2014-10-20T13:27:07Z</dcterms:modified>
  <cp:revision>9</cp:revision>
  <dc:subject/>
  <dc:title>Слайд 1</dc:title>
</cp:coreProperties>
</file>