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74B-7B21-46FF-AD92-077AD24398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C90-140F-44B4-8AD9-991CC92D9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500-0738-414A-A1DF-C5A21CDA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9D5-CC11-467A-8267-6E610146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7B55A-791D-4A17-8ECF-3F0FD501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F5947-9466-495C-B2A2-4B8863A6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D558F-F5CE-43ED-9AB3-4233F6D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DCA73-F472-4C2D-BCBA-5964CE3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9C24-173F-41CB-A5C2-E4314AC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83763-3EBD-4D84-B3A4-DE199B2C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CDAD-E905-48FE-9648-8A9E04A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947E1-F531-4BE2-9751-C9953007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CDDFD-62AE-4AF6-ACC0-E44C38C7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F1D-A636-410C-BE24-0B3F1189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323-E5AD-4425-ACD1-9B0B5E04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ECF3-45C5-4809-A31A-9C91228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F775-988D-4315-B800-2B5A5469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069D-7C3D-459B-A4DC-3C6D639E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45E-CF02-44A6-86DD-89D6FE5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8613-64CD-41B6-A6C7-609EC056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F233-4603-48B3-AEF6-171D7BF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3986-7611-4F87-9FC2-DA6F97E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E56-7FE2-47C7-B150-C065213B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7373-D672-4280-A1BC-963D537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791F-895C-4B52-8D81-FEF9706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177A-2079-42C7-9148-B292F37C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F2F4-DBFE-4FE1-BF28-7DF1181A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7EA9-87FC-43EB-B1D4-F4579EF3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F2C7-18F2-4FAD-8343-49BC302B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AE48-8BD2-41F6-940F-DBCFD071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638C-E682-4FAC-89AA-E76BB47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B2F1-C07F-4655-AFC7-049DF497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9F3E-8BD8-4FEA-B5BD-8462BF9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E69-49AC-473F-B6DE-36198BF2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4C9E-D580-47A4-86C7-ADF5CC0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916A-6034-4E46-B048-C4B1BC2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0B3F-58D0-4F44-B604-B7ED4C1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8573-0D2B-41C4-9676-3605E12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E47E-B620-4577-99D5-97EEB81C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AEFA-AFCF-4871-AF87-4620FF2C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E160-83AC-4E0A-969B-AFDE9F1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8B6A-58ED-437C-A393-CBD7A8CC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B2DB8-9D25-4EA6-871E-B3A972A1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AFAB-0C99-4649-87B3-EC7F539F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169-103E-40F2-B9C7-6339C7E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855E-AC89-4E09-943F-B4F39817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544E-BE41-472F-AD00-30A84EF2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237E-0B63-4A28-B67A-627C18DB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3F8A-C597-48E1-96BE-734820C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60B7-3C16-4449-9E17-2773D1E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0887-9F77-4D9B-B2E2-A8E9AA18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1B42-A672-45E1-A678-1E2F9F1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F9C0-EBF3-45F7-B0D6-52E5AC95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156B-2088-470F-A202-1098E542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56D1-4096-415E-8604-79F5E79F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1F-FB71-4410-BB76-15731030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29FD-29B9-4788-BC14-7D6C09AC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7598-A346-4DE2-8A33-CF88D11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CBBB-5249-44DA-80CD-68170A9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F15A-693C-446A-90A6-0F52E8B1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B29B-7570-4C59-8413-12EC3D8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05BD-BBDE-42B2-A996-E953E285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6E63-AF06-4E0C-8300-8DFB220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A4CB-7555-4FD7-AA5D-947058E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5892-D0C7-4ED4-BC85-AAD4EB2B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DB2A1-A355-4573-97A8-F5F2506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8C4-CCC8-45B9-87CF-4779393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499E-158B-476D-852B-8BA7562A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3494-9BA7-4161-A9A3-8CEFD8B1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B362D-F2F0-4EE0-9E45-0591F974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4259-8E06-4121-8326-B3A7103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95FD-E2EE-49CF-8E5F-1DB6AF72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2842-D522-43B9-A5BF-81D44F14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F748-F794-4C0C-87B0-690DCEF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EB8A-D397-422E-A317-F7CD4062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0A7B-9089-4E52-9CC9-30B44A7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1C2C-B75D-48BB-8FCD-A8E0824F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A16-A6B2-4809-AB19-97D2FF93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1B85-BCCD-42E2-A68C-5F94A3CB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FADF-4CF7-4505-90EC-452429DA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7CA76-A939-4395-B85C-107E2E51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E6D58-EE20-4643-A8EA-C57D36A5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E4EB4-796F-42A0-88B2-5C0540A0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3506-04BA-400B-BD94-E1C19B93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6A70D-1886-45C0-A9B7-C5FCDD15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2FDA3-AB0C-4622-A69C-FF2D87AC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7294A-0CDD-4A5D-9697-AB081711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6458-27FB-4DF8-8525-DC81DF8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423-A7EE-4A24-9B3E-6F7B3B73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6DB2-35AF-450D-A99B-4144BF8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F085-F51A-45BC-9A49-6839B96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F987-9F42-47B1-BE6A-03FE201C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3FA0-256B-4B3D-A61A-63326FB2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9429-FF32-400F-8689-6053EA33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E431-B9D6-48B4-840A-C7F98D29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78977-50AB-4EE8-BB7C-3B544E5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80EE-706C-4AED-93D1-D912540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1D308-9AB6-4CDE-A55D-2DE9B9E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98B7-4110-4F64-B936-026680C2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1FD-63D5-48E5-AB06-DCD7CA5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6460-4F73-4BDC-BED2-BC438D91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0FC7-3D74-46C6-93E6-B41E8DA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58052-6CD0-4A55-88B6-F8FE16B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805DB-4EBF-4D8C-A4CE-079A7353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ACA1F-9025-4E43-991F-242B7FE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FFCA-9915-4043-9746-0D66167E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99CF6-65D4-4B7B-BEF0-EC0B2F2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914F-E78B-413A-92EE-A2AB13C1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019B-7C57-4DCB-9268-ACE0616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412AC-758C-493F-9955-B0B865D8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CCA-6D3B-4FCE-B5D4-C02A037A8F7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47D-CB3A-43D4-860E-DAD37E9F811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7E5D-9583-4FB2-B3A3-A6B9CA2710C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E9F0-E812-48F0-B6F6-FA32F7DE590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5CFB-BC52-49E5-97F4-FCCF993B98C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1376-AFBE-4B0C-ACF9-9F4BAAFAECE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5C9-4FDC-4768-B746-84F2D3427FE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086-D31E-4E3C-93F3-459E988CF6B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03E-0A2B-4049-9582-EE5E94085E6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4000" y="4005360"/>
            <a:ext cx="82436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Franklin Gothic Book"/>
              </a:rPr>
              <a:t>Применение тригонометрии  в геометрических задача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Планиметрия: задачи, связанные с угл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5" descr=""/>
          <p:cNvPicPr/>
          <p:nvPr/>
        </p:nvPicPr>
        <p:blipFill>
          <a:blip r:embed="rId3"/>
          <a:stretch/>
        </p:blipFill>
        <p:spPr>
          <a:xfrm>
            <a:off x="2468520" y="914400"/>
            <a:ext cx="40546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вал 74"/>
          <p:cNvSpPr/>
          <p:nvPr/>
        </p:nvSpPr>
        <p:spPr>
          <a:xfrm>
            <a:off x="3708360" y="5589720"/>
            <a:ext cx="432000" cy="431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64"/>
          <p:cNvSpPr/>
          <p:nvPr/>
        </p:nvSpPr>
        <p:spPr>
          <a:xfrm>
            <a:off x="3780000" y="3500280"/>
            <a:ext cx="1079280" cy="649440"/>
          </a:xfrm>
          <a:prstGeom prst="ellipse">
            <a:avLst/>
          </a:prstGeom>
          <a:solidFill>
            <a:srgbClr val="fea8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40"/>
          <p:cNvSpPr/>
          <p:nvPr/>
        </p:nvSpPr>
        <p:spPr>
          <a:xfrm>
            <a:off x="4500720" y="4508640"/>
            <a:ext cx="1223640" cy="865080"/>
          </a:xfrm>
          <a:prstGeom prst="roundRect">
            <a:avLst>
              <a:gd name="adj" fmla="val 16667"/>
            </a:avLst>
          </a:prstGeom>
          <a:solidFill>
            <a:srgbClr val="8cfcb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9280" y="105228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ABC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                           . Найдите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AH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14" name="Управляющая кнопка: домой 4">
            <a:hlinkClick r:id="rId3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AC = BC = 4 \sqrt{15}"/>
          <p:cNvPicPr/>
          <p:nvPr/>
        </p:nvPicPr>
        <p:blipFill>
          <a:blip r:embed="rId4"/>
          <a:stretch/>
        </p:blipFill>
        <p:spPr>
          <a:xfrm>
            <a:off x="3276720" y="1125360"/>
            <a:ext cx="2158920" cy="319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\sin BAC = 0,25"/>
          <p:cNvPicPr/>
          <p:nvPr/>
        </p:nvPicPr>
        <p:blipFill>
          <a:blip r:embed="rId5"/>
          <a:stretch/>
        </p:blipFill>
        <p:spPr>
          <a:xfrm>
            <a:off x="5580000" y="1197000"/>
            <a:ext cx="2016360" cy="306360"/>
          </a:xfrm>
          <a:prstGeom prst="rect">
            <a:avLst/>
          </a:prstGeom>
          <a:ln w="0">
            <a:noFill/>
          </a:ln>
        </p:spPr>
      </p:pic>
      <p:sp>
        <p:nvSpPr>
          <p:cNvPr id="418" name="Равнобедренный треугольник 10"/>
          <p:cNvSpPr/>
          <p:nvPr/>
        </p:nvSpPr>
        <p:spPr>
          <a:xfrm>
            <a:off x="611280" y="2205000"/>
            <a:ext cx="1657080" cy="2087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318960" y="4149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2197440" y="40766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658800" y="3065400"/>
                <a:ext cx="338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3"/>
              <p:cNvSpPr txBox="1"/>
              <p:nvPr/>
            </p:nvSpPr>
            <p:spPr>
              <a:xfrm>
                <a:off x="1908000" y="2997360"/>
                <a:ext cx="3337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3" name="Прямая соединительная линия 17"/>
          <p:cNvSpPr/>
          <p:nvPr/>
        </p:nvSpPr>
        <p:spPr>
          <a:xfrm flipV="1">
            <a:off x="610560" y="3644640"/>
            <a:ext cx="1368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8"/>
          <p:cNvSpPr/>
          <p:nvPr/>
        </p:nvSpPr>
        <p:spPr>
          <a:xfrm>
            <a:off x="1327320" y="422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0"/>
          <p:cNvSpPr/>
          <p:nvPr/>
        </p:nvSpPr>
        <p:spPr>
          <a:xfrm>
            <a:off x="1977480" y="335772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1"/>
          <p:cNvSpPr/>
          <p:nvPr/>
        </p:nvSpPr>
        <p:spPr>
          <a:xfrm rot="16200000">
            <a:off x="900000" y="4147920"/>
            <a:ext cx="287280" cy="86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865080"/>
              <a:gd name="textAreaBottom" fmla="*/ 8578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22"/>
          <p:cNvSpPr/>
          <p:nvPr/>
        </p:nvSpPr>
        <p:spPr>
          <a:xfrm rot="16200000">
            <a:off x="1296000" y="3680640"/>
            <a:ext cx="287280" cy="165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57080"/>
              <a:gd name="textAreaBottom" fmla="*/ 1649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"/>
                  <a:pt x="10800" y="312"/>
                </a:cubicBezTo>
                <a:lnTo>
                  <a:pt x="10800" y="10488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6"/>
                  <a:pt x="10800" y="11112"/>
                </a:cubicBezTo>
                <a:lnTo>
                  <a:pt x="10800" y="21288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23"/>
          <p:cNvSpPr/>
          <p:nvPr/>
        </p:nvSpPr>
        <p:spPr>
          <a:xfrm>
            <a:off x="1407600" y="4653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ый треугольник 24"/>
          <p:cNvSpPr/>
          <p:nvPr/>
        </p:nvSpPr>
        <p:spPr>
          <a:xfrm rot="9241200">
            <a:off x="691920" y="3939840"/>
            <a:ext cx="1514520" cy="717480"/>
          </a:xfrm>
          <a:prstGeom prst="rtTriangle">
            <a:avLst/>
          </a:prstGeom>
          <a:solidFill>
            <a:srgbClr val="99ffcc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40"/>
          <p:cNvSpPr/>
          <p:nvPr/>
        </p:nvSpPr>
        <p:spPr>
          <a:xfrm>
            <a:off x="1190520" y="1916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41"/>
          <p:cNvSpPr/>
          <p:nvPr/>
        </p:nvSpPr>
        <p:spPr>
          <a:xfrm>
            <a:off x="3932280" y="184464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 -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42"/>
          <p:cNvSpPr/>
          <p:nvPr/>
        </p:nvSpPr>
        <p:spPr>
          <a:xfrm>
            <a:off x="2843280" y="2276640"/>
            <a:ext cx="61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: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BAC = sin ABC = 0.25 = 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44"/>
          <p:cNvSpPr/>
          <p:nvPr/>
        </p:nvSpPr>
        <p:spPr>
          <a:xfrm>
            <a:off x="2856240" y="2708280"/>
            <a:ext cx="47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ти АН можно из прямоугольного ∆ А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45"/>
          <p:cNvSpPr/>
          <p:nvPr/>
        </p:nvSpPr>
        <p:spPr>
          <a:xfrm>
            <a:off x="2852280" y="3141720"/>
            <a:ext cx="52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треугольнике известно, ч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 = 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6"/>
          <p:cNvSpPr/>
          <p:nvPr/>
        </p:nvSpPr>
        <p:spPr>
          <a:xfrm>
            <a:off x="2843280" y="3645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 = ─   = 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7"/>
          <p:cNvSpPr/>
          <p:nvPr/>
        </p:nvSpPr>
        <p:spPr>
          <a:xfrm>
            <a:off x="385128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8"/>
          <p:cNvSpPr/>
          <p:nvPr/>
        </p:nvSpPr>
        <p:spPr>
          <a:xfrm>
            <a:off x="3855600" y="350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9"/>
          <p:cNvSpPr/>
          <p:nvPr/>
        </p:nvSpPr>
        <p:spPr>
          <a:xfrm>
            <a:off x="2804400" y="407664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ем ½ АВ из  прямоугольного ∆ АСР, где СР -вы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Соединительная линия уступом 53"/>
          <p:cNvCxnSpPr/>
          <p:nvPr/>
        </p:nvCxnSpPr>
        <p:spPr>
          <a:xfrm flipH="1" flipV="1" rot="5400000">
            <a:off x="5472360" y="1664280"/>
            <a:ext cx="720000" cy="505440"/>
          </a:xfrm>
          <a:prstGeom prst="bentConnector3">
            <a:avLst>
              <a:gd name="adj1" fmla="val 60380"/>
            </a:avLst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440" name="Прямоугольник 60"/>
          <p:cNvSpPr/>
          <p:nvPr/>
        </p:nvSpPr>
        <p:spPr>
          <a:xfrm>
            <a:off x="4430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61"/>
          <p:cNvSpPr/>
          <p:nvPr/>
        </p:nvSpPr>
        <p:spPr>
          <a:xfrm>
            <a:off x="443016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15"/>
          <p:cNvSpPr/>
          <p:nvPr/>
        </p:nvSpPr>
        <p:spPr>
          <a:xfrm flipH="1">
            <a:off x="1440000" y="2286000"/>
            <a:ext cx="7920" cy="20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ый треугольник 16"/>
          <p:cNvSpPr/>
          <p:nvPr/>
        </p:nvSpPr>
        <p:spPr>
          <a:xfrm rot="16200000">
            <a:off x="0" y="2815920"/>
            <a:ext cx="2087640" cy="865080"/>
          </a:xfrm>
          <a:prstGeom prst="rtTriangl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62"/>
          <p:cNvSpPr/>
          <p:nvPr/>
        </p:nvSpPr>
        <p:spPr>
          <a:xfrm>
            <a:off x="2843280" y="46530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B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6"/>
          <p:cNvSpPr/>
          <p:nvPr/>
        </p:nvSpPr>
        <p:spPr>
          <a:xfrm>
            <a:off x="3927600" y="458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7"/>
          <p:cNvSpPr/>
          <p:nvPr/>
        </p:nvSpPr>
        <p:spPr>
          <a:xfrm>
            <a:off x="3925440" y="49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8"/>
          <p:cNvSpPr/>
          <p:nvPr/>
        </p:nvSpPr>
        <p:spPr>
          <a:xfrm>
            <a:off x="4575240" y="458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9"/>
          <p:cNvSpPr/>
          <p:nvPr/>
        </p:nvSpPr>
        <p:spPr>
          <a:xfrm>
            <a:off x="4505760" y="494172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√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четверенная стрелка 43"/>
          <p:cNvSpPr/>
          <p:nvPr/>
        </p:nvSpPr>
        <p:spPr>
          <a:xfrm rot="19030200">
            <a:off x="5073480" y="4728960"/>
            <a:ext cx="357480" cy="342720"/>
          </a:xfrm>
          <a:custGeom>
            <a:avLst/>
            <a:gdLst/>
            <a:ahLst/>
            <a:rect l="l" t="t" r="r" b="b"/>
            <a:pathLst>
              <a:path w="357188" h="342900">
                <a:moveTo>
                  <a:pt x="0" y="171450"/>
                </a:moveTo>
                <a:lnTo>
                  <a:pt x="77153" y="157696"/>
                </a:lnTo>
                <a:lnTo>
                  <a:pt x="77153" y="171450"/>
                </a:lnTo>
                <a:lnTo>
                  <a:pt x="178594" y="171450"/>
                </a:lnTo>
                <a:lnTo>
                  <a:pt x="178594" y="77153"/>
                </a:lnTo>
                <a:lnTo>
                  <a:pt x="164840" y="77153"/>
                </a:lnTo>
                <a:lnTo>
                  <a:pt x="178594" y="0"/>
                </a:lnTo>
                <a:lnTo>
                  <a:pt x="192348" y="77153"/>
                </a:lnTo>
                <a:lnTo>
                  <a:pt x="178594" y="77153"/>
                </a:lnTo>
                <a:lnTo>
                  <a:pt x="178594" y="171450"/>
                </a:lnTo>
                <a:lnTo>
                  <a:pt x="280035" y="171450"/>
                </a:lnTo>
                <a:lnTo>
                  <a:pt x="280035" y="157696"/>
                </a:lnTo>
                <a:lnTo>
                  <a:pt x="357188" y="171450"/>
                </a:lnTo>
                <a:lnTo>
                  <a:pt x="280035" y="185204"/>
                </a:lnTo>
                <a:lnTo>
                  <a:pt x="280035" y="171450"/>
                </a:lnTo>
                <a:lnTo>
                  <a:pt x="178594" y="171450"/>
                </a:lnTo>
                <a:lnTo>
                  <a:pt x="178594" y="265747"/>
                </a:lnTo>
                <a:lnTo>
                  <a:pt x="192348" y="265747"/>
                </a:lnTo>
                <a:lnTo>
                  <a:pt x="178594" y="342900"/>
                </a:lnTo>
                <a:lnTo>
                  <a:pt x="164840" y="265747"/>
                </a:lnTo>
                <a:lnTo>
                  <a:pt x="178594" y="265747"/>
                </a:lnTo>
                <a:lnTo>
                  <a:pt x="178594" y="171450"/>
                </a:lnTo>
                <a:lnTo>
                  <a:pt x="77153" y="171450"/>
                </a:lnTo>
                <a:lnTo>
                  <a:pt x="77153" y="185204"/>
                </a:lnTo>
                <a:close/>
              </a:path>
            </a:pathLst>
          </a:custGeom>
          <a:solidFill>
            <a:srgbClr val="0000cc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0"/>
          <p:cNvSpPr/>
          <p:nvPr/>
        </p:nvSpPr>
        <p:spPr>
          <a:xfrm>
            <a:off x="5076720" y="47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51"/>
          <p:cNvSpPr/>
          <p:nvPr/>
        </p:nvSpPr>
        <p:spPr>
          <a:xfrm>
            <a:off x="52956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52"/>
          <p:cNvSpPr/>
          <p:nvPr/>
        </p:nvSpPr>
        <p:spPr>
          <a:xfrm>
            <a:off x="529560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54"/>
          <p:cNvSpPr/>
          <p:nvPr/>
        </p:nvSpPr>
        <p:spPr>
          <a:xfrm>
            <a:off x="6032880" y="4724280"/>
            <a:ext cx="15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═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 = √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55"/>
          <p:cNvSpPr/>
          <p:nvPr/>
        </p:nvSpPr>
        <p:spPr>
          <a:xfrm>
            <a:off x="482760" y="530064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теореме Пифагора найдем 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6"/>
          <p:cNvSpPr/>
          <p:nvPr/>
        </p:nvSpPr>
        <p:spPr>
          <a:xfrm>
            <a:off x="4551120" y="5300640"/>
            <a:ext cx="19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А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57"/>
          <p:cNvSpPr/>
          <p:nvPr/>
        </p:nvSpPr>
        <p:spPr>
          <a:xfrm>
            <a:off x="6576840" y="530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(4√1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√1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8"/>
          <p:cNvSpPr/>
          <p:nvPr/>
        </p:nvSpPr>
        <p:spPr>
          <a:xfrm>
            <a:off x="557280" y="55897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0"/>
              <p:cNvSpPr txBox="1"/>
              <p:nvPr/>
            </p:nvSpPr>
            <p:spPr>
              <a:xfrm>
                <a:off x="1447920" y="3141720"/>
                <a:ext cx="355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Прямоугольник 59"/>
          <p:cNvSpPr/>
          <p:nvPr/>
        </p:nvSpPr>
        <p:spPr>
          <a:xfrm>
            <a:off x="1985400" y="558972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 = 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62"/>
          <p:cNvSpPr/>
          <p:nvPr/>
        </p:nvSpPr>
        <p:spPr>
          <a:xfrm>
            <a:off x="829080" y="4724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63"/>
          <p:cNvSpPr/>
          <p:nvPr/>
        </p:nvSpPr>
        <p:spPr>
          <a:xfrm>
            <a:off x="3137760" y="558972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 = 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65"/>
          <p:cNvSpPr/>
          <p:nvPr/>
        </p:nvSpPr>
        <p:spPr>
          <a:xfrm>
            <a:off x="1619280" y="62373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66"/>
          <p:cNvSpPr/>
          <p:nvPr/>
        </p:nvSpPr>
        <p:spPr>
          <a:xfrm>
            <a:off x="1619280" y="587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67"/>
          <p:cNvSpPr/>
          <p:nvPr/>
        </p:nvSpPr>
        <p:spPr>
          <a:xfrm>
            <a:off x="1547640" y="59500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68"/>
          <p:cNvSpPr/>
          <p:nvPr/>
        </p:nvSpPr>
        <p:spPr>
          <a:xfrm>
            <a:off x="1983240" y="602136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69"/>
          <p:cNvSpPr/>
          <p:nvPr/>
        </p:nvSpPr>
        <p:spPr>
          <a:xfrm>
            <a:off x="219816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70"/>
          <p:cNvSpPr/>
          <p:nvPr/>
        </p:nvSpPr>
        <p:spPr>
          <a:xfrm>
            <a:off x="219816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четверенная стрелка 71"/>
          <p:cNvSpPr/>
          <p:nvPr/>
        </p:nvSpPr>
        <p:spPr>
          <a:xfrm rot="2490000">
            <a:off x="1976400" y="6016320"/>
            <a:ext cx="331920" cy="334800"/>
          </a:xfrm>
          <a:custGeom>
            <a:avLst/>
            <a:gdLst/>
            <a:ahLst/>
            <a:rect l="l" t="t" r="r" b="b"/>
            <a:pathLst>
              <a:path w="331787" h="334963">
                <a:moveTo>
                  <a:pt x="0" y="167482"/>
                </a:moveTo>
                <a:lnTo>
                  <a:pt x="133720" y="164346"/>
                </a:lnTo>
                <a:lnTo>
                  <a:pt x="133720" y="167482"/>
                </a:lnTo>
                <a:lnTo>
                  <a:pt x="165894" y="167482"/>
                </a:lnTo>
                <a:lnTo>
                  <a:pt x="165894" y="133720"/>
                </a:lnTo>
                <a:lnTo>
                  <a:pt x="162758" y="133720"/>
                </a:lnTo>
                <a:lnTo>
                  <a:pt x="165894" y="0"/>
                </a:lnTo>
                <a:lnTo>
                  <a:pt x="169029" y="133720"/>
                </a:lnTo>
                <a:lnTo>
                  <a:pt x="165894" y="133720"/>
                </a:lnTo>
                <a:lnTo>
                  <a:pt x="165894" y="167482"/>
                </a:lnTo>
                <a:lnTo>
                  <a:pt x="198067" y="167482"/>
                </a:lnTo>
                <a:lnTo>
                  <a:pt x="198067" y="164346"/>
                </a:lnTo>
                <a:lnTo>
                  <a:pt x="331787" y="167482"/>
                </a:lnTo>
                <a:lnTo>
                  <a:pt x="198067" y="170617"/>
                </a:lnTo>
                <a:lnTo>
                  <a:pt x="198067" y="167482"/>
                </a:lnTo>
                <a:lnTo>
                  <a:pt x="165894" y="167482"/>
                </a:lnTo>
                <a:lnTo>
                  <a:pt x="165894" y="201243"/>
                </a:lnTo>
                <a:lnTo>
                  <a:pt x="169029" y="201243"/>
                </a:lnTo>
                <a:lnTo>
                  <a:pt x="165894" y="334963"/>
                </a:lnTo>
                <a:lnTo>
                  <a:pt x="162758" y="201243"/>
                </a:lnTo>
                <a:lnTo>
                  <a:pt x="165894" y="201243"/>
                </a:lnTo>
                <a:lnTo>
                  <a:pt x="165894" y="167482"/>
                </a:lnTo>
                <a:lnTo>
                  <a:pt x="133720" y="167482"/>
                </a:lnTo>
                <a:lnTo>
                  <a:pt x="133720" y="170617"/>
                </a:lnTo>
                <a:close/>
              </a:path>
            </a:pathLst>
          </a:custGeom>
          <a:solidFill>
            <a:srgbClr val="0000cc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72"/>
          <p:cNvSpPr/>
          <p:nvPr/>
        </p:nvSpPr>
        <p:spPr>
          <a:xfrm>
            <a:off x="2705760" y="602136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 =7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3"/>
          <p:cNvSpPr/>
          <p:nvPr/>
        </p:nvSpPr>
        <p:spPr>
          <a:xfrm>
            <a:off x="7674480" y="59500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7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Управляющая кнопка: документ 76">
            <a:hlinkClick r:id="rId6" action="ppaction://hlinksldjump"/>
          </p:cNvPr>
          <p:cNvSpPr/>
          <p:nvPr/>
        </p:nvSpPr>
        <p:spPr>
          <a:xfrm>
            <a:off x="5148360" y="3645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Овал 77"/>
          <p:cNvSpPr/>
          <p:nvPr/>
        </p:nvSpPr>
        <p:spPr>
          <a:xfrm>
            <a:off x="3995640" y="4149720"/>
            <a:ext cx="360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Управляющая кнопка: справка 78">
            <a:hlinkClick r:id="rId7" action="ppaction://hlinksldjump"/>
          </p:cNvPr>
          <p:cNvSpPr/>
          <p:nvPr/>
        </p:nvSpPr>
        <p:spPr>
          <a:xfrm>
            <a:off x="7020000" y="1916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6360" y="231840"/>
            <a:ext cx="11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с двумя вырезанными соседними углами 65"/>
          <p:cNvSpPr/>
          <p:nvPr/>
        </p:nvSpPr>
        <p:spPr>
          <a:xfrm>
            <a:off x="3132000" y="5661000"/>
            <a:ext cx="792360" cy="576360"/>
          </a:xfrm>
          <a:custGeom>
            <a:avLst/>
            <a:gdLst>
              <a:gd name="textAreaLeft" fmla="*/ 47880 w 792360"/>
              <a:gd name="textAreaRight" fmla="*/ 744480 w 792360"/>
              <a:gd name="textAreaTop" fmla="*/ 47880 h 576360"/>
              <a:gd name="textAreaBottom" fmla="*/ 576720 h 576360"/>
            </a:gdLst>
            <a:ahLst/>
            <a:rect l="textAreaLeft" t="textAreaTop" r="textAreaRight" b="textAreaBottom"/>
            <a:pathLst>
              <a:path w="792162" h="576263">
                <a:moveTo>
                  <a:pt x="96046" y="0"/>
                </a:moveTo>
                <a:lnTo>
                  <a:pt x="696116" y="0"/>
                </a:lnTo>
                <a:lnTo>
                  <a:pt x="792162" y="96046"/>
                </a:lnTo>
                <a:lnTo>
                  <a:pt x="792162" y="576263"/>
                </a:lnTo>
                <a:lnTo>
                  <a:pt x="792162" y="576263"/>
                </a:lnTo>
                <a:lnTo>
                  <a:pt x="0" y="576263"/>
                </a:lnTo>
                <a:lnTo>
                  <a:pt x="0" y="576263"/>
                </a:lnTo>
                <a:lnTo>
                  <a:pt x="0" y="96046"/>
                </a:lnTo>
                <a:close/>
              </a:path>
            </a:pathLst>
          </a:custGeom>
          <a:solidFill>
            <a:srgbClr val="fdbff1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4"/>
          <p:cNvSpPr/>
          <p:nvPr/>
        </p:nvSpPr>
        <p:spPr>
          <a:xfrm>
            <a:off x="5076720" y="2492280"/>
            <a:ext cx="3095640" cy="360360"/>
          </a:xfrm>
          <a:prstGeom prst="rect">
            <a:avLst/>
          </a:prstGeom>
          <a:solidFill>
            <a:srgbClr val="fdf1d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Выноска 2 53"/>
          <p:cNvSpPr/>
          <p:nvPr/>
        </p:nvSpPr>
        <p:spPr>
          <a:xfrm>
            <a:off x="5651640" y="1125360"/>
            <a:ext cx="1800000" cy="358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62310"/>
              <a:gd name="adj6" fmla="val 10578"/>
            </a:avLst>
          </a:prstGeom>
          <a:solidFill>
            <a:srgbClr val="fdf1d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95280" y="105264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 треугольнике 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ABC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 АС = ВС =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,                            . Найдите высоту 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AH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Rectangle 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"/>
          <p:cNvSpPr/>
          <p:nvPr/>
        </p:nvSpPr>
        <p:spPr>
          <a:xfrm>
            <a:off x="2386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2643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83" name="Управляющая кнопка: домой 7">
            <a:hlinkClick r:id="rId3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10"/>
              <p:cNvSpPr txBox="1"/>
              <p:nvPr/>
            </p:nvSpPr>
            <p:spPr>
              <a:xfrm>
                <a:off x="4633920" y="1090440"/>
                <a:ext cx="6681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11"/>
              <p:cNvSpPr txBox="1"/>
              <p:nvPr/>
            </p:nvSpPr>
            <p:spPr>
              <a:xfrm>
                <a:off x="5640480" y="1125360"/>
                <a:ext cx="1789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B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Равнобедренный треугольник 11"/>
          <p:cNvSpPr/>
          <p:nvPr/>
        </p:nvSpPr>
        <p:spPr>
          <a:xfrm>
            <a:off x="611280" y="2205000"/>
            <a:ext cx="1657080" cy="2087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2"/>
          <p:cNvSpPr/>
          <p:nvPr/>
        </p:nvSpPr>
        <p:spPr>
          <a:xfrm>
            <a:off x="318960" y="4149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13"/>
          <p:cNvSpPr/>
          <p:nvPr/>
        </p:nvSpPr>
        <p:spPr>
          <a:xfrm>
            <a:off x="1257120" y="19162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14"/>
          <p:cNvSpPr/>
          <p:nvPr/>
        </p:nvSpPr>
        <p:spPr>
          <a:xfrm>
            <a:off x="2197440" y="40766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658800" y="3065400"/>
                <a:ext cx="338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13"/>
              <p:cNvSpPr txBox="1"/>
              <p:nvPr/>
            </p:nvSpPr>
            <p:spPr>
              <a:xfrm>
                <a:off x="1811160" y="3025800"/>
                <a:ext cx="3337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3" name="Прямоугольник 29"/>
          <p:cNvSpPr/>
          <p:nvPr/>
        </p:nvSpPr>
        <p:spPr>
          <a:xfrm>
            <a:off x="2700360" y="2492280"/>
            <a:ext cx="54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репишем условие: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n BAC = sin ABC = 0.25 = 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2627280" y="2852640"/>
            <a:ext cx="53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 равнобедренном ∆ АВС построим высоту 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32"/>
          <p:cNvSpPr/>
          <p:nvPr/>
        </p:nvSpPr>
        <p:spPr>
          <a:xfrm flipH="1">
            <a:off x="1440000" y="2286000"/>
            <a:ext cx="7920" cy="20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ый треугольник 33"/>
          <p:cNvSpPr/>
          <p:nvPr/>
        </p:nvSpPr>
        <p:spPr>
          <a:xfrm rot="16200000">
            <a:off x="0" y="2815920"/>
            <a:ext cx="2087640" cy="865080"/>
          </a:xfrm>
          <a:prstGeom prst="rtTriangl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18"/>
          <p:cNvSpPr/>
          <p:nvPr/>
        </p:nvSpPr>
        <p:spPr>
          <a:xfrm flipV="1">
            <a:off x="610560" y="3644640"/>
            <a:ext cx="1368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34"/>
          <p:cNvSpPr/>
          <p:nvPr/>
        </p:nvSpPr>
        <p:spPr>
          <a:xfrm>
            <a:off x="2390040" y="3500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 прямоугольном ∆ АС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35"/>
          <p:cNvSpPr/>
          <p:nvPr/>
        </p:nvSpPr>
        <p:spPr>
          <a:xfrm>
            <a:off x="1327320" y="422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4"/>
              <p:cNvSpPr txBox="1"/>
              <p:nvPr/>
            </p:nvSpPr>
            <p:spPr>
              <a:xfrm>
                <a:off x="5148360" y="3429000"/>
                <a:ext cx="3144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P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Скругленный прямоугольник 37"/>
          <p:cNvSpPr/>
          <p:nvPr/>
        </p:nvSpPr>
        <p:spPr>
          <a:xfrm>
            <a:off x="7308720" y="3429000"/>
            <a:ext cx="107964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38"/>
          <p:cNvSpPr/>
          <p:nvPr/>
        </p:nvSpPr>
        <p:spPr>
          <a:xfrm>
            <a:off x="5671080" y="436572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5"/>
              <p:cNvSpPr txBox="1"/>
              <p:nvPr/>
            </p:nvSpPr>
            <p:spPr>
              <a:xfrm>
                <a:off x="7740720" y="4365720"/>
                <a:ext cx="1015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Р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18"/>
              <p:cNvSpPr txBox="1"/>
              <p:nvPr/>
            </p:nvSpPr>
            <p:spPr>
              <a:xfrm>
                <a:off x="2627280" y="4365720"/>
                <a:ext cx="31273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СР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СР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20"/>
              <p:cNvSpPr txBox="1"/>
              <p:nvPr/>
            </p:nvSpPr>
            <p:spPr>
              <a:xfrm>
                <a:off x="1384200" y="3243240"/>
                <a:ext cx="444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Прямоугольник 47"/>
          <p:cNvSpPr/>
          <p:nvPr/>
        </p:nvSpPr>
        <p:spPr>
          <a:xfrm>
            <a:off x="543240" y="5084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22"/>
              <p:cNvSpPr txBox="1"/>
              <p:nvPr/>
            </p:nvSpPr>
            <p:spPr>
              <a:xfrm>
                <a:off x="3132000" y="5013360"/>
                <a:ext cx="383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Р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Прямоугольник 50"/>
          <p:cNvSpPr/>
          <p:nvPr/>
        </p:nvSpPr>
        <p:spPr>
          <a:xfrm>
            <a:off x="7236000" y="508464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В 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51"/>
          <p:cNvSpPr/>
          <p:nvPr/>
        </p:nvSpPr>
        <p:spPr>
          <a:xfrm>
            <a:off x="755640" y="58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 ∆АВ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40"/>
          <p:cNvSpPr/>
          <p:nvPr/>
        </p:nvSpPr>
        <p:spPr>
          <a:xfrm>
            <a:off x="1977480" y="335772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3"/>
              <p:cNvSpPr txBox="1"/>
              <p:nvPr/>
            </p:nvSpPr>
            <p:spPr>
              <a:xfrm>
                <a:off x="1763640" y="5661000"/>
                <a:ext cx="221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AB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Прямоугольник 43"/>
          <p:cNvSpPr/>
          <p:nvPr/>
        </p:nvSpPr>
        <p:spPr>
          <a:xfrm>
            <a:off x="4067280" y="573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Н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4"/>
          <p:cNvSpPr/>
          <p:nvPr/>
        </p:nvSpPr>
        <p:spPr>
          <a:xfrm>
            <a:off x="7805880" y="59500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Ответ: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45"/>
          <p:cNvSpPr/>
          <p:nvPr/>
        </p:nvSpPr>
        <p:spPr>
          <a:xfrm>
            <a:off x="3841200" y="213372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ВС -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48"/>
          <p:cNvSpPr/>
          <p:nvPr/>
        </p:nvSpPr>
        <p:spPr>
          <a:xfrm>
            <a:off x="3276720" y="148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Соединительная линия уступом 58"/>
          <p:cNvCxnSpPr/>
          <p:nvPr/>
        </p:nvCxnSpPr>
        <p:spPr>
          <a:xfrm flipV="1">
            <a:off x="4788000" y="3428640"/>
            <a:ext cx="2521440" cy="937440"/>
          </a:xfrm>
          <a:prstGeom prst="bentConnector3">
            <a:avLst>
              <a:gd name="adj1" fmla="val 13708"/>
            </a:avLst>
          </a:prstGeom>
          <a:ln w="28440">
            <a:solidFill>
              <a:srgbClr val="008e40"/>
            </a:solidFill>
            <a:miter/>
            <a:tailEnd len="med" type="arrow" w="med"/>
          </a:ln>
        </p:spPr>
      </p:cxnSp>
      <p:sp>
        <p:nvSpPr>
          <p:cNvPr id="517" name="Левая фигурная скобка 60"/>
          <p:cNvSpPr/>
          <p:nvPr/>
        </p:nvSpPr>
        <p:spPr>
          <a:xfrm rot="16200000">
            <a:off x="900000" y="4147920"/>
            <a:ext cx="287280" cy="86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865080"/>
              <a:gd name="textAreaBottom" fmla="*/ 8578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61"/>
          <p:cNvSpPr/>
          <p:nvPr/>
        </p:nvSpPr>
        <p:spPr>
          <a:xfrm>
            <a:off x="904320" y="4724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Левая фигурная скобка 62"/>
          <p:cNvSpPr/>
          <p:nvPr/>
        </p:nvSpPr>
        <p:spPr>
          <a:xfrm rot="16200000">
            <a:off x="1296000" y="3680640"/>
            <a:ext cx="287280" cy="165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57080"/>
              <a:gd name="textAreaBottom" fmla="*/ 1649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"/>
                  <a:pt x="10800" y="312"/>
                </a:cubicBezTo>
                <a:lnTo>
                  <a:pt x="10800" y="10488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6"/>
                  <a:pt x="10800" y="11112"/>
                </a:cubicBezTo>
                <a:lnTo>
                  <a:pt x="10800" y="21288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3"/>
          <p:cNvSpPr/>
          <p:nvPr/>
        </p:nvSpPr>
        <p:spPr>
          <a:xfrm>
            <a:off x="1408320" y="4653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ый треугольник 64"/>
          <p:cNvSpPr/>
          <p:nvPr/>
        </p:nvSpPr>
        <p:spPr>
          <a:xfrm rot="9241200">
            <a:off x="691920" y="3939840"/>
            <a:ext cx="1514520" cy="717480"/>
          </a:xfrm>
          <a:prstGeom prst="rtTriangle">
            <a:avLst/>
          </a:prstGeom>
          <a:solidFill>
            <a:srgbClr val="99ffcc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Управляющая кнопка: документ 69">
            <a:hlinkClick r:id="rId4" action="ppaction://hlinksldjump"/>
          </p:cNvPr>
          <p:cNvSpPr/>
          <p:nvPr/>
        </p:nvSpPr>
        <p:spPr>
          <a:xfrm>
            <a:off x="8604360" y="3429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Счетверенная стрелка 52"/>
          <p:cNvSpPr/>
          <p:nvPr/>
        </p:nvSpPr>
        <p:spPr>
          <a:xfrm rot="18889200">
            <a:off x="7735680" y="3580920"/>
            <a:ext cx="368280" cy="342720"/>
          </a:xfrm>
          <a:custGeom>
            <a:avLst/>
            <a:gdLst/>
            <a:ahLst/>
            <a:rect l="l" t="t" r="r" b="b"/>
            <a:pathLst>
              <a:path w="368300" h="342900">
                <a:moveTo>
                  <a:pt x="0" y="171450"/>
                </a:moveTo>
                <a:lnTo>
                  <a:pt x="77153" y="171450"/>
                </a:lnTo>
                <a:lnTo>
                  <a:pt x="77153" y="171450"/>
                </a:lnTo>
                <a:lnTo>
                  <a:pt x="184150" y="171450"/>
                </a:lnTo>
                <a:lnTo>
                  <a:pt x="184150" y="77153"/>
                </a:lnTo>
                <a:lnTo>
                  <a:pt x="184150" y="77153"/>
                </a:lnTo>
                <a:lnTo>
                  <a:pt x="184150" y="0"/>
                </a:lnTo>
                <a:lnTo>
                  <a:pt x="184150" y="77153"/>
                </a:lnTo>
                <a:lnTo>
                  <a:pt x="184150" y="77153"/>
                </a:lnTo>
                <a:lnTo>
                  <a:pt x="184150" y="171450"/>
                </a:lnTo>
                <a:lnTo>
                  <a:pt x="291147" y="171450"/>
                </a:lnTo>
                <a:lnTo>
                  <a:pt x="291147" y="171450"/>
                </a:lnTo>
                <a:lnTo>
                  <a:pt x="368300" y="171450"/>
                </a:lnTo>
                <a:lnTo>
                  <a:pt x="291147" y="171450"/>
                </a:lnTo>
                <a:lnTo>
                  <a:pt x="291147" y="171450"/>
                </a:lnTo>
                <a:lnTo>
                  <a:pt x="184150" y="171450"/>
                </a:lnTo>
                <a:lnTo>
                  <a:pt x="184150" y="265747"/>
                </a:lnTo>
                <a:lnTo>
                  <a:pt x="184150" y="265747"/>
                </a:lnTo>
                <a:lnTo>
                  <a:pt x="184150" y="342900"/>
                </a:lnTo>
                <a:lnTo>
                  <a:pt x="184150" y="265747"/>
                </a:lnTo>
                <a:lnTo>
                  <a:pt x="184150" y="265747"/>
                </a:lnTo>
                <a:lnTo>
                  <a:pt x="184150" y="171450"/>
                </a:lnTo>
                <a:lnTo>
                  <a:pt x="77153" y="171450"/>
                </a:lnTo>
                <a:lnTo>
                  <a:pt x="77153" y="1714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Управляющая кнопка: справка 55">
            <a:hlinkClick r:id="rId5" action="ppaction://hlinksldjump"/>
          </p:cNvPr>
          <p:cNvSpPr/>
          <p:nvPr/>
        </p:nvSpPr>
        <p:spPr>
          <a:xfrm>
            <a:off x="3203640" y="2133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6360" y="8748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2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7a17"/>
                                      </p:to>
                                    </p:animClr>
                                    <p:set>
                                      <p:cBhvr>
                                        <p:cTn id="245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5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45" dur="2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46" dur="2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54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55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Овал 67"/>
          <p:cNvSpPr/>
          <p:nvPr/>
        </p:nvSpPr>
        <p:spPr>
          <a:xfrm>
            <a:off x="5940360" y="3645000"/>
            <a:ext cx="432000" cy="360360"/>
          </a:xfrm>
          <a:prstGeom prst="ellipse">
            <a:avLst/>
          </a:prstGeom>
          <a:solidFill>
            <a:srgbClr val="8cfcb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66"/>
          <p:cNvSpPr/>
          <p:nvPr/>
        </p:nvSpPr>
        <p:spPr>
          <a:xfrm>
            <a:off x="4788000" y="981000"/>
            <a:ext cx="431640" cy="576360"/>
          </a:xfrm>
          <a:prstGeom prst="ellipse">
            <a:avLst/>
          </a:prstGeom>
          <a:solidFill>
            <a:srgbClr val="8cfcb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ый треугольник 34"/>
          <p:cNvSpPr/>
          <p:nvPr/>
        </p:nvSpPr>
        <p:spPr>
          <a:xfrm>
            <a:off x="1692360" y="2205000"/>
            <a:ext cx="1150920" cy="2376360"/>
          </a:xfrm>
          <a:prstGeom prst="rtTriangle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79280" y="1052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треугольнике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ABC   АС = ВС = 50,  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sin BAC= 0,96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  Найдит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соту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AH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531" name="Управляющая кнопка: домой 4">
            <a:hlinkClick r:id="rId3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Равнобедренный треугольник 6"/>
          <p:cNvSpPr/>
          <p:nvPr/>
        </p:nvSpPr>
        <p:spPr>
          <a:xfrm>
            <a:off x="611280" y="2205000"/>
            <a:ext cx="2232000" cy="2376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7"/>
          <p:cNvSpPr/>
          <p:nvPr/>
        </p:nvSpPr>
        <p:spPr>
          <a:xfrm>
            <a:off x="1550520" y="19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8"/>
          <p:cNvSpPr/>
          <p:nvPr/>
        </p:nvSpPr>
        <p:spPr>
          <a:xfrm>
            <a:off x="284688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398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11"/>
          <p:cNvSpPr/>
          <p:nvPr/>
        </p:nvSpPr>
        <p:spPr>
          <a:xfrm flipV="1">
            <a:off x="611280" y="3789360"/>
            <a:ext cx="18730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3"/>
          <p:cNvSpPr/>
          <p:nvPr/>
        </p:nvSpPr>
        <p:spPr>
          <a:xfrm>
            <a:off x="24148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4"/>
          <p:cNvSpPr/>
          <p:nvPr/>
        </p:nvSpPr>
        <p:spPr>
          <a:xfrm>
            <a:off x="901440" y="3068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5"/>
          <p:cNvSpPr/>
          <p:nvPr/>
        </p:nvSpPr>
        <p:spPr>
          <a:xfrm>
            <a:off x="2125440" y="3068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6"/>
          <p:cNvSpPr/>
          <p:nvPr/>
        </p:nvSpPr>
        <p:spPr>
          <a:xfrm>
            <a:off x="3932280" y="184464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 -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7"/>
          <p:cNvSpPr/>
          <p:nvPr/>
        </p:nvSpPr>
        <p:spPr>
          <a:xfrm>
            <a:off x="3317760" y="24210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BAC= 0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8"/>
          <p:cNvSpPr/>
          <p:nvPr/>
        </p:nvSpPr>
        <p:spPr>
          <a:xfrm>
            <a:off x="4954680" y="242100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═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= ─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9"/>
          <p:cNvSpPr/>
          <p:nvPr/>
        </p:nvSpPr>
        <p:spPr>
          <a:xfrm>
            <a:off x="644724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20"/>
          <p:cNvSpPr/>
          <p:nvPr/>
        </p:nvSpPr>
        <p:spPr>
          <a:xfrm>
            <a:off x="6377040" y="2565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21"/>
          <p:cNvSpPr/>
          <p:nvPr/>
        </p:nvSpPr>
        <p:spPr>
          <a:xfrm>
            <a:off x="7023600" y="256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22"/>
          <p:cNvSpPr/>
          <p:nvPr/>
        </p:nvSpPr>
        <p:spPr>
          <a:xfrm>
            <a:off x="702360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Управляющая кнопка: документ 23"/>
          <p:cNvSpPr/>
          <p:nvPr/>
        </p:nvSpPr>
        <p:spPr>
          <a:xfrm>
            <a:off x="766764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25"/>
          <p:cNvSpPr/>
          <p:nvPr/>
        </p:nvSpPr>
        <p:spPr>
          <a:xfrm>
            <a:off x="3022920" y="2852640"/>
            <a:ext cx="60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Рассмотрим прямоугольный ∆ ВСР, где СР –высота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опущенная из вершины С равнобедренного ∆ АВ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ая соединительная линия 27"/>
          <p:cNvSpPr/>
          <p:nvPr/>
        </p:nvSpPr>
        <p:spPr>
          <a:xfrm>
            <a:off x="1724040" y="2286000"/>
            <a:ext cx="9360" cy="22924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28"/>
          <p:cNvSpPr/>
          <p:nvPr/>
        </p:nvSpPr>
        <p:spPr>
          <a:xfrm>
            <a:off x="1542960" y="4508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29"/>
          <p:cNvSpPr/>
          <p:nvPr/>
        </p:nvSpPr>
        <p:spPr>
          <a:xfrm>
            <a:off x="3348000" y="364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─  = ─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486288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31"/>
          <p:cNvSpPr/>
          <p:nvPr/>
        </p:nvSpPr>
        <p:spPr>
          <a:xfrm>
            <a:off x="486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32"/>
          <p:cNvSpPr/>
          <p:nvPr/>
        </p:nvSpPr>
        <p:spPr>
          <a:xfrm>
            <a:off x="4431600" y="378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33"/>
          <p:cNvSpPr/>
          <p:nvPr/>
        </p:nvSpPr>
        <p:spPr>
          <a:xfrm>
            <a:off x="4359600" y="350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35"/>
          <p:cNvSpPr/>
          <p:nvPr/>
        </p:nvSpPr>
        <p:spPr>
          <a:xfrm>
            <a:off x="5370120" y="36450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 = 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36"/>
          <p:cNvSpPr/>
          <p:nvPr/>
        </p:nvSpPr>
        <p:spPr>
          <a:xfrm>
            <a:off x="3436920" y="4221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теореме Пифагора найдем Р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37"/>
          <p:cNvSpPr/>
          <p:nvPr/>
        </p:nvSpPr>
        <p:spPr>
          <a:xfrm>
            <a:off x="3518280" y="4581360"/>
            <a:ext cx="19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С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38"/>
          <p:cNvSpPr/>
          <p:nvPr/>
        </p:nvSpPr>
        <p:spPr>
          <a:xfrm>
            <a:off x="5677920" y="4581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4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39"/>
          <p:cNvSpPr/>
          <p:nvPr/>
        </p:nvSpPr>
        <p:spPr>
          <a:xfrm>
            <a:off x="1351440" y="5013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50 – 48)(50 + 48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Управляющая кнопка: сведения 40"/>
          <p:cNvSpPr/>
          <p:nvPr/>
        </p:nvSpPr>
        <p:spPr>
          <a:xfrm>
            <a:off x="684360" y="5013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41"/>
          <p:cNvSpPr/>
          <p:nvPr/>
        </p:nvSpPr>
        <p:spPr>
          <a:xfrm>
            <a:off x="4155480" y="50133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∙98 =4∙4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42"/>
          <p:cNvSpPr/>
          <p:nvPr/>
        </p:nvSpPr>
        <p:spPr>
          <a:xfrm>
            <a:off x="6162120" y="5013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В = 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43"/>
          <p:cNvSpPr/>
          <p:nvPr/>
        </p:nvSpPr>
        <p:spPr>
          <a:xfrm>
            <a:off x="7170120" y="5013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 =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44"/>
          <p:cNvSpPr/>
          <p:nvPr/>
        </p:nvSpPr>
        <p:spPr>
          <a:xfrm>
            <a:off x="690480" y="5516640"/>
            <a:ext cx="51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им прямоугольный треугольник АВ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ый треугольник 45"/>
          <p:cNvSpPr/>
          <p:nvPr/>
        </p:nvSpPr>
        <p:spPr>
          <a:xfrm rot="9388200">
            <a:off x="702720" y="4133880"/>
            <a:ext cx="2058840" cy="890640"/>
          </a:xfrm>
          <a:prstGeom prst="rtTriangl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46"/>
          <p:cNvSpPr/>
          <p:nvPr/>
        </p:nvSpPr>
        <p:spPr>
          <a:xfrm>
            <a:off x="767160" y="6165720"/>
            <a:ext cx="22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─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─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47"/>
          <p:cNvSpPr/>
          <p:nvPr/>
        </p:nvSpPr>
        <p:spPr>
          <a:xfrm>
            <a:off x="1839240" y="6308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48"/>
          <p:cNvSpPr/>
          <p:nvPr/>
        </p:nvSpPr>
        <p:spPr>
          <a:xfrm>
            <a:off x="1839240" y="602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49"/>
          <p:cNvSpPr/>
          <p:nvPr/>
        </p:nvSpPr>
        <p:spPr>
          <a:xfrm>
            <a:off x="2414880" y="602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50"/>
          <p:cNvSpPr/>
          <p:nvPr/>
        </p:nvSpPr>
        <p:spPr>
          <a:xfrm>
            <a:off x="241488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Соединительная линия уступом 54"/>
          <p:cNvCxnSpPr>
            <a:stCxn id="572" idx="3"/>
          </p:cNvCxnSpPr>
          <p:nvPr/>
        </p:nvCxnSpPr>
        <p:spPr>
          <a:xfrm flipV="1">
            <a:off x="2852640" y="5373000"/>
            <a:ext cx="4960080" cy="1121400"/>
          </a:xfrm>
          <a:prstGeom prst="bentConnector3">
            <a:avLst>
              <a:gd name="adj1" fmla="val 20853"/>
            </a:avLst>
          </a:prstGeom>
          <a:ln w="38160">
            <a:solidFill>
              <a:srgbClr val="008e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4" name="Прямоугольник 56"/>
          <p:cNvSpPr/>
          <p:nvPr/>
        </p:nvSpPr>
        <p:spPr>
          <a:xfrm>
            <a:off x="4435200" y="61657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 =26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57"/>
          <p:cNvSpPr/>
          <p:nvPr/>
        </p:nvSpPr>
        <p:spPr>
          <a:xfrm>
            <a:off x="2920680" y="6165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─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58"/>
          <p:cNvSpPr/>
          <p:nvPr/>
        </p:nvSpPr>
        <p:spPr>
          <a:xfrm>
            <a:off x="3132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59"/>
          <p:cNvSpPr/>
          <p:nvPr/>
        </p:nvSpPr>
        <p:spPr>
          <a:xfrm>
            <a:off x="313560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61"/>
          <p:cNvSpPr/>
          <p:nvPr/>
        </p:nvSpPr>
        <p:spPr>
          <a:xfrm>
            <a:off x="7317000" y="58770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вет: 26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62"/>
          <p:cNvSpPr/>
          <p:nvPr/>
        </p:nvSpPr>
        <p:spPr>
          <a:xfrm>
            <a:off x="2125440" y="3068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6360" y="2318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3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2.5E-006 0.05718 C -2.5E-006 0.08334 0.07032 0.11644 0.12778 0.11644 L 0.25625 0.11644 E">
                                      <p:cBhvr>
                                        <p:cTn id="489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3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000"/>
                            </p:stCondLst>
                            <p:childTnLst>
                              <p:par>
                                <p:cTn id="5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3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3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1527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179280" y="105264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ямоугольный треугольник – треугольник, один из углов которого прямо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торона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, лежащая против прямого угла, -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гипотенуза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. Стороны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и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кате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Управляющая кнопка: документ 3"/>
          <p:cNvSpPr/>
          <p:nvPr/>
        </p:nvSpPr>
        <p:spPr>
          <a:xfrm>
            <a:off x="97164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585" name="Прямоугольный треугольник 5"/>
          <p:cNvSpPr/>
          <p:nvPr/>
        </p:nvSpPr>
        <p:spPr>
          <a:xfrm>
            <a:off x="971640" y="2924280"/>
            <a:ext cx="1871640" cy="1152360"/>
          </a:xfrm>
          <a:prstGeom prst="rtTriangle">
            <a:avLst/>
          </a:prstGeom>
          <a:solidFill>
            <a:srgbClr val="eee0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6"/>
          <p:cNvSpPr/>
          <p:nvPr/>
        </p:nvSpPr>
        <p:spPr>
          <a:xfrm>
            <a:off x="60660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7"/>
          <p:cNvSpPr/>
          <p:nvPr/>
        </p:nvSpPr>
        <p:spPr>
          <a:xfrm>
            <a:off x="673560" y="25653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8"/>
          <p:cNvSpPr/>
          <p:nvPr/>
        </p:nvSpPr>
        <p:spPr>
          <a:xfrm>
            <a:off x="2838600" y="38606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Дуга 9"/>
          <p:cNvSpPr/>
          <p:nvPr/>
        </p:nvSpPr>
        <p:spPr>
          <a:xfrm rot="15984000">
            <a:off x="2570760" y="3804480"/>
            <a:ext cx="504720" cy="503280"/>
          </a:xfrm>
          <a:custGeom>
            <a:avLst/>
            <a:gdLst>
              <a:gd name="textAreaLeft" fmla="*/ 252360 w 504720"/>
              <a:gd name="textAreaRight" fmla="*/ 394560 w 504720"/>
              <a:gd name="textAreaTop" fmla="*/ 0 h 503280"/>
              <a:gd name="textAreaBottom" fmla="*/ 43560 h 503280"/>
            </a:gdLst>
            <a:ahLst/>
            <a:rect l="textAreaLeft" t="textAreaTop" r="textAreaRight" b="textAreaBottom"/>
            <a:pathLst>
              <a:path stroke="0" w="504825" h="503238">
                <a:moveTo>
                  <a:pt x="252413" y="0"/>
                </a:moveTo>
                <a:lnTo>
                  <a:pt x="252413" y="0"/>
                </a:lnTo>
                <a:arcTo wR="252413" hR="251619" stAng="-5400000" swAng="2063220"/>
                <a:lnTo>
                  <a:pt x="252413" y="251619"/>
                </a:lnTo>
                <a:close/>
              </a:path>
              <a:path fill="none" w="504825" h="503238">
                <a:moveTo>
                  <a:pt x="252413" y="0"/>
                </a:moveTo>
                <a:lnTo>
                  <a:pt x="252413" y="0"/>
                </a:lnTo>
                <a:arcTo wR="252413" hR="251619" stAng="-5400000" swAng="2063220"/>
              </a:path>
            </a:pathLst>
          </a:custGeom>
          <a:solidFill>
            <a:srgbClr val="00b050"/>
          </a:solidFill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0"/>
          <p:cNvSpPr/>
          <p:nvPr/>
        </p:nvSpPr>
        <p:spPr>
          <a:xfrm>
            <a:off x="2262960" y="3789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Franklin Gothic Book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1"/>
          <p:cNvSpPr/>
          <p:nvPr/>
        </p:nvSpPr>
        <p:spPr>
          <a:xfrm>
            <a:off x="1760760" y="3141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12"/>
          <p:cNvSpPr/>
          <p:nvPr/>
        </p:nvSpPr>
        <p:spPr>
          <a:xfrm>
            <a:off x="1544400" y="4076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3"/>
          <p:cNvSpPr/>
          <p:nvPr/>
        </p:nvSpPr>
        <p:spPr>
          <a:xfrm>
            <a:off x="614160" y="32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4"/>
          <p:cNvSpPr/>
          <p:nvPr/>
        </p:nvSpPr>
        <p:spPr>
          <a:xfrm>
            <a:off x="914760" y="3716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"/>
              <p:cNvSpPr txBox="1"/>
              <p:nvPr/>
            </p:nvSpPr>
            <p:spPr>
              <a:xfrm>
                <a:off x="4356000" y="2355840"/>
                <a:ext cx="1440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3"/>
              <p:cNvSpPr txBox="1"/>
              <p:nvPr/>
            </p:nvSpPr>
            <p:spPr>
              <a:xfrm>
                <a:off x="4284720" y="3213000"/>
                <a:ext cx="1252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оs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а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4"/>
              <p:cNvSpPr txBox="1"/>
              <p:nvPr/>
            </p:nvSpPr>
            <p:spPr>
              <a:xfrm>
                <a:off x="4500720" y="4581360"/>
                <a:ext cx="1064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8" name="Управляющая кнопка: возврат 19">
            <a:hlinkClick r:id="" action="ppaction://hlinkshowjump?jump=previousslide"/>
          </p:cNvPr>
          <p:cNvSpPr/>
          <p:nvPr/>
        </p:nvSpPr>
        <p:spPr>
          <a:xfrm>
            <a:off x="8496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7493"/>
                </a:moveTo>
                <a:lnTo>
                  <a:pt x="17472" y="7493"/>
                </a:lnTo>
                <a:lnTo>
                  <a:pt x="17472" y="12828"/>
                </a:lnTo>
                <a:cubicBezTo>
                  <a:pt x="17472" y="13751"/>
                  <a:pt x="18273" y="14482"/>
                  <a:pt x="19308" y="14482"/>
                </a:cubicBezTo>
                <a:lnTo>
                  <a:pt x="20971" y="14482"/>
                </a:lnTo>
                <a:cubicBezTo>
                  <a:pt x="22007" y="14482"/>
                  <a:pt x="22807" y="13751"/>
                  <a:pt x="22807" y="12828"/>
                </a:cubicBezTo>
                <a:lnTo>
                  <a:pt x="22807" y="7493"/>
                </a:lnTo>
                <a:lnTo>
                  <a:pt x="20971" y="7493"/>
                </a:lnTo>
                <a:lnTo>
                  <a:pt x="24478" y="3985"/>
                </a:lnTo>
                <a:lnTo>
                  <a:pt x="28151" y="7493"/>
                </a:lnTo>
                <a:lnTo>
                  <a:pt x="26315" y="7493"/>
                </a:lnTo>
                <a:lnTo>
                  <a:pt x="26315" y="12828"/>
                </a:lnTo>
                <a:cubicBezTo>
                  <a:pt x="26315" y="15596"/>
                  <a:pt x="23739" y="18155"/>
                  <a:pt x="20971" y="18155"/>
                </a:cubicBezTo>
                <a:lnTo>
                  <a:pt x="19308" y="18155"/>
                </a:lnTo>
                <a:cubicBezTo>
                  <a:pt x="16541" y="18155"/>
                  <a:pt x="13964" y="15596"/>
                  <a:pt x="13964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Управляющая кнопка: документ 20"/>
          <p:cNvSpPr/>
          <p:nvPr/>
        </p:nvSpPr>
        <p:spPr>
          <a:xfrm>
            <a:off x="97164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Управляющая кнопка: домой 21"/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25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25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500"/>
                            </p:stCondLst>
                            <p:childTnLst>
                              <p:par>
                                <p:cTn id="6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50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500"/>
                            </p:stCondLst>
                            <p:childTnLst>
                              <p:par>
                                <p:cTn id="6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50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50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0605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394920" y="1052280"/>
            <a:ext cx="8596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ranklin Gothic Book"/>
              </a:rPr>
              <a:t>1.  В равнобедренном треугольнике углы при основании рав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ranklin Gothic Book"/>
              </a:rPr>
              <a:t>2.  В равнобедренном треугольнике высота, проведенная к основанию, является  и медианой, и биссектрисо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604" name="Управляющая кнопка: справка 4"/>
          <p:cNvSpPr/>
          <p:nvPr/>
        </p:nvSpPr>
        <p:spPr>
          <a:xfrm>
            <a:off x="133200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8496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7493"/>
                </a:moveTo>
                <a:lnTo>
                  <a:pt x="17472" y="7493"/>
                </a:lnTo>
                <a:lnTo>
                  <a:pt x="17472" y="12828"/>
                </a:lnTo>
                <a:cubicBezTo>
                  <a:pt x="17472" y="13751"/>
                  <a:pt x="18273" y="14482"/>
                  <a:pt x="19308" y="14482"/>
                </a:cubicBezTo>
                <a:lnTo>
                  <a:pt x="20971" y="14482"/>
                </a:lnTo>
                <a:cubicBezTo>
                  <a:pt x="22007" y="14482"/>
                  <a:pt x="22807" y="13751"/>
                  <a:pt x="22807" y="12828"/>
                </a:cubicBezTo>
                <a:lnTo>
                  <a:pt x="22807" y="7493"/>
                </a:lnTo>
                <a:lnTo>
                  <a:pt x="20971" y="7493"/>
                </a:lnTo>
                <a:lnTo>
                  <a:pt x="24478" y="3985"/>
                </a:lnTo>
                <a:lnTo>
                  <a:pt x="28151" y="7493"/>
                </a:lnTo>
                <a:lnTo>
                  <a:pt x="26315" y="7493"/>
                </a:lnTo>
                <a:lnTo>
                  <a:pt x="26315" y="12828"/>
                </a:lnTo>
                <a:cubicBezTo>
                  <a:pt x="26315" y="15596"/>
                  <a:pt x="23739" y="18155"/>
                  <a:pt x="20971" y="18155"/>
                </a:cubicBezTo>
                <a:lnTo>
                  <a:pt x="19308" y="18155"/>
                </a:lnTo>
                <a:cubicBezTo>
                  <a:pt x="16541" y="18155"/>
                  <a:pt x="13964" y="15596"/>
                  <a:pt x="13964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Равнобедренный треугольник 6"/>
          <p:cNvSpPr/>
          <p:nvPr/>
        </p:nvSpPr>
        <p:spPr>
          <a:xfrm>
            <a:off x="826920" y="2852640"/>
            <a:ext cx="1441440" cy="2016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8"/>
          <p:cNvSpPr/>
          <p:nvPr/>
        </p:nvSpPr>
        <p:spPr>
          <a:xfrm>
            <a:off x="1547640" y="2852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9"/>
          <p:cNvSpPr/>
          <p:nvPr/>
        </p:nvSpPr>
        <p:spPr>
          <a:xfrm>
            <a:off x="524160" y="4724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0"/>
          <p:cNvSpPr/>
          <p:nvPr/>
        </p:nvSpPr>
        <p:spPr>
          <a:xfrm>
            <a:off x="1327320" y="4869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11"/>
          <p:cNvSpPr/>
          <p:nvPr/>
        </p:nvSpPr>
        <p:spPr>
          <a:xfrm>
            <a:off x="1398600" y="2492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2"/>
          <p:cNvSpPr/>
          <p:nvPr/>
        </p:nvSpPr>
        <p:spPr>
          <a:xfrm>
            <a:off x="2262960" y="4653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3"/>
          <p:cNvSpPr/>
          <p:nvPr/>
        </p:nvSpPr>
        <p:spPr>
          <a:xfrm>
            <a:off x="3170880" y="24210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СР – высота, медиана, биссектр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4"/>
          <p:cNvSpPr/>
          <p:nvPr/>
        </p:nvSpPr>
        <p:spPr>
          <a:xfrm>
            <a:off x="2050920" y="2852640"/>
            <a:ext cx="70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Медиана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треугольника, проведенная из данной вершины, - 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рямой, соединяющий эту вершину с серединой противолежа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стороны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15"/>
          <p:cNvSpPr/>
          <p:nvPr/>
        </p:nvSpPr>
        <p:spPr>
          <a:xfrm>
            <a:off x="3324600" y="4076640"/>
            <a:ext cx="49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дели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∆ АВ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ва ра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ых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17"/>
          <p:cNvCxnSpPr>
            <a:endCxn id="612" idx="2"/>
          </p:cNvCxnSpPr>
          <p:nvPr/>
        </p:nvCxnSpPr>
        <p:spPr>
          <a:xfrm flipV="1">
            <a:off x="2842920" y="2790000"/>
            <a:ext cx="2561400" cy="134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6" name="Управляющая кнопка: домой 16"/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0605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899640" y="1052280"/>
            <a:ext cx="8091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Book"/>
              </a:rPr>
              <a:t>Основное тригонометрическое тождеств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620" name="Управляющая кнопка: домой 4"/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547640" y="1557360"/>
            <a:ext cx="463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042920" y="1773360"/>
                <a:ext cx="295272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Управляющая кнопка: возврат 8">
            <a:hlinkClick r:id="" action="ppaction://hlinkshowjump?jump=previousslide"/>
          </p:cNvPr>
          <p:cNvSpPr/>
          <p:nvPr/>
        </p:nvSpPr>
        <p:spPr>
          <a:xfrm>
            <a:off x="8496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7493"/>
                </a:moveTo>
                <a:lnTo>
                  <a:pt x="17472" y="7493"/>
                </a:lnTo>
                <a:lnTo>
                  <a:pt x="17472" y="12828"/>
                </a:lnTo>
                <a:cubicBezTo>
                  <a:pt x="17472" y="13751"/>
                  <a:pt x="18273" y="14482"/>
                  <a:pt x="19308" y="14482"/>
                </a:cubicBezTo>
                <a:lnTo>
                  <a:pt x="20971" y="14482"/>
                </a:lnTo>
                <a:cubicBezTo>
                  <a:pt x="22007" y="14482"/>
                  <a:pt x="22807" y="13751"/>
                  <a:pt x="22807" y="12828"/>
                </a:cubicBezTo>
                <a:lnTo>
                  <a:pt x="22807" y="7493"/>
                </a:lnTo>
                <a:lnTo>
                  <a:pt x="20971" y="7493"/>
                </a:lnTo>
                <a:lnTo>
                  <a:pt x="24478" y="3985"/>
                </a:lnTo>
                <a:lnTo>
                  <a:pt x="28151" y="7493"/>
                </a:lnTo>
                <a:lnTo>
                  <a:pt x="26315" y="7493"/>
                </a:lnTo>
                <a:lnTo>
                  <a:pt x="26315" y="12828"/>
                </a:lnTo>
                <a:cubicBezTo>
                  <a:pt x="26315" y="15596"/>
                  <a:pt x="23739" y="18155"/>
                  <a:pt x="20971" y="18155"/>
                </a:cubicBezTo>
                <a:lnTo>
                  <a:pt x="19308" y="18155"/>
                </a:lnTo>
                <a:cubicBezTo>
                  <a:pt x="16541" y="18155"/>
                  <a:pt x="13964" y="15596"/>
                  <a:pt x="13964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9"/>
              <p:cNvSpPr txBox="1"/>
              <p:nvPr/>
            </p:nvSpPr>
            <p:spPr>
              <a:xfrm>
                <a:off x="5148360" y="1916280"/>
                <a:ext cx="262548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5" name="Прямоугольник 10"/>
          <p:cNvSpPr/>
          <p:nvPr/>
        </p:nvSpPr>
        <p:spPr>
          <a:xfrm>
            <a:off x="614520" y="184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1"/>
          <p:cNvSpPr/>
          <p:nvPr/>
        </p:nvSpPr>
        <p:spPr>
          <a:xfrm>
            <a:off x="4719600" y="191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Управляющая кнопка: сведения 11"/>
          <p:cNvSpPr/>
          <p:nvPr/>
        </p:nvSpPr>
        <p:spPr>
          <a:xfrm>
            <a:off x="1187280" y="260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12"/>
          <p:cNvSpPr/>
          <p:nvPr/>
        </p:nvSpPr>
        <p:spPr>
          <a:xfrm>
            <a:off x="1506960" y="3789360"/>
            <a:ext cx="71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Book"/>
              </a:rPr>
              <a:t>Формулы сокращенного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13"/>
              <p:cNvSpPr txBox="1"/>
              <p:nvPr/>
            </p:nvSpPr>
            <p:spPr>
              <a:xfrm>
                <a:off x="3059280" y="4437000"/>
                <a:ext cx="374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1" descr=""/>
          <p:cNvPicPr/>
          <p:nvPr/>
        </p:nvPicPr>
        <p:blipFill>
          <a:blip r:embed="rId2"/>
          <a:stretch/>
        </p:blipFill>
        <p:spPr>
          <a:xfrm>
            <a:off x="3176640" y="2341440"/>
            <a:ext cx="2913120" cy="9446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1042560" y="3068280"/>
            <a:ext cx="698508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08764"/>
          <p:cNvPicPr/>
          <p:nvPr/>
        </p:nvPicPr>
        <p:blipFill>
          <a:blip r:embed="rId4"/>
          <a:stretch/>
        </p:blipFill>
        <p:spPr>
          <a:xfrm>
            <a:off x="3635280" y="4076640"/>
            <a:ext cx="1873440" cy="1679760"/>
          </a:xfrm>
          <a:prstGeom prst="rect">
            <a:avLst/>
          </a:prstGeom>
          <a:ln w="0">
            <a:noFill/>
          </a:ln>
        </p:spPr>
      </p:pic>
      <p:sp>
        <p:nvSpPr>
          <p:cNvPr id="63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17080" y="6308640"/>
            <a:ext cx="610920" cy="333360"/>
          </a:xfrm>
          <a:custGeom>
            <a:avLst/>
            <a:gdLst>
              <a:gd name="textAreaLeft" fmla="*/ 21600 w 610920"/>
              <a:gd name="textAreaRight" fmla="*/ 589320 w 610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65" h="21600">
                <a:moveTo>
                  <a:pt x="0" y="0"/>
                </a:moveTo>
                <a:lnTo>
                  <a:pt x="39565" y="0"/>
                </a:lnTo>
                <a:lnTo>
                  <a:pt x="39565" y="21600"/>
                </a:lnTo>
                <a:lnTo>
                  <a:pt x="0" y="21600"/>
                </a:lnTo>
                <a:close/>
              </a:path>
              <a:path fill="lightenLess" w="39565" h="21600">
                <a:moveTo>
                  <a:pt x="0" y="0"/>
                </a:moveTo>
                <a:lnTo>
                  <a:pt x="39565" y="0"/>
                </a:lnTo>
                <a:lnTo>
                  <a:pt x="38165" y="1400"/>
                </a:lnTo>
                <a:lnTo>
                  <a:pt x="1400" y="1400"/>
                </a:lnTo>
                <a:close/>
              </a:path>
              <a:path fill="darken" w="39565" h="21600">
                <a:moveTo>
                  <a:pt x="39565" y="0"/>
                </a:moveTo>
                <a:lnTo>
                  <a:pt x="39565" y="21600"/>
                </a:lnTo>
                <a:lnTo>
                  <a:pt x="38165" y="20200"/>
                </a:lnTo>
                <a:lnTo>
                  <a:pt x="38165" y="1400"/>
                </a:lnTo>
                <a:close/>
              </a:path>
              <a:path fill="darkenLess" w="39565" h="21600">
                <a:moveTo>
                  <a:pt x="3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65" y="20200"/>
                </a:lnTo>
                <a:close/>
              </a:path>
              <a:path fill="lighten" w="3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65" h="21600">
                <a:moveTo>
                  <a:pt x="12776" y="3794"/>
                </a:moveTo>
                <a:lnTo>
                  <a:pt x="26789" y="10800"/>
                </a:lnTo>
                <a:lnTo>
                  <a:pt x="12776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Управляющая кнопка: домой 6"/>
          <p:cNvSpPr/>
          <p:nvPr/>
        </p:nvSpPr>
        <p:spPr>
          <a:xfrm>
            <a:off x="7596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6:53:50Z</dcterms:created>
  <dc:creator>zenalla</dc:creator>
  <dc:description/>
  <dc:language>en-US</dc:language>
  <cp:lastModifiedBy>Admin</cp:lastModifiedBy>
  <dcterms:modified xsi:type="dcterms:W3CDTF">2014-10-20T13:22:52Z</dcterms:modified>
  <cp:revision>134</cp:revision>
  <dc:subject/>
  <dc:title>Слайд 1</dc:title>
</cp:coreProperties>
</file>