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3.wmf" ContentType="image/x-wmf"/>
  <Override PartName="/ppt/media/image10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0FD-E344-4238-85C4-D31B2B7A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86C-CEDC-432F-8049-E7C8806F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E8E-9DC9-4218-B151-B1E19FD0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498-FD47-472B-8F36-B82419A5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2EF7-401E-4206-9084-8C50BB4D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4910-CFF5-488A-9B0B-6F7AE5CA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2802-08DB-40F4-BBD2-F904816C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C212-828F-4BDD-A13B-2B7FC12F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3303-B6E1-4435-A537-4644D49A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033B-F0C3-4BEF-88FE-A7BFE474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58E0-FEC7-434F-96AF-A091754F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16B-412E-4141-AD1E-AC7C74CB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EF1B-0083-4C2D-A4F7-363F65B8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3747-25FD-4B81-AEC6-F6C81EFF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5E26-C6C3-440D-96D1-87F4618D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FF3E-2D5B-431D-8272-60FB60A1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315A-10DC-43D9-A704-4738BB2D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BCEF-707C-4B22-9AC5-D59AAB8F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D70-E686-4085-9DE8-3FDAF610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1B5-23E4-4324-AEA8-5CDD54BE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BDE-5454-493B-AA1B-02E1A6D6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C13-3F80-47C7-B001-25E64EC4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AD8-4B7C-4EE3-84EC-66D8B7F2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7CD-4439-4DA4-8CCB-FD4A83FB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4519-7186-46FF-922E-CAFDA015DC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AB3C-B9B2-4BCD-99FF-6EAE1FC300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692360" y="1413000"/>
            <a:ext cx="5975280" cy="35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афика в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Turbo Pascal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5" descr="j0251761[1]"/>
          <p:cNvPicPr/>
          <p:nvPr/>
        </p:nvPicPr>
        <p:blipFill>
          <a:blip r:embed="rId1"/>
          <a:stretch/>
        </p:blipFill>
        <p:spPr>
          <a:xfrm>
            <a:off x="179280" y="189000"/>
            <a:ext cx="2376720" cy="2287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785960" y="54291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0280" indent="-28702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зентацию разработал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0280" indent="-28702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идинская А. 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пуск программы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urbo Pas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й компью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кальный диск (С: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B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458640" cy="495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785880" y="2643120"/>
            <a:ext cx="552240" cy="363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3"/>
          <a:stretch/>
        </p:blipFill>
        <p:spPr>
          <a:xfrm>
            <a:off x="857160" y="4500720"/>
            <a:ext cx="357120" cy="338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9" descr="222"/>
          <p:cNvPicPr/>
          <p:nvPr/>
        </p:nvPicPr>
        <p:blipFill>
          <a:blip r:embed="rId4"/>
          <a:stretch/>
        </p:blipFill>
        <p:spPr>
          <a:xfrm>
            <a:off x="857160" y="3900600"/>
            <a:ext cx="3571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222"/>
          <p:cNvPicPr/>
          <p:nvPr/>
        </p:nvPicPr>
        <p:blipFill>
          <a:blip r:embed="rId5"/>
          <a:stretch/>
        </p:blipFill>
        <p:spPr>
          <a:xfrm>
            <a:off x="857160" y="3286080"/>
            <a:ext cx="3571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бочее пол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urbo Pas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064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становка графического режима в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urbo Pascal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risuno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Graph; 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cc00"/>
                </a:solidFill>
                <a:latin typeface="Times New Roman"/>
              </a:rPr>
              <a:t>графический модуль, позволяющий работать в графическом режиме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GraphDriver, GraphMode:integ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Driver :=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Mode :=2;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cc00"/>
                </a:solidFill>
                <a:latin typeface="Times New Roman"/>
              </a:rPr>
              <a:t>количество точек 640х480, 16 цветов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Graph(GraphDriver, GraphMode, ‘c:\bp\bgi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Операторы,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озволяющие создать графический объек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l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Graph;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cc00"/>
                </a:solidFill>
                <a:latin typeface="Times New Roman"/>
              </a:rPr>
              <a:t>выход из графического режима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anim111"/>
          <p:cNvPicPr/>
          <p:nvPr/>
        </p:nvPicPr>
        <p:blipFill>
          <a:blip r:embed="rId1"/>
          <a:stretch/>
        </p:blipFill>
        <p:spPr>
          <a:xfrm>
            <a:off x="4643280" y="4687920"/>
            <a:ext cx="2368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99760" y="428760"/>
            <a:ext cx="635796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тали для создания зам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2857680" y="2714760"/>
            <a:ext cx="114300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1000080" y="2857680"/>
            <a:ext cx="1500120" cy="1285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3"/>
          <a:stretch/>
        </p:blipFill>
        <p:spPr>
          <a:xfrm>
            <a:off x="1714680" y="1785960"/>
            <a:ext cx="428400" cy="2970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10"/>
          <p:cNvSpPr/>
          <p:nvPr/>
        </p:nvSpPr>
        <p:spPr>
          <a:xfrm>
            <a:off x="6072120" y="1500120"/>
            <a:ext cx="428760" cy="785880"/>
          </a:xfrm>
          <a:prstGeom prst="rect">
            <a:avLst/>
          </a:prstGeom>
          <a:solidFill>
            <a:srgbClr val="cacaca"/>
          </a:solidFill>
          <a:ln w="255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Равнобедренный треугольник 14"/>
          <p:cNvSpPr/>
          <p:nvPr/>
        </p:nvSpPr>
        <p:spPr>
          <a:xfrm>
            <a:off x="4786200" y="3071880"/>
            <a:ext cx="1857600" cy="1643040"/>
          </a:xfrm>
          <a:prstGeom prst="triangle">
            <a:avLst>
              <a:gd name="adj" fmla="val 50000"/>
            </a:avLst>
          </a:prstGeom>
          <a:solidFill>
            <a:srgbClr val="f66d3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Группа 20"/>
          <p:cNvGrpSpPr/>
          <p:nvPr/>
        </p:nvGrpSpPr>
        <p:grpSpPr>
          <a:xfrm>
            <a:off x="7357680" y="1285920"/>
            <a:ext cx="561960" cy="1143000"/>
            <a:chOff x="7357680" y="1285920"/>
            <a:chExt cx="561960" cy="1143000"/>
          </a:xfrm>
        </p:grpSpPr>
        <p:sp>
          <p:nvSpPr>
            <p:cNvPr id="145" name="Прямая соединительная линия 12"/>
            <p:cNvSpPr/>
            <p:nvPr/>
          </p:nvSpPr>
          <p:spPr>
            <a:xfrm flipH="1">
              <a:off x="7358040" y="1285920"/>
              <a:ext cx="14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Равнобедренный треугольник 16"/>
            <p:cNvSpPr/>
            <p:nvPr/>
          </p:nvSpPr>
          <p:spPr>
            <a:xfrm rot="5400000">
              <a:off x="7357680" y="1285920"/>
              <a:ext cx="561960" cy="5619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Овал 18"/>
          <p:cNvSpPr/>
          <p:nvPr/>
        </p:nvSpPr>
        <p:spPr>
          <a:xfrm>
            <a:off x="3500280" y="1500120"/>
            <a:ext cx="500400" cy="5000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Группа 43"/>
          <p:cNvGrpSpPr/>
          <p:nvPr/>
        </p:nvGrpSpPr>
        <p:grpSpPr>
          <a:xfrm>
            <a:off x="1643040" y="1428840"/>
            <a:ext cx="5514840" cy="5232240"/>
            <a:chOff x="1643040" y="1428840"/>
            <a:chExt cx="5514840" cy="5232240"/>
          </a:xfrm>
        </p:grpSpPr>
        <p:grpSp>
          <p:nvGrpSpPr>
            <p:cNvPr id="149" name="Группа 36"/>
            <p:cNvGrpSpPr/>
            <p:nvPr/>
          </p:nvGrpSpPr>
          <p:grpSpPr>
            <a:xfrm>
              <a:off x="1643040" y="3786120"/>
              <a:ext cx="5514840" cy="2874960"/>
              <a:chOff x="1643040" y="3786120"/>
              <a:chExt cx="5514840" cy="2874960"/>
            </a:xfrm>
          </p:grpSpPr>
          <p:grpSp>
            <p:nvGrpSpPr>
              <p:cNvPr id="150" name="Группа 25"/>
              <p:cNvGrpSpPr/>
              <p:nvPr/>
            </p:nvGrpSpPr>
            <p:grpSpPr>
              <a:xfrm>
                <a:off x="1643040" y="4714560"/>
                <a:ext cx="2085840" cy="1933200"/>
                <a:chOff x="1643040" y="4714560"/>
                <a:chExt cx="2085840" cy="1933200"/>
              </a:xfrm>
            </p:grpSpPr>
            <p:pic>
              <p:nvPicPr>
                <p:cNvPr id="151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643040" y="4714560"/>
                  <a:ext cx="384120" cy="308160"/>
                </a:xfrm>
                <a:prstGeom prst="rect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152" name="Pictur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4360" y="4714560"/>
                  <a:ext cx="384120" cy="308160"/>
                </a:xfrm>
                <a:prstGeom prst="rect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153" name="Picture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86040" y="4714560"/>
                  <a:ext cx="384120" cy="308160"/>
                </a:xfrm>
                <a:prstGeom prst="rect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154" name="Picture 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30360" y="4714560"/>
                  <a:ext cx="384120" cy="308160"/>
                </a:xfrm>
                <a:prstGeom prst="rect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155" name="Picture 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43040" y="5000040"/>
                  <a:ext cx="2085840" cy="1647720"/>
                </a:xfrm>
                <a:prstGeom prst="rect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</p:pic>
          </p:grpSp>
          <p:pic>
            <p:nvPicPr>
              <p:cNvPr id="156" name="Pictur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3714480" y="3786120"/>
                <a:ext cx="1357200" cy="287496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  <p:grpSp>
            <p:nvGrpSpPr>
              <p:cNvPr id="157" name="Группа 26"/>
              <p:cNvGrpSpPr/>
              <p:nvPr/>
            </p:nvGrpSpPr>
            <p:grpSpPr>
              <a:xfrm>
                <a:off x="5072040" y="4714560"/>
                <a:ext cx="2085840" cy="1933200"/>
                <a:chOff x="5072040" y="4714560"/>
                <a:chExt cx="2085840" cy="1933200"/>
              </a:xfrm>
            </p:grpSpPr>
            <p:pic>
              <p:nvPicPr>
                <p:cNvPr id="158" name="Picture 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2040" y="4714560"/>
                  <a:ext cx="384120" cy="308160"/>
                </a:xfrm>
                <a:prstGeom prst="rect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159" name="Picture 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643360" y="4714560"/>
                  <a:ext cx="384120" cy="308160"/>
                </a:xfrm>
                <a:prstGeom prst="rect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160" name="Picture 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215040" y="4714560"/>
                  <a:ext cx="384120" cy="308160"/>
                </a:xfrm>
                <a:prstGeom prst="rect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161" name="Picture 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759360" y="4714560"/>
                  <a:ext cx="384120" cy="308160"/>
                </a:xfrm>
                <a:prstGeom prst="rect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162" name="Picture 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072040" y="5000040"/>
                  <a:ext cx="2085840" cy="1647720"/>
                </a:xfrm>
                <a:prstGeom prst="rect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</p:pic>
          </p:grpSp>
          <p:sp>
            <p:nvSpPr>
              <p:cNvPr id="163" name="Овал 33"/>
              <p:cNvSpPr/>
              <p:nvPr/>
            </p:nvSpPr>
            <p:spPr>
              <a:xfrm>
                <a:off x="4500360" y="4143240"/>
                <a:ext cx="500040" cy="5000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Овал 34"/>
              <p:cNvSpPr/>
              <p:nvPr/>
            </p:nvSpPr>
            <p:spPr>
              <a:xfrm>
                <a:off x="3786120" y="4143240"/>
                <a:ext cx="500040" cy="5000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Равнобедренный треугольник 35"/>
            <p:cNvSpPr/>
            <p:nvPr/>
          </p:nvSpPr>
          <p:spPr>
            <a:xfrm>
              <a:off x="3286080" y="2286000"/>
              <a:ext cx="2143080" cy="1571400"/>
            </a:xfrm>
            <a:prstGeom prst="triangle">
              <a:avLst>
                <a:gd name="adj" fmla="val 50000"/>
              </a:avLst>
            </a:prstGeom>
            <a:solidFill>
              <a:srgbClr val="f66d3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Прямоугольник 37"/>
            <p:cNvSpPr/>
            <p:nvPr/>
          </p:nvSpPr>
          <p:spPr>
            <a:xfrm>
              <a:off x="4214880" y="5715000"/>
              <a:ext cx="428400" cy="928440"/>
            </a:xfrm>
            <a:prstGeom prst="rect">
              <a:avLst/>
            </a:prstGeom>
            <a:solidFill>
              <a:srgbClr val="cacaca"/>
            </a:solidFill>
            <a:ln w="25560">
              <a:solidFill>
                <a:srgbClr val="ca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Группа 38"/>
            <p:cNvGrpSpPr/>
            <p:nvPr/>
          </p:nvGrpSpPr>
          <p:grpSpPr>
            <a:xfrm>
              <a:off x="4357080" y="1428840"/>
              <a:ext cx="500040" cy="857160"/>
              <a:chOff x="4357080" y="1428840"/>
              <a:chExt cx="500040" cy="857160"/>
            </a:xfrm>
          </p:grpSpPr>
          <p:sp>
            <p:nvSpPr>
              <p:cNvPr id="168" name="Прямая соединительная линия 39"/>
              <p:cNvSpPr/>
              <p:nvPr/>
            </p:nvSpPr>
            <p:spPr>
              <a:xfrm>
                <a:off x="4357440" y="1428840"/>
                <a:ext cx="0" cy="85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Равнобедренный треугольник 40"/>
              <p:cNvSpPr/>
              <p:nvPr/>
            </p:nvSpPr>
            <p:spPr>
              <a:xfrm rot="5400000">
                <a:off x="4395960" y="1389960"/>
                <a:ext cx="422280" cy="50004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28520" y="214200"/>
            <a:ext cx="53578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Шаблон зам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аблица цв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solidFill>
            <a:srgbClr val="639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95280" y="1413000"/>
          <a:ext cx="8464680" cy="4592520"/>
        </p:xfrm>
        <a:graphic>
          <a:graphicData uri="http://schemas.openxmlformats.org/drawingml/2006/table">
            <a:tbl>
              <a:tblPr/>
              <a:tblGrid>
                <a:gridCol w="2763720"/>
                <a:gridCol w="798480"/>
                <a:gridCol w="3867480"/>
                <a:gridCol w="103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 – чер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kGray – темно-сер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 – си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htBlue – голуб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 - зелё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ghtGreen – ярко-зеле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an – бирюзов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htGyan – ярко-бирюзов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– 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htRed – ярко-крас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enta – малинов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htMagenta – ярко-малин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wn – коричн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llow – 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htGray – светло-серы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te – бел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учитель.jpg"/>
          <p:cNvPicPr/>
          <p:nvPr/>
        </p:nvPicPr>
        <p:blipFill>
          <a:blip r:embed="rId1"/>
          <a:srcRect l="8597" t="6428" r="3233" b="18527"/>
          <a:stretch/>
        </p:blipFill>
        <p:spPr>
          <a:xfrm>
            <a:off x="1071720" y="428760"/>
            <a:ext cx="7143480" cy="60973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"/>
          <p:cNvSpPr/>
          <p:nvPr/>
        </p:nvSpPr>
        <p:spPr>
          <a:xfrm>
            <a:off x="4929120" y="1143000"/>
            <a:ext cx="25005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ee"/>
                </a:solidFill>
                <a:latin typeface="Monotype Corsiva"/>
              </a:rPr>
              <a:t>Всем спасибо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ee"/>
                </a:solidFill>
                <a:latin typeface="Monotype Corsiva"/>
              </a:rPr>
              <a:t>за урок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j0396734[1]"/>
          <p:cNvPicPr/>
          <p:nvPr/>
        </p:nvPicPr>
        <p:blipFill>
          <a:blip r:embed="rId1"/>
          <a:stretch/>
        </p:blipFill>
        <p:spPr>
          <a:xfrm>
            <a:off x="468360" y="4292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j0396732[1]"/>
          <p:cNvPicPr/>
          <p:nvPr/>
        </p:nvPicPr>
        <p:blipFill>
          <a:blip r:embed="rId2"/>
          <a:stretch/>
        </p:blipFill>
        <p:spPr>
          <a:xfrm>
            <a:off x="6732720" y="333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5" name="WordArt 6"/>
          <p:cNvSpPr txBox="1"/>
          <p:nvPr/>
        </p:nvSpPr>
        <p:spPr>
          <a:xfrm>
            <a:off x="1403280" y="2133720"/>
            <a:ext cx="5121360" cy="20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a9a46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ператоры график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a9a46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Установка цвета, которым будет осуществляться рисован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116000" y="2492280"/>
            <a:ext cx="525636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tColor(n)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есь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номер цв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Заливка замкнутой поверх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loodFill(x, y, n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есь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, y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координаты точки внут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мкнутой поверх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номер цвета линии, котор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мляется замкнутая поверхность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Устанавливает цвет фон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72400" cy="28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SetBkColor(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есь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цвет ф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Ли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Line(x1, y1, x2, y2)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ес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х1,у1) – координаты начала отрез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х2,у2) – координаты конца отрез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1187280" y="4869000"/>
            <a:ext cx="2953080" cy="1081080"/>
          </a:xfrm>
          <a:prstGeom prst="line">
            <a:avLst/>
          </a:prstGeom>
          <a:ln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95280" y="450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х1,у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140360" y="580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х2,у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Прямоугольн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Rectangle(x1, y1, x2, y2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ес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x1, y1) и (x2, y2) – координа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агонали прямоугольн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900000" y="5373720"/>
            <a:ext cx="2376720" cy="934920"/>
          </a:xfrm>
          <a:prstGeom prst="rect">
            <a:avLst/>
          </a:prstGeom>
          <a:noFill/>
          <a:ln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900000" y="5373720"/>
            <a:ext cx="2376720" cy="93492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50920" y="4941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х1,у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27672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х2,у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рашенный прямоугольник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Bar(x1, y1, x2, y2)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ес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x1, y1) и (x2, y2) – координа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агонали прямоугольн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042920" y="5157720"/>
            <a:ext cx="2737080" cy="12240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1042920" y="5157720"/>
            <a:ext cx="2737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68360" y="479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х1,у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70836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х2,у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кружность радиуса r с центром в точке (x, y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Circle(x, y, r);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есь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х, у) – координаты центра окруж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адиус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1187280" y="5373720"/>
            <a:ext cx="1368720" cy="1150920"/>
          </a:xfrm>
          <a:prstGeom prst="ellipse">
            <a:avLst/>
          </a:prstGeom>
          <a:noFill/>
          <a:ln w="475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1835280" y="587700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 flipH="1" flipV="1">
            <a:off x="1476000" y="5445000"/>
            <a:ext cx="358920" cy="432000"/>
          </a:xfrm>
          <a:prstGeom prst="line">
            <a:avLst/>
          </a:prstGeom>
          <a:ln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547640" y="59500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х1,у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692360" y="544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4:30:02Z</dcterms:created>
  <dc:creator>name</dc:creator>
  <dc:description/>
  <dc:language>en-US</dc:language>
  <cp:lastModifiedBy>ттт</cp:lastModifiedBy>
  <dcterms:modified xsi:type="dcterms:W3CDTF">2014-10-27T17:44:27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49</vt:lpwstr>
  </property>
</Properties>
</file>