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3F9-B7B4-4E57-B10B-957B4E7C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4D3-369B-4D7C-88A5-3B9B489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9EF-048A-4AD3-929E-000DE208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FC8-E792-4419-B78C-B87B23C1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5E9-395D-42E6-88FE-3BC389CE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6BD-C050-4609-9531-F1B925F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1B6-F7C5-419B-BBDD-499BC42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8E8-F447-43F1-8A29-D6D1ED6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E90D-0E85-4A20-92BA-9CBE674E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F982-056F-4F44-949E-F8A9C28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36B1-11DB-4F16-8BAE-18FCD98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5EC-95F0-4ED1-B157-FA49F552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62F5-C8F2-431D-B432-434E8FE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F000-F526-406F-8534-F975DDD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B7A3-9A46-42CE-B6A4-F53EEE87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DDD1-2750-4F31-A738-DD22363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F19-618F-467A-A3BA-93680AC0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7DE1-21DD-426A-8C92-980AFD0D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8895-096B-4621-A4D2-51E8E5A2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230F-88AC-4AAF-8DA7-FA62212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E3ABF-62B3-4EF8-AC27-E72289CF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6C61-3917-4984-B872-82B7838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4AF-E21B-460B-AF42-F5E0B13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DBB9-67D4-47CB-8886-C09C933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23CA-30A9-4FCD-8109-C720B49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87C1-336E-4639-9D69-64D89B7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307F-0635-44E6-9234-428FC424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40C9-91D7-486B-9E7A-4ED2A8C5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2CB3-A9F9-4EEC-9F57-D74F252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D615-71B8-45B3-88B8-385B02CD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5EB6-C494-4E42-ACB7-54E38768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0B2D-54AA-4C86-9017-25D99283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6DF5-D02D-4F92-B0F5-7D76AF5C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0B4-9575-479E-AC0E-C39F026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25C6-4F27-4A03-B1BB-75D0E7F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9882-7240-4969-B7C5-AC1738C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813B-8FD8-4CFB-A9F2-C9A97F4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6AAD-2035-417E-A756-58B59CE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05E4-59DA-4DC5-AFF6-D1737F4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4F8B-CCDC-486F-8030-2023ED7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9806-6A16-4533-8A98-57935FB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C5D9-7EBE-4ED0-B2C8-8FB39319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BF5B-331D-41E2-A4F1-F5E931AB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B292-5260-4EB9-B9A0-DADE903B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000-F171-4AD9-B080-ABF25F6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E306F-C50A-493A-BFBE-F17C4BE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C650-ED12-4E1D-A850-702DD539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7197-16B6-4874-9CC0-55E6CC1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C0A0-0117-48C9-B10D-5C95B38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ECE6-38EA-4CDE-A1EA-EC92E1A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6CF2-66B1-4D64-85D5-00D1E420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6D1A-5351-4709-8AF2-DF4BB90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BEE0-A94D-4AF3-B55C-585C27F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BC43-44E1-4572-91E5-9408651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1F49-9234-48F1-B8DF-9DCC9528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E8E-5431-48D9-B366-4B3C8B2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659C-0E1D-4C85-BCEC-54058CA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151-230D-4E5C-B7EA-4FC8AF2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B4F-2AB4-490F-82F5-4F948B8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336-038B-40B7-9820-679282F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8EC-CFF7-45AF-891E-D8F17D114FE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0F7-734B-4D54-B22E-CC456F01B185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E36-1D36-4AEB-8026-BC9A47FF5E77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A3B-F9B1-4F62-A226-0CA19C8CCB55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CF38-A860-4414-8C6E-C5238C8F8247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e49"/>
                </a:solidFill>
                <a:latin typeface="Verdana"/>
              </a:rPr>
              <a:t>Лингвистические Олимпийские игры</a:t>
            </a:r>
            <a:endParaRPr b="1" lang="en-US" sz="45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252"/>
                </a:solidFill>
                <a:latin typeface="Verdana"/>
              </a:rPr>
              <a:t>Внеклассное мероприятие по русскому языку в 5 класс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Тяжёлая атлетика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7" name="Picture 2" descr="C:\Documents and Settings\User\Рабочий стол\Спорт, фото\08041601e.jpg"/>
          <p:cNvPicPr/>
          <p:nvPr/>
        </p:nvPicPr>
        <p:blipFill>
          <a:blip r:embed="rId1"/>
          <a:stretch/>
        </p:blipFill>
        <p:spPr>
          <a:xfrm>
            <a:off x="2000160" y="1000080"/>
            <a:ext cx="5143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Verdana"/>
              </a:rPr>
              <a:t>«Тяжёлое» слово</a:t>
            </a:r>
            <a:endParaRPr b="1" lang="en-US" sz="2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частники команд должны за три  минуты написать как можно больше слов, состоящих из самого большого количества бук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C:\Documents and Settings\User\Рабочий стол\Олимпиада\1.png"/>
          <p:cNvPicPr/>
          <p:nvPr/>
        </p:nvPicPr>
        <p:blipFill>
          <a:blip r:embed="rId1"/>
          <a:stretch/>
        </p:blipFill>
        <p:spPr>
          <a:xfrm>
            <a:off x="5715000" y="2357280"/>
            <a:ext cx="2643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Олимпийские новости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 индивидуальных Олимпийских дисциплинах самой молодой чемпионкой была американка Марджори Гестинг, выступавшая на Олимпиаде в прыжках с трамплина 12 августа 1936 года. Когда Марджори завоевала золотую медаль, ей было 13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C:\Documents and Settings\User\Рабочий стол\Олимпиада\bnr_ol_nws.gif"/>
          <p:cNvPicPr/>
          <p:nvPr/>
        </p:nvPicPr>
        <p:blipFill>
          <a:blip r:embed="rId1"/>
          <a:stretch/>
        </p:blipFill>
        <p:spPr>
          <a:xfrm>
            <a:off x="571680" y="1785960"/>
            <a:ext cx="4143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Вольная борьба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55" name="Picture 2" descr="C:\Documents and Settings\User\Рабочий стол\Graeco_Roman_wrestling_06.jpg"/>
          <p:cNvPicPr/>
          <p:nvPr/>
        </p:nvPicPr>
        <p:blipFill>
          <a:blip r:embed="rId1"/>
          <a:stretch/>
        </p:blipFill>
        <p:spPr>
          <a:xfrm>
            <a:off x="2000160" y="1000080"/>
            <a:ext cx="5286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Verdana"/>
              </a:rPr>
              <a:t>Сумей побороть слова</a:t>
            </a:r>
            <a:endParaRPr b="1" lang="en-US" sz="2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ревнующиеся в парах предлагают друг другу по пять слов, к которым их соперник должен подобрать синонимы или антони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" descr="C:\Documents and Settings\User\Рабочий стол\Олимпиада\1.png"/>
          <p:cNvPicPr/>
          <p:nvPr/>
        </p:nvPicPr>
        <p:blipFill>
          <a:blip r:embed="rId1"/>
          <a:stretch/>
        </p:blipFill>
        <p:spPr>
          <a:xfrm>
            <a:off x="5643720" y="2428920"/>
            <a:ext cx="2714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Олимпийские новости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самым “пожилым” победителем Олимпийских игр стал Оскар Гомер Сван. В возрасте 64 лет он в составе команды Швеции получил “золото” за первенство в стрельбе по “бегущему оленю” на Олимпиаде 1912 г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C:\Documents and Settings\User\Рабочий стол\Олимпиада\bnr_ol_nws.gif"/>
          <p:cNvPicPr/>
          <p:nvPr/>
        </p:nvPicPr>
        <p:blipFill>
          <a:blip r:embed="rId1"/>
          <a:stretch/>
        </p:blipFill>
        <p:spPr>
          <a:xfrm>
            <a:off x="642960" y="1785960"/>
            <a:ext cx="4071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Метание копья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63" name="Picture 2" descr="C:\Documents and Settings\User\Рабочий стол\652_ap07083101034.jpg"/>
          <p:cNvPicPr/>
          <p:nvPr/>
        </p:nvPicPr>
        <p:blipFill>
          <a:blip r:embed="rId1"/>
          <a:stretch/>
        </p:blipFill>
        <p:spPr>
          <a:xfrm>
            <a:off x="1857240" y="928800"/>
            <a:ext cx="5486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Verdana"/>
              </a:rPr>
              <a:t>Чем дальше, тем лучше</a:t>
            </a:r>
            <a:endParaRPr b="1" lang="en-US" sz="2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Дальность полета копья оценивается по количеству слов в предложении, составленном за три минуты командой. Предложение должно иметь смысл, логику. Все слова предложения должны начинаться на одну и ту же букв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C:\Documents and Settings\User\Рабочий стол\Олимпиада\1.png"/>
          <p:cNvPicPr/>
          <p:nvPr/>
        </p:nvPicPr>
        <p:blipFill>
          <a:blip r:embed="rId1"/>
          <a:stretch/>
        </p:blipFill>
        <p:spPr>
          <a:xfrm>
            <a:off x="5715000" y="2428920"/>
            <a:ext cx="271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Олимпийские новости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екордсменом среди рекордсменов признан советский штангист-тяжеловес Василий Алексеев. С 24 января 1970 года по 1 ноября 1977 года он 80 раз вносил поправки в официальную таблицу мировых рекор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2" descr="C:\Documents and Settings\User\Рабочий стол\Олимпиада\bnr_ol_nws.gif"/>
          <p:cNvPicPr/>
          <p:nvPr/>
        </p:nvPicPr>
        <p:blipFill>
          <a:blip r:embed="rId1"/>
          <a:stretch/>
        </p:blipFill>
        <p:spPr>
          <a:xfrm>
            <a:off x="642960" y="2928960"/>
            <a:ext cx="4071960" cy="2071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Documents and Settings\User\Рабочий стол\Олимпиада\50.jpg"/>
          <p:cNvPicPr/>
          <p:nvPr/>
        </p:nvPicPr>
        <p:blipFill>
          <a:blip r:embed="rId2"/>
          <a:stretch/>
        </p:blipFill>
        <p:spPr>
          <a:xfrm>
            <a:off x="1571760" y="71424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Волейбол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72" name="Picture 2" descr="C:\Documents and Settings\User\Рабочий стол\Спорт, фото\cover.jpg"/>
          <p:cNvPicPr/>
          <p:nvPr/>
        </p:nvPicPr>
        <p:blipFill>
          <a:blip r:embed="rId1"/>
          <a:stretch/>
        </p:blipFill>
        <p:spPr>
          <a:xfrm>
            <a:off x="2143080" y="1143000"/>
            <a:ext cx="5072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Verdana"/>
              </a:rPr>
              <a:t>Приветствуем вас в Олимпии</a:t>
            </a:r>
            <a:endParaRPr b="1" lang="en-US" sz="2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ы, олимпийцы, прибыли на Олимпийские игры 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азличных греческих государст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бъявлено священное перемир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сякие войны прекращены, никто не имеет пра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е только применять оружие, но даже вносить его на территорию Элла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C:\Documents and Settings\User\Рабочий стол\Олимпиада\15.jpg"/>
          <p:cNvPicPr/>
          <p:nvPr/>
        </p:nvPicPr>
        <p:blipFill>
          <a:blip r:embed="rId1"/>
          <a:stretch/>
        </p:blipFill>
        <p:spPr>
          <a:xfrm>
            <a:off x="1071720" y="178596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8637"/>
                </a:solidFill>
                <a:latin typeface="Verdana"/>
              </a:rPr>
              <a:t>«Волейбольные» вопросы</a:t>
            </a:r>
            <a:endParaRPr b="1" lang="en-US" sz="20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ающий задает вопрос команде соперников и бросает мяч любому игроку-сопернику. Игрок с мячом в руках говорит первое слово ответа, перебрасывает мяч другому игроку своей команды. Тот говорит следующее слово. И так, пока не будет дан ответ на вопрос. Количество перебрасываний  внутри команды не ограниче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C:\Documents and Settings\User\Рабочий стол\Олимпиада\1.png"/>
          <p:cNvPicPr/>
          <p:nvPr/>
        </p:nvPicPr>
        <p:blipFill>
          <a:blip r:embed="rId1"/>
          <a:stretch/>
        </p:blipFill>
        <p:spPr>
          <a:xfrm>
            <a:off x="5643720" y="257184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Итоги Олимпиады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лимпийский огонь впервые зажжён в 1928 году. Он символизирует стремление атлетов к физическому и духовному совершенств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усть факел наших Лингвистических Олимпийских игр горит в ваших сердцах на каждом уроке русского языка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32144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Из истории Олимпийских игр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лимпийские  игры были одним из наиболее почитаемых празднеств Древней Греции. Первые игры прошли в 776 году  до нашей эры. Они проводились 1 раз в четыре года и продолжались пять дней. На время олимпийских игр объявлялся обязательный для всех греков “священный мир”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C:\Documents and Settings\User\Рабочий стол\Олимпиада\13.jpg"/>
          <p:cNvPicPr/>
          <p:nvPr/>
        </p:nvPicPr>
        <p:blipFill>
          <a:blip r:embed="rId1"/>
          <a:stretch/>
        </p:blipFill>
        <p:spPr>
          <a:xfrm>
            <a:off x="5072040" y="1000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Возрождение Олимпийских игр</a:t>
            </a:r>
            <a:endParaRPr b="1" lang="en-US" sz="3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н был еще совсем молодым человеком, когда высказал мысль о возрождении Олимпийских игр. С этого момента всю свою жизнь Пьер де Кубертен подчинил осуществлению великой идеи. Умер он в возрасте семидесяти трех лет, а начал заниматься Олимпийскими играми в двадцать шесть, то есть олимпизму было отдано почти полвек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C:\Documents and Settings\User\Рабочий стол\Олимпиада\14.jpg"/>
          <p:cNvPicPr/>
          <p:nvPr/>
        </p:nvPicPr>
        <p:blipFill>
          <a:blip r:embed="rId1"/>
          <a:stretch/>
        </p:blipFill>
        <p:spPr>
          <a:xfrm>
            <a:off x="1143000" y="928800"/>
            <a:ext cx="2357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Священный огонь Олимпиады</a:t>
            </a:r>
            <a:endParaRPr b="1" lang="en-US" sz="3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звалины доисторического храма Геры, крупнейшего культового сооружения архаического времени в Олимпии. В этом храме хранится диск, с записанными на нем правилами Олимпийских игр. Именно перед этим храмом с помощью зеркал зажигают современный олимпийский огон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C:\Documents and Settings\User\Рабочий стол\Олимпиада\tem.jpg"/>
          <p:cNvPicPr/>
          <p:nvPr/>
        </p:nvPicPr>
        <p:blipFill>
          <a:blip r:embed="rId1"/>
          <a:stretch/>
        </p:blipFill>
        <p:spPr>
          <a:xfrm>
            <a:off x="4857840" y="1357200"/>
            <a:ext cx="3286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Открытие Олимпиады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Выберите капитана команды, определите страну, которую будете представлять , придумайте её оригинальное название (Грамотландия, Пунктуания, и т.д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C:\Documents and Settings\User\Рабочий стол\Олимпиада\11.jpg"/>
          <p:cNvPicPr/>
          <p:nvPr/>
        </p:nvPicPr>
        <p:blipFill>
          <a:blip r:embed="rId1"/>
          <a:stretch/>
        </p:blipFill>
        <p:spPr>
          <a:xfrm>
            <a:off x="785880" y="1500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Лёгкая атлетика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9" name="Picture 2" descr="C:\Documents and Settings\User\Рабочий стол\archive_101960_21_1093425699_37641.jpg"/>
          <p:cNvPicPr/>
          <p:nvPr/>
        </p:nvPicPr>
        <p:blipFill>
          <a:blip r:embed="rId1"/>
          <a:stretch/>
        </p:blipFill>
        <p:spPr>
          <a:xfrm>
            <a:off x="1928880" y="1071720"/>
            <a:ext cx="5286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Verdana"/>
              </a:rPr>
              <a:t>Забег на десять слов</a:t>
            </a:r>
            <a:endParaRPr b="1" lang="en-US" sz="22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Каждая команда за три минуты должна назвать десять слов одной части речи так, чтобы каждое последующее слово начиналось на ту букву, которой заканчивается предыдущее. Формы слов могут быть различны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User\Рабочий стол\Олимпиада\1.png"/>
          <p:cNvPicPr/>
          <p:nvPr/>
        </p:nvPicPr>
        <p:blipFill>
          <a:blip r:embed="rId1"/>
          <a:stretch/>
        </p:blipFill>
        <p:spPr>
          <a:xfrm>
            <a:off x="5643720" y="221472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Олимпийские новости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амым юным чемпионом Олимпийских игр принято считать французского мальчика, имя которого, к сожалению, не сохранилось. Он был рулевым в занявшей первое место на Играх 1900 года академической двойке команды Нидерландов. Спортивные историки утверждают, что маленькому чемпиону было 7-10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C:\Documents and Settings\User\Рабочий стол\Олимпиада\bnr_ol_nws.gif"/>
          <p:cNvPicPr/>
          <p:nvPr/>
        </p:nvPicPr>
        <p:blipFill>
          <a:blip r:embed="rId1"/>
          <a:stretch/>
        </p:blipFill>
        <p:spPr>
          <a:xfrm>
            <a:off x="571680" y="1571760"/>
            <a:ext cx="4000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5:33:18Z</dcterms:created>
  <dc:creator>Valued Acer Customer</dc:creator>
  <dc:description/>
  <dc:language>en-US</dc:language>
  <cp:lastModifiedBy>Karlova</cp:lastModifiedBy>
  <dcterms:modified xsi:type="dcterms:W3CDTF">2010-02-14T08:29:38Z</dcterms:modified>
  <cp:revision>39</cp:revision>
  <dc:subject/>
  <dc:title>Лингвистические Олимпийские игры</dc:title>
</cp:coreProperties>
</file>