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442-609C-4424-95F4-DAE5D1A0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849-3B6A-4BC9-BCFB-97731FD4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3F1-FE80-481E-8E17-810E98B6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EB8-FCAA-4F1A-86EC-944936EF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CAE4-DDEA-40CB-80E9-3B70DB3B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F1C5-A968-4954-97DD-61524261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B94A-7F2E-4E98-8785-6D2CF3B0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4C4B-AC41-4E9C-9D98-076D2D2E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6BFE-F7C6-4829-80DA-843F4BFE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AB53-F78F-48D2-B6D5-35E2EEDD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22E0-EE75-491B-8710-EC021C4D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A79-2518-481C-9EFD-45F50BC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84AB-031B-46FF-A178-01572812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3DA9-0120-4A0F-8950-4E4E6D0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16EB-BDF9-429C-A155-34D09320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06E-6C70-4FB9-8F85-B3BF92A2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D130-C53A-4EE1-9081-C50C9DEA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EBC2-C7CA-4E80-8F33-01567074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CFB3-CE74-40A9-B09C-6F8EBA6A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EA12-1FDF-4A74-B33B-3C5D4D13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F48B-6E5D-4A5C-A4F8-AF823B1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419C6-36BB-40F7-8DF8-6DD7BC73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9A6-592E-4DB9-9720-FBD2A9CA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D23F-E9A4-4B1E-9514-4A5DD84D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55B8-A02F-4EDA-A98D-08611F59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E9C9-85AF-47D7-B666-E70CB757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9EC8A-B59E-4309-B70A-B299BC8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DFC7A-B469-4452-A733-A06A7070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F82E-0BC8-4700-8E2C-84FD0705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A77D-5DE6-466E-81D0-73277935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2FB0-D7DD-4D36-B7B5-BCBF9EB5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8174-133E-46BD-AA05-18B4773A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90B6-A395-436E-91C7-8F59B11C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975-0C3D-4A5B-9767-A4A5CC4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648FC-7728-42EB-A21A-098E2A57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D91F-1F21-44D1-BA6F-51F1E7F0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7BE3-0950-439A-8992-CC608F13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4C5DD-7A9E-4BC2-ACD3-E061F10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50F3-14C8-44DC-B428-CA0CDD54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D2C2-14FA-4D69-8A58-945FCAEB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1285-9690-4226-BAC8-FC4CBB1B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3722-B677-45F5-BC97-6F5503BF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09EB-A0E1-4351-A1C7-B0BDA7C7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2EF0D-F2AD-4A54-B4B8-9845A055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147-98F1-428F-9488-B8CC0FF4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51774-1B26-4B65-9805-7B23645A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567F5-CE67-441D-AF79-EF733A41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117BE-8027-42A7-95F4-27B4F489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B031E-1AC9-4655-B1F5-05F71DD5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A11C-E073-43AE-B847-A23503F8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B1775-9378-46BE-9032-EACCEAB2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E285F-FED4-47A3-BF6A-6D74BBF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634FE-8D3A-4E52-B186-018704D1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9374-5D9F-4EDA-9352-DB9E55DD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00795-F17D-4CD3-9923-6C4C91FF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DB2-E8E6-4430-A776-F7DE45E5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82BA-DC4C-4D96-B9D3-93824F0D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52B3F-A488-4172-83C1-E14074A9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6C632-791D-408D-AB60-BEE7C44F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8CB4-7A0D-488B-9DEF-0042CF8B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3898-15F2-4A4A-85F4-40F83E33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0BB1-F653-4C0B-B20F-67E56A04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FB879-B0A9-493B-AC27-4101F28F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1D74D-4CA3-4038-A5DE-CFFAA60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880A8-66FC-436A-8696-D4F1758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EEE08-09D5-4667-A7CF-A350A419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333-060B-45E4-98AC-30072AB1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6BBFA-7EAB-4ACE-9880-6EBE36FD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6E32-2949-4A69-BE34-46C8C1D7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3E090-75C8-4F73-BB43-2BEF41E4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E6F-8B4B-4204-A085-5EB80B9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2D3-0D6B-4CBB-A735-CCA364F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06CE-A8D0-4193-9764-D97C48662BD5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87A0-D968-488D-A022-5F0228DE5A6B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A0B-6D79-400E-BAC2-358B18D8F10E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E0CA-BED8-49B2-87ED-66DE5E3E7F1F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9C71-70D0-4633-BC41-A8F56E1D9A0B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B794-44D4-4EAA-ADB8-AC1D4D2EE735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FFA3-CA9B-4CE5-91FF-182DF13AB908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08BA-F3E6-4D09-A53B-91397FFD6F1F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5D84-3BB4-4C47-BD50-C746F19C9BBD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EE64-5BDA-4F5C-8F49-3EA88BB511C1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2E18-4C25-424D-A43B-E29DD4D318E3}" type="datetime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© Богомолова 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F52D-F8BC-4315-93E5-B77B34EA5E75}" type="slidenum">
              <a:rPr b="0" lang="en-US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5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285840" y="1428840"/>
            <a:ext cx="7500960" cy="2357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5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В </a:t>
            </a:r>
            <a:r>
              <a:rPr b="1" lang="en-US" sz="5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ейшие уравнения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965B-2385-43E1-AE2A-D91C04109049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790092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Нижний колонтитул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Arial"/>
              </a:rPr>
              <a:t>© Богомолова О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8B0F-601E-4AA7-8EFD-61C2CAD34C83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429240" y="6089760"/>
            <a:ext cx="221472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357120" y="257184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уравнение имеет более одного корня, в ответе записать больший из кор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3071880" y="1357200"/>
            <a:ext cx="5143320" cy="1285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785880" y="3786120"/>
            <a:ext cx="3346560" cy="8571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3"/>
          <a:stretch/>
        </p:blipFill>
        <p:spPr>
          <a:xfrm>
            <a:off x="1357200" y="4500720"/>
            <a:ext cx="4319640" cy="8571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4"/>
          <a:stretch/>
        </p:blipFill>
        <p:spPr>
          <a:xfrm>
            <a:off x="2286000" y="5286240"/>
            <a:ext cx="4179960" cy="785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643800" y="4071960"/>
            <a:ext cx="1704960" cy="476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329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игонометрические уравнения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C82-F816-452E-A9A3-DCFB2522C6E9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1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2071800" cy="7142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2"/>
          <a:stretch/>
        </p:blipFill>
        <p:spPr>
          <a:xfrm>
            <a:off x="2071800" y="3214800"/>
            <a:ext cx="2357280" cy="7858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3"/>
          <a:stretch/>
        </p:blipFill>
        <p:spPr>
          <a:xfrm>
            <a:off x="4429080" y="4929120"/>
            <a:ext cx="1728720" cy="7146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15" descr=""/>
          <p:cNvPicPr/>
          <p:nvPr/>
        </p:nvPicPr>
        <p:blipFill>
          <a:blip r:embed="rId4"/>
          <a:stretch/>
        </p:blipFill>
        <p:spPr>
          <a:xfrm>
            <a:off x="928800" y="4000680"/>
            <a:ext cx="7848360" cy="4284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17" descr=""/>
          <p:cNvPicPr/>
          <p:nvPr/>
        </p:nvPicPr>
        <p:blipFill>
          <a:blip r:embed="rId5"/>
          <a:stretch/>
        </p:blipFill>
        <p:spPr>
          <a:xfrm>
            <a:off x="714240" y="2428920"/>
            <a:ext cx="7858440" cy="414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9" descr=""/>
          <p:cNvPicPr/>
          <p:nvPr/>
        </p:nvPicPr>
        <p:blipFill>
          <a:blip r:embed="rId6"/>
          <a:stretch/>
        </p:blipFill>
        <p:spPr>
          <a:xfrm>
            <a:off x="4464000" y="5643720"/>
            <a:ext cx="4146480" cy="561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557208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1863-4115-4484-902D-A8629D35E5B1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928840" y="6232320"/>
            <a:ext cx="25671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0,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357120" y="242892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ответе записать наименьший положительный  корень уравне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5214960" y="857160"/>
            <a:ext cx="3143160" cy="15638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428760" y="3857760"/>
            <a:ext cx="3714480" cy="88416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3"/>
          <a:stretch/>
        </p:blipFill>
        <p:spPr>
          <a:xfrm>
            <a:off x="4500720" y="4143240"/>
            <a:ext cx="4278240" cy="9288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826920" y="5229360"/>
                <a:ext cx="76280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      n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: 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,5;    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69724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5AD5-31C0-4E99-9180-C291AF793CEA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929200" y="5929200"/>
            <a:ext cx="242424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357120" y="4357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ответе записать наибольший отрицательный  корень урав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1"/>
          <a:stretch/>
        </p:blipFill>
        <p:spPr>
          <a:xfrm>
            <a:off x="3357720" y="2214720"/>
            <a:ext cx="362268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азательные уравн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555B-B2D1-4DC5-AC7C-273A0CBAC959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1" descr=""/>
          <p:cNvPicPr/>
          <p:nvPr/>
        </p:nvPicPr>
        <p:blipFill>
          <a:blip r:embed="rId1"/>
          <a:stretch/>
        </p:blipFill>
        <p:spPr>
          <a:xfrm>
            <a:off x="2643120" y="2214720"/>
            <a:ext cx="4548240" cy="12855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3164040" y="4214880"/>
            <a:ext cx="3454200" cy="928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692964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6DCF-5F25-4EFC-B1A9-2A468662DBC8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71760" y="5929200"/>
            <a:ext cx="17859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4129200" cy="12855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4286160" y="3286080"/>
            <a:ext cx="3338640" cy="10717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3"/>
          <a:stretch/>
        </p:blipFill>
        <p:spPr>
          <a:xfrm>
            <a:off x="4286160" y="4572000"/>
            <a:ext cx="2916360" cy="928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Нижний колонтитул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Arial"/>
              </a:rPr>
              <a:t>© Богомолова О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640C-9362-45C6-9F7B-9A40956D3E11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00480" y="5929200"/>
            <a:ext cx="21430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1"/>
          <a:stretch/>
        </p:blipFill>
        <p:spPr>
          <a:xfrm>
            <a:off x="2214720" y="2428920"/>
            <a:ext cx="49798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1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гарифмические уравн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DC45-C5BD-4DB5-87F9-67DEC10E2816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1500120" y="2143080"/>
            <a:ext cx="6334200" cy="9288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3000240" y="3786120"/>
            <a:ext cx="3189600" cy="8571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3"/>
          <a:stretch/>
        </p:blipFill>
        <p:spPr>
          <a:xfrm>
            <a:off x="2286000" y="5000760"/>
            <a:ext cx="4446720" cy="5713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4"/>
          <a:stretch/>
        </p:blipFill>
        <p:spPr>
          <a:xfrm>
            <a:off x="3143160" y="5500800"/>
            <a:ext cx="2214720" cy="573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614340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1BEF-12AF-4DCE-8353-2470873FB922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643360" y="5929200"/>
            <a:ext cx="285732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1" descr=""/>
          <p:cNvPicPr/>
          <p:nvPr/>
        </p:nvPicPr>
        <p:blipFill>
          <a:blip r:embed="rId1"/>
          <a:stretch/>
        </p:blipFill>
        <p:spPr>
          <a:xfrm>
            <a:off x="1214280" y="1714680"/>
            <a:ext cx="5200920" cy="1000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1876320" y="3429000"/>
            <a:ext cx="6375600" cy="9288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3"/>
          <a:stretch/>
        </p:blipFill>
        <p:spPr>
          <a:xfrm>
            <a:off x="5294160" y="4500720"/>
            <a:ext cx="2982960" cy="833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3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Нижний колонтитул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a3a3"/>
                </a:solidFill>
                <a:latin typeface="Arial"/>
              </a:rPr>
              <a:t>© Богомолова О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545B-FC21-45B0-A2B1-B6CDD8403078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67579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071760" y="6303600"/>
            <a:ext cx="2567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5000760" cy="10000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86000" y="4071960"/>
            <a:ext cx="4000680" cy="8319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3"/>
          <a:stretch/>
        </p:blipFill>
        <p:spPr>
          <a:xfrm>
            <a:off x="4429080" y="3143160"/>
            <a:ext cx="3638520" cy="6429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7" descr=""/>
          <p:cNvPicPr/>
          <p:nvPr/>
        </p:nvPicPr>
        <p:blipFill>
          <a:blip r:embed="rId4"/>
          <a:stretch/>
        </p:blipFill>
        <p:spPr>
          <a:xfrm>
            <a:off x="2500200" y="5143680"/>
            <a:ext cx="397188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72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В5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071720"/>
            <a:ext cx="8329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ип задания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Характеристика задания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сложное показательное, логарифмическое или иррациональное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омментарий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авнение сводится в одно действие к линейному или квадратному (в последнем случае в зависимости от условия в ответе нужно указать только один из корней – меньший или больший). Неправильные ответы связаны в основном с арифметическими ошибками или неуверенным владением понятия степени (особенно с отрицательным показателе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567-3CE1-4E18-A971-CDA21C853C21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67579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597-0849-4DD9-8140-3620458FA0C5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85920" y="6000480"/>
            <a:ext cx="2567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" descr=""/>
          <p:cNvPicPr/>
          <p:nvPr/>
        </p:nvPicPr>
        <p:blipFill>
          <a:blip r:embed="rId1"/>
          <a:stretch/>
        </p:blipFill>
        <p:spPr>
          <a:xfrm>
            <a:off x="1071720" y="3143160"/>
            <a:ext cx="74181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6F52-C644-4BC5-8386-ED82B6605D09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785920" y="6000480"/>
            <a:ext cx="2567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1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7120" y="1213920"/>
            <a:ext cx="6757920" cy="10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785880" y="3286080"/>
            <a:ext cx="79214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0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42968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Решить уравнение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C01A-8103-4A7D-82EF-0873F6C2950B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43760" y="6017760"/>
            <a:ext cx="235728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22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3149640" cy="19285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373560" cy="2265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вадратные уравн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1A87-9413-4527-9E2C-34521ADBB2BA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1428840" y="1857240"/>
            <a:ext cx="4647960" cy="857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643280" y="3214800"/>
            <a:ext cx="3443400" cy="792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3"/>
          <a:stretch/>
        </p:blipFill>
        <p:spPr>
          <a:xfrm>
            <a:off x="3589200" y="4214880"/>
            <a:ext cx="4640400" cy="1409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04384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EFC5-147C-4BC9-9CDE-42D301741BC4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214680" y="5715000"/>
            <a:ext cx="20718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0,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428760" y="39290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уравнение имеет более одного корня, в ответе записать меньший из кор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2428920" y="2500200"/>
            <a:ext cx="5877000" cy="995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6643440" cy="108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Решить уравн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34AD-3B8F-4A53-919E-42D704DA1595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857560" y="6000480"/>
            <a:ext cx="25002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2835360" cy="16430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3071880" y="3786120"/>
            <a:ext cx="4322520" cy="785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4429080" y="4714920"/>
            <a:ext cx="3835440" cy="785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79297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CBD9-0C09-4B74-86CA-C194941F4F1C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6680" y="5928840"/>
            <a:ext cx="2000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285840" y="2643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уравнение имеет более одного корня, в ответе записать меньший из кор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68560" cy="13572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4529160" cy="7146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3"/>
          <a:stretch/>
        </p:blipFill>
        <p:spPr>
          <a:xfrm>
            <a:off x="4857840" y="4905360"/>
            <a:ext cx="2043000" cy="804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ррациональные уравнения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9ECD-FC93-4249-BE51-089B3F4E1D23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" descr=""/>
          <p:cNvPicPr/>
          <p:nvPr/>
        </p:nvPicPr>
        <p:blipFill>
          <a:blip r:embed="rId1"/>
          <a:stretch/>
        </p:blipFill>
        <p:spPr>
          <a:xfrm>
            <a:off x="2428920" y="1357200"/>
            <a:ext cx="3881520" cy="1071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071800" y="3857760"/>
            <a:ext cx="5330880" cy="13572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071960" y="5143680"/>
            <a:ext cx="4071960" cy="11174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4"/>
          <a:stretch/>
        </p:blipFill>
        <p:spPr>
          <a:xfrm>
            <a:off x="2857680" y="3000240"/>
            <a:ext cx="5626080" cy="785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797220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Решить уравнение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A803-3C55-4AF0-B85D-22F40C45E651}" type="slidenum">
              <a:rPr b="0" lang="en-US" sz="1000" spc="-1" strike="noStrike">
                <a:solidFill>
                  <a:srgbClr val="a3a3a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00480" y="6000480"/>
            <a:ext cx="20667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: -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1143000" y="2214720"/>
            <a:ext cx="5000760" cy="14284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706920" y="4286160"/>
            <a:ext cx="4651200" cy="1157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9:27:31Z</dcterms:created>
  <dc:creator>Ольга</dc:creator>
  <dc:description/>
  <dc:language>en-US</dc:language>
  <cp:lastModifiedBy>Admin</cp:lastModifiedBy>
  <dcterms:modified xsi:type="dcterms:W3CDTF">2014-10-20T13:17:33Z</dcterms:modified>
  <cp:revision>68</cp:revision>
  <dc:subject/>
  <dc:title>Слайд 1</dc:title>
</cp:coreProperties>
</file>