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AB4-2AF3-444C-BC54-1204875C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54B-5168-4786-A072-92D6FFE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3B4-5F49-4780-8C99-BC45F43F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D37-3A89-476F-86FB-106689F2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D530-8C77-4B18-811B-835929CD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D5BA-1DAA-4299-9FB2-C92AAD17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9AF8-35D9-4048-ABD1-DAFDD11A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4342-FF25-4167-B7F1-BFB62561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C90C-FAEC-4270-9AFA-DC69EFA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FACB-CF95-4040-91A9-23B4686E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A79B-1294-4138-9EC0-F4CB8AD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FA3-BF52-4438-838E-5E096206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97A4-3FB9-487F-AA5F-6FE3E2A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C21-886D-4DC0-8630-72329B8D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88DA-4A09-4C6F-A23B-CF6F0B60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A1DD-87F3-4790-A3E1-20F69150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A245-9217-450D-9137-E8E8D860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C4F3-DC10-4C3F-AD73-A7C4791F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3C7A-FFC1-401F-A27F-C0F93B39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4E48-0537-4E42-B500-BB927690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44EB-85A4-4B4C-975B-799E8724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B5C6-0924-428C-B700-B9D28BCA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A4B-1E3C-4049-83F8-A8343FDE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712A-6089-4F8A-9398-4D81EB0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39D8-6719-4532-9BA6-2B21875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6BE5-5E34-4410-8B7F-5A0970D5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A392-4D38-41B4-AF95-8DBF063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98AB-F9B5-414C-8E16-BCF0EA63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96FC-BA4E-4C16-83E4-296A40DB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56BA-BB75-4933-99C3-5D21EC89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210B-9447-4A2A-8FA1-87A319F1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8CB6-7E6F-4EE6-83ED-DBDC596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3FB3-6CD7-437E-8826-606732DC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B0A-E869-4CA6-8CA5-5DEAA7A2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E9FA-F9C0-448D-8643-A9C08B79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8BDF-AECA-4863-B842-F1937538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643B5-D1AB-48B1-BE39-F2988E3F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1CAC2-2FA7-4E76-A033-6D243C2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24A3-832C-4D7D-8F0E-572728C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F4EE-C17F-4AB3-9D2A-6A7EE3D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E84F-0C21-4464-8418-1E3E31A0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5371-898A-4743-B30B-6F75D031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CD27-8531-4A31-8515-7AD3FF77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E282E-FC18-4BF3-9C0C-A5231696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E87-692D-4947-A6A4-824AB0D8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BDF0-91CE-4C3B-861A-CA7BC1B9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6AA11-D003-474F-BB87-2678BF9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E344-9B80-4DCD-9667-DA75E42C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BF14-A980-42DC-8478-9CA59561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0CB8-BD61-4F4A-AAB3-8C30B96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E8256-F924-4FFD-92F6-BF26285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F633B-6CED-47FD-9DD4-2F5C485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5B247-F486-4460-BCFB-D3D8EA51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D220-AB07-4C1F-B6C2-3C6333B6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6F3E-7B7B-47C2-8D2F-3DD53FC8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658-963D-4F4A-AD62-A93F52E6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AD21A-7002-4386-BEC1-EFDEB9D1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A099-836A-49ED-838E-5A0B50DB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A0A2-A09C-4AB5-BD11-4013203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63C1-9A35-49D6-8E7D-09BFE0B1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F39B-E6A3-4004-BEBD-697E96D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C094-FC64-4A75-B485-8D8959F3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B0B5E-E4A9-46C8-B3B6-4508521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C6B75-CEC3-49C9-9962-B86DF62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07950-F422-4882-BC66-7B0C516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7296-A0F5-4BBB-8222-52C4173D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F7E-AB0D-4F90-8A10-0BAFE57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8195-7D1E-4497-B638-8C3468AE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593D-2603-4737-AB69-FDA736A4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F5F4D-12F2-4923-A3AC-6DD756D9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878-F772-4C0B-94B0-14FECDC7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4FF-501E-48EB-8A5C-F874960E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C799-492F-4DA5-9336-91CBD0335A8B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CF4-C987-46F1-8E25-058C243D1FA9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2440-070F-4CF1-B793-AE43DCC013E1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E0EA-CE8D-4AF0-88A6-A5DE70C01B4F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E8F4-3094-4582-A6C7-17BF05FDF685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2CB1-7C4F-4C93-B9C9-E757696B7E65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960E-2B42-4FE9-910E-733454F814FF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F2D1-9BF0-431C-A683-BB25CE1BC05C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110-3A7D-43FE-B528-4347B5D4AFB2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C2DD-7CEE-4434-AB09-31C1B1B6EB87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8DA-0A8D-4758-B4EA-4EAB88EFCB56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7EB7-60C2-413E-A2F9-BB6B3EDD4ACB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5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7500960" cy="2357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В </a:t>
            </a:r>
            <a:r>
              <a:rPr b="1" lang="en-US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ейшие уравнения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AEF6-4A25-4F4A-857C-EEFF9F7AFD2A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790092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Arial"/>
              </a:rPr>
              <a:t>© Богомолова О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7217-5A83-42FF-B5FC-FA3E8189C781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429240" y="6089760"/>
            <a:ext cx="221472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57120" y="257184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равнение имеет более одного корня, в ответе записать больший из кор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3071880" y="1357200"/>
            <a:ext cx="5143320" cy="1285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785880" y="3786120"/>
            <a:ext cx="3346560" cy="8571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3"/>
          <a:stretch/>
        </p:blipFill>
        <p:spPr>
          <a:xfrm>
            <a:off x="1357200" y="4500720"/>
            <a:ext cx="4319640" cy="8571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4"/>
          <a:stretch/>
        </p:blipFill>
        <p:spPr>
          <a:xfrm>
            <a:off x="2286000" y="5286240"/>
            <a:ext cx="4179960" cy="785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643800" y="4071960"/>
            <a:ext cx="1704960" cy="47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329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гонометрические уравнения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8F22-3989-4EBD-8A17-BB0C446B3098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1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2071800" cy="7142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2071800" y="3214800"/>
            <a:ext cx="2357280" cy="7858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3"/>
          <a:stretch/>
        </p:blipFill>
        <p:spPr>
          <a:xfrm>
            <a:off x="4429080" y="4929120"/>
            <a:ext cx="1728720" cy="7146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15" descr=""/>
          <p:cNvPicPr/>
          <p:nvPr/>
        </p:nvPicPr>
        <p:blipFill>
          <a:blip r:embed="rId4"/>
          <a:stretch/>
        </p:blipFill>
        <p:spPr>
          <a:xfrm>
            <a:off x="928800" y="4000680"/>
            <a:ext cx="7848360" cy="4284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17" descr=""/>
          <p:cNvPicPr/>
          <p:nvPr/>
        </p:nvPicPr>
        <p:blipFill>
          <a:blip r:embed="rId5"/>
          <a:stretch/>
        </p:blipFill>
        <p:spPr>
          <a:xfrm>
            <a:off x="714240" y="2428920"/>
            <a:ext cx="7858440" cy="414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9" descr=""/>
          <p:cNvPicPr/>
          <p:nvPr/>
        </p:nvPicPr>
        <p:blipFill>
          <a:blip r:embed="rId6"/>
          <a:stretch/>
        </p:blipFill>
        <p:spPr>
          <a:xfrm>
            <a:off x="4464000" y="5643720"/>
            <a:ext cx="4146480" cy="561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55720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DB77-EE1A-47F5-A341-62494865E3A4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928840" y="6232320"/>
            <a:ext cx="25671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0,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357120" y="242892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твете записать наименьший положительный  корень уравне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5214960" y="857160"/>
            <a:ext cx="3143160" cy="15638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28760" y="3857760"/>
            <a:ext cx="3714480" cy="8841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3"/>
          <a:stretch/>
        </p:blipFill>
        <p:spPr>
          <a:xfrm>
            <a:off x="4500720" y="4143240"/>
            <a:ext cx="4278240" cy="9288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826920" y="5229360"/>
                <a:ext cx="76280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      n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: 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,5;    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69724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280-5EB4-4CA6-AB44-8394AB0E3812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929200" y="5929200"/>
            <a:ext cx="24242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357120" y="4357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твете записать наибольший отрицательный  корень урав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3357720" y="2214720"/>
            <a:ext cx="36226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азательные уравн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D636-EE70-4D1C-A09B-FE0A5BB51B3B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1"/>
          <a:stretch/>
        </p:blipFill>
        <p:spPr>
          <a:xfrm>
            <a:off x="2643120" y="2214720"/>
            <a:ext cx="4548240" cy="12855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3164040" y="4214880"/>
            <a:ext cx="3454200" cy="9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692964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FA0-A533-4225-A159-3B4E28388D92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71760" y="5929200"/>
            <a:ext cx="17859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4129200" cy="1285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4286160" y="3286080"/>
            <a:ext cx="3338640" cy="10717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3"/>
          <a:stretch/>
        </p:blipFill>
        <p:spPr>
          <a:xfrm>
            <a:off x="4286160" y="4572000"/>
            <a:ext cx="2916360" cy="9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Arial"/>
              </a:rPr>
              <a:t>© Богомолова О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B8F-2333-439B-8B86-12A917870E1C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00480" y="5929200"/>
            <a:ext cx="2143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1"/>
          <a:stretch/>
        </p:blipFill>
        <p:spPr>
          <a:xfrm>
            <a:off x="2214720" y="2428920"/>
            <a:ext cx="49798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гарифмические уравн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62FB-CFEE-4DAB-8057-DF123014BFBF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6334200" cy="9288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3000240" y="3786120"/>
            <a:ext cx="3189600" cy="8571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2286000" y="5000760"/>
            <a:ext cx="4446720" cy="5713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4"/>
          <a:stretch/>
        </p:blipFill>
        <p:spPr>
          <a:xfrm>
            <a:off x="3143160" y="5500800"/>
            <a:ext cx="2214720" cy="573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614340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9F6A-03DA-4C9F-9767-4E2801F72005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643360" y="5929200"/>
            <a:ext cx="28573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1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520092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1876320" y="3429000"/>
            <a:ext cx="6375600" cy="9288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5294160" y="4500720"/>
            <a:ext cx="2982960" cy="833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3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Arial"/>
              </a:rPr>
              <a:t>© Богомолова О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A774-BD1E-4C96-AAF6-55A1601C3BAF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67579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071760" y="6303600"/>
            <a:ext cx="2567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500076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86000" y="4071960"/>
            <a:ext cx="4000680" cy="8319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3"/>
          <a:stretch/>
        </p:blipFill>
        <p:spPr>
          <a:xfrm>
            <a:off x="4429080" y="3143160"/>
            <a:ext cx="3638520" cy="6429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7" descr=""/>
          <p:cNvPicPr/>
          <p:nvPr/>
        </p:nvPicPr>
        <p:blipFill>
          <a:blip r:embed="rId4"/>
          <a:stretch/>
        </p:blipFill>
        <p:spPr>
          <a:xfrm>
            <a:off x="2500200" y="5143680"/>
            <a:ext cx="39718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72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В5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071720"/>
            <a:ext cx="8329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ип задания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Характеристика задания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сложное показательное, логарифмическое или иррационально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омментарий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авнение сводится в одно действие к линейному или квадратному (в последнем случае в зависимости от условия в ответе нужно указать только один из корней – меньший или больший). Неправильные ответы связаны в основном с арифметическими ошибками или неуверенным владением понятия степени (особенно с отрицательным показателе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9A61-3121-4157-904C-8FE2BC9CE16C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67579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22AA-E735-47B0-A72D-68419414F371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85920" y="6000480"/>
            <a:ext cx="2567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" descr=""/>
          <p:cNvPicPr/>
          <p:nvPr/>
        </p:nvPicPr>
        <p:blipFill>
          <a:blip r:embed="rId1"/>
          <a:stretch/>
        </p:blipFill>
        <p:spPr>
          <a:xfrm>
            <a:off x="1071720" y="3143160"/>
            <a:ext cx="74181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C09-E6EA-4CBA-9D71-B06E45E5D23F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785920" y="6000480"/>
            <a:ext cx="2567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7120" y="1213920"/>
            <a:ext cx="6757920" cy="10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785880" y="3286080"/>
            <a:ext cx="79214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0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42968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Решить уравнение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965A-C29B-4016-BAB0-7E5F7358B1B1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43760" y="6017760"/>
            <a:ext cx="235728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22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3149640" cy="1928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373560" cy="226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вадратные уравн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7F94-5AC4-417F-A683-D1A44732BCBE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4647960" cy="857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643280" y="3214800"/>
            <a:ext cx="3443400" cy="792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3"/>
          <a:stretch/>
        </p:blipFill>
        <p:spPr>
          <a:xfrm>
            <a:off x="3589200" y="4214880"/>
            <a:ext cx="4640400" cy="1409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04384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9C3C-CE41-424C-976C-BA113CD35B4C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214680" y="5715000"/>
            <a:ext cx="20718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0,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428760" y="3929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равнение имеет более одного корня, в ответе записать меньший из кор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2428920" y="2500200"/>
            <a:ext cx="5877000" cy="99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6643440" cy="108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7331-2671-4FE8-BAD7-EBB60F2A3094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857560" y="6000480"/>
            <a:ext cx="25002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2835360" cy="16430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3071880" y="3786120"/>
            <a:ext cx="4322520" cy="785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429080" y="4714920"/>
            <a:ext cx="3835440" cy="785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79297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30C-FDA4-4450-97D5-97D42C70AE10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6680" y="5928840"/>
            <a:ext cx="2000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285840" y="2643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равнение имеет более одного корня, в ответе записать меньший из кор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68560" cy="13572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4529160" cy="7146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3"/>
          <a:stretch/>
        </p:blipFill>
        <p:spPr>
          <a:xfrm>
            <a:off x="4857840" y="4905360"/>
            <a:ext cx="2043000" cy="80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рациональные уравнения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5E2-A9D4-4605-8C2B-5C313D80A876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2428920" y="1357200"/>
            <a:ext cx="3881520" cy="1071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071800" y="3857760"/>
            <a:ext cx="5330880" cy="13572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071960" y="5143680"/>
            <a:ext cx="4071960" cy="11174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4"/>
          <a:stretch/>
        </p:blipFill>
        <p:spPr>
          <a:xfrm>
            <a:off x="2857680" y="3000240"/>
            <a:ext cx="5626080" cy="785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79722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E1AC-4109-48FC-8C67-52CEACA8D297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00480" y="6000480"/>
            <a:ext cx="20667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5000760" cy="14284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706920" y="4286160"/>
            <a:ext cx="4651200" cy="1157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9:27:31Z</dcterms:created>
  <dc:creator>Ольга</dc:creator>
  <dc:description/>
  <dc:language>en-US</dc:language>
  <cp:lastModifiedBy>Admin</cp:lastModifiedBy>
  <dcterms:modified xsi:type="dcterms:W3CDTF">2014-10-20T13:17:33Z</dcterms:modified>
  <cp:revision>68</cp:revision>
  <dc:subject/>
  <dc:title>Слайд 1</dc:title>
</cp:coreProperties>
</file>