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BDB0-2148-41A3-8379-AB5A33CF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E65E-3B9C-4A0E-BF7D-2E576E34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85C8-C415-4EDC-8A52-06399B88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B285-903F-4927-B564-8D4EE175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EE97-5510-4C38-9FC8-90A34D92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48D2-70F9-424D-B83D-515F9A2B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2937-D497-4AB3-9775-3DD9F1B4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102A-D761-4CC0-B90B-37EF7381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0F28-4D55-459C-8752-2F80E455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556D-C5C6-46DE-A272-44750BF1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0E9-F7D3-4094-B769-D0393507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A618-D0AD-4B8F-BE36-66339BDB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F73C-B98B-4DEA-B2A6-077DEAE98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Урок одной задачи</a:t>
            </a:r>
            <a:r>
              <a:rPr b="0" i="1" lang="en-US" sz="44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6197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Решение квадратного уравнения , содержащего модуль, несколькими способ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47920" y="152280"/>
          <a:ext cx="5486400" cy="3105000"/>
        </p:xfrm>
        <a:graphic>
          <a:graphicData uri="http://schemas.openxmlformats.org/drawingml/2006/table">
            <a:tbl>
              <a:tblPr/>
              <a:tblGrid>
                <a:gridCol w="479520"/>
                <a:gridCol w="5006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" descr="$x^4-2\,x^2-3=0$"/>
          <p:cNvPicPr/>
          <p:nvPr/>
        </p:nvPicPr>
        <p:blipFill>
          <a:blip r:embed="rId2"/>
          <a:stretch/>
        </p:blipFill>
        <p:spPr>
          <a:xfrm>
            <a:off x="1981080" y="228600"/>
            <a:ext cx="2514600" cy="282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$\left(x+2\right)^2-2\,\left| x+2\right| -3=0$"/>
          <p:cNvPicPr/>
          <p:nvPr/>
        </p:nvPicPr>
        <p:blipFill>
          <a:blip r:embed="rId3"/>
          <a:stretch/>
        </p:blipFill>
        <p:spPr>
          <a:xfrm>
            <a:off x="1981080" y="762120"/>
            <a:ext cx="3505320" cy="352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$\left(x^2+2\,x-1\right)^2-2\,\left(x^2+2\,x-1\right)-3=0$"/>
          <p:cNvPicPr/>
          <p:nvPr/>
        </p:nvPicPr>
        <p:blipFill>
          <a:blip r:embed="rId4"/>
          <a:stretch/>
        </p:blipFill>
        <p:spPr>
          <a:xfrm>
            <a:off x="1981080" y="1254240"/>
            <a:ext cx="4876920" cy="326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$x^2-2\,\left| x\right| =0$"/>
          <p:cNvPicPr/>
          <p:nvPr/>
        </p:nvPicPr>
        <p:blipFill>
          <a:blip r:embed="rId5"/>
          <a:stretch/>
        </p:blipFill>
        <p:spPr>
          <a:xfrm>
            <a:off x="1981080" y="1752480"/>
            <a:ext cx="1847880" cy="333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$x\,\left(x-1\right)\,\left(x-2\right)\,\left(x-3\right)=24$"/>
          <p:cNvPicPr/>
          <p:nvPr/>
        </p:nvPicPr>
        <p:blipFill>
          <a:blip r:embed="rId6"/>
          <a:stretch/>
        </p:blipFill>
        <p:spPr>
          <a:xfrm>
            <a:off x="1981080" y="2286000"/>
            <a:ext cx="4448160" cy="314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$2\,\left(x+{{1}\over{x^2}}\right)-7\,\left(x+{{1}\over{x}} \right)+9=0$"/>
          <p:cNvPicPr/>
          <p:nvPr/>
        </p:nvPicPr>
        <p:blipFill>
          <a:blip r:embed="rId7"/>
          <a:stretch/>
        </p:blipFill>
        <p:spPr>
          <a:xfrm>
            <a:off x="1981080" y="2743200"/>
            <a:ext cx="4496040" cy="379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342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Какое из уравнений (1-6) можно решить тремя методами (графическим, методом разложения на множители, методом введения новых переменных)</a:t>
            </a:r>
            <a:r>
              <a:rPr b="0" i="1" lang="en-US" sz="2000" spc="-1" strike="noStrike">
                <a:solidFill>
                  <a:srgbClr val="000000"/>
                </a:solidFill>
                <a:latin typeface="Monotype Corsiva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Что объединяет остальные уравнения</a:t>
            </a:r>
            <a:r>
              <a:rPr b="0" i="1" lang="en-US" sz="2000" spc="-1" strike="noStrike">
                <a:solidFill>
                  <a:srgbClr val="000000"/>
                </a:solidFill>
                <a:latin typeface="Monotype Corsiv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Ответ</a:t>
            </a:r>
            <a:r>
              <a:rPr b="0" i="1" lang="en-US" sz="2000" spc="-1" strike="noStrike">
                <a:solidFill>
                  <a:srgbClr val="000000"/>
                </a:solidFill>
                <a:latin typeface="Monotype Corsiva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уравнение (4)</a:t>
            </a:r>
            <a:r>
              <a:rPr b="0" i="1" lang="en-US" sz="2000" spc="-1" strike="noStrike">
                <a:solidFill>
                  <a:srgbClr val="000000"/>
                </a:solidFill>
                <a:latin typeface="Monotype Corsiva"/>
              </a:rPr>
              <a:t>;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уравнение (1) – биквадратное, (2) – квадратное относительно модуля, (3) – квадратное относительно квадратного трехчлена, (5-6) – рациональные урав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Эти уравнения (1,2,3,5,6) решаются методом замены переме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Покажу на примере одного уравнения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y=x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2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│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x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│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несколько способов его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2362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Решаем уравнение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Метод разложения на множ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Решение 1. 1) Если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x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≥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 0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, то </a:t>
            </a:r>
            <a:r>
              <a:rPr b="0" i="1" lang="ru-RU" sz="1600" spc="-1" strike="noStrike">
                <a:solidFill>
                  <a:srgbClr val="000000"/>
                </a:solidFill>
                <a:latin typeface="Monotype Corsiva"/>
              </a:rPr>
              <a:t>│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Monotype Corsiva"/>
              </a:rPr>
              <a:t>│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= x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, и уравнение принимает вид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  x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- 2x=0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, откуда получаем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x=0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ли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x=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;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оба значения удовлетворяют условию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x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≥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 0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2) Если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x&lt;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0, то </a:t>
            </a:r>
            <a:r>
              <a:rPr b="0" i="1" lang="ru-RU" sz="1600" spc="-1" strike="noStrike">
                <a:solidFill>
                  <a:srgbClr val="000000"/>
                </a:solidFill>
                <a:latin typeface="Monotype Corsiva"/>
              </a:rPr>
              <a:t>│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x </a:t>
            </a:r>
            <a:r>
              <a:rPr b="0" i="1" lang="ru-RU" sz="1600" spc="-1" strike="noStrike">
                <a:solidFill>
                  <a:srgbClr val="000000"/>
                </a:solidFill>
                <a:latin typeface="Monotype Corsiva"/>
              </a:rPr>
              <a:t>│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= -x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, и уравнение принимает вид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²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+2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x=0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, откуда получаем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x=0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или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x=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-2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торое из найденных значений удовлетворяет условию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x&lt;0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Ответ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: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0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; 2; -2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3049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² - 2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│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Решение 2. 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²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 2</a:t>
            </a: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│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x </a:t>
            </a: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│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x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≥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 0                     x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≥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 0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x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²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 - 2x=0               x(x - 2)=0              x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x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≤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0                    x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≤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 0                      x =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²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 + 2x=0             x(x+2)=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Ответ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: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0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; 2; -2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82880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182880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289548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89548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18288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8288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1981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1981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6"/>
          <p:cNvSpPr/>
          <p:nvPr/>
        </p:nvSpPr>
        <p:spPr>
          <a:xfrm>
            <a:off x="2514600" y="2590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6"/>
          <p:cNvSpPr/>
          <p:nvPr/>
        </p:nvSpPr>
        <p:spPr>
          <a:xfrm>
            <a:off x="4572000" y="2590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Monotype Corsiva"/>
              </a:rPr>
              <a:t>Графический мет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-228960" y="1218960"/>
            <a:ext cx="2895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Решение 1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600200" y="190512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8098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295280" y="304920"/>
            <a:ext cx="137088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rot="10800000">
            <a:off x="1218960" y="304920"/>
            <a:ext cx="152352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867280" y="1980720"/>
            <a:ext cx="0" cy="358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38098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rot="10800000">
            <a:off x="5639040" y="304920"/>
            <a:ext cx="137088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0800000">
            <a:off x="4724280" y="304920"/>
            <a:ext cx="137088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953240" y="3352320"/>
            <a:ext cx="91368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 rot="5481600">
            <a:off x="6024600" y="3356640"/>
            <a:ext cx="6120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78320" y="1675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69440" y="1751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30800" y="3656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45600" y="3656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22860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2133000"/>
            <a:ext cx="2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40480" y="3504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2133000"/>
            <a:ext cx="2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22860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3901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3428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3390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26080" y="3733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31200" y="3733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41148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87840" y="40377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1815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│x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63760" y="3809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4440" y="39618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4038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3733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7960" y="1676520"/>
            <a:ext cx="12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7080" y="3504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rot="10800000">
            <a:off x="380880" y="304920"/>
            <a:ext cx="152352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457200" y="304920"/>
            <a:ext cx="137088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3124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Реше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191120" y="190512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38098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3505320" y="360"/>
            <a:ext cx="137088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rot="10800000">
            <a:off x="3430080" y="360"/>
            <a:ext cx="152280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191120" y="1828440"/>
            <a:ext cx="137160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971440" y="1828440"/>
            <a:ext cx="121932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2819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8000" y="2513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239796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243756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3428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3960" y="3809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6080" y="3809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3733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2920" y="1675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69080" y="3656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648320" y="3276360"/>
            <a:ext cx="4572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3047400"/>
            <a:ext cx="8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21171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2│x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1600200" y="571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Ответ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: 0; 2; -2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Monotype Corsiva"/>
              </a:rPr>
              <a:t>Метод введе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Monotype Corsiva"/>
              </a:rPr>
              <a:t>новых переменн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Реш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Пусть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│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x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│=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t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≥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 0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, тогда уравнение примет вид 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²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-2t=0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, откуда получаем 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t=0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или 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=2. Возвращаясь  к исходной переменной, получаем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 t(t-2)=0 , t=0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или 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t=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│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x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│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=0 ,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│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x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│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= 0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 ,     x =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±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Ответ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0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; 2; -2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на Семёнова</dc:creator>
  <dc:description/>
  <dc:language>en-US</dc:language>
  <cp:lastModifiedBy>123</cp:lastModifiedBy>
  <dcterms:modified xsi:type="dcterms:W3CDTF">2013-06-21T03:33:44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