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6.png" ContentType="image/pn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FA0-D014-47D2-A1F0-45831A4F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90C-1D39-4687-A72C-DECFEAED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04C-1931-4900-ADF8-20B5E7F6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688-2360-447D-8AC7-14F343C6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37A8-5D14-48AD-9FE7-77692CDF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3F04-9BA9-4379-8DD7-6573072F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7806-6E9D-45A9-A037-3F66FFBE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CDD3-EF10-40AF-864F-24FACCE5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E100-9AF3-4055-BB1E-B51AAAE2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1065-A9C5-45DD-874F-561B0BC9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92C9-29EB-4C03-849D-65C3858C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33D-BF32-4D7A-8DFF-0D006EC8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CDE2-7FFC-4809-8B66-452CF305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FA98-2F0D-4D13-A35D-781C154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36F1-195A-4159-9B0A-BFA904F8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7944-A373-4C00-ACDF-0D8C361F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BBE6-DDFB-4E02-AA26-FA725B55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127-5EA8-4582-9B48-56813724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785-0D39-4648-B14B-AB7D1C1F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201-10F2-4159-955F-7C693C1A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827-F3A4-424A-95B1-CA3571CC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EB8-5782-4775-8115-3171733C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1CA-5332-45C6-900B-E462E219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05E-562F-4DB7-87FD-80256F5D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4b00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D1FF-CB3E-40B3-A5C7-DFB921FA3B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D8BB-A1E6-4687-A9EB-BA885BE5F4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9.xml"/><Relationship Id="rId10" Type="http://schemas.openxmlformats.org/officeDocument/2006/relationships/image" Target="../media/image5.png"/><Relationship Id="rId11" Type="http://schemas.openxmlformats.org/officeDocument/2006/relationships/slide" Target="slide9.xml"/><Relationship Id="rId12" Type="http://schemas.openxmlformats.org/officeDocument/2006/relationships/image" Target="../media/image5.png"/><Relationship Id="rId13" Type="http://schemas.openxmlformats.org/officeDocument/2006/relationships/slide" Target="slide9.xml"/><Relationship Id="rId14" Type="http://schemas.openxmlformats.org/officeDocument/2006/relationships/image" Target="../media/image5.png"/><Relationship Id="rId15" Type="http://schemas.openxmlformats.org/officeDocument/2006/relationships/slide" Target="slide9.xml"/><Relationship Id="rId16" Type="http://schemas.openxmlformats.org/officeDocument/2006/relationships/image" Target="../media/image5.png"/><Relationship Id="rId17" Type="http://schemas.openxmlformats.org/officeDocument/2006/relationships/slide" Target="slide5.xml"/><Relationship Id="rId18" Type="http://schemas.openxmlformats.org/officeDocument/2006/relationships/image" Target="../media/image6.png"/><Relationship Id="rId19" Type="http://schemas.openxmlformats.org/officeDocument/2006/relationships/slide" Target="slide10.xml"/><Relationship Id="rId20" Type="http://schemas.openxmlformats.org/officeDocument/2006/relationships/image" Target="../media/image6.png"/><Relationship Id="rId21" Type="http://schemas.openxmlformats.org/officeDocument/2006/relationships/slide" Target="slide15.xml"/><Relationship Id="rId22" Type="http://schemas.openxmlformats.org/officeDocument/2006/relationships/image" Target="../media/image6.png"/><Relationship Id="rId23" Type="http://schemas.openxmlformats.org/officeDocument/2006/relationships/slide" Target="slide15.xml"/><Relationship Id="rId24" Type="http://schemas.openxmlformats.org/officeDocument/2006/relationships/image" Target="../media/image6.png"/><Relationship Id="rId25" Type="http://schemas.openxmlformats.org/officeDocument/2006/relationships/slide" Target="slide15.xml"/><Relationship Id="rId26" Type="http://schemas.openxmlformats.org/officeDocument/2006/relationships/image" Target="../media/image6.png"/><Relationship Id="rId27" Type="http://schemas.openxmlformats.org/officeDocument/2006/relationships/slide" Target="slide6.xml"/><Relationship Id="rId28" Type="http://schemas.openxmlformats.org/officeDocument/2006/relationships/image" Target="../media/image7.png"/><Relationship Id="rId29" Type="http://schemas.openxmlformats.org/officeDocument/2006/relationships/slide" Target="slide11.xml"/><Relationship Id="rId30" Type="http://schemas.openxmlformats.org/officeDocument/2006/relationships/image" Target="../media/image7.png"/><Relationship Id="rId31" Type="http://schemas.openxmlformats.org/officeDocument/2006/relationships/slide" Target="slide16.xml"/><Relationship Id="rId32" Type="http://schemas.openxmlformats.org/officeDocument/2006/relationships/image" Target="../media/image7.png"/><Relationship Id="rId33" Type="http://schemas.openxmlformats.org/officeDocument/2006/relationships/slide" Target="slide21.xml"/><Relationship Id="rId34" Type="http://schemas.openxmlformats.org/officeDocument/2006/relationships/image" Target="../media/image7.png"/><Relationship Id="rId35" Type="http://schemas.openxmlformats.org/officeDocument/2006/relationships/slide" Target="slide21.xml"/><Relationship Id="rId36" Type="http://schemas.openxmlformats.org/officeDocument/2006/relationships/image" Target="../media/image7.png"/><Relationship Id="rId37" Type="http://schemas.openxmlformats.org/officeDocument/2006/relationships/slide" Target="slide27.xml"/><Relationship Id="rId38" Type="http://schemas.openxmlformats.org/officeDocument/2006/relationships/image" Target="../media/image8.png"/><Relationship Id="rId39" Type="http://schemas.openxmlformats.org/officeDocument/2006/relationships/slide" Target="slide12.xml"/><Relationship Id="rId40" Type="http://schemas.openxmlformats.org/officeDocument/2006/relationships/image" Target="../media/image8.png"/><Relationship Id="rId41" Type="http://schemas.openxmlformats.org/officeDocument/2006/relationships/slide" Target="slide17.xml"/><Relationship Id="rId42" Type="http://schemas.openxmlformats.org/officeDocument/2006/relationships/image" Target="../media/image8.png"/><Relationship Id="rId43" Type="http://schemas.openxmlformats.org/officeDocument/2006/relationships/slide" Target="slide27.xml"/><Relationship Id="rId44" Type="http://schemas.openxmlformats.org/officeDocument/2006/relationships/image" Target="../media/image8.png"/><Relationship Id="rId45" Type="http://schemas.openxmlformats.org/officeDocument/2006/relationships/slide" Target="slide27.xml"/><Relationship Id="rId46" Type="http://schemas.openxmlformats.org/officeDocument/2006/relationships/image" Target="../media/image8.png"/><Relationship Id="rId4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bbc8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360" y="1700280"/>
            <a:ext cx="74167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07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00ffff"/>
                </a:solidFill>
                <a:latin typeface="Arial"/>
              </a:rPr>
              <a:t>Своя игра</a:t>
            </a:r>
            <a:endParaRPr b="0" lang="en-US" sz="4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11" name="Рисунок 2" descr="C41-33копирование.jpg"/>
          <p:cNvPicPr/>
          <p:nvPr/>
        </p:nvPicPr>
        <p:blipFill>
          <a:blip r:embed="rId1"/>
          <a:stretch/>
        </p:blipFill>
        <p:spPr>
          <a:xfrm>
            <a:off x="6804000" y="4005360"/>
            <a:ext cx="1795320" cy="25700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19school.gif"/>
          <p:cNvPicPr/>
          <p:nvPr/>
        </p:nvPicPr>
        <p:blipFill>
          <a:blip r:embed="rId2"/>
          <a:stretch/>
        </p:blipFill>
        <p:spPr>
          <a:xfrm>
            <a:off x="250920" y="3213000"/>
            <a:ext cx="3544920" cy="208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02800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4944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лова, слова,3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езжал – то вечно цугом..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угом – это ка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35002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гатый выезд, в котором лошади запряжены гусь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133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лова,слова,4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268280"/>
            <a:ext cx="754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такие фармазо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9973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армазоны – искаженное слово «франкмасоны» (с французского – свободные каменщики) – члены тайного общества, распространившегося по всей Европе в 18 ве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133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Слова,слова, 5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а в те поры все важны! В сорок пуд… / Раскланяйся – тупем не кивнут.» Что такое туп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860640"/>
            <a:ext cx="64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упей – старинная мужская прическа с собранным на затылке пучком вол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133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Ба ! Знакомые  все лица,100</a:t>
            </a:r>
            <a:endParaRPr b="1" lang="en-US" sz="36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 ком идет реч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Он за других себя забыть гото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г дерзости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3429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лчалин Алексей Степаны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133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Ба ! Знакомые  все лица,200</a:t>
            </a:r>
            <a:endParaRPr b="1" lang="en-US" sz="36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Скромна, а ничего кро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каз и ветру на уме.» О ком идет реч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42210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из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133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12000" y="3645000"/>
            <a:ext cx="2736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Ба ! Знакомые  все лица, 300</a:t>
            </a:r>
            <a:endParaRPr b="1" lang="en-US" sz="36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Хрипун, удавленник,фаго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вездие маневров и мазурки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ком эти слова? Кто говори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357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 Скалозубе.   Фаму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Рисунок 1" descr="http://www.ocito.kaluga.ru/res/lessons/images/liter/2/urok2/slide14.jpg"/>
          <p:cNvPicPr/>
          <p:nvPr/>
        </p:nvPicPr>
        <p:blipFill>
          <a:blip r:embed="rId1"/>
          <a:stretch/>
        </p:blipFill>
        <p:spPr>
          <a:xfrm>
            <a:off x="6300720" y="3716280"/>
            <a:ext cx="195120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133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Ба ! Знакомые  все лица,400</a:t>
            </a:r>
            <a:endParaRPr b="1" lang="en-US" sz="36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Человек он свет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ъявленный мошенник, плут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нем остерегись: переносить гораз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в карты не садись: прода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653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Загорецком. П.М.Гори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2771640" y="558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Ба ! Знакомые  все лица,500</a:t>
            </a:r>
            <a:endParaRPr b="1" lang="en-US" sz="36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Курчавая, горбом лопат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итая, все кошачьи ухват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 как черна, да как страшна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 ком это? Кто говори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581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девке-арапке. Старуха Хлест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133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Доскажи словечко, 1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частливые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0053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асов не наблю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36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Доскажи словечко,200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1628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 хлопочут набирать учителей полки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371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м поболее, ценою подешев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129708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95640" y="260280"/>
            <a:ext cx="129528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Слова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        слова</a:t>
            </a:r>
            <a:endParaRPr b="1" lang="en-US" sz="16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924360" y="260280"/>
            <a:ext cx="12254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Ба 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Знаком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все л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260280"/>
            <a:ext cx="12254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260280"/>
            <a:ext cx="12254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260280"/>
            <a:ext cx="11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Биографическ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4" descr="100"/>
          <p:cNvPicPr/>
          <p:nvPr/>
        </p:nvPicPr>
        <p:blipFill>
          <a:blip r:embed="rId1"/>
          <a:stretch/>
        </p:blipFill>
        <p:spPr>
          <a:xfrm>
            <a:off x="539640" y="105264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10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24360" y="1125360"/>
            <a:ext cx="1428840" cy="790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100"/>
          <p:cNvPicPr/>
          <p:nvPr/>
        </p:nvPicPr>
        <p:blipFill>
          <a:blip r:embed="rId4"/>
          <a:stretch/>
        </p:blipFill>
        <p:spPr>
          <a:xfrm>
            <a:off x="5580000" y="1125360"/>
            <a:ext cx="1371600" cy="790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100"/>
          <p:cNvPicPr/>
          <p:nvPr/>
        </p:nvPicPr>
        <p:blipFill>
          <a:blip r:embed="rId5"/>
          <a:stretch/>
        </p:blipFill>
        <p:spPr>
          <a:xfrm>
            <a:off x="7164360" y="1125360"/>
            <a:ext cx="1371600" cy="79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100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340000" y="105264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200"/>
          <p:cNvPicPr/>
          <p:nvPr/>
        </p:nvPicPr>
        <p:blipFill>
          <a:blip r:embed="rId8"/>
          <a:stretch/>
        </p:blipFill>
        <p:spPr>
          <a:xfrm>
            <a:off x="539640" y="198900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20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40000" y="198900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200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95640" y="198900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200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5651640" y="198900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200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236000" y="198900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300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39640" y="292428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300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340000" y="292428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300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3995640" y="292428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7" descr="300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5724360" y="292428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300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7308720" y="292428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3" descr="400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611280" y="386064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400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2340000" y="386064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3" descr="400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3995640" y="386064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3" descr="400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5796000" y="386064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3" descr="400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7380360" y="386064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500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611280" y="48690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9" descr="500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2411280" y="48690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9" descr="500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4067280" y="48690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500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5867280" y="48690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9" descr="500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7451640" y="4869000"/>
            <a:ext cx="1371600" cy="85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651640" y="33336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Доскажи словечк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36000" y="33336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Всякая всяч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Доскажи словечко, 3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вежо предание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4437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 верится с тру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370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Доскажи словечко, 4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инуй нас пуще всех печалей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3645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барский гнев, и барская люб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370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Доскажи словечко, 500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ричали женщины :Ура! и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342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воздух чепчики бросал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370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Всякая всячина, 100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мя , отчество Фамусо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3716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вел Афанас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370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Всякая всячина, 2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У кого должен был Фамусов крести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3284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вдовы, у доктор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370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Всякая всячина, 3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на Молчали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3213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вер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0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Всякая всячина, 4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чему московские барышни «к военным людям так и льнут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314172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 Потому что патриот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Всякая всячина, 5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у принадлежат вещицы: «туалет, прехитрая работа – подушечка, из бисера узор, и перламутровый прибор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1042920" y="378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лчали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dd7df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Биографическая ,1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годы жизни А.С.Грибоед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1795-18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96000" y="3213000"/>
            <a:ext cx="2862360" cy="3240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3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Биографическая,200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ких учебных заведениях учил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С.Грибоед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378936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сковский университетский благородный пансион, Московский университ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Рисунок 3" descr="http://www.ocito.kaluga.ru/res/lessons/images/liter/2/urok2/slide7.jpg"/>
          <p:cNvPicPr/>
          <p:nvPr/>
        </p:nvPicPr>
        <p:blipFill>
          <a:blip r:embed="rId1"/>
          <a:srcRect l="9267" t="14746" r="9267" b="24359"/>
          <a:stretch/>
        </p:blipFill>
        <p:spPr>
          <a:xfrm>
            <a:off x="4643280" y="4869000"/>
            <a:ext cx="3980160" cy="1711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47640" y="5661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Биографическая,300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кой стране находился Грибоедов с дипломатической миссией в последний год жиз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429264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ерс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1979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Биографическая, 4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из близких людей поставил ему памятник, и какие слова на нем высече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4005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ена Нина Чавчавадзе. «Ум и дела твои бессмертны в памяти русской, но для чего пережила тебя любовь моя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Untitled-Scanned-04"/>
          <p:cNvPicPr/>
          <p:nvPr/>
        </p:nvPicPr>
        <p:blipFill>
          <a:blip r:embed="rId1"/>
          <a:stretch/>
        </p:blipFill>
        <p:spPr>
          <a:xfrm>
            <a:off x="7380360" y="4653000"/>
            <a:ext cx="1571400" cy="201456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133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Биографическая,5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 чьим началом служил А.С.Грибоедов на Кавказе в 1822 го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4005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енерал Ермо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133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лова</a:t>
            </a:r>
            <a:r>
              <a:rPr b="1" lang="en-US" sz="4000" spc="-1" strike="noStrike">
                <a:solidFill>
                  <a:srgbClr val="cdd7d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лова,1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268280"/>
            <a:ext cx="7543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ьи сло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Служить рад, прислуживаться тошно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3645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.А.Чац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823000" y="2681280"/>
            <a:ext cx="30560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лова,слова,200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Покойник был почтенный камергер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такой камерге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414972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мергер – придворное звание. Золотой ключ, привешивающийся к мундиру камергера, служил знаком камергерского з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3851280" y="5805360"/>
            <a:ext cx="826920" cy="863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63640"/>
              <a:gd name="textAreaBottom" fmla="*/ 810360 h 863640"/>
            </a:gdLst>
            <a:ahLst/>
            <a:rect l="textAreaLeft" t="textAreaTop" r="textAreaRight" b="textAreaBottom"/>
            <a:pathLst>
              <a:path w="21600" h="22559">
                <a:moveTo>
                  <a:pt x="0" y="0"/>
                </a:moveTo>
                <a:lnTo>
                  <a:pt x="21600" y="0"/>
                </a:lnTo>
                <a:lnTo>
                  <a:pt x="21600" y="22559"/>
                </a:lnTo>
                <a:lnTo>
                  <a:pt x="0" y="22559"/>
                </a:lnTo>
                <a:close/>
              </a:path>
              <a:path fill="lightenLess" w="21600" h="225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59">
                <a:moveTo>
                  <a:pt x="21600" y="0"/>
                </a:moveTo>
                <a:lnTo>
                  <a:pt x="21600" y="22559"/>
                </a:lnTo>
                <a:lnTo>
                  <a:pt x="20200" y="21159"/>
                </a:lnTo>
                <a:lnTo>
                  <a:pt x="20200" y="1400"/>
                </a:lnTo>
                <a:close/>
              </a:path>
              <a:path fill="darkenLess" w="21600" h="22559">
                <a:moveTo>
                  <a:pt x="21600" y="22559"/>
                </a:moveTo>
                <a:lnTo>
                  <a:pt x="0" y="22559"/>
                </a:lnTo>
                <a:lnTo>
                  <a:pt x="1400" y="21159"/>
                </a:lnTo>
                <a:lnTo>
                  <a:pt x="20200" y="21159"/>
                </a:lnTo>
                <a:close/>
              </a:path>
              <a:path fill="lighten" w="21600" h="22559">
                <a:moveTo>
                  <a:pt x="0" y="225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59"/>
                </a:lnTo>
                <a:close/>
              </a:path>
              <a:path fill="darken" w="21600" h="22559">
                <a:moveTo>
                  <a:pt x="10800" y="4316"/>
                </a:moveTo>
                <a:lnTo>
                  <a:pt x="13376" y="6928"/>
                </a:lnTo>
                <a:lnTo>
                  <a:pt x="13376" y="5187"/>
                </a:lnTo>
                <a:lnTo>
                  <a:pt x="15152" y="5187"/>
                </a:lnTo>
                <a:lnTo>
                  <a:pt x="15152" y="8703"/>
                </a:lnTo>
                <a:lnTo>
                  <a:pt x="17763" y="11279"/>
                </a:lnTo>
                <a:lnTo>
                  <a:pt x="16109" y="11279"/>
                </a:lnTo>
                <a:lnTo>
                  <a:pt x="16109" y="18469"/>
                </a:lnTo>
                <a:lnTo>
                  <a:pt x="5491" y="18469"/>
                </a:lnTo>
                <a:lnTo>
                  <a:pt x="5491" y="11279"/>
                </a:lnTo>
                <a:lnTo>
                  <a:pt x="3837" y="11279"/>
                </a:lnTo>
                <a:close/>
              </a:path>
              <a:path fill="darkenLess" w="21600" h="22559">
                <a:moveTo>
                  <a:pt x="13376" y="6928"/>
                </a:moveTo>
                <a:lnTo>
                  <a:pt x="13376" y="5187"/>
                </a:lnTo>
                <a:lnTo>
                  <a:pt x="15152" y="5187"/>
                </a:lnTo>
                <a:lnTo>
                  <a:pt x="15152" y="8703"/>
                </a:lnTo>
                <a:close/>
              </a:path>
              <a:path fill="darkenLess" w="21600" h="22559">
                <a:moveTo>
                  <a:pt x="9877" y="14778"/>
                </a:moveTo>
                <a:lnTo>
                  <a:pt x="11723" y="14778"/>
                </a:lnTo>
                <a:lnTo>
                  <a:pt x="11723" y="18469"/>
                </a:lnTo>
                <a:lnTo>
                  <a:pt x="16109" y="18469"/>
                </a:lnTo>
                <a:lnTo>
                  <a:pt x="16109" y="11279"/>
                </a:lnTo>
                <a:lnTo>
                  <a:pt x="5491" y="11279"/>
                </a:lnTo>
                <a:lnTo>
                  <a:pt x="5491" y="18469"/>
                </a:lnTo>
                <a:lnTo>
                  <a:pt x="9877" y="1846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1:33:01Z</dcterms:created>
  <dc:creator>XTreme</dc:creator>
  <dc:description/>
  <dc:language>en-US</dc:language>
  <cp:lastModifiedBy>XTreme</cp:lastModifiedBy>
  <dcterms:modified xsi:type="dcterms:W3CDTF">2009-11-26T10:05:29Z</dcterms:modified>
  <cp:revision>6</cp:revision>
  <dc:subject/>
  <dc:title>Слайд 1</dc:title>
</cp:coreProperties>
</file>