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2.png" ContentType="image/png"/>
  <Override PartName="/ppt/media/image9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jpeg" ContentType="image/jpe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6C9F-3B8B-4FBE-8283-BA568E0E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4998-113A-4ED0-807E-9CAD5EAB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6FDF6-3A33-483C-A0BE-DF5BF962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68403-0627-45C6-AB6C-B89E4725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B9B41-7A2A-4F1F-ADE2-93C6B6FA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2E6C8-01F1-44B7-BEFA-DDDAC578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75CAA-A6B8-4EAB-83F8-946104B7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3DEAD-60A6-4A77-9043-4F34ADC9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1F853-3AC3-4E3F-9893-7B397415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0DB8A-6A82-40A8-94B8-DA873B08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19CCF-AB51-45E1-B4D3-98CCF5EE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E63C-DFB8-48A4-95D0-45DC3CEE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DFDA-7327-49F9-8D5D-72259C7D8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92B3-7EB4-4C9A-A267-DF322F841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6372-FD69-4B2E-8284-B3D08680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8BD7-B884-4B42-8C78-CCBB0C42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9182-596A-4DAE-8279-DFE89960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6618-8832-49A2-AE98-5B4FB010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8683-68C8-445D-907E-C6743AB2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61D0-49EA-4496-A1C6-5E26A436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6B4D-6F70-406B-A438-534E2E8E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5115-7CD6-46C4-95E0-B78DA41E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79DA-B358-4AF8-9AC4-85E0FF0F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BE0B-12BD-4E05-BAB1-385C0257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6089-7D73-41C2-BFE5-96DB6999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5883-0341-4788-A321-7BD9848A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25489-BEFD-4025-B792-97042D30D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551E0-1C71-4E60-A6B7-D6F949BF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48F49-13E0-4D70-9515-95905B76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D59E4-3BF2-4181-A83B-32D93CCE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C8105-D277-48D0-A617-75DE7941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150C-3985-483F-8A95-B755A558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0D540-9336-4C67-8507-6BDA6310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CCF5B-29BF-44C5-B301-0325113A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859F4-0B94-4E2A-847D-BD0910D9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29FF6-B719-4744-88EC-D63DEC94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61BF9-A966-4DF9-99B2-E76B998F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C6BF8-DFE6-43E2-AB51-A9579802B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C5EBA-87ED-494C-A204-42B8E0170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C8C62-8C1F-4C09-9A92-2D9483B4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CD145-771F-40F4-AB95-668D9F97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0C956-95F4-49E9-B360-1877439E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CDF4-2393-4091-A76A-8ED4E29D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B4FDF-9822-4187-BC09-6557273A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B7E6A-70EF-43C1-97BC-D956714B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34925-2C4C-4436-BAF1-0D831823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5E273-A151-4D56-AF6E-FAFC940F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A12F7-81EF-44F2-89C3-644E4DE8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A35E8-0EFE-4B90-B297-AF5C5E1C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55340-6568-4285-A36D-9EDA0130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3F196-8982-4B42-8816-FE2F480CA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48883-8EE4-4EB0-BC58-DCF3F7EB3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E738E-8CE3-442D-918C-69F378042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37EA-BFEA-4A8A-BBAB-90B04E39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97287-C708-4436-818F-00088ED0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08BA7-8B53-4B6E-8B5A-B713FDA2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F0077-B0CB-4A6B-8560-64FC563C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028D6-053E-4151-8473-FEB1D254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5CA8D-4D44-431E-90F7-B4107091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D55A0-4471-49A6-988B-8647AE2C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E6B6E-85E0-4FF4-A027-386331CA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FA946-24D8-4E18-ABDC-9511129A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ABB3B-4901-4272-A792-FDD213C3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66BCE-4CDF-46FD-BD9D-F9DD90464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AC98-BA3B-448E-8A26-8A38C272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CF761-FD01-445F-8D1F-CDB251815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938C9-162B-4357-A3F5-2E50249B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9C112-B52F-4581-84E4-B07D9008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DDB01-5BA3-4D95-B073-6FE384FC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E67D1-94AE-4913-991C-E1318D89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7AF9C-DE94-439C-8647-DB400BFB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32A0D-BECE-4B51-B4BF-B4837D55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0F739-0E40-412D-9B83-FD2DC61A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F9FA9-9CCC-4E8F-99EC-F464ABAC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639D7-5462-4CFE-BA0F-881E422D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7A51-D203-4DC9-BA02-B6EDE34C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7DBD6-7171-4377-A290-7A5C9760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676DD-0CEE-40E2-B52D-59ED4F7F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115C6-4511-46AA-942A-986E98427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EB307-4048-40A7-B266-E332FE3E2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73E37-B069-4C29-883D-C4D42F60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EB67A-B099-458D-971A-D89E7F7C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F7C08-208F-4249-9499-1F2776FE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BD2C7-AD14-4921-ABB5-59CC5EB9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3346A-5852-49E9-A71B-4976007E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DAF2D-3BCE-4B8B-BAEE-F9FE06BC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47BD-44AD-4B33-A438-0E8F46D6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679A6-7E62-4AF1-96A8-55B3089E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7190E-B000-4E13-B269-476DA735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41583-0A11-427A-B830-820D94D1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75297-EBC1-423C-B0FB-5EC5B381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78CDF-D075-44A6-810D-5111B3310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52A97-61E0-46EB-A398-BE8F95C0C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88040-5F95-4DDB-AC33-D8CB839C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16C93-ED10-472D-A03F-F4CD3CEA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34294-73A9-47FD-BCC9-F6C43A24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7AE0A-A7B8-4948-B98E-CC66E2E9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F83D-7A5E-44F1-9550-0F994181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D6E7C-CBAF-4749-8B94-76D5D390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DC30E-439C-4712-8F14-83B6A17E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D7F43-EB19-4A51-8D1F-8143D749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29A64-A08A-4817-84F9-4A53C230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976F3-7ADD-47CE-BB36-2E148A7E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0FD5B-94A8-4D27-8351-70CD3271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01286-B3AA-47C0-9628-F229BA9E8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49BBDE-1D65-4D77-8A03-6C2F09D2B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D9840-BFD8-453E-9A17-B0D4638A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2A165-5F5E-4F84-861A-644E0DBE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419A-0D53-4FC2-B5D0-200B987AE04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4544-E605-4C13-AFBE-28F8A1747AE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1C0A-B75C-4531-AA91-9CB54E4339A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0B45-8FA9-48D8-BAD6-71D9BF02A19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5465-D74F-466D-BD57-8E233E95B08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1C7A-11E7-4008-BAD0-AB8E9DE8475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F374-D424-4182-9B6D-68CECA67FEF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742C-9CDC-48CF-9206-0D244030950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2CDC-E51F-412F-9473-222B8DC7B4C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e1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30" descr=""/>
          <p:cNvPicPr/>
          <p:nvPr/>
        </p:nvPicPr>
        <p:blipFill>
          <a:blip r:embed="rId1"/>
          <a:stretch/>
        </p:blipFill>
        <p:spPr>
          <a:xfrm rot="20836200">
            <a:off x="324000" y="1317240"/>
            <a:ext cx="2577960" cy="1774800"/>
          </a:xfrm>
          <a:prstGeom prst="rect">
            <a:avLst/>
          </a:prstGeom>
          <a:ln w="0">
            <a:noFill/>
          </a:ln>
        </p:spPr>
      </p:pic>
      <p:sp>
        <p:nvSpPr>
          <p:cNvPr id="400" name="TextBox 1"/>
          <p:cNvSpPr/>
          <p:nvPr/>
        </p:nvSpPr>
        <p:spPr>
          <a:xfrm>
            <a:off x="324000" y="25092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c4b3b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7c4b3b"/>
                </a:solidFill>
                <a:latin typeface="Monotype Corsiva"/>
              </a:rPr>
              <a:t>Н.В.Гоголь «Вечера на хуторе близ Дикань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Заголовок 2" descr=""/>
          <p:cNvPicPr/>
          <p:nvPr/>
        </p:nvPicPr>
        <p:blipFill>
          <a:blip r:embed="rId2"/>
          <a:stretch/>
        </p:blipFill>
        <p:spPr>
          <a:xfrm>
            <a:off x="353880" y="4486320"/>
            <a:ext cx="8472600" cy="168912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326520" y="3354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43329"/>
                </a:solidFill>
                <a:latin typeface="Franklin Gothic Book"/>
              </a:rPr>
              <a:t>«СВОЯ ИГРА»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3" name="Picture 31" descr=""/>
          <p:cNvPicPr/>
          <p:nvPr/>
        </p:nvPicPr>
        <p:blipFill>
          <a:blip r:embed="rId3"/>
          <a:stretch/>
        </p:blipFill>
        <p:spPr>
          <a:xfrm>
            <a:off x="7143840" y="1284120"/>
            <a:ext cx="1419120" cy="1841760"/>
          </a:xfrm>
          <a:prstGeom prst="rect">
            <a:avLst/>
          </a:prstGeom>
          <a:ln w="22320">
            <a:solidFill>
              <a:srgbClr val="e2ac7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e1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Rectangle 2" descr=""/>
          <p:cNvPicPr/>
          <p:nvPr/>
        </p:nvPicPr>
        <p:blipFill>
          <a:blip r:embed="rId1"/>
          <a:stretch/>
        </p:blipFill>
        <p:spPr>
          <a:xfrm>
            <a:off x="298440" y="182520"/>
            <a:ext cx="8699400" cy="817560"/>
          </a:xfrm>
          <a:prstGeom prst="rect">
            <a:avLst/>
          </a:prstGeom>
          <a:ln w="0">
            <a:noFill/>
          </a:ln>
        </p:spPr>
      </p:pic>
      <p:sp>
        <p:nvSpPr>
          <p:cNvPr id="441" name="WordArt 8"/>
          <p:cNvSpPr txBox="1"/>
          <p:nvPr/>
        </p:nvSpPr>
        <p:spPr>
          <a:xfrm>
            <a:off x="324000" y="2708280"/>
            <a:ext cx="3168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42" name="AutoShape 9"/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6852" y="7493"/>
                </a:moveTo>
                <a:lnTo>
                  <a:pt x="10360" y="7493"/>
                </a:lnTo>
                <a:lnTo>
                  <a:pt x="10360" y="12828"/>
                </a:lnTo>
                <a:cubicBezTo>
                  <a:pt x="10360" y="13751"/>
                  <a:pt x="11161" y="14482"/>
                  <a:pt x="12197" y="14482"/>
                </a:cubicBezTo>
                <a:lnTo>
                  <a:pt x="13859" y="14482"/>
                </a:lnTo>
                <a:cubicBezTo>
                  <a:pt x="14895" y="14482"/>
                  <a:pt x="15695" y="13751"/>
                  <a:pt x="15695" y="12828"/>
                </a:cubicBezTo>
                <a:lnTo>
                  <a:pt x="15695" y="7493"/>
                </a:lnTo>
                <a:lnTo>
                  <a:pt x="13859" y="7493"/>
                </a:lnTo>
                <a:lnTo>
                  <a:pt x="17367" y="3985"/>
                </a:lnTo>
                <a:lnTo>
                  <a:pt x="21039" y="7493"/>
                </a:lnTo>
                <a:lnTo>
                  <a:pt x="19203" y="7493"/>
                </a:lnTo>
                <a:lnTo>
                  <a:pt x="19203" y="12828"/>
                </a:lnTo>
                <a:cubicBezTo>
                  <a:pt x="19203" y="15596"/>
                  <a:pt x="16627" y="18155"/>
                  <a:pt x="13859" y="18155"/>
                </a:cubicBezTo>
                <a:lnTo>
                  <a:pt x="12197" y="18155"/>
                </a:lnTo>
                <a:cubicBezTo>
                  <a:pt x="9429" y="18155"/>
                  <a:pt x="6852" y="15596"/>
                  <a:pt x="6852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5500800" y="3357720"/>
            <a:ext cx="3319200" cy="3122280"/>
          </a:xfrm>
          <a:prstGeom prst="rect">
            <a:avLst/>
          </a:prstGeom>
          <a:ln w="0">
            <a:noFill/>
          </a:ln>
        </p:spPr>
      </p:pic>
      <p:sp>
        <p:nvSpPr>
          <p:cNvPr id="444" name="TextBox 6"/>
          <p:cNvSpPr/>
          <p:nvPr/>
        </p:nvSpPr>
        <p:spPr>
          <a:xfrm>
            <a:off x="2071800" y="1714680"/>
            <a:ext cx="564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очему Царица благосклонно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неслась к просьбе Вакул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7"/>
          <p:cNvSpPr/>
          <p:nvPr/>
        </p:nvSpPr>
        <p:spPr>
          <a:xfrm>
            <a:off x="428760" y="371484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23227"/>
                </a:solidFill>
                <a:latin typeface="Arial"/>
              </a:rPr>
              <a:t>Ей понравилось простодушие и откровенность кузнеца, да и собой он был статен и приго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e1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Rectangle 2" descr=""/>
          <p:cNvPicPr/>
          <p:nvPr/>
        </p:nvPicPr>
        <p:blipFill>
          <a:blip r:embed="rId1"/>
          <a:stretch/>
        </p:blipFill>
        <p:spPr>
          <a:xfrm>
            <a:off x="298440" y="255600"/>
            <a:ext cx="8699400" cy="88416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ahoma"/>
              </a:rPr>
              <a:t>Узнай героя: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Tahoma"/>
              </a:rPr>
              <a:t>«Красавица не могла не заметить его загоревшего, но исполненного приятностей лица и огненных очей, казалось, стремившихся видеть ее насквозь…»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324000" y="5445000"/>
            <a:ext cx="31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Парубок в белой свит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7"/>
          <p:cNvSpPr/>
          <p:nvPr/>
        </p:nvSpPr>
        <p:spPr>
          <a:xfrm>
            <a:off x="860436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7493"/>
                </a:moveTo>
                <a:lnTo>
                  <a:pt x="10901" y="7493"/>
                </a:lnTo>
                <a:lnTo>
                  <a:pt x="10901" y="12828"/>
                </a:lnTo>
                <a:cubicBezTo>
                  <a:pt x="10901" y="13751"/>
                  <a:pt x="11702" y="14482"/>
                  <a:pt x="12738" y="14482"/>
                </a:cubicBezTo>
                <a:lnTo>
                  <a:pt x="14400" y="14482"/>
                </a:lnTo>
                <a:cubicBezTo>
                  <a:pt x="15436" y="14482"/>
                  <a:pt x="16236" y="13751"/>
                  <a:pt x="16236" y="12828"/>
                </a:cubicBezTo>
                <a:lnTo>
                  <a:pt x="16236" y="7493"/>
                </a:lnTo>
                <a:lnTo>
                  <a:pt x="14400" y="7493"/>
                </a:lnTo>
                <a:lnTo>
                  <a:pt x="17908" y="3985"/>
                </a:lnTo>
                <a:lnTo>
                  <a:pt x="21581" y="7493"/>
                </a:lnTo>
                <a:lnTo>
                  <a:pt x="19744" y="7493"/>
                </a:lnTo>
                <a:lnTo>
                  <a:pt x="19744" y="12828"/>
                </a:lnTo>
                <a:cubicBezTo>
                  <a:pt x="19744" y="15596"/>
                  <a:pt x="17168" y="18155"/>
                  <a:pt x="14400" y="18155"/>
                </a:cubicBezTo>
                <a:lnTo>
                  <a:pt x="12738" y="18155"/>
                </a:lnTo>
                <a:cubicBezTo>
                  <a:pt x="9970" y="18155"/>
                  <a:pt x="7394" y="15596"/>
                  <a:pt x="7394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e1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Rectangle 6" descr=""/>
          <p:cNvPicPr/>
          <p:nvPr/>
        </p:nvPicPr>
        <p:blipFill>
          <a:blip r:embed="rId1"/>
          <a:stretch/>
        </p:blipFill>
        <p:spPr>
          <a:xfrm>
            <a:off x="298440" y="255600"/>
            <a:ext cx="8699400" cy="9208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ahoma"/>
              </a:rPr>
              <a:t>Найдите мимику глаз и определите, что она означает  в данной цитате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«Вишь, как ругается,- сказал парубок, вытаращив глаза, как будто озадаченный таким сильным залпом неожиданных приветствий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714240" y="471492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«вытаращив глаза»- любопытство, уди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7"/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7493"/>
                </a:moveTo>
                <a:lnTo>
                  <a:pt x="12016" y="7493"/>
                </a:lnTo>
                <a:lnTo>
                  <a:pt x="12016" y="12828"/>
                </a:lnTo>
                <a:cubicBezTo>
                  <a:pt x="12016" y="13751"/>
                  <a:pt x="12817" y="14482"/>
                  <a:pt x="13852" y="14482"/>
                </a:cubicBezTo>
                <a:lnTo>
                  <a:pt x="15515" y="14482"/>
                </a:lnTo>
                <a:cubicBezTo>
                  <a:pt x="16551" y="14482"/>
                  <a:pt x="17351" y="13751"/>
                  <a:pt x="17351" y="12828"/>
                </a:cubicBezTo>
                <a:lnTo>
                  <a:pt x="17351" y="7493"/>
                </a:lnTo>
                <a:lnTo>
                  <a:pt x="15515" y="7493"/>
                </a:lnTo>
                <a:lnTo>
                  <a:pt x="19022" y="3985"/>
                </a:lnTo>
                <a:lnTo>
                  <a:pt x="22695" y="7493"/>
                </a:lnTo>
                <a:lnTo>
                  <a:pt x="20859" y="7493"/>
                </a:lnTo>
                <a:lnTo>
                  <a:pt x="20859" y="12828"/>
                </a:lnTo>
                <a:cubicBezTo>
                  <a:pt x="20859" y="15596"/>
                  <a:pt x="18283" y="18155"/>
                  <a:pt x="15515" y="18155"/>
                </a:cubicBezTo>
                <a:lnTo>
                  <a:pt x="13852" y="18155"/>
                </a:lnTo>
                <a:cubicBezTo>
                  <a:pt x="11085" y="18155"/>
                  <a:pt x="8508" y="15596"/>
                  <a:pt x="8508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e1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Rectangle 2" descr=""/>
          <p:cNvPicPr/>
          <p:nvPr/>
        </p:nvPicPr>
        <p:blipFill>
          <a:blip r:embed="rId1"/>
          <a:stretch/>
        </p:blipFill>
        <p:spPr>
          <a:xfrm>
            <a:off x="298440" y="182520"/>
            <a:ext cx="8699400" cy="9208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684360" y="1617840"/>
            <a:ext cx="76960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Какие эмоции мы наблюдаем в реплике :«Не за 20, а за 15 отдам, если не солжешь только», - отвечал парубок, не сводя с него испытующих очей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1714680" y="4500720"/>
            <a:ext cx="54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Интерес к собеседн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6"/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6852" y="7493"/>
                </a:moveTo>
                <a:lnTo>
                  <a:pt x="10360" y="7493"/>
                </a:lnTo>
                <a:lnTo>
                  <a:pt x="10360" y="12828"/>
                </a:lnTo>
                <a:cubicBezTo>
                  <a:pt x="10360" y="13751"/>
                  <a:pt x="11161" y="14482"/>
                  <a:pt x="12197" y="14482"/>
                </a:cubicBezTo>
                <a:lnTo>
                  <a:pt x="13859" y="14482"/>
                </a:lnTo>
                <a:cubicBezTo>
                  <a:pt x="14895" y="14482"/>
                  <a:pt x="15695" y="13751"/>
                  <a:pt x="15695" y="12828"/>
                </a:cubicBezTo>
                <a:lnTo>
                  <a:pt x="15695" y="7493"/>
                </a:lnTo>
                <a:lnTo>
                  <a:pt x="13859" y="7493"/>
                </a:lnTo>
                <a:lnTo>
                  <a:pt x="17367" y="3985"/>
                </a:lnTo>
                <a:lnTo>
                  <a:pt x="21039" y="7493"/>
                </a:lnTo>
                <a:lnTo>
                  <a:pt x="19203" y="7493"/>
                </a:lnTo>
                <a:lnTo>
                  <a:pt x="19203" y="12828"/>
                </a:lnTo>
                <a:cubicBezTo>
                  <a:pt x="19203" y="15596"/>
                  <a:pt x="16627" y="18155"/>
                  <a:pt x="13859" y="18155"/>
                </a:cubicBezTo>
                <a:lnTo>
                  <a:pt x="12197" y="18155"/>
                </a:lnTo>
                <a:cubicBezTo>
                  <a:pt x="9429" y="18155"/>
                  <a:pt x="6852" y="15596"/>
                  <a:pt x="6852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e1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Rectangle 2" descr=""/>
          <p:cNvPicPr/>
          <p:nvPr/>
        </p:nvPicPr>
        <p:blipFill>
          <a:blip r:embed="rId1"/>
          <a:stretch/>
        </p:blipFill>
        <p:spPr>
          <a:xfrm>
            <a:off x="298440" y="109440"/>
            <a:ext cx="8699400" cy="92736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Что означает мимика глаз в фразе: «Бог знает что вы выдумываете, Афанасий Иванович» - сказала Хивря, </a:t>
            </a: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стыдливо потупив глаза свои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2428920" y="471492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СТЫ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7"/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5010" y="7493"/>
                </a:moveTo>
                <a:lnTo>
                  <a:pt x="8518" y="7493"/>
                </a:lnTo>
                <a:lnTo>
                  <a:pt x="8518" y="12828"/>
                </a:lnTo>
                <a:cubicBezTo>
                  <a:pt x="8518" y="13751"/>
                  <a:pt x="9318" y="14482"/>
                  <a:pt x="10354" y="14482"/>
                </a:cubicBezTo>
                <a:lnTo>
                  <a:pt x="12017" y="14482"/>
                </a:lnTo>
                <a:cubicBezTo>
                  <a:pt x="13052" y="14482"/>
                  <a:pt x="13853" y="13751"/>
                  <a:pt x="13853" y="12828"/>
                </a:cubicBezTo>
                <a:lnTo>
                  <a:pt x="13853" y="7493"/>
                </a:lnTo>
                <a:lnTo>
                  <a:pt x="12017" y="7493"/>
                </a:lnTo>
                <a:lnTo>
                  <a:pt x="15524" y="3985"/>
                </a:lnTo>
                <a:lnTo>
                  <a:pt x="19197" y="7493"/>
                </a:lnTo>
                <a:lnTo>
                  <a:pt x="17361" y="7493"/>
                </a:lnTo>
                <a:lnTo>
                  <a:pt x="17361" y="12828"/>
                </a:lnTo>
                <a:cubicBezTo>
                  <a:pt x="17361" y="15596"/>
                  <a:pt x="14784" y="18155"/>
                  <a:pt x="12017" y="18155"/>
                </a:cubicBezTo>
                <a:lnTo>
                  <a:pt x="10354" y="18155"/>
                </a:lnTo>
                <a:cubicBezTo>
                  <a:pt x="7586" y="18155"/>
                  <a:pt x="5010" y="15596"/>
                  <a:pt x="5010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e1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Rectangle 2" descr=""/>
          <p:cNvPicPr/>
          <p:nvPr/>
        </p:nvPicPr>
        <p:blipFill>
          <a:blip r:embed="rId1"/>
          <a:stretch/>
        </p:blipFill>
        <p:spPr>
          <a:xfrm>
            <a:off x="1542960" y="182520"/>
            <a:ext cx="7021440" cy="8175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1523880" y="1628640"/>
            <a:ext cx="701064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Tahoma"/>
              </a:rPr>
              <a:t>Узнай героя: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«Левая рука постоянно гладила молодецкие усы», «очи сурово надвинулись». «весь закипел от ярости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1714680" y="550080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Данила Бурульба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7"/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7493"/>
                </a:moveTo>
                <a:lnTo>
                  <a:pt x="9953" y="7493"/>
                </a:lnTo>
                <a:lnTo>
                  <a:pt x="9953" y="12828"/>
                </a:lnTo>
                <a:cubicBezTo>
                  <a:pt x="9953" y="13751"/>
                  <a:pt x="10754" y="14482"/>
                  <a:pt x="11790" y="14482"/>
                </a:cubicBezTo>
                <a:lnTo>
                  <a:pt x="13452" y="14482"/>
                </a:lnTo>
                <a:cubicBezTo>
                  <a:pt x="14488" y="14482"/>
                  <a:pt x="15289" y="13751"/>
                  <a:pt x="15289" y="12828"/>
                </a:cubicBezTo>
                <a:lnTo>
                  <a:pt x="15289" y="7493"/>
                </a:lnTo>
                <a:lnTo>
                  <a:pt x="13452" y="7493"/>
                </a:lnTo>
                <a:lnTo>
                  <a:pt x="16960" y="3985"/>
                </a:lnTo>
                <a:lnTo>
                  <a:pt x="20633" y="7493"/>
                </a:lnTo>
                <a:lnTo>
                  <a:pt x="18796" y="7493"/>
                </a:lnTo>
                <a:lnTo>
                  <a:pt x="18796" y="12828"/>
                </a:lnTo>
                <a:cubicBezTo>
                  <a:pt x="18796" y="15596"/>
                  <a:pt x="16220" y="18155"/>
                  <a:pt x="13452" y="18155"/>
                </a:cubicBezTo>
                <a:lnTo>
                  <a:pt x="11790" y="18155"/>
                </a:lnTo>
                <a:cubicBezTo>
                  <a:pt x="9022" y="18155"/>
                  <a:pt x="6446" y="15596"/>
                  <a:pt x="6446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2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e1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Rectangle 2" descr=""/>
          <p:cNvPicPr/>
          <p:nvPr/>
        </p:nvPicPr>
        <p:blipFill>
          <a:blip r:embed="rId1"/>
          <a:stretch/>
        </p:blipFill>
        <p:spPr>
          <a:xfrm>
            <a:off x="298440" y="255600"/>
            <a:ext cx="8699400" cy="847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Обратите внимание на жест и мимику героя, о чем они свидетельствуют?</a:t>
            </a:r>
            <a:r>
              <a:rPr b="1" lang="ru-RU" sz="3600" spc="-1" strike="noStrike">
                <a:solidFill>
                  <a:srgbClr val="0066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Левая рука постоянно гладила молодецкие усы», «очи сурово надвинулись». «весь закипел от ярости»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928800" y="5000760"/>
            <a:ext cx="79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Показывают нервозность, суровость и смелость геро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6"/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7493"/>
                </a:moveTo>
                <a:lnTo>
                  <a:pt x="8737" y="7493"/>
                </a:lnTo>
                <a:lnTo>
                  <a:pt x="8737" y="12828"/>
                </a:lnTo>
                <a:cubicBezTo>
                  <a:pt x="8737" y="13751"/>
                  <a:pt x="9538" y="14482"/>
                  <a:pt x="10573" y="14482"/>
                </a:cubicBezTo>
                <a:lnTo>
                  <a:pt x="12236" y="14482"/>
                </a:lnTo>
                <a:cubicBezTo>
                  <a:pt x="13271" y="14482"/>
                  <a:pt x="14072" y="13751"/>
                  <a:pt x="14072" y="12828"/>
                </a:cubicBezTo>
                <a:lnTo>
                  <a:pt x="14072" y="7493"/>
                </a:lnTo>
                <a:lnTo>
                  <a:pt x="12236" y="7493"/>
                </a:lnTo>
                <a:lnTo>
                  <a:pt x="15743" y="3985"/>
                </a:lnTo>
                <a:lnTo>
                  <a:pt x="19416" y="7493"/>
                </a:lnTo>
                <a:lnTo>
                  <a:pt x="17580" y="7493"/>
                </a:lnTo>
                <a:lnTo>
                  <a:pt x="17580" y="12828"/>
                </a:lnTo>
                <a:cubicBezTo>
                  <a:pt x="17580" y="15596"/>
                  <a:pt x="15003" y="18155"/>
                  <a:pt x="12236" y="18155"/>
                </a:cubicBezTo>
                <a:lnTo>
                  <a:pt x="10573" y="18155"/>
                </a:lnTo>
                <a:cubicBezTo>
                  <a:pt x="7805" y="18155"/>
                  <a:pt x="5229" y="15596"/>
                  <a:pt x="5229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20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20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e1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Rectangle 2" descr=""/>
          <p:cNvPicPr/>
          <p:nvPr/>
        </p:nvPicPr>
        <p:blipFill>
          <a:blip r:embed="rId1"/>
          <a:stretch/>
        </p:blipFill>
        <p:spPr>
          <a:xfrm>
            <a:off x="317520" y="182520"/>
            <a:ext cx="8697960" cy="90792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 txBox="1"/>
          <p:nvPr/>
        </p:nvSpPr>
        <p:spPr>
          <a:xfrm>
            <a:off x="822240" y="1600200"/>
            <a:ext cx="7864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Какие эмоции мы наблюдаем в реплике :«Колдун показался снова»,- </a:t>
            </a: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кричали </a:t>
            </a: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матери, </a:t>
            </a: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хватая на руки</a:t>
            </a: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 детей своих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1285920" y="528624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Страх за своих детей и него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7"/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6852" y="7493"/>
                </a:moveTo>
                <a:lnTo>
                  <a:pt x="10360" y="7493"/>
                </a:lnTo>
                <a:lnTo>
                  <a:pt x="10360" y="12828"/>
                </a:lnTo>
                <a:cubicBezTo>
                  <a:pt x="10360" y="13751"/>
                  <a:pt x="11161" y="14482"/>
                  <a:pt x="12197" y="14482"/>
                </a:cubicBezTo>
                <a:lnTo>
                  <a:pt x="13859" y="14482"/>
                </a:lnTo>
                <a:cubicBezTo>
                  <a:pt x="14895" y="14482"/>
                  <a:pt x="15695" y="13751"/>
                  <a:pt x="15695" y="12828"/>
                </a:cubicBezTo>
                <a:lnTo>
                  <a:pt x="15695" y="7493"/>
                </a:lnTo>
                <a:lnTo>
                  <a:pt x="13859" y="7493"/>
                </a:lnTo>
                <a:lnTo>
                  <a:pt x="17367" y="3985"/>
                </a:lnTo>
                <a:lnTo>
                  <a:pt x="21039" y="7493"/>
                </a:lnTo>
                <a:lnTo>
                  <a:pt x="19203" y="7493"/>
                </a:lnTo>
                <a:lnTo>
                  <a:pt x="19203" y="12828"/>
                </a:lnTo>
                <a:cubicBezTo>
                  <a:pt x="19203" y="15596"/>
                  <a:pt x="16627" y="18155"/>
                  <a:pt x="13859" y="18155"/>
                </a:cubicBezTo>
                <a:lnTo>
                  <a:pt x="12197" y="18155"/>
                </a:lnTo>
                <a:cubicBezTo>
                  <a:pt x="9429" y="18155"/>
                  <a:pt x="6852" y="15596"/>
                  <a:pt x="6852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e1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90828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«С удовольствием! Только у меня сейчас нету, я вам через недельку…или через две…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6" name="Text Box 4"/>
          <p:cNvSpPr/>
          <p:nvPr/>
        </p:nvSpPr>
        <p:spPr>
          <a:xfrm>
            <a:off x="611280" y="5877000"/>
            <a:ext cx="66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Удодов «Репетито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6"/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7493"/>
                </a:moveTo>
                <a:lnTo>
                  <a:pt x="8737" y="7493"/>
                </a:lnTo>
                <a:lnTo>
                  <a:pt x="8737" y="12828"/>
                </a:lnTo>
                <a:cubicBezTo>
                  <a:pt x="8737" y="13751"/>
                  <a:pt x="9538" y="14482"/>
                  <a:pt x="10573" y="14482"/>
                </a:cubicBezTo>
                <a:lnTo>
                  <a:pt x="12236" y="14482"/>
                </a:lnTo>
                <a:cubicBezTo>
                  <a:pt x="13271" y="14482"/>
                  <a:pt x="14072" y="13751"/>
                  <a:pt x="14072" y="12828"/>
                </a:cubicBezTo>
                <a:lnTo>
                  <a:pt x="14072" y="7493"/>
                </a:lnTo>
                <a:lnTo>
                  <a:pt x="12236" y="7493"/>
                </a:lnTo>
                <a:lnTo>
                  <a:pt x="15743" y="3985"/>
                </a:lnTo>
                <a:lnTo>
                  <a:pt x="19416" y="7493"/>
                </a:lnTo>
                <a:lnTo>
                  <a:pt x="17580" y="7493"/>
                </a:lnTo>
                <a:lnTo>
                  <a:pt x="17580" y="12828"/>
                </a:lnTo>
                <a:cubicBezTo>
                  <a:pt x="17580" y="15596"/>
                  <a:pt x="15003" y="18155"/>
                  <a:pt x="12236" y="18155"/>
                </a:cubicBezTo>
                <a:lnTo>
                  <a:pt x="10573" y="18155"/>
                </a:lnTo>
                <a:cubicBezTo>
                  <a:pt x="7805" y="18155"/>
                  <a:pt x="5229" y="15596"/>
                  <a:pt x="5229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e1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WordArt 2"/>
          <p:cNvSpPr txBox="1"/>
          <p:nvPr/>
        </p:nvSpPr>
        <p:spPr>
          <a:xfrm>
            <a:off x="611280" y="1484280"/>
            <a:ext cx="78483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Спасибо за игру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79" name="j0212796.wav" descr=""/>
          <p:cNvPicPr/>
          <p:nvPr/>
        </p:nvPicPr>
        <p:blipFill>
          <a:blip r:embed="rId1"/>
          <a:stretch/>
        </p:blipFill>
        <p:spPr>
          <a:xfrm>
            <a:off x="7956720" y="5805360"/>
            <a:ext cx="664920" cy="6652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31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419120" cy="1841400"/>
          </a:xfrm>
          <a:prstGeom prst="rect">
            <a:avLst/>
          </a:prstGeom>
          <a:ln w="22320">
            <a:solidFill>
              <a:srgbClr val="e2ac7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4745" fill="hold"/>
                                        <p:tgtEl>
                                          <p:spTgt spid="4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e1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"/>
          <p:cNvGraphicFramePr/>
          <p:nvPr/>
        </p:nvGraphicFramePr>
        <p:xfrm>
          <a:off x="179280" y="476280"/>
          <a:ext cx="8640720" cy="5975280"/>
        </p:xfrm>
        <a:graphic>
          <a:graphicData uri="http://schemas.openxmlformats.org/drawingml/2006/table">
            <a:tbl>
              <a:tblPr/>
              <a:tblGrid>
                <a:gridCol w="2664000"/>
                <a:gridCol w="1512720"/>
                <a:gridCol w="1584360"/>
                <a:gridCol w="1511280"/>
                <a:gridCol w="136836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03b14"/>
                          </a:solidFill>
                          <a:latin typeface="Arial"/>
                        </a:rPr>
                        <a:t>    </a:t>
                      </a:r>
                      <a:r>
                        <a:rPr b="1" i="1" lang="ru-RU" sz="2000" spc="-1" strike="noStrike">
                          <a:solidFill>
                            <a:srgbClr val="603b14"/>
                          </a:solidFill>
                          <a:latin typeface="Arial"/>
                        </a:rPr>
                        <a:t>«Майская ночь, или Утопленниц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ad1f1f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ad1f1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ad1f1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ad1f1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03b14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603b14"/>
                          </a:solidFill>
                          <a:latin typeface="Arial"/>
                        </a:rPr>
                        <a:t>«Ночь перед Рождеством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ad1f1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ad1f1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ad1f1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ad1f1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03b14"/>
                          </a:solidFill>
                          <a:latin typeface="Arial"/>
                        </a:rPr>
                        <a:t>«Сорочинская ярмарк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ad1f1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ad1f1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ad1f1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ad1f1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03b14"/>
                          </a:solidFill>
                          <a:latin typeface="Arial"/>
                        </a:rPr>
                        <a:t>«Заколдованное место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ad1f1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ad1f1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ad1f1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AutoShape 35">
            <a:hlinkClick r:id="" action="ppaction://hlinkshowjump?jump=lastslide"/>
          </p:cNvPr>
          <p:cNvSpPr/>
          <p:nvPr/>
        </p:nvSpPr>
        <p:spPr>
          <a:xfrm>
            <a:off x="860436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e1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-55440" y="182520"/>
            <a:ext cx="9083520" cy="93996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3"/>
          <p:cNvSpPr/>
          <p:nvPr/>
        </p:nvSpPr>
        <p:spPr>
          <a:xfrm>
            <a:off x="826920" y="1773360"/>
            <a:ext cx="73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Узнай героя по описанию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«… угрюм, суров с виду, не любит много говорить, не любит щеголять, вдов, крив, любит иногда притворяться глухи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539640" y="558972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Го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6">
            <a:hlinkClick r:id="" action="ppaction://hlinkshowjump?jump=previousslide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7493"/>
                </a:moveTo>
                <a:lnTo>
                  <a:pt x="9953" y="7493"/>
                </a:lnTo>
                <a:lnTo>
                  <a:pt x="9953" y="12828"/>
                </a:lnTo>
                <a:cubicBezTo>
                  <a:pt x="9953" y="13751"/>
                  <a:pt x="10754" y="14482"/>
                  <a:pt x="11790" y="14482"/>
                </a:cubicBezTo>
                <a:lnTo>
                  <a:pt x="13452" y="14482"/>
                </a:lnTo>
                <a:cubicBezTo>
                  <a:pt x="14488" y="14482"/>
                  <a:pt x="15289" y="13751"/>
                  <a:pt x="15289" y="12828"/>
                </a:cubicBezTo>
                <a:lnTo>
                  <a:pt x="15289" y="7493"/>
                </a:lnTo>
                <a:lnTo>
                  <a:pt x="13452" y="7493"/>
                </a:lnTo>
                <a:lnTo>
                  <a:pt x="16960" y="3985"/>
                </a:lnTo>
                <a:lnTo>
                  <a:pt x="20633" y="7493"/>
                </a:lnTo>
                <a:lnTo>
                  <a:pt x="18796" y="7493"/>
                </a:lnTo>
                <a:lnTo>
                  <a:pt x="18796" y="12828"/>
                </a:lnTo>
                <a:cubicBezTo>
                  <a:pt x="18796" y="15596"/>
                  <a:pt x="16220" y="18155"/>
                  <a:pt x="13452" y="18155"/>
                </a:cubicBezTo>
                <a:lnTo>
                  <a:pt x="11790" y="18155"/>
                </a:lnTo>
                <a:cubicBezTo>
                  <a:pt x="9022" y="18155"/>
                  <a:pt x="6446" y="15596"/>
                  <a:pt x="6446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e1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66600" y="182520"/>
            <a:ext cx="8944200" cy="9399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Franklin Gothic Book"/>
              </a:rPr>
              <a:t>КТО ЭТО?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«В пестрядевых шароварах и жилете цвету винных дрожжей, сопровождающий свой рассказ протягиванием шеи и приведением ее в тот же час в прежнее состояние»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684360" y="5229360"/>
            <a:ext cx="77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Пис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6"/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7493"/>
                </a:moveTo>
                <a:lnTo>
                  <a:pt x="12016" y="7493"/>
                </a:lnTo>
                <a:lnTo>
                  <a:pt x="12016" y="12828"/>
                </a:lnTo>
                <a:cubicBezTo>
                  <a:pt x="12016" y="13751"/>
                  <a:pt x="12817" y="14482"/>
                  <a:pt x="13852" y="14482"/>
                </a:cubicBezTo>
                <a:lnTo>
                  <a:pt x="15515" y="14482"/>
                </a:lnTo>
                <a:cubicBezTo>
                  <a:pt x="16551" y="14482"/>
                  <a:pt x="17351" y="13751"/>
                  <a:pt x="17351" y="12828"/>
                </a:cubicBezTo>
                <a:lnTo>
                  <a:pt x="17351" y="7493"/>
                </a:lnTo>
                <a:lnTo>
                  <a:pt x="15515" y="7493"/>
                </a:lnTo>
                <a:lnTo>
                  <a:pt x="19022" y="3985"/>
                </a:lnTo>
                <a:lnTo>
                  <a:pt x="22695" y="7493"/>
                </a:lnTo>
                <a:lnTo>
                  <a:pt x="20859" y="7493"/>
                </a:lnTo>
                <a:lnTo>
                  <a:pt x="20859" y="12828"/>
                </a:lnTo>
                <a:cubicBezTo>
                  <a:pt x="20859" y="15596"/>
                  <a:pt x="18283" y="18155"/>
                  <a:pt x="15515" y="18155"/>
                </a:cubicBezTo>
                <a:lnTo>
                  <a:pt x="13852" y="18155"/>
                </a:lnTo>
                <a:cubicBezTo>
                  <a:pt x="11085" y="18155"/>
                  <a:pt x="8508" y="15596"/>
                  <a:pt x="8508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e1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189000" y="182520"/>
            <a:ext cx="8961480" cy="9399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Для чего автор использует следующий жест: «Вишь, как ругается!»,- сказал парубок, </a:t>
            </a: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беспокойно глядя на нее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755640" y="371628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Чтобы показать любопытство и интерес к гер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7"/>
          <p:cNvSpPr/>
          <p:nvPr/>
        </p:nvSpPr>
        <p:spPr>
          <a:xfrm>
            <a:off x="8532720" y="6453360"/>
            <a:ext cx="611280" cy="40464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2621" h="21600">
                <a:moveTo>
                  <a:pt x="0" y="0"/>
                </a:moveTo>
                <a:lnTo>
                  <a:pt x="32621" y="0"/>
                </a:lnTo>
                <a:lnTo>
                  <a:pt x="32621" y="21600"/>
                </a:lnTo>
                <a:lnTo>
                  <a:pt x="0" y="21600"/>
                </a:lnTo>
                <a:close/>
              </a:path>
              <a:path fill="lightenLess" w="32621" h="21600">
                <a:moveTo>
                  <a:pt x="0" y="0"/>
                </a:moveTo>
                <a:lnTo>
                  <a:pt x="32621" y="0"/>
                </a:lnTo>
                <a:lnTo>
                  <a:pt x="31221" y="1400"/>
                </a:lnTo>
                <a:lnTo>
                  <a:pt x="1400" y="1400"/>
                </a:lnTo>
                <a:close/>
              </a:path>
              <a:path fill="darken" w="32621" h="21600">
                <a:moveTo>
                  <a:pt x="32621" y="0"/>
                </a:moveTo>
                <a:lnTo>
                  <a:pt x="32621" y="21600"/>
                </a:lnTo>
                <a:lnTo>
                  <a:pt x="31221" y="20200"/>
                </a:lnTo>
                <a:lnTo>
                  <a:pt x="31221" y="1400"/>
                </a:lnTo>
                <a:close/>
              </a:path>
              <a:path fill="darkenLess" w="32621" h="21600">
                <a:moveTo>
                  <a:pt x="32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21" y="20200"/>
                </a:lnTo>
                <a:close/>
              </a:path>
              <a:path fill="lighten" w="32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21" h="21600">
                <a:moveTo>
                  <a:pt x="9304" y="7493"/>
                </a:moveTo>
                <a:lnTo>
                  <a:pt x="12812" y="7493"/>
                </a:lnTo>
                <a:lnTo>
                  <a:pt x="12812" y="12828"/>
                </a:lnTo>
                <a:cubicBezTo>
                  <a:pt x="12812" y="13751"/>
                  <a:pt x="13612" y="14482"/>
                  <a:pt x="14648" y="14482"/>
                </a:cubicBezTo>
                <a:lnTo>
                  <a:pt x="16310" y="14482"/>
                </a:lnTo>
                <a:cubicBezTo>
                  <a:pt x="17346" y="14482"/>
                  <a:pt x="18147" y="13751"/>
                  <a:pt x="18147" y="12828"/>
                </a:cubicBezTo>
                <a:lnTo>
                  <a:pt x="18147" y="7493"/>
                </a:lnTo>
                <a:lnTo>
                  <a:pt x="16310" y="7493"/>
                </a:lnTo>
                <a:lnTo>
                  <a:pt x="19818" y="3985"/>
                </a:lnTo>
                <a:lnTo>
                  <a:pt x="23491" y="7493"/>
                </a:lnTo>
                <a:lnTo>
                  <a:pt x="21654" y="7493"/>
                </a:lnTo>
                <a:lnTo>
                  <a:pt x="21654" y="12828"/>
                </a:lnTo>
                <a:cubicBezTo>
                  <a:pt x="21654" y="15596"/>
                  <a:pt x="19078" y="18155"/>
                  <a:pt x="16310" y="18155"/>
                </a:cubicBezTo>
                <a:lnTo>
                  <a:pt x="14648" y="18155"/>
                </a:lnTo>
                <a:cubicBezTo>
                  <a:pt x="11880" y="18155"/>
                  <a:pt x="9304" y="15596"/>
                  <a:pt x="9304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e1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Rectangle 2" descr=""/>
          <p:cNvPicPr/>
          <p:nvPr/>
        </p:nvPicPr>
        <p:blipFill>
          <a:blip r:embed="rId1"/>
          <a:stretch/>
        </p:blipFill>
        <p:spPr>
          <a:xfrm>
            <a:off x="158760" y="281160"/>
            <a:ext cx="8955000" cy="79848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28760" y="999720"/>
            <a:ext cx="8215200" cy="23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Franklin Gothic Book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Franklin Gothic Book"/>
              </a:rPr>
              <a:t>Легко отличить зло, если оно с рогами или копытами или со свиным рылом. Но очень часто зло скрывается под обычной человеческой личиной. Как его тогда распознать?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Franklin Gothic Book"/>
              </a:rPr>
              <a:t>	</a:t>
            </a:r>
            <a:r>
              <a:rPr b="1" lang="ru-RU" sz="2800" spc="-1" strike="noStrike">
                <a:solidFill>
                  <a:srgbClr val="0000ff"/>
                </a:solidFill>
                <a:latin typeface="Franklin Gothic Book"/>
              </a:rPr>
              <a:t>Кто из героев повести – воплощение зла? Как ее описывает автор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826920" y="3645000"/>
            <a:ext cx="676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6"/>
          <p:cNvSpPr/>
          <p:nvPr/>
        </p:nvSpPr>
        <p:spPr>
          <a:xfrm>
            <a:off x="8532720" y="6453360"/>
            <a:ext cx="611280" cy="40464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2621" h="21600">
                <a:moveTo>
                  <a:pt x="0" y="0"/>
                </a:moveTo>
                <a:lnTo>
                  <a:pt x="32621" y="0"/>
                </a:lnTo>
                <a:lnTo>
                  <a:pt x="32621" y="21600"/>
                </a:lnTo>
                <a:lnTo>
                  <a:pt x="0" y="21600"/>
                </a:lnTo>
                <a:close/>
              </a:path>
              <a:path fill="lightenLess" w="32621" h="21600">
                <a:moveTo>
                  <a:pt x="0" y="0"/>
                </a:moveTo>
                <a:lnTo>
                  <a:pt x="32621" y="0"/>
                </a:lnTo>
                <a:lnTo>
                  <a:pt x="31221" y="1400"/>
                </a:lnTo>
                <a:lnTo>
                  <a:pt x="1400" y="1400"/>
                </a:lnTo>
                <a:close/>
              </a:path>
              <a:path fill="darken" w="32621" h="21600">
                <a:moveTo>
                  <a:pt x="32621" y="0"/>
                </a:moveTo>
                <a:lnTo>
                  <a:pt x="32621" y="21600"/>
                </a:lnTo>
                <a:lnTo>
                  <a:pt x="31221" y="20200"/>
                </a:lnTo>
                <a:lnTo>
                  <a:pt x="31221" y="1400"/>
                </a:lnTo>
                <a:close/>
              </a:path>
              <a:path fill="darkenLess" w="32621" h="21600">
                <a:moveTo>
                  <a:pt x="32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21" y="20200"/>
                </a:lnTo>
                <a:close/>
              </a:path>
              <a:path fill="lighten" w="32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21" h="21600">
                <a:moveTo>
                  <a:pt x="9304" y="7493"/>
                </a:moveTo>
                <a:lnTo>
                  <a:pt x="12812" y="7493"/>
                </a:lnTo>
                <a:lnTo>
                  <a:pt x="12812" y="12828"/>
                </a:lnTo>
                <a:cubicBezTo>
                  <a:pt x="12812" y="13751"/>
                  <a:pt x="13612" y="14482"/>
                  <a:pt x="14648" y="14482"/>
                </a:cubicBezTo>
                <a:lnTo>
                  <a:pt x="16310" y="14482"/>
                </a:lnTo>
                <a:cubicBezTo>
                  <a:pt x="17346" y="14482"/>
                  <a:pt x="18147" y="13751"/>
                  <a:pt x="18147" y="12828"/>
                </a:cubicBezTo>
                <a:lnTo>
                  <a:pt x="18147" y="7493"/>
                </a:lnTo>
                <a:lnTo>
                  <a:pt x="16310" y="7493"/>
                </a:lnTo>
                <a:lnTo>
                  <a:pt x="19818" y="3985"/>
                </a:lnTo>
                <a:lnTo>
                  <a:pt x="23491" y="7493"/>
                </a:lnTo>
                <a:lnTo>
                  <a:pt x="21654" y="7493"/>
                </a:lnTo>
                <a:lnTo>
                  <a:pt x="21654" y="12828"/>
                </a:lnTo>
                <a:cubicBezTo>
                  <a:pt x="21654" y="15596"/>
                  <a:pt x="19078" y="18155"/>
                  <a:pt x="16310" y="18155"/>
                </a:cubicBezTo>
                <a:lnTo>
                  <a:pt x="14648" y="18155"/>
                </a:lnTo>
                <a:cubicBezTo>
                  <a:pt x="11880" y="18155"/>
                  <a:pt x="9304" y="15596"/>
                  <a:pt x="9304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285840" y="3429000"/>
            <a:ext cx="8572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ачеха,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«румяна и бела была собой молодая жена, только так страшно взглянула на свою падчерицу, что та вскрикнула ее увидевши; и хоть бы слово во весь день сказала суровая мачех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e1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182520" y="208080"/>
            <a:ext cx="8699400" cy="76176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56760" y="4786200"/>
            <a:ext cx="34290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Сколько лет было Оксане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AutoShape 8"/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7493"/>
                </a:moveTo>
                <a:lnTo>
                  <a:pt x="8737" y="7493"/>
                </a:lnTo>
                <a:lnTo>
                  <a:pt x="8737" y="12828"/>
                </a:lnTo>
                <a:cubicBezTo>
                  <a:pt x="8737" y="13751"/>
                  <a:pt x="9538" y="14482"/>
                  <a:pt x="10573" y="14482"/>
                </a:cubicBezTo>
                <a:lnTo>
                  <a:pt x="12236" y="14482"/>
                </a:lnTo>
                <a:cubicBezTo>
                  <a:pt x="13271" y="14482"/>
                  <a:pt x="14072" y="13751"/>
                  <a:pt x="14072" y="12828"/>
                </a:cubicBezTo>
                <a:lnTo>
                  <a:pt x="14072" y="7493"/>
                </a:lnTo>
                <a:lnTo>
                  <a:pt x="12236" y="7493"/>
                </a:lnTo>
                <a:lnTo>
                  <a:pt x="15743" y="3985"/>
                </a:lnTo>
                <a:lnTo>
                  <a:pt x="19416" y="7493"/>
                </a:lnTo>
                <a:lnTo>
                  <a:pt x="17580" y="7493"/>
                </a:lnTo>
                <a:lnTo>
                  <a:pt x="17580" y="12828"/>
                </a:lnTo>
                <a:cubicBezTo>
                  <a:pt x="17580" y="15596"/>
                  <a:pt x="15003" y="18155"/>
                  <a:pt x="12236" y="18155"/>
                </a:cubicBezTo>
                <a:lnTo>
                  <a:pt x="10573" y="18155"/>
                </a:lnTo>
                <a:cubicBezTo>
                  <a:pt x="7805" y="18155"/>
                  <a:pt x="5229" y="15596"/>
                  <a:pt x="5229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WordArt 12"/>
          <p:cNvSpPr txBox="1"/>
          <p:nvPr/>
        </p:nvSpPr>
        <p:spPr>
          <a:xfrm>
            <a:off x="4716360" y="2349360"/>
            <a:ext cx="3051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2060"/>
                </a:solidFill>
                <a:latin typeface="Impact"/>
              </a:rPr>
              <a:t>16-17л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2060"/>
              </a:solidFill>
              <a:latin typeface="Impact"/>
              <a:ea typeface="Impact"/>
            </a:endParaRPr>
          </a:p>
        </p:txBody>
      </p:sp>
      <p:pic>
        <p:nvPicPr>
          <p:cNvPr id="427" name="Picture 13" descr="ааааа"/>
          <p:cNvPicPr/>
          <p:nvPr/>
        </p:nvPicPr>
        <p:blipFill>
          <a:blip r:embed="rId2"/>
          <a:stretch/>
        </p:blipFill>
        <p:spPr>
          <a:xfrm>
            <a:off x="571680" y="1143000"/>
            <a:ext cx="35636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e1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298440" y="255600"/>
            <a:ext cx="8699400" cy="78120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4"/>
          <p:cNvSpPr/>
          <p:nvPr/>
        </p:nvSpPr>
        <p:spPr>
          <a:xfrm>
            <a:off x="1042920" y="5300640"/>
            <a:ext cx="4249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WordArt 9"/>
          <p:cNvSpPr txBox="1"/>
          <p:nvPr/>
        </p:nvSpPr>
        <p:spPr>
          <a:xfrm>
            <a:off x="5143680" y="4643280"/>
            <a:ext cx="3214440" cy="11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Оксан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1" name="AutoShape 10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7675"/>
                </a:moveTo>
                <a:lnTo>
                  <a:pt x="7301" y="7675"/>
                </a:lnTo>
                <a:lnTo>
                  <a:pt x="7301" y="13010"/>
                </a:lnTo>
                <a:cubicBezTo>
                  <a:pt x="7301" y="13933"/>
                  <a:pt x="8102" y="14664"/>
                  <a:pt x="9138" y="14664"/>
                </a:cubicBezTo>
                <a:lnTo>
                  <a:pt x="10800" y="14664"/>
                </a:lnTo>
                <a:cubicBezTo>
                  <a:pt x="11836" y="14664"/>
                  <a:pt x="12636" y="13933"/>
                  <a:pt x="12636" y="13010"/>
                </a:cubicBezTo>
                <a:lnTo>
                  <a:pt x="12636" y="7675"/>
                </a:lnTo>
                <a:lnTo>
                  <a:pt x="10800" y="7675"/>
                </a:lnTo>
                <a:lnTo>
                  <a:pt x="14308" y="4167"/>
                </a:lnTo>
                <a:lnTo>
                  <a:pt x="17981" y="7675"/>
                </a:lnTo>
                <a:lnTo>
                  <a:pt x="16144" y="7675"/>
                </a:lnTo>
                <a:lnTo>
                  <a:pt x="16144" y="13010"/>
                </a:lnTo>
                <a:cubicBezTo>
                  <a:pt x="16144" y="15778"/>
                  <a:pt x="13568" y="18337"/>
                  <a:pt x="10800" y="18337"/>
                </a:cubicBezTo>
                <a:lnTo>
                  <a:pt x="9138" y="18337"/>
                </a:lnTo>
                <a:cubicBezTo>
                  <a:pt x="6370" y="18337"/>
                  <a:pt x="3794" y="15778"/>
                  <a:pt x="3794" y="1301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9"/>
          <p:cNvSpPr/>
          <p:nvPr/>
        </p:nvSpPr>
        <p:spPr>
          <a:xfrm>
            <a:off x="4714920" y="1643040"/>
            <a:ext cx="4000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10"/>
          <p:cNvSpPr/>
          <p:nvPr/>
        </p:nvSpPr>
        <p:spPr>
          <a:xfrm>
            <a:off x="4357800" y="1285920"/>
            <a:ext cx="4286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Lucida Sans"/>
              </a:rPr>
              <a:t>Кому принадлежала «невыразимо приятная усмешка, прожигавшая душу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2"/>
          <a:stretch/>
        </p:blipFill>
        <p:spPr>
          <a:xfrm>
            <a:off x="357120" y="1285920"/>
            <a:ext cx="36147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e1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Rectangle 2" descr=""/>
          <p:cNvPicPr/>
          <p:nvPr/>
        </p:nvPicPr>
        <p:blipFill>
          <a:blip r:embed="rId1"/>
          <a:stretch/>
        </p:blipFill>
        <p:spPr>
          <a:xfrm>
            <a:off x="298440" y="231840"/>
            <a:ext cx="8699400" cy="768240"/>
          </a:xfrm>
          <a:prstGeom prst="rect">
            <a:avLst/>
          </a:prstGeom>
          <a:ln w="0">
            <a:noFill/>
          </a:ln>
        </p:spPr>
      </p:pic>
      <p:sp>
        <p:nvSpPr>
          <p:cNvPr id="436" name="WordArt 6"/>
          <p:cNvSpPr txBox="1"/>
          <p:nvPr/>
        </p:nvSpPr>
        <p:spPr>
          <a:xfrm>
            <a:off x="357120" y="3714840"/>
            <a:ext cx="46054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Narrow"/>
              </a:rPr>
              <a:t>Смутилась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 Narrow"/>
              <a:ea typeface="Arial Narrow"/>
            </a:endParaRPr>
          </a:p>
        </p:txBody>
      </p:sp>
      <p:sp>
        <p:nvSpPr>
          <p:cNvPr id="437" name="AutoShape 7"/>
          <p:cNvSpPr/>
          <p:nvPr/>
        </p:nvSpPr>
        <p:spPr>
          <a:xfrm>
            <a:off x="860436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7493"/>
                </a:moveTo>
                <a:lnTo>
                  <a:pt x="10901" y="7493"/>
                </a:lnTo>
                <a:lnTo>
                  <a:pt x="10901" y="12828"/>
                </a:lnTo>
                <a:cubicBezTo>
                  <a:pt x="10901" y="13751"/>
                  <a:pt x="11702" y="14482"/>
                  <a:pt x="12738" y="14482"/>
                </a:cubicBezTo>
                <a:lnTo>
                  <a:pt x="14400" y="14482"/>
                </a:lnTo>
                <a:cubicBezTo>
                  <a:pt x="15436" y="14482"/>
                  <a:pt x="16236" y="13751"/>
                  <a:pt x="16236" y="12828"/>
                </a:cubicBezTo>
                <a:lnTo>
                  <a:pt x="16236" y="7493"/>
                </a:lnTo>
                <a:lnTo>
                  <a:pt x="14400" y="7493"/>
                </a:lnTo>
                <a:lnTo>
                  <a:pt x="17908" y="3985"/>
                </a:lnTo>
                <a:lnTo>
                  <a:pt x="21581" y="7493"/>
                </a:lnTo>
                <a:lnTo>
                  <a:pt x="19744" y="7493"/>
                </a:lnTo>
                <a:lnTo>
                  <a:pt x="19744" y="12828"/>
                </a:lnTo>
                <a:cubicBezTo>
                  <a:pt x="19744" y="15596"/>
                  <a:pt x="17168" y="18155"/>
                  <a:pt x="14400" y="18155"/>
                </a:cubicBezTo>
                <a:lnTo>
                  <a:pt x="12738" y="18155"/>
                </a:lnTo>
                <a:cubicBezTo>
                  <a:pt x="9970" y="18155"/>
                  <a:pt x="7394" y="15596"/>
                  <a:pt x="7394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3" descr=""/>
          <p:cNvPicPr/>
          <p:nvPr/>
        </p:nvPicPr>
        <p:blipFill>
          <a:blip r:embed="rId2"/>
          <a:stretch/>
        </p:blipFill>
        <p:spPr>
          <a:xfrm>
            <a:off x="5500800" y="3286080"/>
            <a:ext cx="3024000" cy="2286000"/>
          </a:xfrm>
          <a:prstGeom prst="rect">
            <a:avLst/>
          </a:prstGeom>
          <a:ln w="0">
            <a:noFill/>
          </a:ln>
        </p:spPr>
      </p:pic>
      <p:sp>
        <p:nvSpPr>
          <p:cNvPr id="439" name="TextBox 9"/>
          <p:cNvSpPr/>
          <p:nvPr/>
        </p:nvSpPr>
        <p:spPr>
          <a:xfrm>
            <a:off x="1000080" y="1143000"/>
            <a:ext cx="721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"/>
              </a:rPr>
              <a:t>Как изменилось отношение Оксаны к Вакуле, когда она узнала, что потеряла ег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14:22:03Z</dcterms:created>
  <dc:creator>User</dc:creator>
  <dc:description/>
  <dc:language>en-US</dc:language>
  <cp:lastModifiedBy>TVOsennih</cp:lastModifiedBy>
  <dcterms:modified xsi:type="dcterms:W3CDTF">2013-03-27T06:26:00Z</dcterms:modified>
  <cp:revision>86</cp:revision>
  <dc:subject/>
  <dc:title>Слайд 1</dc:title>
</cp:coreProperties>
</file>