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29F-375E-4620-B2F9-EE3BEAB1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D0E-B971-4299-89AB-AC5E0BA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790-1001-4540-BBE5-4E4BEA35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759-D5A2-4666-BBB8-2CCCA280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BFD2-9739-420F-9CC5-03B9BC62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AEFE-F5EF-453D-993F-3AB2CA6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0E59-2A1F-4690-9850-615F373C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00C-ADC9-4ED1-8A67-AF71C8E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735A-7C34-486C-B0C8-8121ED0C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864D-1EE8-4C8B-8AF1-212B1527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8257-A2E8-448E-A534-176B4CA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7FB-1CEC-4F55-B53C-23535487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31FF-AF1F-4D34-995A-3007FF9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EA7B-B072-4E5D-A5CA-195607B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673-EE95-4AFF-ACD4-99334C19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5E9-3376-4BD9-9AB0-021AC4EB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153D-4C17-44C9-BCED-6997F48A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5C4-850F-43B7-AFFA-2C36A207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D9C-F6D9-4FC4-AF81-659639CE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B2F-53CA-4AB4-A71F-94D84C75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A40-7C2C-4BB7-BF38-D7D58C70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062-4CE8-4633-AD57-2D9EFD0E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75A-8D79-41E2-83EA-CF894EB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297-38A1-437E-A679-745A9815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E971-5A74-419B-ADAE-A915CEEB3F8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4135-A6D6-4A93-B561-DD1104712BF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idstore.ru/" TargetMode="External"/><Relationship Id="rId2" Type="http://schemas.openxmlformats.org/officeDocument/2006/relationships/hyperlink" Target="http://kupi-kolyasku.ru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kusherstvo.ru/" TargetMode="External"/><Relationship Id="rId2" Type="http://schemas.openxmlformats.org/officeDocument/2006/relationships/hyperlink" Target="http://akusherstvo.ru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8f8f8"/>
                </a:solidFill>
                <a:latin typeface="Tahoma"/>
              </a:rPr>
              <a:t>Кукла-оберег.</a:t>
            </a:r>
            <a:endParaRPr b="0" lang="en-US" sz="8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0" name="" descr="создание куклы-оберега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квадрат выкладываем ветошь и аккуратно заворачиваем, делая упругий шарик (это голова куклы), перетягиваем его нитью и выравниваем низ, делая не очень длинным.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4" name="" descr="создание куклы-оберега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7" name="" descr="создание куклы-оберега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" descr="создание куклы-оберега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тороны полоски из ткани белого цвета сгибаем к его середине, затем пополам, чтобы получилась полоска шириной 1 см.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" descr="куклы оберег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4724280" cy="354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уклы обереги своими руками"/>
          <p:cNvPicPr/>
          <p:nvPr/>
        </p:nvPicPr>
        <p:blipFill>
          <a:blip r:embed="rId2"/>
          <a:stretch/>
        </p:blipFill>
        <p:spPr>
          <a:xfrm>
            <a:off x="4514760" y="0"/>
            <a:ext cx="46292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язываем посередине этой полосы не очень тугой узелок – это руки куколк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9" name="" descr="создание куклы-оберега"/>
          <p:cNvPicPr/>
          <p:nvPr/>
        </p:nvPicPr>
        <p:blipFill>
          <a:blip r:embed="rId1"/>
          <a:stretch/>
        </p:blipFill>
        <p:spPr>
          <a:xfrm>
            <a:off x="1523880" y="1676520"/>
            <a:ext cx="647712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чно такую же полоску делаем из цветной полосы – получился повойник, который надевается на голову тряпичной куклы оберег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2" name="" descr="кукла-оберег изготовление"/>
          <p:cNvPicPr/>
          <p:nvPr/>
        </p:nvPicPr>
        <p:blipFill>
          <a:blip r:embed="rId1"/>
          <a:stretch/>
        </p:blipFill>
        <p:spPr>
          <a:xfrm>
            <a:off x="2590920" y="289548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так, у нас получилась заготовка куклы, две полоски (цветная и с узелком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5" name="" descr="тряпичная кукла оберег мастер-класс"/>
          <p:cNvPicPr/>
          <p:nvPr/>
        </p:nvPicPr>
        <p:blipFill>
          <a:blip r:embed="rId1"/>
          <a:stretch/>
        </p:blipFill>
        <p:spPr>
          <a:xfrm>
            <a:off x="1447920" y="1523880"/>
            <a:ext cx="67053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глубокой древности у кукол было другое предназначение, она была человеку защитой от болезней, несчастий, злых духов. 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Кукл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берегла человека, ее так и называли: оберег или берегиня. Как правило, самыми охранными были 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кукл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выполненные без иглы и ножниц. Ткань старались при изготовлении кукол не резать, а рвать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ойник надеваем на голову и перевязываем на шее нитью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8" name="" descr="тряпичная кукла оберег мастер-класс"/>
          <p:cNvPicPr/>
          <p:nvPr/>
        </p:nvPicPr>
        <p:blipFill>
          <a:blip r:embed="rId1"/>
          <a:stretch/>
        </p:blipFill>
        <p:spPr>
          <a:xfrm>
            <a:off x="152280" y="2743200"/>
            <a:ext cx="409572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тряпичная кукла оберег мастер-класс"/>
          <p:cNvPicPr/>
          <p:nvPr/>
        </p:nvPicPr>
        <p:blipFill>
          <a:blip r:embed="rId2"/>
          <a:stretch/>
        </p:blipFill>
        <p:spPr>
          <a:xfrm>
            <a:off x="4267080" y="274320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цветного круга делаем юбку: по краю окружности собираем ткань на нитку. В центр кладем нитки (можно пряжу), ветошь, а поверх всего этого монетку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2" name="" descr="изготовление славянской куклы оберега"/>
          <p:cNvPicPr/>
          <p:nvPr/>
        </p:nvPicPr>
        <p:blipFill>
          <a:blip r:embed="rId1"/>
          <a:stretch/>
        </p:blipFill>
        <p:spPr>
          <a:xfrm>
            <a:off x="1676520" y="2451240"/>
            <a:ext cx="58672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жаем туда же заготовку куклы, затягиваем края юбочки, и перевязываем нитью на шее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5" name="" descr="изготовление славянской куклы оберега"/>
          <p:cNvPicPr/>
          <p:nvPr/>
        </p:nvPicPr>
        <p:blipFill>
          <a:blip r:embed="rId1"/>
          <a:stretch/>
        </p:blipFill>
        <p:spPr>
          <a:xfrm>
            <a:off x="1295280" y="1981080"/>
            <a:ext cx="61722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голову надеваем белую полоску с узелком так, чтобы узел располагался на макушк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8" name="" descr="изготовление славянской куклы оберега"/>
          <p:cNvPicPr/>
          <p:nvPr/>
        </p:nvPicPr>
        <p:blipFill>
          <a:blip r:embed="rId1"/>
          <a:stretch/>
        </p:blipFill>
        <p:spPr>
          <a:xfrm>
            <a:off x="1219320" y="1992240"/>
            <a:ext cx="64767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вязываем полоску нитью на шее, опускаем с головы узелок (руки), излишки полосы с оборотной стороны отрезаем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1" name="" descr="куклы обереги своими руками"/>
          <p:cNvPicPr/>
          <p:nvPr/>
        </p:nvPicPr>
        <p:blipFill>
          <a:blip r:embed="rId1"/>
          <a:stretch/>
        </p:blipFill>
        <p:spPr>
          <a:xfrm>
            <a:off x="1676520" y="239400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кань в форме треугольника (платок) надеваем на голову куклы и завязываем сзади. Вот как сделать куклу оберег для своего дом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4" name="" descr="куклы обереги своими руками"/>
          <p:cNvPicPr/>
          <p:nvPr/>
        </p:nvPicPr>
        <p:blipFill>
          <a:blip r:embed="rId1"/>
          <a:stretch/>
        </p:blipFill>
        <p:spPr>
          <a:xfrm>
            <a:off x="1143000" y="2451240"/>
            <a:ext cx="58672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7" name="" descr="куклы обереги своими руками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уколка Пеленашк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рупенич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Крупеничка"/>
          <p:cNvPicPr/>
          <p:nvPr/>
        </p:nvPicPr>
        <p:blipFill>
          <a:blip r:embed="rId1"/>
          <a:stretch/>
        </p:blipFill>
        <p:spPr>
          <a:xfrm>
            <a:off x="2666880" y="1295280"/>
            <a:ext cx="3940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олстушка-Костромуш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оберег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О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одиночеств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Толстушка-Костромушка"/>
          <p:cNvPicPr/>
          <p:nvPr/>
        </p:nvPicPr>
        <p:blipFill>
          <a:blip r:embed="rId1"/>
          <a:stretch/>
        </p:blipFill>
        <p:spPr>
          <a:xfrm>
            <a:off x="3584520" y="1676520"/>
            <a:ext cx="4492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На Счасть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В 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кукле</a:t>
            </a: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 Счастье главное − это волосы, в них женская сила. Коса закручивается вверх и служит опоройкукле, делая её устойчивой. Немногие традиционные народные 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куклы</a:t>
            </a: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 могут стоять самостоятельно.Кукла на счастье имеет своеобразные лапоточки, которые помогают ей на пути поиска вашего счастья, потому что путь бывает долгим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6" name="" descr="На Счаст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резанный из белой ткани квадрат 17х17 см.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полоска из той же ткани 20х4 см.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полоска из однотонной цветной ткани 15х4 см.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резанный из цветной ткани темных тонов круг диаметром около 20 см.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цветная яркая ткань в форме треугольника 17х25х17 см.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игла с нитью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ножницы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етошь (синтепон, вата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монетка, крупа, травы.</a:t>
            </a:r>
            <a:br>
              <a:rPr sz="2800"/>
            </a:b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11:25:46Z</dcterms:created>
  <dc:creator>Алина</dc:creator>
  <dc:description/>
  <dc:language>en-US</dc:language>
  <cp:lastModifiedBy>Алина</cp:lastModifiedBy>
  <dcterms:modified xsi:type="dcterms:W3CDTF">2014-04-26T12:02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