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28F-06E1-4378-A3A6-5FD41ECC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1BC-2640-44E8-A40D-C901A6B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1F2-B3B1-4339-BA4F-5A29D207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D28-D6CC-46C1-807F-7D5121C6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29D7-54A1-4973-AC15-3C7B06C9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9C2-88CD-48CE-BE53-D2E8C22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3E2-4F5A-476D-87F4-43C55AC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4D4-4EC9-4C90-A498-50C73BD6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B89-929E-4204-B75F-24AB308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C4A-16D7-4DDF-B6E9-B93D338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6B3-CCD6-4AA8-9334-19ABB7E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F55-05A8-41FA-BA0E-6928D3C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690E-88D8-47F7-8CFF-8F33E08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63C6-84AA-412F-BE0A-5321493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41A-A466-4E18-A67D-4B4115A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892-7799-4BF2-9F63-4BA6E05A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B02-6776-4C8E-AE2B-FE478803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FB68-F169-4186-8647-CE751B7C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7D7D-2428-4580-9282-27E112A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C956-8C42-4CD6-92F9-ECF9A675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16C1-36C8-4ECE-9A1C-73D069C4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0B43-7D04-437A-8B7A-F237B25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C35-6AD4-4729-BCA1-863EFC2A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927D-2D8B-4FA6-99A8-32D10726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6BED-EB03-4D80-83DE-1E19036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82ED-B5B1-4BA5-8131-404AB24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61A6-42DE-49EC-9C68-37F0473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03AE-670A-4C60-BE95-66BD6FB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D286-61D6-4849-A2E3-0450069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7E24-4A21-4B2B-8837-F8A2BD53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3B8E-F62F-4722-B4F3-96089FE8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EE10-5CC9-4E28-BE52-4B71BCF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3DF7-3747-464C-806A-2172AAF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7B4-E637-4E5F-A488-BA60E580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0F1D-88AD-49E2-B8C7-42A38B9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4936-21BA-46E6-964C-4C9EF6F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A2BA-B090-42DB-80F2-A78A061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BBC0-3EBC-401A-BCC3-B690CA8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9A50-3969-4C04-B90C-5746208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D598-87F2-4DF4-986A-3910BCE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64BD-11B2-48FB-AFCB-B4B84CCB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B387-8F6E-4090-8194-E5BB3D3F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7740-8FD1-439F-A0C6-771D9D6D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B9E-DC78-43E7-BE70-98AE9585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09A-4FC9-4164-BBE9-AFF8EE40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48E-78C5-4466-BBB5-D81CCE3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11B-D11C-4F1B-A233-48E72AC5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2C5-BA35-46B5-9444-F7525B69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AD9-A2F5-4D95-808B-B674D3FE3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AB4B-6D87-4350-AB93-96D628FC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2610-A891-4CB3-B092-34FE43E6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9BC-1CA8-4C87-8739-C56B4027DB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9080" y="396360"/>
            <a:ext cx="8164440" cy="125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Температура в океане.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аловик Анна    7 класс   школа «Разум-Л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Содержимое 6" descr="13369254654fafdd19ae78c.jpg"/>
          <p:cNvPicPr/>
          <p:nvPr/>
        </p:nvPicPr>
        <p:blipFill>
          <a:blip r:embed="rId1"/>
          <a:stretch/>
        </p:blipFill>
        <p:spPr>
          <a:xfrm>
            <a:off x="1212840" y="1768320"/>
            <a:ext cx="6797520" cy="480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2640" y="583920"/>
            <a:ext cx="547524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Мировой океа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93520" y="2125800"/>
            <a:ext cx="6326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d4ab"/>
                </a:solidFill>
                <a:latin typeface="Arial"/>
              </a:rPr>
              <a:t>Океан занимает почти ¾ поверхности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d4ab"/>
                </a:solidFill>
                <a:latin typeface="Arial"/>
              </a:rPr>
              <a:t>Вода - самое распространенное вещество на Зем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d4ab"/>
                </a:solidFill>
                <a:latin typeface="Arial"/>
              </a:rPr>
              <a:t>Гидросфера - водная оболочка Зем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99180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кеан получает от Солнца много тепла. Занимая большую площадь, он получает тепла больше, чем суш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лнечные лучи нагревают только верхний слой воды толщиной всего несколько метров. Вниз от этого слоя тепло будет передаваться в результате постоянного перемешивания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тоит заметить, что температура воды с глубиной пониж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 глубине более 3-4 тысяч метров температура колеблется от +2°С до 0°С.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5400" y="1112760"/>
            <a:ext cx="8226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8ed6"/>
                </a:solidFill>
                <a:latin typeface="Arial"/>
              </a:rPr>
              <a:t>Температура поверхностных вод также неодинакова и распределяется в зависимости от географической широты. То есть чем дальше от экватора, тем ниже температура. Так происходит из-за различного количества тепла, которое поступает от Солнца. Из-за шарообразности нашей планеты угол падения солнечного луча на экваторе больше, чем у полюсов, поэтому и тепла экваториальные широты получают больше, чем поляр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226360" cy="613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9797"/>
                </a:solidFill>
                <a:latin typeface="Arial"/>
              </a:rPr>
              <a:t>На температуру морской воды влияет и климат окружающих территорий. Особенно высока температура в морях, окруженных жаркими пустынями. В умеренных широтах температура изменяется в зависимости от времени суток. Ещё на температуру океанических вод влияют течения. Теплые течения уносят теплые воды от экватора в умеренные широты, а холодные несут от полярных областей холодную воду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473040"/>
            <a:ext cx="8226720" cy="598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d7b6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8dd7b6"/>
                </a:solidFill>
                <a:latin typeface="Arial"/>
              </a:rPr>
              <a:t>Океан поглощает тепла на 25-50% больше, чем суша, и в этом его огромная роль для живых существ всей планеты. Солнце все лето нагревает его воду, а зимой эта вода постепенно отдает тепло атмосфере.</a:t>
            </a:r>
            <a:br>
              <a:rPr sz="3200"/>
            </a:br>
            <a:r>
              <a:rPr b="0" lang="ru-RU" sz="3200" spc="-1" strike="noStrike">
                <a:solidFill>
                  <a:srgbClr val="8dd7b6"/>
                </a:solidFill>
                <a:latin typeface="Arial"/>
              </a:rPr>
              <a:t> Без него на Земле наступят суровые морозы, и могут погибнуть все живые существа. Было подсчитано, что если бы океаны не сохраняли так свое тепло, то средняя температура на Земле была бы равна —21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арта Мирового океан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Содержимое 3" descr="000343.jpg"/>
          <p:cNvPicPr/>
          <p:nvPr/>
        </p:nvPicPr>
        <p:blipFill>
          <a:blip r:embed="rId1"/>
          <a:stretch/>
        </p:blipFill>
        <p:spPr>
          <a:xfrm>
            <a:off x="925560" y="1519200"/>
            <a:ext cx="7424640" cy="533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3:35Z</dcterms:created>
  <dc:creator>ppsworld.ru</dc:creator>
  <dc:description/>
  <cp:keywords>фон для презентации</cp:keywords>
  <dc:language>en-US</dc:language>
  <cp:lastModifiedBy>Анютка</cp:lastModifiedBy>
  <dcterms:modified xsi:type="dcterms:W3CDTF">2014-10-26T21:31:59Z</dcterms:modified>
  <cp:revision>10</cp:revision>
  <dc:subject/>
  <dc:title>Слайд 1</dc:title>
</cp:coreProperties>
</file>