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gif" ContentType="image/gif"/>
  <Override PartName="/ppt/media/image10.png" ContentType="image/png"/>
  <Override PartName="/ppt/media/image2.jpeg" ContentType="image/jpeg"/>
  <Override PartName="/ppt/media/image3.jpeg" ContentType="image/jpeg"/>
  <Override PartName="/ppt/media/image1.jpeg" ContentType="image/jpeg"/>
  <Override PartName="/ppt/media/image15.wmf" ContentType="image/x-wmf"/>
  <Override PartName="/ppt/media/image4.gif" ContentType="image/gif"/>
  <Override PartName="/ppt/media/image6.png" ContentType="image/png"/>
  <Override PartName="/ppt/media/image13.png" ContentType="image/png"/>
  <Override PartName="/ppt/media/image12.jpeg" ContentType="image/jpeg"/>
  <Override PartName="/ppt/media/image7.gif" ContentType="image/gif"/>
  <Override PartName="/ppt/media/image5.jpeg" ContentType="image/jpeg"/>
  <Override PartName="/ppt/media/image8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C17A-9141-40B4-9D68-2E83EE7B5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54BD-5624-40A8-A1BD-E066573E5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AF04-4553-4AEE-93B0-2F42CC4C5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4EB0-6BC4-485B-9898-77E47B640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2FD73-26C8-4BC5-8BAD-9A8C5C003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01FCF-FEBF-4A16-A01E-ED40B47B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093BB-3873-4071-B681-F19661B44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7E042-6C78-4100-85EA-3CD33A96D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50185-BAE0-4998-A9A8-19294E954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18D99-7181-49A2-B453-848F89629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82088-3A70-4B4A-B471-460A9799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E3C4-BC41-4B75-B639-906D904EE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37530-9A07-4B9E-9FEC-E27BD3E6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06C04-55F6-4733-862B-AF26551D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444E4-9F1F-404B-8024-A943DBF54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71854-FE79-414E-A73E-5D1D160DA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E7F28-FEA1-4045-B080-213BA44EE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4CE9F-2D6C-4B15-B6AA-1D2E96E7E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D6400-3056-4D44-A210-19DC20515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1DD5D-11DA-4CB4-9A8B-CCAEBFC82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14188-3E66-454F-B646-7E740C240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3020E-569A-4438-9EE7-F0F9E495A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0629-068D-4317-B6C3-5490381E6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32A7D-C7F6-41DC-9347-F2E277DE6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39508-D1A4-45DF-B10A-11FF9300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1EB68-C416-4618-9FBE-4F50C2AF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98583-C5B3-45CC-BC1F-130810D4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46AB4-77C5-4509-B004-E7E282B56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387EE-3402-471C-A671-6F6F69512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DE78A-7611-4078-80FA-0E35E357C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C4A2-5FA4-4E83-B175-385CBF05E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0E8E-ADE6-4B3B-A2A2-98CDB33DF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1876-8633-4650-B3B4-EB70869DF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C843-2A14-4BBB-8581-44DCA452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572E-4C73-420E-BE23-AA329D61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695C-6DD6-419A-8E5F-32413D191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E6E6C-8D24-46B0-BEBE-AEF62DBFF7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E096D-29C9-4797-B855-C0EDA9F28614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633EE-D6D5-4A49-A395-6B3E6B0DA7AE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067280" y="188640"/>
            <a:ext cx="507672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Отрывок из комедии Д.И.Фонвизина «Недоросл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авди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взяв книгу). Это грамматика. Что ж вы в ней знае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итрофа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ного. Существительна да прилагательна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ди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верь, например, какое имя: существительное или прилагательно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итрофан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ерь, котора двер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авди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отора дверь! Вот э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итрофан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а? Прилагатель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авди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чему ж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итрофа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тому что она приложена к своему месту. Вон у чулана шеста неделя дверь стоит еще не навешена: так та покамест существитель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экзамен митр"/>
          <p:cNvPicPr/>
          <p:nvPr/>
        </p:nvPicPr>
        <p:blipFill>
          <a:blip r:embed="rId1"/>
          <a:stretch/>
        </p:blipFill>
        <p:spPr>
          <a:xfrm>
            <a:off x="0" y="0"/>
            <a:ext cx="3956040" cy="5661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735120" y="5781600"/>
            <a:ext cx="18396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0" y="5516640"/>
            <a:ext cx="4140360" cy="13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9900"/>
                </a:solidFill>
                <a:latin typeface="Arial"/>
              </a:rPr>
              <a:t>Недоросль</a:t>
            </a:r>
            <a:r>
              <a:rPr b="1" lang="ru-RU" sz="1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– в 18 веке в России молодой дворянин, не достигший совершеннолетия и не поступивший ещё на государственную службу. Сейчас – нарицательное слово для необразованного чело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Рисунок 5" descr="http://www.starichki.ru/_files/gallery/images/10802/1368/159433.jpg"/>
          <p:cNvPicPr/>
          <p:nvPr/>
        </p:nvPicPr>
        <p:blipFill>
          <a:blip r:embed="rId1">
            <a:lum bright="38000"/>
          </a:blip>
          <a:stretch/>
        </p:blipFill>
        <p:spPr>
          <a:xfrm>
            <a:off x="-1473120" y="-1279440"/>
            <a:ext cx="12090240" cy="94168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ff"/>
                </a:solidFill>
                <a:latin typeface="Arial"/>
              </a:rPr>
              <a:t>Творческая раб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362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 группа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пишите самостоятельно г. Воронеж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ожно описать населённый пункт, где Вы живёте)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едложенному плану, используя прилагательные из раздела «Для справок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 группа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шите природу Воронежской области,  вставив подходящие по смыслу прилагательные в предложенный тек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4" descr="Рисунок3"/>
          <p:cNvPicPr/>
          <p:nvPr/>
        </p:nvPicPr>
        <p:blipFill>
          <a:blip r:embed="rId1"/>
          <a:stretch/>
        </p:blipFill>
        <p:spPr>
          <a:xfrm>
            <a:off x="-324000" y="0"/>
            <a:ext cx="964908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5"/>
          <p:cNvSpPr/>
          <p:nvPr/>
        </p:nvSpPr>
        <p:spPr>
          <a:xfrm>
            <a:off x="1908000" y="549360"/>
            <a:ext cx="5904000" cy="53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2124000" y="404640"/>
            <a:ext cx="896472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Сегодня на уроке я научился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Я считаю нужным запомнить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Мне сегодня удалось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Сегодня на уроке мне было трудн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А если подумать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"/>
          <p:cNvSpPr/>
          <p:nvPr/>
        </p:nvSpPr>
        <p:spPr>
          <a:xfrm flipH="1" rot="10648200">
            <a:off x="8025480" y="5914080"/>
            <a:ext cx="720720" cy="648000"/>
          </a:xfrm>
          <a:custGeom>
            <a:avLst/>
            <a:gdLst>
              <a:gd name="textAreaLeft" fmla="*/ 105480 w 720720"/>
              <a:gd name="textAreaRight" fmla="*/ 615240 w 720720"/>
              <a:gd name="textAreaTop" fmla="*/ 94680 h 648000"/>
              <a:gd name="textAreaBottom" fmla="*/ 553320 h 64800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cubicBezTo>
                  <a:pt x="5399" y="11359"/>
                  <a:pt x="5487" y="11916"/>
                  <a:pt x="5658" y="12449"/>
                </a:cubicBezTo>
                <a:lnTo>
                  <a:pt x="516" y="14099"/>
                </a:lnTo>
                <a:cubicBezTo>
                  <a:pt x="174" y="13033"/>
                  <a:pt x="0" y="11919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-1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j0178115"/>
          <p:cNvPicPr/>
          <p:nvPr/>
        </p:nvPicPr>
        <p:blipFill>
          <a:blip r:embed="rId1"/>
          <a:stretch/>
        </p:blipFill>
        <p:spPr>
          <a:xfrm>
            <a:off x="3276720" y="2637000"/>
            <a:ext cx="2214360" cy="39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AutoShape 2"/>
          <p:cNvSpPr/>
          <p:nvPr/>
        </p:nvSpPr>
        <p:spPr>
          <a:xfrm>
            <a:off x="2556000" y="981000"/>
            <a:ext cx="5472000" cy="3743280"/>
          </a:xfrm>
          <a:prstGeom prst="wedgeEllipseCallout">
            <a:avLst>
              <a:gd name="adj1" fmla="val -48606"/>
              <a:gd name="adj2" fmla="val 68106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3564000" y="2060640"/>
            <a:ext cx="37447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Молодец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UTurnArrow"/>
          <p:cNvSpPr/>
          <p:nvPr/>
        </p:nvSpPr>
        <p:spPr>
          <a:xfrm flipH="1" rot="10800000">
            <a:off x="7885080" y="5949720"/>
            <a:ext cx="627120" cy="525240"/>
          </a:xfrm>
          <a:custGeom>
            <a:avLst/>
            <a:gdLst>
              <a:gd name="textAreaLeft" fmla="*/ 360 w 627120"/>
              <a:gd name="textAreaRight" fmla="*/ 162000 w 627120"/>
              <a:gd name="textAreaTop" fmla="*/ 201960 h 525240"/>
              <a:gd name="textAreaBottom" fmla="*/ 525600 h 52524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cubicBezTo>
                  <a:pt x="18450" y="3721"/>
                  <a:pt x="14320" y="0"/>
                  <a:pt x="9225" y="0"/>
                </a:cubicBezTo>
                <a:cubicBezTo>
                  <a:pt x="4130" y="0"/>
                  <a:pt x="0" y="3799"/>
                  <a:pt x="0" y="8485"/>
                </a:cubicBezTo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cubicBezTo>
                  <a:pt x="5574" y="6664"/>
                  <a:pt x="7055" y="5330"/>
                  <a:pt x="8882" y="5330"/>
                </a:cubicBezTo>
                <a:lnTo>
                  <a:pt x="9568" y="5330"/>
                </a:lnTo>
                <a:cubicBezTo>
                  <a:pt x="11395" y="5330"/>
                  <a:pt x="12876" y="6664"/>
                  <a:pt x="12876" y="8310"/>
                </a:cubicBezTo>
                <a:lnTo>
                  <a:pt x="12876" y="8826"/>
                </a:lnTo>
                <a:lnTo>
                  <a:pt x="9725" y="882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6" descr="j0232068"/>
          <p:cNvPicPr/>
          <p:nvPr/>
        </p:nvPicPr>
        <p:blipFill>
          <a:blip r:embed="rId1"/>
          <a:stretch/>
        </p:blipFill>
        <p:spPr>
          <a:xfrm>
            <a:off x="611280" y="3213000"/>
            <a:ext cx="1430280" cy="28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9900"/>
                </a:solidFill>
                <a:uFillTx/>
                <a:latin typeface="Arial"/>
              </a:rPr>
              <a:t>Верные – неверные утвер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Прилагательные выступают в предложении в роли определения или сказуемого. </a:t>
            </a:r>
            <a:r>
              <a:rPr b="1" lang="ru-RU" sz="2400" spc="-1" strike="noStrike">
                <a:solidFill>
                  <a:srgbClr val="d42a0e"/>
                </a:solidFill>
                <a:latin typeface="Times New Roman"/>
                <a:ea typeface="Times New Roman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Имена прилагательные не склоняются</a:t>
            </a:r>
            <a:r>
              <a:rPr b="1" lang="ru-RU" sz="2400" spc="-1" strike="noStrike">
                <a:solidFill>
                  <a:srgbClr val="123d0f"/>
                </a:solidFill>
                <a:latin typeface="Times New Roman"/>
                <a:ea typeface="Times New Roman"/>
              </a:rPr>
              <a:t>.</a:t>
            </a:r>
            <a:r>
              <a:rPr b="1" lang="ru-RU" sz="2400" spc="-1" strike="noStrike">
                <a:solidFill>
                  <a:srgbClr val="d42a0e"/>
                </a:solidFill>
                <a:latin typeface="Times New Roman"/>
                <a:ea typeface="Times New Roman"/>
              </a:rPr>
              <a:t>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раткое прилагательное отвечает на вопросы каков, какова, каково. </a:t>
            </a:r>
            <a:r>
              <a:rPr b="1" lang="ru-RU" sz="2400" spc="-1" strike="noStrike">
                <a:solidFill>
                  <a:srgbClr val="d42a0e"/>
                </a:solidFill>
                <a:latin typeface="Times New Roman"/>
                <a:ea typeface="Times New Roman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Во множественном числе прилагательные по родам не изменяются.</a:t>
            </a:r>
            <a:r>
              <a:rPr b="1" lang="ru-RU" sz="2400" spc="-1" strike="noStrike">
                <a:solidFill>
                  <a:srgbClr val="d42a0e"/>
                </a:solidFill>
                <a:latin typeface="Times New Roman"/>
                <a:ea typeface="Times New Roman"/>
              </a:rPr>
              <a:t> 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Прилагательные в краткой форме изменяются по падежам. </a:t>
            </a:r>
            <a:r>
              <a:rPr b="1" lang="ru-RU" sz="2400" spc="-1" strike="noStrike">
                <a:solidFill>
                  <a:srgbClr val="d42a0e"/>
                </a:solidFill>
                <a:latin typeface="Times New Roman"/>
                <a:ea typeface="Times New Roman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В кратких прил. с основой на шипящую и в сущ. 1, 2 скл. пиш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ь. </a:t>
            </a:r>
            <a:r>
              <a:rPr b="1" lang="ru-RU" sz="2400" spc="-1" strike="noStrike">
                <a:solidFill>
                  <a:srgbClr val="d42a0e"/>
                </a:solidFill>
                <a:latin typeface="Times New Roman"/>
                <a:ea typeface="Times New Roman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Слова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есущий, взявший, построенный»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имена прил.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Прилагательные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сков, певуч, похож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ые. </a:t>
            </a:r>
            <a:r>
              <a:rPr b="1" lang="ru-RU" sz="2400" spc="-1" strike="noStrike">
                <a:solidFill>
                  <a:srgbClr val="d42a0e"/>
                </a:solidFill>
                <a:latin typeface="Times New Roman"/>
                <a:ea typeface="Times New Roman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Прилагательные определяют предмет, называя его признак .   </a:t>
            </a:r>
            <a:r>
              <a:rPr b="1" lang="ru-RU" sz="2400" spc="-1" strike="noStrike">
                <a:solidFill>
                  <a:srgbClr val="d42a0e"/>
                </a:solidFill>
                <a:latin typeface="Corbel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4356000" y="907920"/>
            <a:ext cx="1079640" cy="719280"/>
          </a:xfrm>
          <a:prstGeom prst="irregularSeal1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5724360" y="1125360"/>
            <a:ext cx="1224000" cy="719280"/>
          </a:xfrm>
          <a:prstGeom prst="irregularSeal1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6"/>
          <p:cNvSpPr/>
          <p:nvPr/>
        </p:nvSpPr>
        <p:spPr>
          <a:xfrm>
            <a:off x="1332000" y="1989000"/>
            <a:ext cx="1081080" cy="719280"/>
          </a:xfrm>
          <a:prstGeom prst="irregularSeal1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7"/>
          <p:cNvSpPr/>
          <p:nvPr/>
        </p:nvSpPr>
        <p:spPr>
          <a:xfrm>
            <a:off x="2124000" y="2781360"/>
            <a:ext cx="1079640" cy="720720"/>
          </a:xfrm>
          <a:prstGeom prst="irregularSeal1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8"/>
          <p:cNvSpPr/>
          <p:nvPr/>
        </p:nvSpPr>
        <p:spPr>
          <a:xfrm>
            <a:off x="324000" y="3429000"/>
            <a:ext cx="1081080" cy="720720"/>
          </a:xfrm>
          <a:prstGeom prst="irregularSeal1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0"/>
          <p:cNvSpPr/>
          <p:nvPr/>
        </p:nvSpPr>
        <p:spPr>
          <a:xfrm>
            <a:off x="1908000" y="4292640"/>
            <a:ext cx="1081440" cy="720720"/>
          </a:xfrm>
          <a:prstGeom prst="irregularSeal1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1"/>
          <p:cNvSpPr/>
          <p:nvPr/>
        </p:nvSpPr>
        <p:spPr>
          <a:xfrm>
            <a:off x="7991640" y="4653000"/>
            <a:ext cx="1152360" cy="720720"/>
          </a:xfrm>
          <a:prstGeom prst="irregularSeal1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2"/>
          <p:cNvSpPr/>
          <p:nvPr/>
        </p:nvSpPr>
        <p:spPr>
          <a:xfrm>
            <a:off x="6804000" y="5084640"/>
            <a:ext cx="1046160" cy="720720"/>
          </a:xfrm>
          <a:prstGeom prst="irregularSeal1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3"/>
          <p:cNvSpPr/>
          <p:nvPr/>
        </p:nvSpPr>
        <p:spPr>
          <a:xfrm>
            <a:off x="108000" y="5877000"/>
            <a:ext cx="1150920" cy="863640"/>
          </a:xfrm>
          <a:prstGeom prst="irregularSeal1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7000"/>
                            </p:stCondLst>
                            <p:childTnLst>
                              <p:par>
                                <p:cTn id="70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8000"/>
                            </p:stCondLst>
                            <p:childTnLst>
                              <p:par>
                                <p:cTn id="77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-108000" y="620280"/>
            <a:ext cx="54007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66ff"/>
                </a:solidFill>
                <a:latin typeface="Arial"/>
              </a:rPr>
              <a:t>Употребл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66ff"/>
                </a:solidFill>
                <a:latin typeface="Arial"/>
              </a:rPr>
              <a:t>прилагательны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3366ff"/>
                </a:solidFill>
                <a:latin typeface="Arial"/>
              </a:rPr>
              <a:t>в речи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http://www.idist.ru/images/student.jpg"/>
          <p:cNvPicPr/>
          <p:nvPr/>
        </p:nvPicPr>
        <p:blipFill>
          <a:blip r:embed="rId1"/>
          <a:stretch/>
        </p:blipFill>
        <p:spPr>
          <a:xfrm>
            <a:off x="5219640" y="1484280"/>
            <a:ext cx="3924360" cy="517212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13" descr="star21.gif"/>
          <p:cNvPicPr/>
          <p:nvPr/>
        </p:nvPicPr>
        <p:blipFill>
          <a:blip r:embed="rId2"/>
          <a:stretch/>
        </p:blipFill>
        <p:spPr>
          <a:xfrm rot="1216800">
            <a:off x="2952360" y="2687760"/>
            <a:ext cx="1428840" cy="171432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13" descr="star21.gif"/>
          <p:cNvPicPr/>
          <p:nvPr/>
        </p:nvPicPr>
        <p:blipFill>
          <a:blip r:embed="rId3"/>
          <a:stretch/>
        </p:blipFill>
        <p:spPr>
          <a:xfrm rot="1216800">
            <a:off x="252000" y="195120"/>
            <a:ext cx="1428840" cy="171468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13" descr="star21.gif"/>
          <p:cNvPicPr/>
          <p:nvPr/>
        </p:nvPicPr>
        <p:blipFill>
          <a:blip r:embed="rId4"/>
          <a:stretch/>
        </p:blipFill>
        <p:spPr>
          <a:xfrm rot="1216800">
            <a:off x="3673080" y="-48960"/>
            <a:ext cx="1428840" cy="171468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13" descr="star21.gif"/>
          <p:cNvPicPr/>
          <p:nvPr/>
        </p:nvPicPr>
        <p:blipFill>
          <a:blip r:embed="rId5"/>
          <a:stretch/>
        </p:blipFill>
        <p:spPr>
          <a:xfrm rot="1216800">
            <a:off x="252000" y="2255760"/>
            <a:ext cx="142884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419280" y="764640"/>
            <a:ext cx="572436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" И что же это за стих! Все богатство, вся сила русского языка явилась в нем в  удивительной полноте; он нежен, сладостен, мягок, как смола, ярок, как молния, прозрачен и чист, как кристалл, душист…, как весна, крепок и могуч, как удар меча в руке богатыря…”                                                         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. Г. Белин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5"/>
          <p:cNvPicPr/>
          <p:nvPr/>
        </p:nvPicPr>
        <p:blipFill>
          <a:blip r:embed="rId1"/>
          <a:stretch/>
        </p:blipFill>
        <p:spPr>
          <a:xfrm>
            <a:off x="179280" y="907920"/>
            <a:ext cx="3137040" cy="35276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971640" y="2080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Лингвистический эксперимен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Вспомни и допиши эпитет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483"/>
          <p:cNvPicPr/>
          <p:nvPr/>
        </p:nvPicPr>
        <p:blipFill>
          <a:blip r:embed="rId1"/>
          <a:stretch/>
        </p:blipFill>
        <p:spPr>
          <a:xfrm>
            <a:off x="5584680" y="0"/>
            <a:ext cx="3468960" cy="378936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730872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П...друга дней моих _______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…лубка _______моя!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ядиш… в забыт… вор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…. отдаленный путь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____________ пора! Очей оч..ровань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ятна мне твоя__________краса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юблю я __________природы ув..дань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б..грец и зол…то  одет… лес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solidFill>
            <a:srgbClr val="37ff3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Arial"/>
              </a:rPr>
              <a:t>Ф</a:t>
            </a: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и</a:t>
            </a:r>
            <a:r>
              <a:rPr b="0" lang="ru-RU" sz="4000" spc="-1" strike="noStrike">
                <a:solidFill>
                  <a:srgbClr val="cc9900"/>
                </a:solidFill>
                <a:latin typeface="Arial"/>
              </a:rPr>
              <a:t>з</a:t>
            </a:r>
            <a:r>
              <a:rPr b="0" lang="ru-RU" sz="4000" spc="-1" strike="noStrike">
                <a:solidFill>
                  <a:srgbClr val="00b000"/>
                </a:solidFill>
                <a:latin typeface="Arial"/>
              </a:rPr>
              <a:t>к</a:t>
            </a: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у</a:t>
            </a: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л</a:t>
            </a: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ь</a:t>
            </a:r>
            <a:r>
              <a:rPr b="0" lang="ru-RU" sz="4000" spc="-1" strike="noStrike">
                <a:solidFill>
                  <a:srgbClr val="669900"/>
                </a:solidFill>
                <a:latin typeface="Arial"/>
              </a:rPr>
              <a:t>т</a:t>
            </a:r>
            <a:r>
              <a:rPr b="0" lang="ru-RU" sz="4000" spc="-1" strike="noStrike">
                <a:solidFill>
                  <a:srgbClr val="003366"/>
                </a:solidFill>
                <a:latin typeface="Arial"/>
              </a:rPr>
              <a:t>м</a:t>
            </a:r>
            <a:r>
              <a:rPr b="0" lang="ru-RU" sz="4000" spc="-1" strike="noStrike">
                <a:solidFill>
                  <a:srgbClr val="cc0066"/>
                </a:solidFill>
                <a:latin typeface="Arial"/>
              </a:rPr>
              <a:t>и</a:t>
            </a: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н</a:t>
            </a:r>
            <a:r>
              <a:rPr b="0" lang="ru-RU" sz="4000" spc="-1" strike="noStrike">
                <a:solidFill>
                  <a:srgbClr val="66ccff"/>
                </a:solidFill>
                <a:latin typeface="Arial"/>
              </a:rPr>
              <a:t>у</a:t>
            </a:r>
            <a:r>
              <a:rPr b="0" lang="ru-RU" sz="4000" spc="-1" strike="noStrike">
                <a:solidFill>
                  <a:srgbClr val="9999ff"/>
                </a:solidFill>
                <a:latin typeface="Arial"/>
              </a:rPr>
              <a:t>т</a:t>
            </a:r>
            <a:r>
              <a:rPr b="0" lang="ru-RU" sz="4000" spc="-1" strike="noStrike">
                <a:solidFill>
                  <a:srgbClr val="993300"/>
                </a:solidFill>
                <a:latin typeface="Arial"/>
              </a:rPr>
              <a:t>к</a:t>
            </a:r>
            <a:r>
              <a:rPr b="0" lang="ru-RU" sz="4000" spc="-1" strike="noStrike">
                <a:solidFill>
                  <a:srgbClr val="777777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1280" y="1196640"/>
            <a:ext cx="853272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 смотрела из окна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не вся улица видна: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ревянная скамья,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скамье сидит семья: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нук – красивый, молодой,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д с кудрявой бородой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ма с папой, а у ног –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ерый маленький щенок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будете внимательными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 найдете прилагательные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колько имён прилагательных употребил поэ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5        7     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4">
            <a:hlinkClick r:id="" action="ppaction://hlinkshowjump?jump=nextslide"/>
          </p:cNvPr>
          <p:cNvSpPr/>
          <p:nvPr/>
        </p:nvSpPr>
        <p:spPr>
          <a:xfrm>
            <a:off x="8532720" y="6381720"/>
            <a:ext cx="611280" cy="476280"/>
          </a:xfrm>
          <a:custGeom>
            <a:avLst/>
            <a:gdLst>
              <a:gd name="textAreaLeft" fmla="*/ 30600 w 611280"/>
              <a:gd name="textAreaRight" fmla="*/ 580680 w 611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7718" h="21600">
                <a:moveTo>
                  <a:pt x="0" y="0"/>
                </a:moveTo>
                <a:lnTo>
                  <a:pt x="27718" y="0"/>
                </a:lnTo>
                <a:lnTo>
                  <a:pt x="27718" y="21600"/>
                </a:lnTo>
                <a:lnTo>
                  <a:pt x="0" y="21600"/>
                </a:lnTo>
                <a:close/>
              </a:path>
              <a:path fill="lightenLess" w="27718" h="21600">
                <a:moveTo>
                  <a:pt x="0" y="0"/>
                </a:moveTo>
                <a:lnTo>
                  <a:pt x="27718" y="0"/>
                </a:lnTo>
                <a:lnTo>
                  <a:pt x="26318" y="1400"/>
                </a:lnTo>
                <a:lnTo>
                  <a:pt x="1400" y="1400"/>
                </a:lnTo>
                <a:close/>
              </a:path>
              <a:path fill="darken" w="27718" h="21600">
                <a:moveTo>
                  <a:pt x="27718" y="0"/>
                </a:moveTo>
                <a:lnTo>
                  <a:pt x="27718" y="21600"/>
                </a:lnTo>
                <a:lnTo>
                  <a:pt x="26318" y="20200"/>
                </a:lnTo>
                <a:lnTo>
                  <a:pt x="26318" y="1400"/>
                </a:lnTo>
                <a:close/>
              </a:path>
              <a:path fill="darkenLess" w="27718" h="21600">
                <a:moveTo>
                  <a:pt x="27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8" y="20200"/>
                </a:lnTo>
                <a:close/>
              </a:path>
              <a:path fill="lighten" w="27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8" h="21600">
                <a:moveTo>
                  <a:pt x="6852" y="3794"/>
                </a:moveTo>
                <a:lnTo>
                  <a:pt x="20865" y="10800"/>
                </a:lnTo>
                <a:lnTo>
                  <a:pt x="6852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7" descr="content_1260969176240"/>
          <p:cNvPicPr/>
          <p:nvPr/>
        </p:nvPicPr>
        <p:blipFill>
          <a:blip r:embed="rId1"/>
          <a:stretch/>
        </p:blipFill>
        <p:spPr>
          <a:xfrm>
            <a:off x="6012000" y="1413000"/>
            <a:ext cx="298764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ищем сл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-360" y="1197000"/>
            <a:ext cx="49323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ушайте фрагмент песни известного певца Юрия Антоно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На улице Каштановой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 услышите названия улиц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ена прилагательные, запишите эти наз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7" descr="h13"/>
          <p:cNvPicPr/>
          <p:nvPr/>
        </p:nvPicPr>
        <p:blipFill>
          <a:blip r:embed="rId1"/>
          <a:stretch/>
        </p:blipFill>
        <p:spPr>
          <a:xfrm>
            <a:off x="3780000" y="5661000"/>
            <a:ext cx="1180800" cy="9050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e452c03d59092046cbeedafe331f25d4_big"/>
          <p:cNvPicPr/>
          <p:nvPr/>
        </p:nvPicPr>
        <p:blipFill>
          <a:blip r:embed="rId2"/>
          <a:stretch/>
        </p:blipFill>
        <p:spPr>
          <a:xfrm>
            <a:off x="4859280" y="1125360"/>
            <a:ext cx="3853080" cy="2865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http://pics.livejournal.com/arinor/pic/000774hz/s640x480"/>
          <p:cNvPicPr/>
          <p:nvPr/>
        </p:nvPicPr>
        <p:blipFill>
          <a:blip r:embed="rId2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верьте себ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95280" y="764640"/>
            <a:ext cx="874872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ть улицы центpальные, высокие и важ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витpинами зеpкальными, с гиpляндами огн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мне милей нешумные, милей одноэтаж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их названий ласковых становится свет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pойду по </a:t>
            </a: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Абpикосов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еpну н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Виногpадную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на </a:t>
            </a: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Тенистой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лице я постою в т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Вишневые, Гpушовые, Зеленые, Пpохладные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будто в детство давнее ведут меня о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0T17:06:39Z</dcterms:created>
  <dc:creator>1</dc:creator>
  <dc:description/>
  <dc:language>en-US</dc:language>
  <cp:lastModifiedBy>Владимир</cp:lastModifiedBy>
  <dcterms:modified xsi:type="dcterms:W3CDTF">2013-03-13T19:32:01Z</dcterms:modified>
  <cp:revision>157</cp:revision>
  <dc:subject/>
  <dc:title>Слайд 1</dc:title>
</cp:coreProperties>
</file>