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E60-3202-4D26-917D-49EB1399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D7D-0A55-492F-AD00-A8867E16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351-2954-4F7A-BF3E-15AAD645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C9E-5951-44E2-8004-CB111986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276F-CF1B-4434-831B-C5A8AA5B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1CF0-8A65-410A-9D03-0A07B28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630F-AD49-4D2F-9DDE-ABEDB16E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EE24-AEF6-400C-A25A-87C486BA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937D-DE46-4296-A783-C8D123EE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172E-2946-44CF-BAD7-D96214D8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3C05-3B18-4A4C-88F6-1353910C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F93-50B1-42BB-AB4F-61E979AB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B39B-CE14-4ECB-8740-ADD749A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55F9-9AC1-4D63-8361-87CC42AE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1CDA-D35C-491B-82B5-4E6FDB67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9D93-DBA0-4719-B8F2-50219B54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4184-D00B-4659-B003-E4122880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CE0-6B56-4A93-A1BC-4F79E18E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A88-9EFA-40D5-B87E-89880F55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9E1-5DD8-4364-AA4A-80323962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635-F45C-451F-8CB8-5A1BC06B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AC1-EF12-41E1-8956-8A646B5B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62A-79CB-4CEC-B6A4-7953AA83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5D7-43FA-4319-99E9-25833BC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A9CF-9AF2-406C-B37C-2A0C6768639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400D-AAFE-4CEF-9D24-A74A498EF2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8A03-A500-42BD-87EF-36CB3A362D3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7069-5AC4-44A8-920A-B0BA836CEF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писанные и центральные угл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B7A0-1CF8-4B54-AD07-B3644F2D4C0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2AAD73C-5803-4BA5-B0F8-5A6C0E621E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4300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йдите хорду, на которую опирается угол 30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, вписанный в окружность радиуса 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286000" cy="2251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05960" y="434340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ru-RU" sz="1800" spc="-1" strike="noStrike" baseline="30000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4800" y="365760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495680"/>
            <a:ext cx="4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2520" y="55627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8640" y="55627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7524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писанный угол АВС составляет половину центрального АОС, опирающегося на туже дугу А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8080" y="4724280"/>
            <a:ext cx="533520" cy="990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371240" y="4724280"/>
            <a:ext cx="609480" cy="990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35053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ОС = 6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  Следовательно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АОС - равносторон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4800" y="5638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7600" y="4952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2000" y="4952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343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орда АС =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 = 2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7640" y="51814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: 2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2666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уга АС =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322-C9D9-4AAB-98E2-C45292A7286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C6072-3A1F-4154-AAB4-0389E713BAD6}" type="datetime1">
              <a:rPr lang="en-US"/>
              <a:t>07/31/26</a:t>
            </a:fld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диус окружности равен 48. Найдите величину острого вписанного угла, опирающегося на хорду, равную 4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√2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. Ответ дайте в градус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2430720" cy="2590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3988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1120" y="5715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8√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5320" y="4572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2320" y="2209680"/>
            <a:ext cx="21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 условию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R =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209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ордаа АВ = 48√2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62120" y="4876920"/>
            <a:ext cx="761760" cy="8380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9880" y="54100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4√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2666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ссмотрим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ямоугольный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 А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гд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высота из вершины О на сторону А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4876920"/>
            <a:ext cx="0" cy="8380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541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3733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= 24√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743200"/>
            <a:ext cx="30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ОВ - равнобедрен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4876920"/>
            <a:ext cx="838440" cy="8380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306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3080" y="3657600"/>
            <a:ext cx="25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H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4√2:48 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153280" y="3505320"/>
                <a:ext cx="470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895480" y="4419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OH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= 45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  следовательн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В = 9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51055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писанный угол АСВ составляет половину центрального АОВ, опирающегося на туже дугу А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 rot="10795800">
            <a:off x="2892240" y="6090840"/>
            <a:ext cx="26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СВ = 9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: 2 = 45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920" y="6095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: 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774-C91D-477B-8B58-206B058E376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FEBAA-2310-4C55-973F-6E0C07F434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гол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ACO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равен 24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Его сторон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асается окружности. Найдите градусную величину большей дуги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окружности, заключенной внутри этого угла. Ответ дайте в градус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680" y="5867280"/>
            <a:ext cx="1373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твет 114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MA.OB10.B4.260/innerimg0.jpg"/>
          <p:cNvPicPr/>
          <p:nvPr/>
        </p:nvPicPr>
        <p:blipFill>
          <a:blip r:embed="rId1"/>
          <a:stretch/>
        </p:blipFill>
        <p:spPr>
          <a:xfrm>
            <a:off x="152280" y="3581280"/>
            <a:ext cx="3200400" cy="182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76520" y="19051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СО –прямоугольный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= 24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= 66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09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нтральный угол измеряется дугой, на которую опирается. Следовательно меньшая дуга АВ = ∟АОС = 66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352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вернутый угол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8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94840" y="388620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O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O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8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66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4419720"/>
            <a:ext cx="15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= 11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4800600"/>
            <a:ext cx="56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измеряется  дугой 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на которую опирае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ольшая дуга 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окружности, заключенная внутр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С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равна 114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8AB-9EBA-474D-AEBC-57F4BD179A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237F1-DDAD-42D3-8C89-0A17DEF7DC50}" type="datetime1">
              <a:rPr lang="en-US"/>
              <a:t>07/31/26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 и 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— диаметры окружности с центром О. Угол АСВ равен 38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Найдите угол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O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Ответ дайте в градус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MA.OB10.B4.246/innerimg0.jpg"/>
          <p:cNvPicPr/>
          <p:nvPr/>
        </p:nvPicPr>
        <p:blipFill>
          <a:blip r:embed="rId1"/>
          <a:stretch/>
        </p:blipFill>
        <p:spPr>
          <a:xfrm>
            <a:off x="228600" y="3657600"/>
            <a:ext cx="2209680" cy="217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8120" y="2209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 равнобедренный. ОС = ОВ =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ледовательно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5943600"/>
            <a:ext cx="319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58600" y="365760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 :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∟СОВ + ∟ОСВ + ∟СВО = 18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048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О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ВО = 38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92560" y="4572000"/>
            <a:ext cx="26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 = 18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– 38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38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 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6560" y="45720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 = 104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12880" y="4224240"/>
            <a:ext cx="206280" cy="50760"/>
          </a:xfrm>
          <a:custGeom>
            <a:avLst/>
            <a:gdLst/>
            <a:ahLst/>
            <a:rect l="l" t="t" r="r" b="b"/>
            <a:pathLst>
              <a:path w="130" h="32">
                <a:moveTo>
                  <a:pt x="0" y="0"/>
                </a:moveTo>
                <a:cubicBezTo>
                  <a:pt x="56" y="19"/>
                  <a:pt x="65" y="32"/>
                  <a:pt x="130" y="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343400"/>
            <a:ext cx="4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38</a:t>
            </a:r>
            <a:r>
              <a:rPr b="1" lang="ru-RU" sz="1400" spc="-1" strike="noStrike" baseline="30000">
                <a:solidFill>
                  <a:srgbClr val="0033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0280" y="56386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: 1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5105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OD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OB  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как вертикаль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9400" y="510552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OD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=104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1D1-B988-4853-836C-C1E7377687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EB0C0-41E6-45AF-AA0A-051349C604CB}" type="datetime1">
              <a:rPr lang="en-US"/>
              <a:t>07/31/26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гол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четырехугольник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вписанного в окружность, равен  58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Найдите угол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этого четырехугольника. Ответ дайте в градус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MA.OB10.B4.248/innerimg0.jpg"/>
          <p:cNvPicPr/>
          <p:nvPr/>
        </p:nvPicPr>
        <p:blipFill>
          <a:blip r:embed="rId1"/>
          <a:stretch/>
        </p:blipFill>
        <p:spPr>
          <a:xfrm>
            <a:off x="380880" y="3276720"/>
            <a:ext cx="2286000" cy="2252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124080" y="213372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четырехугольника окружность можно описать лишь в том случае, если сумма противоположных углов равна 18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572000"/>
            <a:ext cx="90360" cy="219240"/>
          </a:xfrm>
          <a:custGeom>
            <a:avLst/>
            <a:gdLst/>
            <a:ahLst/>
            <a:rect l="l" t="t" r="r" b="b"/>
            <a:pathLst>
              <a:path w="57" h="138">
                <a:moveTo>
                  <a:pt x="0" y="0"/>
                </a:moveTo>
                <a:cubicBezTo>
                  <a:pt x="16" y="24"/>
                  <a:pt x="34" y="41"/>
                  <a:pt x="49" y="65"/>
                </a:cubicBezTo>
                <a:cubicBezTo>
                  <a:pt x="57" y="133"/>
                  <a:pt x="57" y="108"/>
                  <a:pt x="57" y="1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5360" y="441972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58</a:t>
            </a:r>
            <a:r>
              <a:rPr b="1" lang="ru-RU" sz="1400" spc="-1" strike="noStrike" baseline="30000">
                <a:solidFill>
                  <a:srgbClr val="0033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4400" y="3276720"/>
            <a:ext cx="35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А + ∟С = 18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114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∟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 = 18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о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- 58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=  122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3240" y="5410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вет: 1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30E-9E2D-4BCB-B071-0A120BB120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712A4-6A69-4C28-A8D5-A5D532B29EC9}" type="datetime1">
              <a:rPr lang="en-US"/>
              <a:t>07/31/26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гол между хордой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и касательной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 окружности равен 32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Найдите величину меньшей дуги, стягиваемой хордой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Ответ дайте в градусах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1360" y="5791320"/>
            <a:ext cx="1096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твет 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MA.OB10.B4.255/innerimg0.jpg"/>
          <p:cNvPicPr/>
          <p:nvPr/>
        </p:nvPicPr>
        <p:blipFill>
          <a:blip r:embed="rId1"/>
          <a:stretch/>
        </p:blipFill>
        <p:spPr>
          <a:xfrm>
            <a:off x="228600" y="3886200"/>
            <a:ext cx="2286000" cy="214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3880" y="2438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гол, составленный касательной и хордой, измеряе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овиной дуги заключенной внутри не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2464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: Искомая меньшая дуга, стягиваемой хордой АВ равна  32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= 64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35080" y="4249800"/>
            <a:ext cx="115920" cy="181080"/>
          </a:xfrm>
          <a:custGeom>
            <a:avLst/>
            <a:gdLst/>
            <a:ahLst/>
            <a:rect l="l" t="t" r="r" b="b"/>
            <a:pathLst>
              <a:path w="73" h="114">
                <a:moveTo>
                  <a:pt x="73" y="0"/>
                </a:moveTo>
                <a:cubicBezTo>
                  <a:pt x="70" y="8"/>
                  <a:pt x="70" y="18"/>
                  <a:pt x="65" y="25"/>
                </a:cubicBezTo>
                <a:cubicBezTo>
                  <a:pt x="61" y="32"/>
                  <a:pt x="52" y="34"/>
                  <a:pt x="48" y="41"/>
                </a:cubicBezTo>
                <a:cubicBezTo>
                  <a:pt x="21" y="94"/>
                  <a:pt x="64" y="57"/>
                  <a:pt x="16" y="89"/>
                </a:cubicBezTo>
                <a:cubicBezTo>
                  <a:pt x="11" y="97"/>
                  <a:pt x="0" y="114"/>
                  <a:pt x="0" y="11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21344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434340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32</a:t>
            </a:r>
            <a:r>
              <a:rPr b="1" lang="ru-RU" sz="1400" spc="-1" strike="noStrike" baseline="30000">
                <a:solidFill>
                  <a:srgbClr val="0033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200-52EB-4196-BAB7-4BFC69A50E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BC441-B612-4000-BE2F-069A61A7A003}" type="datetime1">
              <a:rPr lang="en-US"/>
              <a:t>07/31/26</a:t>
            </a:fld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Дополнительное задание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ва угла вписанного в окружность четырехугольника равны 82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и 58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Найдите больший из оставшихся углов. Ответ дайте в градус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1000" y="601992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твет 1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MA.OB10.B4.310/innerimg0.jpg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9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425120" y="266688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+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 =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 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 = 18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32004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 82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и 58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гут быть равны только соседние углы 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ст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С = 82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 ∟В = 58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к как ∟А + ∟С = 18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то   ∟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98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 + ∟B = 18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то    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= 122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429000"/>
            <a:ext cx="36036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0" y="0"/>
                </a:moveTo>
                <a:cubicBezTo>
                  <a:pt x="29" y="31"/>
                  <a:pt x="73" y="91"/>
                  <a:pt x="113" y="106"/>
                </a:cubicBezTo>
                <a:cubicBezTo>
                  <a:pt x="134" y="114"/>
                  <a:pt x="156" y="117"/>
                  <a:pt x="178" y="122"/>
                </a:cubicBezTo>
                <a:cubicBezTo>
                  <a:pt x="194" y="126"/>
                  <a:pt x="227" y="130"/>
                  <a:pt x="227" y="13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5160" y="4944960"/>
            <a:ext cx="65160" cy="77760"/>
          </a:xfrm>
          <a:custGeom>
            <a:avLst/>
            <a:gdLst/>
            <a:ahLst/>
            <a:rect l="l" t="t" r="r" b="b"/>
            <a:pathLst>
              <a:path w="41" h="49">
                <a:moveTo>
                  <a:pt x="0" y="0"/>
                </a:moveTo>
                <a:cubicBezTo>
                  <a:pt x="13" y="20"/>
                  <a:pt x="25" y="33"/>
                  <a:pt x="41" y="4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60640" y="358128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82</a:t>
            </a:r>
            <a:r>
              <a:rPr b="1" lang="ru-RU" sz="1400" spc="-1" strike="noStrike" baseline="30000">
                <a:solidFill>
                  <a:srgbClr val="0033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495288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cc00"/>
                </a:solidFill>
                <a:latin typeface="Times New Roman"/>
              </a:rPr>
              <a:t>58</a:t>
            </a:r>
            <a:r>
              <a:rPr b="1" lang="ru-RU" sz="1400" spc="-1" strike="noStrike" baseline="30000">
                <a:solidFill>
                  <a:srgbClr val="00cc00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257800"/>
            <a:ext cx="228600" cy="152280"/>
          </a:xfrm>
          <a:custGeom>
            <a:avLst/>
            <a:gdLst/>
            <a:ahLst/>
            <a:rect l="l" t="t" r="r" b="b"/>
            <a:pathLst>
              <a:path w="138" h="114">
                <a:moveTo>
                  <a:pt x="0" y="114"/>
                </a:moveTo>
                <a:cubicBezTo>
                  <a:pt x="49" y="102"/>
                  <a:pt x="63" y="75"/>
                  <a:pt x="98" y="41"/>
                </a:cubicBezTo>
                <a:cubicBezTo>
                  <a:pt x="106" y="33"/>
                  <a:pt x="114" y="25"/>
                  <a:pt x="122" y="17"/>
                </a:cubicBezTo>
                <a:cubicBezTo>
                  <a:pt x="127" y="11"/>
                  <a:pt x="138" y="0"/>
                  <a:pt x="138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5181480"/>
            <a:ext cx="231840" cy="181080"/>
          </a:xfrm>
          <a:custGeom>
            <a:avLst/>
            <a:gdLst/>
            <a:ahLst/>
            <a:rect l="l" t="t" r="r" b="b"/>
            <a:pathLst>
              <a:path w="146" h="114">
                <a:moveTo>
                  <a:pt x="0" y="114"/>
                </a:moveTo>
                <a:cubicBezTo>
                  <a:pt x="41" y="88"/>
                  <a:pt x="18" y="105"/>
                  <a:pt x="65" y="57"/>
                </a:cubicBezTo>
                <a:cubicBezTo>
                  <a:pt x="88" y="33"/>
                  <a:pt x="133" y="29"/>
                  <a:pt x="146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2C6-EA2C-4A01-A614-16C473BD9B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D00EE-045C-4375-B25E-DE4A3C2E00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роны четырехугольник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стягивают дуги описанной окружности, градусные величины которых равны соответственно 95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49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71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145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Найдите угол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этого четырехугольника. Ответ дайте в градус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438280" cy="2401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79400" y="5410080"/>
            <a:ext cx="5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145</a:t>
            </a:r>
            <a:r>
              <a:rPr b="1" lang="ru-RU" sz="1400" spc="-1" strike="noStrike" baseline="30000">
                <a:solidFill>
                  <a:srgbClr val="0033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5560" y="380988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71</a:t>
            </a:r>
            <a:r>
              <a:rPr b="1" lang="ru-RU" sz="1400" spc="-1" strike="noStrike" baseline="30000">
                <a:solidFill>
                  <a:srgbClr val="0033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2767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49</a:t>
            </a:r>
            <a:r>
              <a:rPr b="1" lang="ru-RU" sz="1400" spc="-1" strike="noStrike" baseline="30000">
                <a:solidFill>
                  <a:srgbClr val="0033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120" y="365760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95</a:t>
            </a:r>
            <a:r>
              <a:rPr b="1" lang="ru-RU" sz="1400" spc="-1" strike="noStrike" baseline="30000">
                <a:solidFill>
                  <a:srgbClr val="0033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8840" y="3592440"/>
            <a:ext cx="300240" cy="173160"/>
          </a:xfrm>
          <a:custGeom>
            <a:avLst/>
            <a:gdLst/>
            <a:ahLst/>
            <a:rect l="l" t="t" r="r" b="b"/>
            <a:pathLst>
              <a:path w="189" h="109">
                <a:moveTo>
                  <a:pt x="0" y="65"/>
                </a:moveTo>
                <a:cubicBezTo>
                  <a:pt x="42" y="109"/>
                  <a:pt x="108" y="88"/>
                  <a:pt x="154" y="57"/>
                </a:cubicBezTo>
                <a:cubicBezTo>
                  <a:pt x="189" y="7"/>
                  <a:pt x="187" y="28"/>
                  <a:pt x="18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1680" y="3581280"/>
            <a:ext cx="33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∟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ВС  опирается на дугу  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373800">
            <a:off x="504000" y="3487320"/>
            <a:ext cx="1964160" cy="221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50" y="1100"/>
                </a:moveTo>
                <a:arcTo wR="10800" hR="10800" stAng="-6965353" swAng="13202129"/>
                <a:lnTo>
                  <a:pt x="10800" y="10800"/>
                </a:lnTo>
                <a:close/>
              </a:path>
              <a:path fill="none" w="21600" h="21600">
                <a:moveTo>
                  <a:pt x="6050" y="1100"/>
                </a:moveTo>
                <a:arcTo wR="10800" hR="10800" stAng="-6965353" swAng="1320212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32767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743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писанный угол измеряется половиной дуги, на которую опираетс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4343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уга 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C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вна    145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+ 71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= 216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96000" y="518004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ВС = 216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: 2=108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6720" y="57150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 = 108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2760" y="6172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: 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126-561B-40CA-88C2-05C36EAED1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92C37-8FF1-4DEC-B381-5FC8513CC8B8}" type="datetime1">
              <a:rPr lang="en-US"/>
              <a:t>07/31/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нтральный угол на 36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больше острого вписанного угла, опирающегося на ту же дугу окружности. Найдите вписанный угол. Ответ дайте в градус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2286000" cy="2251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8120" y="2514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писанный угол АСВ составляет половину центрального АОВ, опирающегося на туже дугу А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усть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∟АСВ = 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343400"/>
            <a:ext cx="166680" cy="76320"/>
          </a:xfrm>
          <a:custGeom>
            <a:avLst/>
            <a:gdLst/>
            <a:ahLst/>
            <a:rect l="l" t="t" r="r" b="b"/>
            <a:pathLst>
              <a:path w="105" h="48">
                <a:moveTo>
                  <a:pt x="0" y="0"/>
                </a:moveTo>
                <a:cubicBezTo>
                  <a:pt x="8" y="3"/>
                  <a:pt x="17" y="3"/>
                  <a:pt x="24" y="8"/>
                </a:cubicBezTo>
                <a:cubicBezTo>
                  <a:pt x="33" y="14"/>
                  <a:pt x="38" y="26"/>
                  <a:pt x="48" y="32"/>
                </a:cubicBezTo>
                <a:cubicBezTo>
                  <a:pt x="58" y="38"/>
                  <a:pt x="70" y="37"/>
                  <a:pt x="81" y="40"/>
                </a:cubicBezTo>
                <a:cubicBezTo>
                  <a:pt x="89" y="42"/>
                  <a:pt x="105" y="48"/>
                  <a:pt x="105" y="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024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429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∟АОВ = х + 36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4038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как  ∟АОВ =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∟АСВ, 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495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 + 36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= 2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495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 = 36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3080" y="55627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вет: 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8B3-53C5-436A-B800-6BA9BE94D9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F3152-6FFD-4C60-9B39-6681D9C12CD8}" type="datetime1">
              <a:rPr lang="en-US"/>
              <a:t>07/31/26</a:t>
            </a:fld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у равен острый вписанный угол, опирающийся на хорду, равную радиусу окружности? Ответ дайте в градус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362320" cy="2325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47920" y="2286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 условию задачи АС =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,  Следовательно АС = АО = С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638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20760" y="4495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920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14400" y="480060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523880" y="4800240"/>
            <a:ext cx="60984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2819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ОС равносторонний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&gt;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∟АОС = 6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411480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писанный угол АВС составляет половину центрального АОС, опирающегося на туже дугу А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3276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нтральный угол АОС измеряется дугой АС, на которую опира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9720" y="5029200"/>
            <a:ext cx="20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ВС =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∟А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5029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∟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ВС = 6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: 2 = 3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7640" y="57913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: 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1D1-3B8B-4383-86B5-C07FDAE80F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ABFBE-11CA-4053-BA4D-41FCC7D5F252}" type="datetime1">
              <a:rPr lang="en-US"/>
              <a:t>07/31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0-20T13:29:3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