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move the slide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7A4E-2AAE-4E47-B884-182F2C5BF8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5C2-F61B-4961-B2B0-223C9E3C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80F-6CE6-4FAD-AE27-112349B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47C-CC55-4F67-A2EE-D50F53E9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742-940F-46FA-A780-AAA48228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423-E5F9-4FEF-8141-11511506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02C-FF69-4F30-91D8-B55886C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7B9-07FC-4F94-AED5-024CE9E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B0B-8706-418A-A536-52F92DE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3CF-075D-420F-8F5B-DB33BCCD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2B0-B6EF-47BA-967E-E165BE5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FFF-9BED-4698-BB82-18BA05E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740-0714-4206-AD53-C8B048F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ADC-F932-4118-BFA7-324513796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49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755640" y="3860640"/>
            <a:ext cx="7486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и на концентрацию и сплав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640" y="1844640"/>
            <a:ext cx="7162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центы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3"/>
          <p:cNvSpPr/>
          <p:nvPr/>
        </p:nvSpPr>
        <p:spPr>
          <a:xfrm>
            <a:off x="250920" y="1601640"/>
            <a:ext cx="5257800" cy="432000"/>
          </a:xfrm>
          <a:prstGeom prst="rect">
            <a:avLst/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32"/>
          <p:cNvSpPr/>
          <p:nvPr/>
        </p:nvSpPr>
        <p:spPr>
          <a:xfrm>
            <a:off x="4500720" y="1268280"/>
            <a:ext cx="4321080" cy="360360"/>
          </a:xfrm>
          <a:prstGeom prst="rect">
            <a:avLst/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7280" y="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5)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79280" y="476280"/>
            <a:ext cx="8964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меется два сплава. Первый содержит 10% никеля, второй  — 30% никеля. Из этих двух сплавов получили третий сплав массой 200 кг, содержащий 25% никеля. На сколько килограммов масса первого сплава меньше массы второго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0" y="189000"/>
            <a:ext cx="9143640" cy="6668640"/>
            <a:chOff x="0" y="189000"/>
            <a:chExt cx="9143640" cy="6668640"/>
          </a:xfrm>
        </p:grpSpPr>
        <p:sp>
          <p:nvSpPr>
            <p:cNvPr id="385" name="Freeform 5"/>
            <p:cNvSpPr/>
            <p:nvPr/>
          </p:nvSpPr>
          <p:spPr>
            <a:xfrm>
              <a:off x="473400" y="21600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513720" y="684396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9103320" y="650880"/>
              <a:ext cx="1440" cy="5731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31200"/>
                <a:gd name="textAreaBottom" fmla="*/ 5731560 h 57312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54000" y="650880"/>
              <a:ext cx="27000" cy="5731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31200"/>
                <a:gd name="textAreaBottom" fmla="*/ 5731560 h 57312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54000" y="6368760"/>
              <a:ext cx="459720" cy="488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>
              <a:off x="8683560" y="6355080"/>
              <a:ext cx="460080" cy="48888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 flipH="1" rot="16200000">
              <a:off x="8669160" y="176400"/>
              <a:ext cx="461880" cy="48672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 rot="5400000">
              <a:off x="12240" y="176400"/>
              <a:ext cx="461880" cy="48672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3" name="Picture 2" descr="http://www.ege-study.ru/ege-advices/pict1/216.png"/>
          <p:cNvPicPr/>
          <p:nvPr/>
        </p:nvPicPr>
        <p:blipFill>
          <a:blip r:embed="rId1"/>
          <a:stretch/>
        </p:blipFill>
        <p:spPr>
          <a:xfrm>
            <a:off x="250920" y="2060640"/>
            <a:ext cx="4897440" cy="21765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395280" y="50140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2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ь масса первого сплава равна х , а масса второго равна 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6" descr="x"/>
          <p:cNvPicPr/>
          <p:nvPr/>
        </p:nvPicPr>
        <p:blipFill>
          <a:blip r:embed="rId2"/>
          <a:stretch/>
        </p:blipFill>
        <p:spPr>
          <a:xfrm>
            <a:off x="10909440" y="-13644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+"/>
          <p:cNvPicPr/>
          <p:nvPr/>
        </p:nvPicPr>
        <p:blipFill>
          <a:blip r:embed="rId3"/>
          <a:stretch/>
        </p:blipFill>
        <p:spPr>
          <a:xfrm>
            <a:off x="11061720" y="-136440"/>
            <a:ext cx="181080" cy="142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y"/>
          <p:cNvPicPr/>
          <p:nvPr/>
        </p:nvPicPr>
        <p:blipFill>
          <a:blip r:embed="rId4"/>
          <a:stretch/>
        </p:blipFill>
        <p:spPr>
          <a:xfrm>
            <a:off x="11220480" y="-136440"/>
            <a:ext cx="152280" cy="171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="/>
          <p:cNvPicPr/>
          <p:nvPr/>
        </p:nvPicPr>
        <p:blipFill>
          <a:blip r:embed="rId5"/>
          <a:stretch/>
        </p:blipFill>
        <p:spPr>
          <a:xfrm>
            <a:off x="11382480" y="-136440"/>
            <a:ext cx="180720" cy="950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21"/>
          <p:cNvSpPr/>
          <p:nvPr/>
        </p:nvSpPr>
        <p:spPr>
          <a:xfrm>
            <a:off x="5067360" y="21337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пишем простую систему уравнени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29"/>
          <p:cNvSpPr/>
          <p:nvPr/>
        </p:nvSpPr>
        <p:spPr>
          <a:xfrm>
            <a:off x="6518880" y="63086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5435640" y="2492280"/>
                <a:ext cx="2374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Прямоугольник 26"/>
          <p:cNvSpPr/>
          <p:nvPr/>
        </p:nvSpPr>
        <p:spPr>
          <a:xfrm>
            <a:off x="395280" y="537372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08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 результате получили сплав массой  х + у = 20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27"/>
          <p:cNvSpPr/>
          <p:nvPr/>
        </p:nvSpPr>
        <p:spPr>
          <a:xfrm>
            <a:off x="395280" y="57340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са никеля: (10% от х) + (30% от у) = (25% от 2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5435640" y="3284640"/>
                <a:ext cx="212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539640" y="4148280"/>
                <a:ext cx="1409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2340000" y="4148280"/>
                <a:ext cx="1409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140360" y="4076640"/>
                <a:ext cx="1485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6012000" y="4076640"/>
                <a:ext cx="888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7236000" y="4221000"/>
                <a:ext cx="1422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335160" y="6093000"/>
            <a:ext cx="62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792760" y="341640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5792400" y="26924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1602000" y="3365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1601640" y="269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267440" y="2666880"/>
            <a:ext cx="1604160" cy="520920"/>
            <a:chOff x="4267440" y="2666880"/>
            <a:chExt cx="1604160" cy="520920"/>
          </a:xfrm>
        </p:grpSpPr>
        <p:sp>
          <p:nvSpPr>
            <p:cNvPr id="417" name=""/>
            <p:cNvSpPr/>
            <p:nvPr/>
          </p:nvSpPr>
          <p:spPr>
            <a:xfrm>
              <a:off x="4267440" y="2666880"/>
              <a:ext cx="160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5321160" y="288936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9" name=""/>
          <p:cNvSpPr/>
          <p:nvPr/>
        </p:nvSpPr>
        <p:spPr>
          <a:xfrm>
            <a:off x="1602000" y="33624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1601640" y="268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422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609480" y="554688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22860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ся два сплава. Первый сплав содержит 10% никеля, второй  — 30% никеля. Из этих двух сплавов получили третий сплав массой 200 кг, содержащий 25% никеля. На сколько килограммов масса первого сплава меньше массы втор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2111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ь сплав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438280" y="2133720"/>
            <a:ext cx="1828800" cy="1755360"/>
            <a:chOff x="2438280" y="2133720"/>
            <a:chExt cx="1828800" cy="1755360"/>
          </a:xfrm>
        </p:grpSpPr>
        <p:sp>
          <p:nvSpPr>
            <p:cNvPr id="434" name=""/>
            <p:cNvSpPr/>
            <p:nvPr/>
          </p:nvSpPr>
          <p:spPr>
            <a:xfrm>
              <a:off x="3188880" y="33685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88880" y="2682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2133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икеля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28600" y="2682720"/>
            <a:ext cx="1676520" cy="1190880"/>
            <a:chOff x="228600" y="2682720"/>
            <a:chExt cx="1676520" cy="1190880"/>
          </a:xfrm>
        </p:grpSpPr>
        <p:sp>
          <p:nvSpPr>
            <p:cNvPr id="438" name=""/>
            <p:cNvSpPr/>
            <p:nvPr/>
          </p:nvSpPr>
          <p:spPr>
            <a:xfrm>
              <a:off x="228600" y="268272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сплав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34444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сплав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038480" y="2116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келя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5792400" y="2687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5792760" y="34099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7302600" y="5803920"/>
                <a:ext cx="11491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231480" y="4191120"/>
            <a:ext cx="3807000" cy="1343160"/>
            <a:chOff x="231480" y="4191120"/>
            <a:chExt cx="3807000" cy="1343160"/>
          </a:xfrm>
        </p:grpSpPr>
        <p:sp>
          <p:nvSpPr>
            <p:cNvPr id="445" name=""/>
            <p:cNvSpPr/>
            <p:nvPr/>
          </p:nvSpPr>
          <p:spPr>
            <a:xfrm>
              <a:off x="2209680" y="49500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96920" y="49528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7280" y="44197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1480" y="419112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277880" y="3365640"/>
            <a:ext cx="1575360" cy="520560"/>
            <a:chOff x="4277880" y="3365640"/>
            <a:chExt cx="1575360" cy="520560"/>
          </a:xfrm>
        </p:grpSpPr>
        <p:sp>
          <p:nvSpPr>
            <p:cNvPr id="451" name=""/>
            <p:cNvSpPr/>
            <p:nvPr/>
          </p:nvSpPr>
          <p:spPr>
            <a:xfrm>
              <a:off x="4277880" y="3365640"/>
              <a:ext cx="15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5330880" y="3587760"/>
                  <a:ext cx="21744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3" name=""/>
          <p:cNvSpPr/>
          <p:nvPr/>
        </p:nvSpPr>
        <p:spPr>
          <a:xfrm>
            <a:off x="228600" y="1117440"/>
            <a:ext cx="8140680" cy="546120"/>
          </a:xfrm>
          <a:custGeom>
            <a:avLst/>
            <a:gdLst/>
            <a:ahLst/>
            <a:rect l="l" t="t" r="r" b="b"/>
            <a:pathLst>
              <a:path w="5128" h="344">
                <a:moveTo>
                  <a:pt x="8" y="192"/>
                </a:moveTo>
                <a:lnTo>
                  <a:pt x="0" y="344"/>
                </a:lnTo>
                <a:lnTo>
                  <a:pt x="1800" y="328"/>
                </a:lnTo>
                <a:lnTo>
                  <a:pt x="1720" y="192"/>
                </a:lnTo>
                <a:lnTo>
                  <a:pt x="5128" y="192"/>
                </a:lnTo>
                <a:lnTo>
                  <a:pt x="5128" y="0"/>
                </a:lnTo>
                <a:lnTo>
                  <a:pt x="1792" y="0"/>
                </a:lnTo>
                <a:lnTo>
                  <a:pt x="1744" y="184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72200" y="1066680"/>
            <a:ext cx="2417760" cy="703440"/>
            <a:chOff x="6172200" y="1066680"/>
            <a:chExt cx="2417760" cy="703440"/>
          </a:xfrm>
        </p:grpSpPr>
        <p:sp>
          <p:nvSpPr>
            <p:cNvPr id="455" name=""/>
            <p:cNvSpPr/>
            <p:nvPr/>
          </p:nvSpPr>
          <p:spPr>
            <a:xfrm>
              <a:off x="8154720" y="1066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2200" y="13716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Искомая величин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2743200"/>
            <a:ext cx="914400" cy="1143000"/>
            <a:chOff x="2057400" y="2743200"/>
            <a:chExt cx="914400" cy="1143000"/>
          </a:xfrm>
        </p:grpSpPr>
        <p:sp>
          <p:nvSpPr>
            <p:cNvPr id="458" name=""/>
            <p:cNvSpPr/>
            <p:nvPr/>
          </p:nvSpPr>
          <p:spPr>
            <a:xfrm>
              <a:off x="2057400" y="274320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3048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93320" y="5486400"/>
            <a:ext cx="3752640" cy="520560"/>
            <a:chOff x="193320" y="5486400"/>
            <a:chExt cx="3752640" cy="520560"/>
          </a:xfrm>
        </p:grpSpPr>
        <p:sp>
          <p:nvSpPr>
            <p:cNvPr id="461" name=""/>
            <p:cNvSpPr/>
            <p:nvPr/>
          </p:nvSpPr>
          <p:spPr>
            <a:xfrm>
              <a:off x="193320" y="554976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5880" y="5486400"/>
              <a:ext cx="18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+ y 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752480" y="4343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" y="64404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ь и реши систему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876920" y="5943600"/>
            <a:ext cx="3671640" cy="660240"/>
            <a:chOff x="4876920" y="5943600"/>
            <a:chExt cx="3671640" cy="660240"/>
          </a:xfrm>
        </p:grpSpPr>
        <p:grpSp>
          <p:nvGrpSpPr>
            <p:cNvPr id="466" name=""/>
            <p:cNvGrpSpPr/>
            <p:nvPr/>
          </p:nvGrpSpPr>
          <p:grpSpPr>
            <a:xfrm>
              <a:off x="7045200" y="6108840"/>
              <a:ext cx="918360" cy="376560"/>
              <a:chOff x="7045200" y="6108840"/>
              <a:chExt cx="918360" cy="376560"/>
            </a:xfrm>
          </p:grpSpPr>
          <p:sp>
            <p:nvSpPr>
              <p:cNvPr id="467" name=""/>
              <p:cNvSpPr/>
              <p:nvPr/>
            </p:nvSpPr>
            <p:spPr>
              <a:xfrm>
                <a:off x="7057440" y="61218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07960" y="610884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5200" y="62370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55360" y="6239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89640" y="62229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4876920" y="601848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9920" y="6062760"/>
              <a:ext cx="82368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67000" y="60883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9240" y="606276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33840" y="606276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75200" y="606276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19800" y="606276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61160" y="605016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05400" y="606276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3600" y="59882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97480" y="59547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7560" y="5943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19440" y="596124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54680" y="594684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Заголовок 1"/>
          <p:cNvSpPr/>
          <p:nvPr/>
        </p:nvSpPr>
        <p:spPr>
          <a:xfrm>
            <a:off x="468360" y="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 (№ 995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873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93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94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556 0.00115 L -0.38334 0.16226 L -0.39445 0.25671 E">
                                      <p:cBhvr>
                                        <p:cTn id="957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 -0.00093 L -0.26945 0.08796 L -0.279 0.15486 E">
                                      <p:cBhvr>
                                        <p:cTn id="95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04688 0.32338 L 0.09965 0.33635 E">
                                      <p:cBhvr>
                                        <p:cTn id="963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4723 0.30556 L 0.16216 0.30301 L 0.18438 0.23634 E">
                                      <p:cBhvr>
                                        <p:cTn id="965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85185E-006 L -0.01806 -0.11296 L -0.36389 -0.16296 E">
                                      <p:cBhvr>
                                        <p:cTn id="969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Скругленный прямоугольник 33"/>
          <p:cNvSpPr/>
          <p:nvPr/>
        </p:nvSpPr>
        <p:spPr>
          <a:xfrm>
            <a:off x="3419640" y="2421000"/>
            <a:ext cx="2376360" cy="187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Скругленный прямоугольник 21"/>
          <p:cNvSpPr/>
          <p:nvPr/>
        </p:nvSpPr>
        <p:spPr>
          <a:xfrm>
            <a:off x="179280" y="1484280"/>
            <a:ext cx="4392720" cy="36036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Скругленный прямоугольник 20"/>
          <p:cNvSpPr/>
          <p:nvPr/>
        </p:nvSpPr>
        <p:spPr>
          <a:xfrm>
            <a:off x="6516720" y="1052640"/>
            <a:ext cx="1727280" cy="36036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Скругленный прямоугольник 17"/>
          <p:cNvSpPr/>
          <p:nvPr/>
        </p:nvSpPr>
        <p:spPr>
          <a:xfrm>
            <a:off x="179280" y="1052640"/>
            <a:ext cx="6264360" cy="431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Скругленный прямоугольник 16"/>
          <p:cNvSpPr/>
          <p:nvPr/>
        </p:nvSpPr>
        <p:spPr>
          <a:xfrm>
            <a:off x="7885080" y="620640"/>
            <a:ext cx="1008000" cy="504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6)</a:t>
            </a:r>
            <a:br>
              <a:rPr sz="32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вый сплав содержит 10% меди, второй  — 40% меди. Масса второго сплава больше массы первого на 3 кг. Из этих двух сплавов получили третий сплав, содержащий 30% меди. Найдите массу третьего сплава. Ответ дайте в килограммах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495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Таблица 14" descr=""/>
          <p:cNvPicPr/>
          <p:nvPr/>
        </p:nvPicPr>
        <p:blipFill>
          <a:blip r:embed="rId1"/>
          <a:stretch/>
        </p:blipFill>
        <p:spPr>
          <a:xfrm>
            <a:off x="176040" y="2346480"/>
            <a:ext cx="5694480" cy="201744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15"/>
          <p:cNvSpPr/>
          <p:nvPr/>
        </p:nvSpPr>
        <p:spPr>
          <a:xfrm>
            <a:off x="331200" y="39337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-ой спла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Прямоугольник 18" descr=""/>
          <p:cNvPicPr/>
          <p:nvPr/>
        </p:nvPicPr>
        <p:blipFill>
          <a:blip r:embed="rId2"/>
          <a:stretch/>
        </p:blipFill>
        <p:spPr>
          <a:xfrm>
            <a:off x="2212920" y="3035160"/>
            <a:ext cx="397080" cy="40968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19"/>
          <p:cNvSpPr/>
          <p:nvPr/>
        </p:nvSpPr>
        <p:spPr>
          <a:xfrm>
            <a:off x="2127600" y="35733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Прямоугольник 22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743040" cy="40824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оугольник 23" descr=""/>
          <p:cNvPicPr/>
          <p:nvPr/>
        </p:nvPicPr>
        <p:blipFill>
          <a:blip r:embed="rId4"/>
          <a:stretch/>
        </p:blipFill>
        <p:spPr>
          <a:xfrm>
            <a:off x="628560" y="731880"/>
            <a:ext cx="2425680" cy="414360"/>
          </a:xfrm>
          <a:prstGeom prst="rect">
            <a:avLst/>
          </a:prstGeom>
          <a:ln w="0">
            <a:noFill/>
          </a:ln>
        </p:spPr>
      </p:pic>
      <p:pic>
        <p:nvPicPr>
          <p:cNvPr id="510" name="Прямоугольник 24" descr=""/>
          <p:cNvPicPr/>
          <p:nvPr/>
        </p:nvPicPr>
        <p:blipFill>
          <a:blip r:embed="rId5"/>
          <a:stretch/>
        </p:blipFill>
        <p:spPr>
          <a:xfrm>
            <a:off x="3724200" y="3035160"/>
            <a:ext cx="1158840" cy="409680"/>
          </a:xfrm>
          <a:prstGeom prst="rect">
            <a:avLst/>
          </a:prstGeom>
          <a:ln w="0">
            <a:noFill/>
          </a:ln>
        </p:spPr>
      </p:pic>
      <p:sp>
        <p:nvSpPr>
          <p:cNvPr id="511" name="Скругленный прямоугольник 25"/>
          <p:cNvSpPr/>
          <p:nvPr/>
        </p:nvSpPr>
        <p:spPr>
          <a:xfrm>
            <a:off x="3564000" y="692280"/>
            <a:ext cx="576360" cy="28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Прямоугольник 26" descr=""/>
          <p:cNvPicPr/>
          <p:nvPr/>
        </p:nvPicPr>
        <p:blipFill>
          <a:blip r:embed="rId6"/>
          <a:stretch/>
        </p:blipFill>
        <p:spPr>
          <a:xfrm>
            <a:off x="3708360" y="3068640"/>
            <a:ext cx="689040" cy="409680"/>
          </a:xfrm>
          <a:prstGeom prst="rect">
            <a:avLst/>
          </a:prstGeom>
          <a:ln w="0">
            <a:noFill/>
          </a:ln>
        </p:spPr>
      </p:pic>
      <p:pic>
        <p:nvPicPr>
          <p:cNvPr id="513" name="Прямоугольник 27" descr=""/>
          <p:cNvPicPr/>
          <p:nvPr/>
        </p:nvPicPr>
        <p:blipFill>
          <a:blip r:embed="rId7"/>
          <a:stretch/>
        </p:blipFill>
        <p:spPr>
          <a:xfrm>
            <a:off x="4284720" y="2637000"/>
            <a:ext cx="627120" cy="40788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8"/>
          <p:cNvSpPr/>
          <p:nvPr/>
        </p:nvSpPr>
        <p:spPr>
          <a:xfrm>
            <a:off x="4003560" y="3500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%  от (х+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29"/>
          <p:cNvSpPr/>
          <p:nvPr/>
        </p:nvSpPr>
        <p:spPr>
          <a:xfrm>
            <a:off x="6372360" y="620640"/>
            <a:ext cx="647640" cy="43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оугольник 30"/>
          <p:cNvSpPr/>
          <p:nvPr/>
        </p:nvSpPr>
        <p:spPr>
          <a:xfrm>
            <a:off x="4000680" y="3500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4(х+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оугольник 31"/>
          <p:cNvSpPr/>
          <p:nvPr/>
        </p:nvSpPr>
        <p:spPr>
          <a:xfrm>
            <a:off x="6300720" y="1341360"/>
            <a:ext cx="719280" cy="57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Прямоугольник 32"/>
          <p:cNvSpPr/>
          <p:nvPr/>
        </p:nvSpPr>
        <p:spPr>
          <a:xfrm>
            <a:off x="4217760" y="3933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3(2x+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Прямоугольник 34"/>
          <p:cNvSpPr/>
          <p:nvPr/>
        </p:nvSpPr>
        <p:spPr>
          <a:xfrm>
            <a:off x="698400" y="46530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1х + 0,4(х+3) = 0,3(2x+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рямоугольник 35"/>
          <p:cNvSpPr/>
          <p:nvPr/>
        </p:nvSpPr>
        <p:spPr>
          <a:xfrm>
            <a:off x="699840" y="515772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1х + 0,4х + 1.2 = 0,6x + 0,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36"/>
          <p:cNvSpPr/>
          <p:nvPr/>
        </p:nvSpPr>
        <p:spPr>
          <a:xfrm>
            <a:off x="689400" y="5589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1х =0,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Прямая соединительная линия 38"/>
          <p:cNvSpPr/>
          <p:nvPr/>
        </p:nvSpPr>
        <p:spPr>
          <a:xfrm>
            <a:off x="7885080" y="184464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ая соединительная линия 41"/>
          <p:cNvSpPr/>
          <p:nvPr/>
        </p:nvSpPr>
        <p:spPr>
          <a:xfrm>
            <a:off x="324000" y="2205000"/>
            <a:ext cx="29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Прямоугольник 42"/>
          <p:cNvSpPr/>
          <p:nvPr/>
        </p:nvSpPr>
        <p:spPr>
          <a:xfrm>
            <a:off x="759960" y="6093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Прямоугольник 43"/>
          <p:cNvSpPr/>
          <p:nvPr/>
        </p:nvSpPr>
        <p:spPr>
          <a:xfrm>
            <a:off x="2779200" y="6093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х +3  = 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Прямоугольник 44"/>
          <p:cNvSpPr/>
          <p:nvPr/>
        </p:nvSpPr>
        <p:spPr>
          <a:xfrm>
            <a:off x="630072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2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8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1" dur="2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2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Скругленный прямоугольник 39"/>
          <p:cNvSpPr/>
          <p:nvPr/>
        </p:nvSpPr>
        <p:spPr>
          <a:xfrm>
            <a:off x="179280" y="1844640"/>
            <a:ext cx="4392720" cy="360360"/>
          </a:xfrm>
          <a:prstGeom prst="roundRect">
            <a:avLst>
              <a:gd name="adj" fmla="val 16667"/>
            </a:avLst>
          </a:prstGeom>
          <a:solidFill>
            <a:srgbClr val="ff8989"/>
          </a:solidFill>
          <a:ln w="25560">
            <a:solidFill>
              <a:srgbClr val="ff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ик 35"/>
          <p:cNvSpPr/>
          <p:nvPr/>
        </p:nvSpPr>
        <p:spPr>
          <a:xfrm>
            <a:off x="1619280" y="4149720"/>
            <a:ext cx="1440000" cy="1440000"/>
          </a:xfrm>
          <a:prstGeom prst="rect">
            <a:avLst/>
          </a:prstGeom>
          <a:solidFill>
            <a:srgbClr val="b2acfa"/>
          </a:solidFill>
          <a:ln w="25560">
            <a:solidFill>
              <a:srgbClr val="b2a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Скругленный прямоугольник 32"/>
          <p:cNvSpPr/>
          <p:nvPr/>
        </p:nvSpPr>
        <p:spPr>
          <a:xfrm>
            <a:off x="3419640" y="1557360"/>
            <a:ext cx="5256000" cy="358920"/>
          </a:xfrm>
          <a:prstGeom prst="roundRect">
            <a:avLst>
              <a:gd name="adj" fmla="val 16667"/>
            </a:avLst>
          </a:prstGeom>
          <a:solidFill>
            <a:srgbClr val="2dff8c"/>
          </a:solidFill>
          <a:ln w="25560">
            <a:solidFill>
              <a:srgbClr val="2df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Скругленный прямоугольник 30"/>
          <p:cNvSpPr/>
          <p:nvPr/>
        </p:nvSpPr>
        <p:spPr>
          <a:xfrm>
            <a:off x="250920" y="1125360"/>
            <a:ext cx="7561080" cy="35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Скругленный прямоугольник 29"/>
          <p:cNvSpPr/>
          <p:nvPr/>
        </p:nvSpPr>
        <p:spPr>
          <a:xfrm>
            <a:off x="7596360" y="692280"/>
            <a:ext cx="863280" cy="43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Скругленный прямоугольник 26"/>
          <p:cNvSpPr/>
          <p:nvPr/>
        </p:nvSpPr>
        <p:spPr>
          <a:xfrm>
            <a:off x="5003640" y="692280"/>
            <a:ext cx="2592720" cy="433080"/>
          </a:xfrm>
          <a:prstGeom prst="roundRect">
            <a:avLst>
              <a:gd name="adj" fmla="val 16667"/>
            </a:avLst>
          </a:prstGeom>
          <a:solidFill>
            <a:srgbClr val="f793e9"/>
          </a:solidFill>
          <a:ln w="25560">
            <a:solidFill>
              <a:srgbClr val="f79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Скругленный прямоугольник 25"/>
          <p:cNvSpPr/>
          <p:nvPr/>
        </p:nvSpPr>
        <p:spPr>
          <a:xfrm>
            <a:off x="179280" y="692280"/>
            <a:ext cx="4824360" cy="43308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6)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79280" y="6919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вый сплав содержит 10% меди, второй – 40% меди. Масса второго сплава больше массы первого на 3 килограмма. Из этих двух сплавов получили третий сплав, содержащий 30% меди. Найдите массу третьего сплава. Ответ дайте в кг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536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537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Rectangle 1"/>
          <p:cNvSpPr/>
          <p:nvPr/>
        </p:nvSpPr>
        <p:spPr>
          <a:xfrm>
            <a:off x="250920" y="37130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 в третьем сплаве 30%, значит масс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и в третьем сплаве 0,3 (2х +3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24000" y="4221000"/>
          <a:ext cx="4608360" cy="1295640"/>
        </p:xfrm>
        <a:graphic>
          <a:graphicData uri="http://schemas.openxmlformats.org/drawingml/2006/table">
            <a:tbl>
              <a:tblPr/>
              <a:tblGrid>
                <a:gridCol w="1253880"/>
                <a:gridCol w="1514520"/>
                <a:gridCol w="183996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плава в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п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п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п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Прямоугольник 14"/>
          <p:cNvSpPr/>
          <p:nvPr/>
        </p:nvSpPr>
        <p:spPr>
          <a:xfrm>
            <a:off x="5111640" y="5300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1х + 0,4х + 1,2 =0,6х + 0,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468360" y="60220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(кг) масса первого сплава, масса третьего сплава 9 к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084720" y="630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9 к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Прямоугольник 18"/>
          <p:cNvSpPr/>
          <p:nvPr/>
        </p:nvSpPr>
        <p:spPr>
          <a:xfrm>
            <a:off x="250920" y="227664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ледим за количеством меди в каждом сплав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Прямоугольник 19"/>
          <p:cNvSpPr/>
          <p:nvPr/>
        </p:nvSpPr>
        <p:spPr>
          <a:xfrm>
            <a:off x="250920" y="2565360"/>
            <a:ext cx="71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х(кг) масса первого сплава, (х + 3)кг масса второго спла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Прямоугольник 20"/>
          <p:cNvSpPr/>
          <p:nvPr/>
        </p:nvSpPr>
        <p:spPr>
          <a:xfrm>
            <a:off x="371088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21"/>
          <p:cNvSpPr/>
          <p:nvPr/>
        </p:nvSpPr>
        <p:spPr>
          <a:xfrm>
            <a:off x="3639600" y="486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Прямоугольник 22"/>
          <p:cNvSpPr/>
          <p:nvPr/>
        </p:nvSpPr>
        <p:spPr>
          <a:xfrm>
            <a:off x="250920" y="285264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 в первом сплаве 10%, значит масса меди в первом сплаве 0,1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23"/>
          <p:cNvSpPr/>
          <p:nvPr/>
        </p:nvSpPr>
        <p:spPr>
          <a:xfrm>
            <a:off x="1979640" y="45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Прямоугольник 24"/>
          <p:cNvSpPr/>
          <p:nvPr/>
        </p:nvSpPr>
        <p:spPr>
          <a:xfrm>
            <a:off x="250920" y="3141720"/>
            <a:ext cx="84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 во втором сплаве 40%, значит масса меди во втором сплаве   0,4(х + 3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27"/>
          <p:cNvSpPr/>
          <p:nvPr/>
        </p:nvSpPr>
        <p:spPr>
          <a:xfrm>
            <a:off x="1768680" y="479736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(х +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28"/>
          <p:cNvSpPr/>
          <p:nvPr/>
        </p:nvSpPr>
        <p:spPr>
          <a:xfrm>
            <a:off x="266760" y="3429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са третьего сплава (х + х + 3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31"/>
          <p:cNvSpPr/>
          <p:nvPr/>
        </p:nvSpPr>
        <p:spPr>
          <a:xfrm>
            <a:off x="3425040" y="51577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х +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рямоугольник 33"/>
          <p:cNvSpPr/>
          <p:nvPr/>
        </p:nvSpPr>
        <p:spPr>
          <a:xfrm>
            <a:off x="1698480" y="51577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(2х +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оугольник 34"/>
          <p:cNvSpPr/>
          <p:nvPr/>
        </p:nvSpPr>
        <p:spPr>
          <a:xfrm>
            <a:off x="5003640" y="4221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оставим уравнение, исходя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личества меди в каждом спл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36"/>
          <p:cNvSpPr/>
          <p:nvPr/>
        </p:nvSpPr>
        <p:spPr>
          <a:xfrm>
            <a:off x="5165640" y="486900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1х + 0,4 (х + 3) = 0,3 ( 2х +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Прямоугольник 37"/>
          <p:cNvSpPr/>
          <p:nvPr/>
        </p:nvSpPr>
        <p:spPr>
          <a:xfrm>
            <a:off x="6737040" y="5661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Прямоугольник 38"/>
          <p:cNvSpPr/>
          <p:nvPr/>
        </p:nvSpPr>
        <p:spPr>
          <a:xfrm>
            <a:off x="5083920" y="56610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0,1х = -0,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478560" y="33526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4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/>
          <p:nvPr/>
        </p:nvSpPr>
        <p:spPr>
          <a:xfrm>
            <a:off x="6478200" y="3352680"/>
            <a:ext cx="14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268880" y="3352680"/>
            <a:ext cx="2017080" cy="520560"/>
            <a:chOff x="4268880" y="3352680"/>
            <a:chExt cx="2017080" cy="520560"/>
          </a:xfrm>
        </p:grpSpPr>
        <p:sp>
          <p:nvSpPr>
            <p:cNvPr id="569" name=""/>
            <p:cNvSpPr/>
            <p:nvPr/>
          </p:nvSpPr>
          <p:spPr>
            <a:xfrm>
              <a:off x="4268880" y="3352680"/>
              <a:ext cx="20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: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4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5751360" y="3574800"/>
                  <a:ext cx="21780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1" name=""/>
          <p:cNvSpPr/>
          <p:nvPr/>
        </p:nvSpPr>
        <p:spPr>
          <a:xfrm>
            <a:off x="1601640" y="336240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/>
          <p:nvPr/>
        </p:nvSpPr>
        <p:spPr>
          <a:xfrm>
            <a:off x="5792400" y="26924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/>
          <p:nvPr/>
        </p:nvSpPr>
        <p:spPr>
          <a:xfrm>
            <a:off x="1601640" y="3365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/>
          <p:nvPr/>
        </p:nvSpPr>
        <p:spPr>
          <a:xfrm>
            <a:off x="1601640" y="269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267440" y="2666880"/>
            <a:ext cx="1604160" cy="520920"/>
            <a:chOff x="4267440" y="2666880"/>
            <a:chExt cx="1604160" cy="520920"/>
          </a:xfrm>
        </p:grpSpPr>
        <p:sp>
          <p:nvSpPr>
            <p:cNvPr id="576" name=""/>
            <p:cNvSpPr/>
            <p:nvPr/>
          </p:nvSpPr>
          <p:spPr>
            <a:xfrm>
              <a:off x="4267440" y="2666880"/>
              <a:ext cx="160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5321160" y="288936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8" name=""/>
          <p:cNvSpPr/>
          <p:nvPr/>
        </p:nvSpPr>
        <p:spPr>
          <a:xfrm>
            <a:off x="1601640" y="268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580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09480" y="554688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22860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сплав содержит 10% меди, второй  — 40% меди. Масса второго сплава больше массы первого на 3 кг. Из этих двух сплавов получили третий сплав, содержащий 30% меди. Найдите массу третьего сплава. Ответ дайте в килограмм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2111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ь сплав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438280" y="2133720"/>
            <a:ext cx="1828800" cy="1755360"/>
            <a:chOff x="2438280" y="2133720"/>
            <a:chExt cx="1828800" cy="1755360"/>
          </a:xfrm>
        </p:grpSpPr>
        <p:sp>
          <p:nvSpPr>
            <p:cNvPr id="592" name=""/>
            <p:cNvSpPr/>
            <p:nvPr/>
          </p:nvSpPr>
          <p:spPr>
            <a:xfrm>
              <a:off x="3188880" y="33685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88880" y="2682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8280" y="2133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дь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28600" y="2682720"/>
            <a:ext cx="1676520" cy="1190880"/>
            <a:chOff x="228600" y="2682720"/>
            <a:chExt cx="1676520" cy="1190880"/>
          </a:xfrm>
        </p:grpSpPr>
        <p:sp>
          <p:nvSpPr>
            <p:cNvPr id="596" name=""/>
            <p:cNvSpPr/>
            <p:nvPr/>
          </p:nvSpPr>
          <p:spPr>
            <a:xfrm>
              <a:off x="228600" y="268272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сплав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8600" y="34444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сплав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4038480" y="212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ь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5792400" y="2687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7308720" y="5805360"/>
                <a:ext cx="1149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"/>
          <p:cNvGrpSpPr/>
          <p:nvPr/>
        </p:nvGrpSpPr>
        <p:grpSpPr>
          <a:xfrm>
            <a:off x="358920" y="4191120"/>
            <a:ext cx="3806640" cy="1343160"/>
            <a:chOff x="358920" y="4191120"/>
            <a:chExt cx="3806640" cy="1343160"/>
          </a:xfrm>
        </p:grpSpPr>
        <p:sp>
          <p:nvSpPr>
            <p:cNvPr id="602" name=""/>
            <p:cNvSpPr/>
            <p:nvPr/>
          </p:nvSpPr>
          <p:spPr>
            <a:xfrm>
              <a:off x="2336760" y="49500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240" y="49528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68680" y="44197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8920" y="4191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410080" y="472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1130400"/>
            <a:ext cx="8737560" cy="571320"/>
          </a:xfrm>
          <a:custGeom>
            <a:avLst/>
            <a:gdLst/>
            <a:ahLst/>
            <a:rect l="l" t="t" r="r" b="b"/>
            <a:pathLst>
              <a:path w="5504" h="360">
                <a:moveTo>
                  <a:pt x="0" y="184"/>
                </a:moveTo>
                <a:lnTo>
                  <a:pt x="48" y="360"/>
                </a:lnTo>
                <a:lnTo>
                  <a:pt x="952" y="352"/>
                </a:lnTo>
                <a:lnTo>
                  <a:pt x="1000" y="200"/>
                </a:lnTo>
                <a:lnTo>
                  <a:pt x="5504" y="192"/>
                </a:lnTo>
                <a:lnTo>
                  <a:pt x="5504" y="0"/>
                </a:lnTo>
                <a:lnTo>
                  <a:pt x="2168" y="0"/>
                </a:lnTo>
                <a:lnTo>
                  <a:pt x="2120" y="192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644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Решите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140360" y="6021360"/>
            <a:ext cx="3671640" cy="658800"/>
            <a:chOff x="4140360" y="6021360"/>
            <a:chExt cx="3671640" cy="658800"/>
          </a:xfrm>
        </p:grpSpPr>
        <p:grpSp>
          <p:nvGrpSpPr>
            <p:cNvPr id="610" name=""/>
            <p:cNvGrpSpPr/>
            <p:nvPr/>
          </p:nvGrpSpPr>
          <p:grpSpPr>
            <a:xfrm>
              <a:off x="6308640" y="6186600"/>
              <a:ext cx="918360" cy="376560"/>
              <a:chOff x="6308640" y="6186600"/>
              <a:chExt cx="918360" cy="376560"/>
            </a:xfrm>
          </p:grpSpPr>
          <p:sp>
            <p:nvSpPr>
              <p:cNvPr id="611" name=""/>
              <p:cNvSpPr/>
              <p:nvPr/>
            </p:nvSpPr>
            <p:spPr>
              <a:xfrm>
                <a:off x="632088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71400" y="618660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30864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8800" y="63169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55308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4140360" y="60962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03360" y="6140520"/>
              <a:ext cx="82368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30440" y="616608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52680" y="614052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97280" y="614052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38640" y="614052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83240" y="614052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24600" y="612792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68840" y="6140520"/>
              <a:ext cx="3790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67040" y="60660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60920" y="603252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2100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82880" y="60390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18120" y="60246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1066680"/>
            <a:ext cx="3200400" cy="990720"/>
            <a:chOff x="5181480" y="1066680"/>
            <a:chExt cx="3200400" cy="990720"/>
          </a:xfrm>
        </p:grpSpPr>
        <p:grpSp>
          <p:nvGrpSpPr>
            <p:cNvPr id="631" name=""/>
            <p:cNvGrpSpPr/>
            <p:nvPr/>
          </p:nvGrpSpPr>
          <p:grpSpPr>
            <a:xfrm>
              <a:off x="5316120" y="1487520"/>
              <a:ext cx="3065760" cy="520560"/>
              <a:chOff x="5316120" y="1487520"/>
              <a:chExt cx="3065760" cy="520560"/>
            </a:xfrm>
          </p:grpSpPr>
          <p:sp>
            <p:nvSpPr>
              <p:cNvPr id="632" name=""/>
              <p:cNvSpPr/>
              <p:nvPr/>
            </p:nvSpPr>
            <p:spPr>
              <a:xfrm>
                <a:off x="6248520" y="1600200"/>
                <a:ext cx="21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Искомая величин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316120" y="1487520"/>
                <a:ext cx="91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+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181480" y="1066680"/>
              <a:ext cx="1351080" cy="990720"/>
              <a:chOff x="5181480" y="1066680"/>
              <a:chExt cx="1351080" cy="990720"/>
            </a:xfrm>
          </p:grpSpPr>
          <p:sp>
            <p:nvSpPr>
              <p:cNvPr id="635" name=""/>
              <p:cNvSpPr/>
              <p:nvPr/>
            </p:nvSpPr>
            <p:spPr>
              <a:xfrm>
                <a:off x="5181480" y="1447560"/>
                <a:ext cx="1143000" cy="609840"/>
              </a:xfrm>
              <a:prstGeom prst="ellipse">
                <a:avLst/>
              </a:prstGeom>
              <a:solidFill>
                <a:srgbClr val="ffff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97320" y="10666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Заголовок 1"/>
          <p:cNvSpPr/>
          <p:nvPr/>
        </p:nvSpPr>
        <p:spPr>
          <a:xfrm>
            <a:off x="468360" y="0"/>
            <a:ext cx="82072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1448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145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 -0.00185 L -0.21528 -0.0037 E">
                                      <p:cBhvr>
                                        <p:cTn id="151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 -0.00185 L -0.21528 -0.0037 E">
                                      <p:cBhvr>
                                        <p:cTn id="1515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555 0.00116 L -0.38333 0.16227 L -0.40937 0.25857 E">
                                      <p:cBhvr>
                                        <p:cTn id="153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527 -0.0037 L -0.35972 0.11111 L -0.3835 0.16597 E">
                                      <p:cBhvr>
                                        <p:cTn id="1532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04688 0.32338 L 0.12188 0.33079 E">
                                      <p:cBhvr>
                                        <p:cTn id="1536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4723 0.30556 L 0.16216 0.30301 L 0.18438 0.23634 E">
                                      <p:cBhvr>
                                        <p:cTn id="15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526E-006 L -0.01823 -0.11422 L -0.33073 -0.16277 E">
                                      <p:cBhvr>
                                        <p:cTn id="1542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ая выноска 40"/>
          <p:cNvSpPr/>
          <p:nvPr/>
        </p:nvSpPr>
        <p:spPr>
          <a:xfrm>
            <a:off x="7596360" y="1773360"/>
            <a:ext cx="647640" cy="215640"/>
          </a:xfrm>
          <a:prstGeom prst="wedgeRectCallout">
            <a:avLst>
              <a:gd name="adj1" fmla="val -771814"/>
              <a:gd name="adj2" fmla="val 166102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Скругленный прямоугольник 37"/>
          <p:cNvSpPr/>
          <p:nvPr/>
        </p:nvSpPr>
        <p:spPr>
          <a:xfrm>
            <a:off x="250920" y="1989000"/>
            <a:ext cx="4033800" cy="3589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Скругленный прямоугольник 36"/>
          <p:cNvSpPr/>
          <p:nvPr/>
        </p:nvSpPr>
        <p:spPr>
          <a:xfrm>
            <a:off x="179280" y="1555920"/>
            <a:ext cx="1297080" cy="4330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Скругленный прямоугольник 35"/>
          <p:cNvSpPr/>
          <p:nvPr/>
        </p:nvSpPr>
        <p:spPr>
          <a:xfrm>
            <a:off x="1476360" y="1268280"/>
            <a:ext cx="6624720" cy="792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Прямоугольная выноска 34"/>
          <p:cNvSpPr/>
          <p:nvPr/>
        </p:nvSpPr>
        <p:spPr>
          <a:xfrm>
            <a:off x="5292720" y="981000"/>
            <a:ext cx="358920" cy="360360"/>
          </a:xfrm>
          <a:prstGeom prst="wedgeRectCallout">
            <a:avLst>
              <a:gd name="adj1" fmla="val -987708"/>
              <a:gd name="adj2" fmla="val 1007097"/>
            </a:avLst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Скругленный прямоугольник 31"/>
          <p:cNvSpPr/>
          <p:nvPr/>
        </p:nvSpPr>
        <p:spPr>
          <a:xfrm>
            <a:off x="5003640" y="2852640"/>
            <a:ext cx="432000" cy="6476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32373">
                <a:moveTo>
                  <a:pt x="3600" y="0"/>
                </a:moveTo>
                <a:arcTo wR="3600" hR="3600" stAng="16200000" swAng="-5400000"/>
                <a:lnTo>
                  <a:pt x="0" y="28773"/>
                </a:lnTo>
                <a:arcTo wR="3600" hR="3600" stAng="10800000" swAng="-5400000"/>
                <a:lnTo>
                  <a:pt x="18000" y="32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29"/>
          <p:cNvSpPr/>
          <p:nvPr/>
        </p:nvSpPr>
        <p:spPr>
          <a:xfrm>
            <a:off x="1763640" y="3500280"/>
            <a:ext cx="360360" cy="289080"/>
          </a:xfrm>
          <a:prstGeom prst="ellipse">
            <a:avLst/>
          </a:prstGeom>
          <a:solidFill>
            <a:srgbClr val="2dff8c"/>
          </a:solidFill>
          <a:ln w="25560">
            <a:solidFill>
              <a:srgbClr val="2df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Прямоугольник 28"/>
          <p:cNvSpPr/>
          <p:nvPr/>
        </p:nvSpPr>
        <p:spPr>
          <a:xfrm>
            <a:off x="1476360" y="836640"/>
            <a:ext cx="2374920" cy="360360"/>
          </a:xfrm>
          <a:prstGeom prst="rect">
            <a:avLst/>
          </a:prstGeom>
          <a:solidFill>
            <a:srgbClr val="2dff8c"/>
          </a:solidFill>
          <a:ln w="25560">
            <a:solidFill>
              <a:srgbClr val="2df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Скругленный прямоугольник 26"/>
          <p:cNvSpPr/>
          <p:nvPr/>
        </p:nvSpPr>
        <p:spPr>
          <a:xfrm>
            <a:off x="3708360" y="476280"/>
            <a:ext cx="4680000" cy="43164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Скругленный прямоугольник 24"/>
          <p:cNvSpPr/>
          <p:nvPr/>
        </p:nvSpPr>
        <p:spPr>
          <a:xfrm>
            <a:off x="250920" y="476280"/>
            <a:ext cx="3241440" cy="360360"/>
          </a:xfrm>
          <a:prstGeom prst="roundRect">
            <a:avLst>
              <a:gd name="adj" fmla="val 16667"/>
            </a:avLst>
          </a:prstGeom>
          <a:solidFill>
            <a:srgbClr val="ff8989"/>
          </a:solidFill>
          <a:ln w="25560">
            <a:solidFill>
              <a:srgbClr val="ff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7)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79280" y="475920"/>
            <a:ext cx="8964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мешав 30-процентный и 60-процентный растворы кислоты и добавив 10 кг чистой воды, получили 36-процентный раствор кислоты. Если бы вместо 10 кг воды добавили 10 кг 50-процентного раствора той же кислоты, то получили бы 41-процентный раствор кислоты. Сколько килограммов 30-процентного раствора использовали для получения смеси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652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Прямоугольник 14"/>
          <p:cNvSpPr/>
          <p:nvPr/>
        </p:nvSpPr>
        <p:spPr>
          <a:xfrm>
            <a:off x="179280" y="3429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лучили (х+у+10) кг раствора, в котором (0,3х+0,6у)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Прямоугольник 21"/>
          <p:cNvSpPr/>
          <p:nvPr/>
        </p:nvSpPr>
        <p:spPr>
          <a:xfrm>
            <a:off x="6769080" y="6137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7956720" y="6426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Прямоугольник 23"/>
          <p:cNvSpPr/>
          <p:nvPr/>
        </p:nvSpPr>
        <p:spPr>
          <a:xfrm>
            <a:off x="250920" y="285264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 - масса 30%-ого раствора кислоты, в котором 0,3х «чистой» кисл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Прямоугольник 25"/>
          <p:cNvSpPr/>
          <p:nvPr/>
        </p:nvSpPr>
        <p:spPr>
          <a:xfrm>
            <a:off x="250920" y="3141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 - масса 60%-ого раствора кислоты, в котором 0,6у «чистой» кисл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Прямоугольник 27"/>
          <p:cNvSpPr/>
          <p:nvPr/>
        </p:nvSpPr>
        <p:spPr>
          <a:xfrm>
            <a:off x="179280" y="371628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льше считают концентрацию, деля часть на цел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250920" y="4149720"/>
                <a:ext cx="426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-во  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  раствор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3"/>
              <p:cNvSpPr txBox="1"/>
              <p:nvPr/>
            </p:nvSpPr>
            <p:spPr>
              <a:xfrm>
                <a:off x="395280" y="472428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0,6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395280" y="5445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0,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Левая фигурная скобка 39"/>
          <p:cNvSpPr/>
          <p:nvPr/>
        </p:nvSpPr>
        <p:spPr>
          <a:xfrm>
            <a:off x="250920" y="465300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440000"/>
              <a:gd name="textAreaBottom" fmla="*/ 143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5"/>
              <p:cNvSpPr txBox="1"/>
              <p:nvPr/>
            </p:nvSpPr>
            <p:spPr>
              <a:xfrm>
                <a:off x="3348000" y="4869000"/>
                <a:ext cx="38988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,6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1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2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7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7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6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672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7)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82" name="Прямоугольник 14"/>
          <p:cNvSpPr/>
          <p:nvPr/>
        </p:nvSpPr>
        <p:spPr>
          <a:xfrm>
            <a:off x="179280" y="62064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мешав 30-процентный и 60-процентный растворы кислоты и добавив 10 кг чистой воды, получили 36-процентный раствор кислоты. Если бы вместо 10 кг воды добавили 10 кг 50-процентного раствора той же кислоты, то получили бы 41-процентный раствор кислоты. Сколько килограммов 30-процентного раствора использовали для получения сме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Прямоугольник 15"/>
          <p:cNvSpPr/>
          <p:nvPr/>
        </p:nvSpPr>
        <p:spPr>
          <a:xfrm>
            <a:off x="2286000" y="213660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324000" y="2637000"/>
                <a:ext cx="38988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,6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3"/>
              <p:cNvSpPr txBox="1"/>
              <p:nvPr/>
            </p:nvSpPr>
            <p:spPr>
              <a:xfrm>
                <a:off x="4844880" y="2565360"/>
                <a:ext cx="3353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Прямоугольник 18"/>
          <p:cNvSpPr/>
          <p:nvPr/>
        </p:nvSpPr>
        <p:spPr>
          <a:xfrm>
            <a:off x="457416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Прямая соединительная линия 20"/>
          <p:cNvSpPr/>
          <p:nvPr/>
        </p:nvSpPr>
        <p:spPr>
          <a:xfrm>
            <a:off x="4859280" y="3284640"/>
            <a:ext cx="34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4"/>
              <p:cNvSpPr txBox="1"/>
              <p:nvPr/>
            </p:nvSpPr>
            <p:spPr>
              <a:xfrm>
                <a:off x="5775480" y="3429000"/>
                <a:ext cx="1892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Прямая соединительная линия 23"/>
          <p:cNvSpPr/>
          <p:nvPr/>
        </p:nvSpPr>
        <p:spPr>
          <a:xfrm flipH="1">
            <a:off x="7884720" y="3357720"/>
            <a:ext cx="7164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5"/>
              <p:cNvSpPr txBox="1"/>
              <p:nvPr/>
            </p:nvSpPr>
            <p:spPr>
              <a:xfrm>
                <a:off x="539640" y="3716280"/>
                <a:ext cx="18795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1" name="Прямоугольник 26"/>
          <p:cNvSpPr/>
          <p:nvPr/>
        </p:nvSpPr>
        <p:spPr>
          <a:xfrm>
            <a:off x="7960680" y="335772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6"/>
              <p:cNvSpPr txBox="1"/>
              <p:nvPr/>
            </p:nvSpPr>
            <p:spPr>
              <a:xfrm>
                <a:off x="546120" y="4653000"/>
                <a:ext cx="18669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7"/>
              <p:cNvSpPr txBox="1"/>
              <p:nvPr/>
            </p:nvSpPr>
            <p:spPr>
              <a:xfrm>
                <a:off x="684360" y="3716280"/>
                <a:ext cx="3682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8"/>
              <p:cNvSpPr txBox="1"/>
              <p:nvPr/>
            </p:nvSpPr>
            <p:spPr>
              <a:xfrm>
                <a:off x="2195640" y="4076640"/>
                <a:ext cx="1168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Прямоугольник 30"/>
          <p:cNvSpPr/>
          <p:nvPr/>
        </p:nvSpPr>
        <p:spPr>
          <a:xfrm>
            <a:off x="2198520" y="40053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Прямая соединительная линия 32"/>
          <p:cNvSpPr/>
          <p:nvPr/>
        </p:nvSpPr>
        <p:spPr>
          <a:xfrm>
            <a:off x="2484360" y="5013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Прямоугольник 33"/>
          <p:cNvSpPr/>
          <p:nvPr/>
        </p:nvSpPr>
        <p:spPr>
          <a:xfrm>
            <a:off x="2488320" y="49417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9"/>
              <p:cNvSpPr txBox="1"/>
              <p:nvPr/>
            </p:nvSpPr>
            <p:spPr>
              <a:xfrm>
                <a:off x="3780000" y="4581360"/>
                <a:ext cx="1396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9" name="Прямая соединительная линия 36"/>
          <p:cNvSpPr/>
          <p:nvPr/>
        </p:nvSpPr>
        <p:spPr>
          <a:xfrm>
            <a:off x="3851280" y="5373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Прямоугольник 40"/>
          <p:cNvSpPr/>
          <p:nvPr/>
        </p:nvSpPr>
        <p:spPr>
          <a:xfrm>
            <a:off x="342180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356000" y="5516640"/>
                <a:ext cx="673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3924360" y="4653000"/>
                <a:ext cx="3808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2"/>
              <p:cNvSpPr txBox="1"/>
              <p:nvPr/>
            </p:nvSpPr>
            <p:spPr>
              <a:xfrm>
                <a:off x="4427640" y="4653000"/>
                <a:ext cx="177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3"/>
              <p:cNvSpPr txBox="1"/>
              <p:nvPr/>
            </p:nvSpPr>
            <p:spPr>
              <a:xfrm>
                <a:off x="4716360" y="458136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4"/>
              <p:cNvSpPr txBox="1"/>
              <p:nvPr/>
            </p:nvSpPr>
            <p:spPr>
              <a:xfrm>
                <a:off x="4788000" y="551664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15"/>
              <p:cNvSpPr txBox="1"/>
              <p:nvPr/>
            </p:nvSpPr>
            <p:spPr>
              <a:xfrm>
                <a:off x="5435640" y="4869000"/>
                <a:ext cx="2120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Прямоугольник 47"/>
          <p:cNvSpPr/>
          <p:nvPr/>
        </p:nvSpPr>
        <p:spPr>
          <a:xfrm>
            <a:off x="630072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/>
          <p:nvPr/>
        </p:nvSpPr>
        <p:spPr>
          <a:xfrm>
            <a:off x="622440" y="6021360"/>
            <a:ext cx="62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21965E-006 L 0.18454 0.05781 E">
                                      <p:cBhvr>
                                        <p:cTn id="1749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1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500"/>
                            </p:stCondLst>
                            <p:childTnLst>
                              <p:par>
                                <p:cTn id="18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39306E-006 L -0.046 -0.13203 E">
                                      <p:cBhvr>
                                        <p:cTn id="1808" dur="20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1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8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7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125520" y="379404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/>
          <p:nvPr/>
        </p:nvSpPr>
        <p:spPr>
          <a:xfrm>
            <a:off x="3125520" y="379404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/>
          <p:nvPr/>
        </p:nvSpPr>
        <p:spPr>
          <a:xfrm>
            <a:off x="3125160" y="31082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1906920" y="3794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714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380880" y="486108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228600" y="5335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шав 30-процентный и 60-процентный растворы кислоты и добавив 10 кг чистой воды, получили 36-процентный раствор кислоты. Если бы вместо 10 кг воды добавили 10 кг 50-процентного раствора той же кислоты, то получили бы 41-процентный раствор кислоты. Сколько килограммов 30-процентного раствора использовали для получения смес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/>
          <p:nvPr/>
        </p:nvSpPr>
        <p:spPr>
          <a:xfrm>
            <a:off x="1906560" y="310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/>
          <p:nvPr/>
        </p:nvSpPr>
        <p:spPr>
          <a:xfrm>
            <a:off x="1906920" y="378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/>
          <p:nvPr/>
        </p:nvSpPr>
        <p:spPr>
          <a:xfrm>
            <a:off x="1676520" y="2575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р-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тв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/>
          <p:nvPr/>
        </p:nvSpPr>
        <p:spPr>
          <a:xfrm>
            <a:off x="3125160" y="31021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29200" y="3489480"/>
            <a:ext cx="1828800" cy="581400"/>
            <a:chOff x="5029200" y="3489480"/>
            <a:chExt cx="1828800" cy="581400"/>
          </a:xfrm>
        </p:grpSpPr>
        <p:sp>
          <p:nvSpPr>
            <p:cNvPr id="730" name=""/>
            <p:cNvSpPr/>
            <p:nvPr/>
          </p:nvSpPr>
          <p:spPr>
            <a:xfrm>
              <a:off x="5029200" y="348948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35560" y="34894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074000" y="5114880"/>
                <a:ext cx="1149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1906560" y="310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228600" y="3108240"/>
            <a:ext cx="1676520" cy="1190880"/>
            <a:chOff x="228600" y="3108240"/>
            <a:chExt cx="1676520" cy="1190880"/>
          </a:xfrm>
        </p:grpSpPr>
        <p:sp>
          <p:nvSpPr>
            <p:cNvPr id="735" name=""/>
            <p:cNvSpPr/>
            <p:nvPr/>
          </p:nvSpPr>
          <p:spPr>
            <a:xfrm>
              <a:off x="228600" y="310824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" y="387000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5640480" y="29718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5184360" y="2575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5995440" y="3505320"/>
            <a:ext cx="8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79246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/>
          <p:nvPr/>
        </p:nvSpPr>
        <p:spPr>
          <a:xfrm>
            <a:off x="190440" y="546120"/>
            <a:ext cx="8420040" cy="622440"/>
          </a:xfrm>
          <a:custGeom>
            <a:avLst/>
            <a:gdLst/>
            <a:ahLst/>
            <a:rect l="l" t="t" r="r" b="b"/>
            <a:pathLst>
              <a:path w="5304" h="392">
                <a:moveTo>
                  <a:pt x="4296" y="0"/>
                </a:moveTo>
                <a:lnTo>
                  <a:pt x="4248" y="208"/>
                </a:lnTo>
                <a:lnTo>
                  <a:pt x="64" y="208"/>
                </a:lnTo>
                <a:lnTo>
                  <a:pt x="0" y="392"/>
                </a:lnTo>
                <a:lnTo>
                  <a:pt x="904" y="384"/>
                </a:lnTo>
                <a:lnTo>
                  <a:pt x="976" y="200"/>
                </a:lnTo>
                <a:lnTo>
                  <a:pt x="5304" y="208"/>
                </a:lnTo>
                <a:lnTo>
                  <a:pt x="5248" y="0"/>
                </a:lnTo>
              </a:path>
            </a:pathLst>
          </a:cu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838080"/>
            <a:ext cx="4749840" cy="343080"/>
          </a:xfrm>
          <a:custGeom>
            <a:avLst/>
            <a:gdLst/>
            <a:ahLst/>
            <a:rect l="l" t="t" r="r" b="b"/>
            <a:pathLst>
              <a:path w="2992" h="216">
                <a:moveTo>
                  <a:pt x="64" y="0"/>
                </a:moveTo>
                <a:lnTo>
                  <a:pt x="0" y="208"/>
                </a:lnTo>
                <a:lnTo>
                  <a:pt x="2880" y="216"/>
                </a:lnTo>
                <a:lnTo>
                  <a:pt x="2992" y="24"/>
                </a:lnTo>
              </a:path>
            </a:pathLst>
          </a:custGeom>
          <a:solidFill>
            <a:srgbClr val="66ffff">
              <a:alpha val="51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863640"/>
            <a:ext cx="8674200" cy="609480"/>
          </a:xfrm>
          <a:custGeom>
            <a:avLst/>
            <a:gdLst/>
            <a:ahLst/>
            <a:rect l="l" t="t" r="r" b="b"/>
            <a:pathLst>
              <a:path w="5464" h="384">
                <a:moveTo>
                  <a:pt x="64" y="176"/>
                </a:moveTo>
                <a:lnTo>
                  <a:pt x="0" y="384"/>
                </a:lnTo>
                <a:lnTo>
                  <a:pt x="4264" y="360"/>
                </a:lnTo>
                <a:lnTo>
                  <a:pt x="4336" y="208"/>
                </a:lnTo>
                <a:lnTo>
                  <a:pt x="5352" y="184"/>
                </a:lnTo>
                <a:lnTo>
                  <a:pt x="5464" y="0"/>
                </a:lnTo>
                <a:lnTo>
                  <a:pt x="3928" y="0"/>
                </a:lnTo>
                <a:lnTo>
                  <a:pt x="3832" y="192"/>
                </a:lnTo>
                <a:lnTo>
                  <a:pt x="3848" y="176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"/>
          <p:cNvSpPr/>
          <p:nvPr/>
        </p:nvSpPr>
        <p:spPr>
          <a:xfrm>
            <a:off x="533520" y="64404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ь и реши систему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Заголовок 1"/>
          <p:cNvSpPr/>
          <p:nvPr/>
        </p:nvSpPr>
        <p:spPr>
          <a:xfrm>
            <a:off x="468360" y="0"/>
            <a:ext cx="813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30244 0.07569 L 0.33299 0.06273 E">
                                      <p:cBhvr>
                                        <p:cTn id="1883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42031 0.01458 L 0.41892 -0.03912 E">
                                      <p:cBhvr>
                                        <p:cTn id="1885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0.12535 -0.03218 L 0.20452 -0.01505 E">
                                      <p:cBhvr>
                                        <p:cTn id="189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0.19618 0.0368 L 0.30868 -0.1132 E">
                                      <p:cBhvr>
                                        <p:cTn id="1893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-0.02535 -0.14213 L -0.03229 -0.26806 E">
                                      <p:cBhvr>
                                        <p:cTn id="1935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125520" y="402264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/>
          <p:nvPr/>
        </p:nvSpPr>
        <p:spPr>
          <a:xfrm>
            <a:off x="3125520" y="402264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/>
          <p:nvPr/>
        </p:nvSpPr>
        <p:spPr>
          <a:xfrm>
            <a:off x="3125160" y="3336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/>
          <p:nvPr/>
        </p:nvSpPr>
        <p:spPr>
          <a:xfrm>
            <a:off x="1906920" y="4022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752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80880" y="480060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228600" y="5335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шав 30-процентный и 60-процентный растворы кислоты и добавив 10 кг чистой воды, получили 36-процентный раствор кислоты. Если бы вместо 10 кг воды добавили 10 кг 50-процентного раствора той же кислоты, то получили бы 41-процентный раствор кислоты. Сколько килограммов 30-процентного раствора использовали для получения смес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"/>
          <p:cNvSpPr/>
          <p:nvPr/>
        </p:nvSpPr>
        <p:spPr>
          <a:xfrm>
            <a:off x="686160" y="152280"/>
            <a:ext cx="75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рототип № 99577                              Составим второе уравн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1906560" y="33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"/>
          <p:cNvSpPr/>
          <p:nvPr/>
        </p:nvSpPr>
        <p:spPr>
          <a:xfrm>
            <a:off x="1906920" y="4016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/>
          <p:nvPr/>
        </p:nvSpPr>
        <p:spPr>
          <a:xfrm>
            <a:off x="1676520" y="2803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р-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/>
          <p:nvPr/>
        </p:nvSpPr>
        <p:spPr>
          <a:xfrm>
            <a:off x="304812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тв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/>
          <p:nvPr/>
        </p:nvSpPr>
        <p:spPr>
          <a:xfrm>
            <a:off x="3125160" y="33307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029200" y="3718080"/>
            <a:ext cx="1828800" cy="581400"/>
            <a:chOff x="5029200" y="3718080"/>
            <a:chExt cx="1828800" cy="581400"/>
          </a:xfrm>
        </p:grpSpPr>
        <p:sp>
          <p:nvSpPr>
            <p:cNvPr id="769" name=""/>
            <p:cNvSpPr/>
            <p:nvPr/>
          </p:nvSpPr>
          <p:spPr>
            <a:xfrm>
              <a:off x="5029200" y="371808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35560" y="37180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074000" y="5054760"/>
                <a:ext cx="11491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906560" y="333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28600" y="3336840"/>
            <a:ext cx="1676520" cy="1190880"/>
            <a:chOff x="228600" y="3336840"/>
            <a:chExt cx="1676520" cy="1190880"/>
          </a:xfrm>
        </p:grpSpPr>
        <p:sp>
          <p:nvSpPr>
            <p:cNvPr id="774" name=""/>
            <p:cNvSpPr/>
            <p:nvPr/>
          </p:nvSpPr>
          <p:spPr>
            <a:xfrm>
              <a:off x="228600" y="333684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8600" y="409860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335920" y="32004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/>
          <p:nvPr/>
        </p:nvSpPr>
        <p:spPr>
          <a:xfrm>
            <a:off x="5184360" y="28036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/>
          <p:nvPr/>
        </p:nvSpPr>
        <p:spPr>
          <a:xfrm>
            <a:off x="5995440" y="3733920"/>
            <a:ext cx="8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"/>
          <p:cNvSpPr/>
          <p:nvPr/>
        </p:nvSpPr>
        <p:spPr>
          <a:xfrm>
            <a:off x="79246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190440" y="1409760"/>
            <a:ext cx="3695760" cy="304920"/>
          </a:xfrm>
          <a:custGeom>
            <a:avLst/>
            <a:gdLst/>
            <a:ahLst/>
            <a:rect l="l" t="t" r="r" b="b"/>
            <a:pathLst>
              <a:path w="2328" h="192">
                <a:moveTo>
                  <a:pt x="0" y="0"/>
                </a:moveTo>
                <a:lnTo>
                  <a:pt x="48" y="176"/>
                </a:lnTo>
                <a:lnTo>
                  <a:pt x="2238" y="192"/>
                </a:lnTo>
                <a:lnTo>
                  <a:pt x="2328" y="21"/>
                </a:lnTo>
              </a:path>
            </a:pathLst>
          </a:custGeom>
          <a:solidFill>
            <a:srgbClr val="66ffff">
              <a:alpha val="51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165240" y="825480"/>
            <a:ext cx="8737560" cy="584280"/>
          </a:xfrm>
          <a:custGeom>
            <a:avLst/>
            <a:gdLst/>
            <a:ahLst/>
            <a:rect l="l" t="t" r="r" b="b"/>
            <a:pathLst>
              <a:path w="5504" h="368">
                <a:moveTo>
                  <a:pt x="104" y="176"/>
                </a:moveTo>
                <a:lnTo>
                  <a:pt x="0" y="368"/>
                </a:lnTo>
                <a:lnTo>
                  <a:pt x="4304" y="360"/>
                </a:lnTo>
                <a:lnTo>
                  <a:pt x="4376" y="208"/>
                </a:lnTo>
                <a:lnTo>
                  <a:pt x="5392" y="184"/>
                </a:lnTo>
                <a:lnTo>
                  <a:pt x="5504" y="0"/>
                </a:lnTo>
                <a:lnTo>
                  <a:pt x="3968" y="0"/>
                </a:lnTo>
                <a:lnTo>
                  <a:pt x="3872" y="192"/>
                </a:lnTo>
                <a:lnTo>
                  <a:pt x="3888" y="176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343400" y="2057400"/>
            <a:ext cx="7619760" cy="429120"/>
            <a:chOff x="4343400" y="2057400"/>
            <a:chExt cx="7619760" cy="429120"/>
          </a:xfrm>
        </p:grpSpPr>
        <p:sp>
          <p:nvSpPr>
            <p:cNvPr id="783" name=""/>
            <p:cNvSpPr/>
            <p:nvPr/>
          </p:nvSpPr>
          <p:spPr>
            <a:xfrm>
              <a:off x="4343400" y="2057400"/>
              <a:ext cx="761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10  0,5 = 5 (л) кислоты в р-ре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"/>
                <p:cNvSpPr txBox="1"/>
                <p:nvPr/>
              </p:nvSpPr>
              <p:spPr>
                <a:xfrm>
                  <a:off x="4952880" y="2171520"/>
                  <a:ext cx="228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785" name=""/>
          <p:cNvSpPr/>
          <p:nvPr/>
        </p:nvSpPr>
        <p:spPr>
          <a:xfrm>
            <a:off x="6345000" y="318780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11640" y="5805360"/>
            <a:ext cx="3672000" cy="660240"/>
            <a:chOff x="4211640" y="5805360"/>
            <a:chExt cx="3672000" cy="660240"/>
          </a:xfrm>
        </p:grpSpPr>
        <p:grpSp>
          <p:nvGrpSpPr>
            <p:cNvPr id="787" name=""/>
            <p:cNvGrpSpPr/>
            <p:nvPr/>
          </p:nvGrpSpPr>
          <p:grpSpPr>
            <a:xfrm>
              <a:off x="6380280" y="5970600"/>
              <a:ext cx="918720" cy="376560"/>
              <a:chOff x="6380280" y="5970600"/>
              <a:chExt cx="918720" cy="376560"/>
            </a:xfrm>
          </p:grpSpPr>
          <p:sp>
            <p:nvSpPr>
              <p:cNvPr id="788" name=""/>
              <p:cNvSpPr/>
              <p:nvPr/>
            </p:nvSpPr>
            <p:spPr>
              <a:xfrm>
                <a:off x="6392520" y="5983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43040" y="5970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380280" y="6098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90440" y="61009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4720" y="6084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4211640" y="58802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75000" y="5924520"/>
              <a:ext cx="82404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02080" y="59500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224320" y="5924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68920" y="5924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10280" y="5924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54880" y="5924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96240" y="59119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40480" y="5924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38680" y="5850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32560" y="58165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92640" y="5805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54520" y="58230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9760" y="58086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690200" y="3289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365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скомая велич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64404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ь и реши систему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30244 0.07569 L 0.33299 0.06273 E">
                                      <p:cBhvr>
                                        <p:cTn id="2036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42031 0.01458 L 0.41892 -0.03912 E">
                                      <p:cBhvr>
                                        <p:cTn id="2038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0.12535 -0.03218 L 0.16702 -0.0169 E">
                                      <p:cBhvr>
                                        <p:cTn id="204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0.19618 0.0368 L 0.27934 -0.11505 E">
                                      <p:cBhvr>
                                        <p:cTn id="2046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02535 -0.14213 L -0.03368 -0.23125 E">
                                      <p:cBhvr>
                                        <p:cTn id="210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116000" y="-720"/>
            <a:ext cx="67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рототип задания (№ 9957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813" name="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58920" y="549360"/>
            <a:ext cx="87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два сосуда. Первый содержит 30 кг, а второй  — 20 кг раствора кислоты различной концентрации. Если эти растворы смешать, то получится раствор, содержащий 68% кислоты. Если же смешать равные массы этих растворов, то получится раствор, содержащий 70%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килограммов кислоты содержится в первом сосуд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50920" y="2276640"/>
          <a:ext cx="3960720" cy="2039760"/>
        </p:xfrm>
        <a:graphic>
          <a:graphicData uri="http://schemas.openxmlformats.org/drawingml/2006/table">
            <a:tbl>
              <a:tblPr/>
              <a:tblGrid>
                <a:gridCol w="707760"/>
                <a:gridCol w="1132200"/>
                <a:gridCol w="988920"/>
                <a:gridCol w="11318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у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-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5076720" y="2276640"/>
          <a:ext cx="3889440" cy="2016000"/>
        </p:xfrm>
        <a:graphic>
          <a:graphicData uri="http://schemas.openxmlformats.org/drawingml/2006/table">
            <a:tbl>
              <a:tblPr/>
              <a:tblGrid>
                <a:gridCol w="719280"/>
                <a:gridCol w="1187280"/>
                <a:gridCol w="974880"/>
                <a:gridCol w="1008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-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04a7b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"/>
          <p:cNvSpPr/>
          <p:nvPr/>
        </p:nvSpPr>
        <p:spPr>
          <a:xfrm>
            <a:off x="1082880" y="5589000"/>
            <a:ext cx="68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сли же смешать равные массы этих растворов (допустим, по 10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/>
          <p:nvPr/>
        </p:nvSpPr>
        <p:spPr>
          <a:xfrm>
            <a:off x="2771640" y="620640"/>
            <a:ext cx="5977080" cy="504720"/>
          </a:xfrm>
          <a:prstGeom prst="roundRect">
            <a:avLst>
              <a:gd name="adj" fmla="val 16667"/>
            </a:avLst>
          </a:prstGeom>
          <a:solidFill>
            <a:srgbClr val="4fff9f">
              <a:alpha val="37000"/>
            </a:srgbClr>
          </a:solidFill>
          <a:ln w="9360">
            <a:solidFill>
              <a:srgbClr val="2df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836640"/>
            <a:ext cx="5400720" cy="647640"/>
          </a:xfrm>
          <a:prstGeom prst="roundRect">
            <a:avLst>
              <a:gd name="adj" fmla="val 16667"/>
            </a:avLst>
          </a:prstGeom>
          <a:solidFill>
            <a:srgbClr val="4fff9f">
              <a:alpha val="37000"/>
            </a:srgbClr>
          </a:solidFill>
          <a:ln w="9360">
            <a:solidFill>
              <a:srgbClr val="2df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1333440" y="299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/>
          <p:nvPr/>
        </p:nvSpPr>
        <p:spPr>
          <a:xfrm>
            <a:off x="1333440" y="3933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/>
          <p:nvPr/>
        </p:nvSpPr>
        <p:spPr>
          <a:xfrm>
            <a:off x="984600" y="4580640"/>
            <a:ext cx="68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ь х% концентрация кислоты в первом сосуде, у% - во втор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"/>
          <p:cNvSpPr/>
          <p:nvPr/>
        </p:nvSpPr>
        <p:spPr>
          <a:xfrm>
            <a:off x="2419560" y="287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/>
          <p:nvPr/>
        </p:nvSpPr>
        <p:spPr>
          <a:xfrm>
            <a:off x="241308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"/>
          <p:cNvSpPr/>
          <p:nvPr/>
        </p:nvSpPr>
        <p:spPr>
          <a:xfrm>
            <a:off x="4140360" y="1052640"/>
            <a:ext cx="647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"/>
          <p:cNvSpPr/>
          <p:nvPr/>
        </p:nvSpPr>
        <p:spPr>
          <a:xfrm>
            <a:off x="2341440" y="3933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3439080" y="29242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0,3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3366000" y="34290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0,2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3279240" y="3933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50</a:t>
            </a: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·</a:t>
            </a: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0,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3132000" y="2852640"/>
            <a:ext cx="1079640" cy="1440000"/>
          </a:xfrm>
          <a:prstGeom prst="rect">
            <a:avLst/>
          </a:prstGeom>
          <a:solidFill>
            <a:srgbClr val="4fff9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468360" y="5013360"/>
                <a:ext cx="2057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6159240" y="292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/>
          <p:nvPr/>
        </p:nvSpPr>
        <p:spPr>
          <a:xfrm>
            <a:off x="6230880" y="3357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"/>
          <p:cNvSpPr/>
          <p:nvPr/>
        </p:nvSpPr>
        <p:spPr>
          <a:xfrm>
            <a:off x="6303240" y="3141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/>
          <p:nvPr/>
        </p:nvSpPr>
        <p:spPr>
          <a:xfrm>
            <a:off x="6230880" y="3860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/>
          <p:nvPr/>
        </p:nvSpPr>
        <p:spPr>
          <a:xfrm>
            <a:off x="5867280" y="1125360"/>
            <a:ext cx="2978280" cy="935280"/>
          </a:xfrm>
          <a:prstGeom prst="roundRect">
            <a:avLst>
              <a:gd name="adj" fmla="val 16667"/>
            </a:avLst>
          </a:prstGeom>
          <a:solidFill>
            <a:srgbClr val="ffa3a3">
              <a:alpha val="27000"/>
            </a:srgbClr>
          </a:solidFill>
          <a:ln w="9360">
            <a:solidFill>
              <a:srgbClr val="ff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395280" y="141300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a3a3">
              <a:alpha val="27000"/>
            </a:srgbClr>
          </a:solidFill>
          <a:ln w="9360">
            <a:solidFill>
              <a:srgbClr val="ff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7236000" y="1268280"/>
            <a:ext cx="57600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3860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8104680" y="29242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0,1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"/>
          <p:cNvSpPr/>
          <p:nvPr/>
        </p:nvSpPr>
        <p:spPr>
          <a:xfrm>
            <a:off x="8104680" y="3357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0,1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/>
          <p:nvPr/>
        </p:nvSpPr>
        <p:spPr>
          <a:xfrm>
            <a:off x="8105040" y="3860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20</a:t>
            </a:r>
            <a:r>
              <a:rPr b="1" lang="en-US" sz="1600" spc="-1" strike="noStrike">
                <a:solidFill>
                  <a:srgbClr val="604a7b"/>
                </a:solidFill>
                <a:latin typeface="Arial"/>
                <a:ea typeface="Arial"/>
              </a:rPr>
              <a:t>·</a:t>
            </a: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0,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/>
          <p:nvPr/>
        </p:nvSpPr>
        <p:spPr>
          <a:xfrm>
            <a:off x="7958160" y="2276640"/>
            <a:ext cx="1008000" cy="2016000"/>
          </a:xfrm>
          <a:prstGeom prst="rect">
            <a:avLst/>
          </a:prstGeom>
          <a:solidFill>
            <a:srgbClr val="ffa3a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468360" y="5300640"/>
                <a:ext cx="2006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,1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250920" y="4941720"/>
            <a:ext cx="288720" cy="64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59280" y="6093000"/>
                <a:ext cx="2438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слоты 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сего  р-ра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слоты в %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059280" y="4869000"/>
                <a:ext cx="787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211640" y="4941720"/>
                <a:ext cx="4394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 на вопрос задачи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0,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7" name="Прямоугольник 47"/>
          <p:cNvSpPr/>
          <p:nvPr/>
        </p:nvSpPr>
        <p:spPr>
          <a:xfrm>
            <a:off x="630072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/>
          <p:nvPr/>
        </p:nvSpPr>
        <p:spPr>
          <a:xfrm>
            <a:off x="622440" y="6021360"/>
            <a:ext cx="62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1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0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3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1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7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4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9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9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4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9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2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3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9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7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4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3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1)</a:t>
            </a:r>
            <a:br>
              <a:rPr sz="32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62064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сосуд, содержащий 5 литров 12-процентного водного раствора некоторого вещества, добавили 7 литров воды. Сколько процентов составляет концентрация получившегося раствора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62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2" descr="http://www.ege-study.ru/ege-advices/pict1/213.png"/>
          <p:cNvPicPr/>
          <p:nvPr/>
        </p:nvPicPr>
        <p:blipFill>
          <a:blip r:embed="rId1"/>
          <a:stretch/>
        </p:blipFill>
        <p:spPr>
          <a:xfrm>
            <a:off x="250920" y="2124000"/>
            <a:ext cx="4608360" cy="204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50920" y="4026960"/>
            <a:ext cx="8893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Значит, в третьем сосуде столько же литров вещества, сколько и в перво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5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x"/>
          <p:cNvPicPr/>
          <p:nvPr/>
        </p:nvPicPr>
        <p:blipFill>
          <a:blip r:embed="rId2"/>
          <a:stretch/>
        </p:blipFill>
        <p:spPr>
          <a:xfrm>
            <a:off x="155520" y="366840"/>
            <a:ext cx="133560" cy="1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="/>
          <p:cNvPicPr/>
          <p:nvPr/>
        </p:nvPicPr>
        <p:blipFill>
          <a:blip r:embed="rId3"/>
          <a:stretch/>
        </p:blipFill>
        <p:spPr>
          <a:xfrm>
            <a:off x="250920" y="333360"/>
            <a:ext cx="180720" cy="95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9"/>
          <p:cNvSpPr/>
          <p:nvPr/>
        </p:nvSpPr>
        <p:spPr>
          <a:xfrm>
            <a:off x="5221440" y="48690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х = 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0"/>
          <p:cNvSpPr/>
          <p:nvPr/>
        </p:nvSpPr>
        <p:spPr>
          <a:xfrm>
            <a:off x="6090120" y="6165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0"/>
          <p:cNvSpPr/>
          <p:nvPr/>
        </p:nvSpPr>
        <p:spPr>
          <a:xfrm>
            <a:off x="5003640" y="2421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сосуд содерж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,12 · 5 = 0,6 литра вещ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1"/>
          <p:cNvSpPr/>
          <p:nvPr/>
        </p:nvSpPr>
        <p:spPr>
          <a:xfrm>
            <a:off x="4781160" y="314172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о втором сосуде была только в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"/>
              <p:cNvSpPr txBox="1"/>
              <p:nvPr/>
            </p:nvSpPr>
            <p:spPr>
              <a:xfrm>
                <a:off x="3132000" y="4869000"/>
                <a:ext cx="142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623880" y="486900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59920" y="56610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4267440" y="2666880"/>
            <a:ext cx="1458000" cy="520920"/>
            <a:chOff x="4267440" y="2666880"/>
            <a:chExt cx="1458000" cy="520920"/>
          </a:xfrm>
        </p:grpSpPr>
        <p:sp>
          <p:nvSpPr>
            <p:cNvPr id="860" name=""/>
            <p:cNvSpPr/>
            <p:nvPr/>
          </p:nvSpPr>
          <p:spPr>
            <a:xfrm>
              <a:off x="4267440" y="2666880"/>
              <a:ext cx="14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100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5321160" y="288936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2" name=""/>
          <p:cNvSpPr/>
          <p:nvPr/>
        </p:nvSpPr>
        <p:spPr>
          <a:xfrm>
            <a:off x="1601280" y="3362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1601280" y="2682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865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09480" y="554688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>
            <a:off x="228600" y="5335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ются два сосуда. Первый содержит 30 кг, а второй  — 20 кг раствора кислоты различной концентрации. Если эти растворы смешать, то получится раствор, содержащий 68% кислоты. Если же смешать равные массы этих растворов, то получится раствор, содержащий 70% кислоты. Сколько килограммов кислоты содержится в первом сосуд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209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р-р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438280" y="2133720"/>
            <a:ext cx="1828800" cy="1755360"/>
            <a:chOff x="2438280" y="2133720"/>
            <a:chExt cx="1828800" cy="1755360"/>
          </a:xfrm>
        </p:grpSpPr>
        <p:sp>
          <p:nvSpPr>
            <p:cNvPr id="877" name=""/>
            <p:cNvSpPr/>
            <p:nvPr/>
          </p:nvSpPr>
          <p:spPr>
            <a:xfrm>
              <a:off x="3189600" y="3368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89240" y="268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38280" y="2133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центрация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28600" y="2682720"/>
            <a:ext cx="1676520" cy="1190880"/>
            <a:chOff x="228600" y="2682720"/>
            <a:chExt cx="1676520" cy="1190880"/>
          </a:xfrm>
        </p:grpSpPr>
        <p:sp>
          <p:nvSpPr>
            <p:cNvPr id="881" name=""/>
            <p:cNvSpPr/>
            <p:nvPr/>
          </p:nvSpPr>
          <p:spPr>
            <a:xfrm>
              <a:off x="228600" y="268272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сосуд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34444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сосуд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38480" y="212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лоты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/>
          <p:nvPr/>
        </p:nvSpPr>
        <p:spPr>
          <a:xfrm>
            <a:off x="5792400" y="2687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"/>
          <p:cNvSpPr/>
          <p:nvPr/>
        </p:nvSpPr>
        <p:spPr>
          <a:xfrm>
            <a:off x="5792760" y="34099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302600" y="5803920"/>
                <a:ext cx="11491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7" name=""/>
          <p:cNvGrpSpPr/>
          <p:nvPr/>
        </p:nvGrpSpPr>
        <p:grpSpPr>
          <a:xfrm>
            <a:off x="231480" y="4191120"/>
            <a:ext cx="3807000" cy="1343160"/>
            <a:chOff x="231480" y="4191120"/>
            <a:chExt cx="3807000" cy="1343160"/>
          </a:xfrm>
        </p:grpSpPr>
        <p:sp>
          <p:nvSpPr>
            <p:cNvPr id="888" name=""/>
            <p:cNvSpPr/>
            <p:nvPr/>
          </p:nvSpPr>
          <p:spPr>
            <a:xfrm>
              <a:off x="2209680" y="49500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96920" y="49528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897280" y="44197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480" y="419112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51055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1601280" y="2692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/>
          <p:nvPr/>
        </p:nvSpPr>
        <p:spPr>
          <a:xfrm>
            <a:off x="1601280" y="3365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/>
          <p:nvPr/>
        </p:nvSpPr>
        <p:spPr>
          <a:xfrm>
            <a:off x="5792400" y="26924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"/>
          <p:cNvSpPr/>
          <p:nvPr/>
        </p:nvSpPr>
        <p:spPr>
          <a:xfrm>
            <a:off x="5792760" y="341640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277520" y="3365640"/>
            <a:ext cx="1436400" cy="520560"/>
            <a:chOff x="4277520" y="3365640"/>
            <a:chExt cx="1436400" cy="520560"/>
          </a:xfrm>
        </p:grpSpPr>
        <p:sp>
          <p:nvSpPr>
            <p:cNvPr id="898" name=""/>
            <p:cNvSpPr/>
            <p:nvPr/>
          </p:nvSpPr>
          <p:spPr>
            <a:xfrm>
              <a:off x="4277520" y="3365640"/>
              <a:ext cx="14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100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5330880" y="3587760"/>
                  <a:ext cx="21744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0" name=""/>
          <p:cNvSpPr/>
          <p:nvPr/>
        </p:nvSpPr>
        <p:spPr>
          <a:xfrm>
            <a:off x="152280" y="571680"/>
            <a:ext cx="8521920" cy="850680"/>
          </a:xfrm>
          <a:custGeom>
            <a:avLst/>
            <a:gdLst/>
            <a:ahLst/>
            <a:rect l="l" t="t" r="r" b="b"/>
            <a:pathLst>
              <a:path w="5368" h="536">
                <a:moveTo>
                  <a:pt x="80" y="344"/>
                </a:moveTo>
                <a:lnTo>
                  <a:pt x="40" y="536"/>
                </a:lnTo>
                <a:lnTo>
                  <a:pt x="2576" y="520"/>
                </a:lnTo>
                <a:lnTo>
                  <a:pt x="2464" y="352"/>
                </a:lnTo>
                <a:lnTo>
                  <a:pt x="5368" y="352"/>
                </a:lnTo>
                <a:lnTo>
                  <a:pt x="5264" y="16"/>
                </a:lnTo>
                <a:lnTo>
                  <a:pt x="1496" y="0"/>
                </a:lnTo>
                <a:lnTo>
                  <a:pt x="1584" y="200"/>
                </a:lnTo>
                <a:lnTo>
                  <a:pt x="0" y="184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64404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ь и реши систему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229280" y="2273400"/>
            <a:ext cx="1351080" cy="990000"/>
            <a:chOff x="4229280" y="2273400"/>
            <a:chExt cx="1351080" cy="990000"/>
          </a:xfrm>
        </p:grpSpPr>
        <p:sp>
          <p:nvSpPr>
            <p:cNvPr id="903" name=""/>
            <p:cNvSpPr/>
            <p:nvPr/>
          </p:nvSpPr>
          <p:spPr>
            <a:xfrm>
              <a:off x="4229280" y="2653920"/>
              <a:ext cx="1143000" cy="609480"/>
            </a:xfrm>
            <a:prstGeom prst="ellipse">
              <a:avLst/>
            </a:prstGeom>
            <a:solidFill>
              <a:srgbClr val="ffff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45120" y="2273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5397480" y="25401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скомая велич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/>
          <p:nvPr/>
        </p:nvSpPr>
        <p:spPr>
          <a:xfrm>
            <a:off x="1116000" y="-720"/>
            <a:ext cx="67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рототип задания (№ 9957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2481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2483" dur="2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2546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2548" dur="2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556 0.00115 L -0.38334 0.16226 L -0.39445 0.25671 E">
                                      <p:cBhvr>
                                        <p:cTn id="2565" dur="2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 -0.00093 L -0.26945 0.08796 L -0.279 0.15486 E">
                                      <p:cBhvr>
                                        <p:cTn id="2567" dur="2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04688 0.32338 L 0.08021 0.33264 E">
                                      <p:cBhvr>
                                        <p:cTn id="2571" dur="2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4723 0.30556 L 0.16216 0.30301 L 0.18438 0.23634 E">
                                      <p:cBhvr>
                                        <p:cTn id="2573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85185E-006 L -0.01806 -0.11296 L -0.36389 -0.16296 E">
                                      <p:cBhvr>
                                        <p:cTn id="2577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792400" y="34164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/>
          <p:nvPr/>
        </p:nvSpPr>
        <p:spPr>
          <a:xfrm>
            <a:off x="5792400" y="269244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/>
          <p:nvPr/>
        </p:nvSpPr>
        <p:spPr>
          <a:xfrm>
            <a:off x="1601640" y="3365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269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267080" y="2641680"/>
            <a:ext cx="1395000" cy="520560"/>
            <a:chOff x="4267080" y="2641680"/>
            <a:chExt cx="1395000" cy="520560"/>
          </a:xfrm>
        </p:grpSpPr>
        <p:sp>
          <p:nvSpPr>
            <p:cNvPr id="912" name=""/>
            <p:cNvSpPr/>
            <p:nvPr/>
          </p:nvSpPr>
          <p:spPr>
            <a:xfrm>
              <a:off x="4267080" y="2641680"/>
              <a:ext cx="13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5321160" y="2863800"/>
                  <a:ext cx="21744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"/>
          <p:cNvSpPr/>
          <p:nvPr/>
        </p:nvSpPr>
        <p:spPr>
          <a:xfrm>
            <a:off x="1601640" y="336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"/>
          <p:cNvSpPr/>
          <p:nvPr/>
        </p:nvSpPr>
        <p:spPr>
          <a:xfrm>
            <a:off x="1601640" y="268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917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609480" y="5546880"/>
                <a:ext cx="784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6" name=""/>
          <p:cNvSpPr/>
          <p:nvPr/>
        </p:nvSpPr>
        <p:spPr>
          <a:xfrm>
            <a:off x="228600" y="5335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ются два сосуда. Первый содержит 30 кг, а второй  — 20 кг раствора кислоты различной концентрации. Если эти растворы смешать, то получится раствор, содержащий 68% кислоты. Если же смешать равные массы этих растворов, то получится раствор, содержащий 70% кислоты. Сколько килограммов кислоты содержится в первом сосуд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1219320" y="2149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р-р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2438280" y="2133720"/>
            <a:ext cx="1828800" cy="1755360"/>
            <a:chOff x="2438280" y="2133720"/>
            <a:chExt cx="1828800" cy="1755360"/>
          </a:xfrm>
        </p:grpSpPr>
        <p:sp>
          <p:nvSpPr>
            <p:cNvPr id="929" name=""/>
            <p:cNvSpPr/>
            <p:nvPr/>
          </p:nvSpPr>
          <p:spPr>
            <a:xfrm>
              <a:off x="3189600" y="3368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89240" y="268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38280" y="2133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центрация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228600" y="2682720"/>
            <a:ext cx="1676520" cy="1190880"/>
            <a:chOff x="228600" y="2682720"/>
            <a:chExt cx="1676520" cy="1190880"/>
          </a:xfrm>
        </p:grpSpPr>
        <p:sp>
          <p:nvSpPr>
            <p:cNvPr id="933" name=""/>
            <p:cNvSpPr/>
            <p:nvPr/>
          </p:nvSpPr>
          <p:spPr>
            <a:xfrm>
              <a:off x="228600" y="268272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сосуд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8600" y="34444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сосуд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038480" y="212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лоты,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/>
          <p:nvPr/>
        </p:nvSpPr>
        <p:spPr>
          <a:xfrm>
            <a:off x="5792400" y="268776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/>
          <p:nvPr/>
        </p:nvSpPr>
        <p:spPr>
          <a:xfrm>
            <a:off x="5792400" y="3409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7302600" y="5803920"/>
                <a:ext cx="11491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9" name=""/>
          <p:cNvGrpSpPr/>
          <p:nvPr/>
        </p:nvGrpSpPr>
        <p:grpSpPr>
          <a:xfrm>
            <a:off x="231480" y="4191120"/>
            <a:ext cx="3807000" cy="1343160"/>
            <a:chOff x="231480" y="4191120"/>
            <a:chExt cx="3807000" cy="1343160"/>
          </a:xfrm>
        </p:grpSpPr>
        <p:sp>
          <p:nvSpPr>
            <p:cNvPr id="940" name=""/>
            <p:cNvSpPr/>
            <p:nvPr/>
          </p:nvSpPr>
          <p:spPr>
            <a:xfrm>
              <a:off x="2209680" y="49500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96920" y="49528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97280" y="44197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1480" y="419112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51055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77160" y="3365640"/>
            <a:ext cx="1373760" cy="520560"/>
            <a:chOff x="4277160" y="3365640"/>
            <a:chExt cx="1373760" cy="520560"/>
          </a:xfrm>
        </p:grpSpPr>
        <p:sp>
          <p:nvSpPr>
            <p:cNvPr id="946" name=""/>
            <p:cNvSpPr/>
            <p:nvPr/>
          </p:nvSpPr>
          <p:spPr>
            <a:xfrm>
              <a:off x="4277160" y="3365640"/>
              <a:ext cx="137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5330880" y="3587760"/>
                  <a:ext cx="21744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8" name=""/>
          <p:cNvSpPr/>
          <p:nvPr/>
        </p:nvSpPr>
        <p:spPr>
          <a:xfrm>
            <a:off x="254160" y="1143000"/>
            <a:ext cx="8102520" cy="546120"/>
          </a:xfrm>
          <a:custGeom>
            <a:avLst/>
            <a:gdLst/>
            <a:ahLst/>
            <a:rect l="l" t="t" r="r" b="b"/>
            <a:pathLst>
              <a:path w="5104" h="344">
                <a:moveTo>
                  <a:pt x="0" y="344"/>
                </a:moveTo>
                <a:lnTo>
                  <a:pt x="4104" y="336"/>
                </a:lnTo>
                <a:lnTo>
                  <a:pt x="4184" y="176"/>
                </a:lnTo>
                <a:lnTo>
                  <a:pt x="5104" y="176"/>
                </a:lnTo>
                <a:lnTo>
                  <a:pt x="5056" y="0"/>
                </a:lnTo>
                <a:lnTo>
                  <a:pt x="2440" y="0"/>
                </a:lnTo>
                <a:lnTo>
                  <a:pt x="2504" y="176"/>
                </a:lnTo>
                <a:lnTo>
                  <a:pt x="24" y="176"/>
                </a:lnTo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"/>
          <p:cNvSpPr/>
          <p:nvPr/>
        </p:nvSpPr>
        <p:spPr>
          <a:xfrm>
            <a:off x="612000" y="19051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Возьмем по 1 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64404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ь и реши систему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859280" y="5950080"/>
            <a:ext cx="3672000" cy="660240"/>
            <a:chOff x="4859280" y="5950080"/>
            <a:chExt cx="3672000" cy="660240"/>
          </a:xfrm>
        </p:grpSpPr>
        <p:grpSp>
          <p:nvGrpSpPr>
            <p:cNvPr id="952" name=""/>
            <p:cNvGrpSpPr/>
            <p:nvPr/>
          </p:nvGrpSpPr>
          <p:grpSpPr>
            <a:xfrm>
              <a:off x="7027920" y="6115320"/>
              <a:ext cx="918720" cy="376560"/>
              <a:chOff x="7027920" y="6115320"/>
              <a:chExt cx="918720" cy="376560"/>
            </a:xfrm>
          </p:grpSpPr>
          <p:sp>
            <p:nvSpPr>
              <p:cNvPr id="953" name=""/>
              <p:cNvSpPr/>
              <p:nvPr/>
            </p:nvSpPr>
            <p:spPr>
              <a:xfrm>
                <a:off x="7040160" y="61282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90680" y="611532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27920" y="62434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38080" y="6245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272360" y="62294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4859280" y="602496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22640" y="6069240"/>
              <a:ext cx="82404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49720" y="609480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7196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1656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579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025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43880" y="605664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881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86320" y="59947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80200" y="59612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40280" y="59500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2160" y="59677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37400" y="59533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116000" y="-720"/>
            <a:ext cx="67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рототип задания (№ 9957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588000" y="1844640"/>
                <a:ext cx="2324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0,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,2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804000" y="3141720"/>
                <a:ext cx="1968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,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6948360" y="4005360"/>
                <a:ext cx="15242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7236000" y="4869000"/>
                <a:ext cx="1168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07" dur="indefinite" restart="never" nodeType="tmRoot">
          <p:childTnLst>
            <p:seq>
              <p:cTn id="2608" dur="indefinite" nodeType="mainSeq">
                <p:childTnLst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2721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3 0.00185 L -0.15556 0.00185 E">
                                      <p:cBhvr>
                                        <p:cTn id="2723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6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2786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972 0 L -0.15 0 E">
                                      <p:cBhvr>
                                        <p:cTn id="2788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555 0.00116 L -0.38333 0.16227 L -0.41215 0.25672 E">
                                      <p:cBhvr>
                                        <p:cTn id="2805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 -0.00093 L -0.26945 0.08796 L -0.28316 0.14931 E">
                                      <p:cBhvr>
                                        <p:cTn id="2807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04688 0.32338 L 0.11077 0.33449 E">
                                      <p:cBhvr>
                                        <p:cTn id="2811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0.04722 0.30556 L 0.16215 0.30301 L 0.17882 0.23634 E">
                                      <p:cBhvr>
                                        <p:cTn id="2813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85185E-006 L -0.01806 -0.11296 L -0.36389 -0.16296 E">
                                      <p:cBhvr>
                                        <p:cTn id="2817" dur="2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9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9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0" descr=""/>
          <p:cNvPicPr/>
          <p:nvPr/>
        </p:nvPicPr>
        <p:blipFill>
          <a:blip r:embed="rId2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3" descr="08764"/>
          <p:cNvPicPr/>
          <p:nvPr/>
        </p:nvPicPr>
        <p:blipFill>
          <a:blip r:embed="rId3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  <p:grpSp>
        <p:nvGrpSpPr>
          <p:cNvPr id="980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981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991360" cy="6705360"/>
            <a:chOff x="0" y="0"/>
            <a:chExt cx="8991360" cy="6705360"/>
          </a:xfrm>
        </p:grpSpPr>
        <p:sp>
          <p:nvSpPr>
            <p:cNvPr id="83" name=""/>
            <p:cNvSpPr/>
            <p:nvPr/>
          </p:nvSpPr>
          <p:spPr>
            <a:xfrm>
              <a:off x="465480" y="2736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5080" y="669168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5140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2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20" y="621396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539200" y="619992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6200000">
              <a:off x="8519760" y="-684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7200" y="-720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33520" y="3059280"/>
                <a:ext cx="78483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79280" y="692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сосуд, содержащий 5 литров 12-процентного водного раствора некоторого вещества, добавили 7 литров воды. Сколько процентов составляет концентрация получившегося раствора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2373480"/>
            <a:ext cx="7619760" cy="429120"/>
            <a:chOff x="533520" y="2373480"/>
            <a:chExt cx="7619760" cy="429120"/>
          </a:xfrm>
        </p:grpSpPr>
        <p:sp>
          <p:nvSpPr>
            <p:cNvPr id="94" name=""/>
            <p:cNvSpPr/>
            <p:nvPr/>
          </p:nvSpPr>
          <p:spPr>
            <a:xfrm>
              <a:off x="533520" y="2373480"/>
              <a:ext cx="761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). 5  0,12 = 0,6 (л) вещества в растворе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143000" y="2487600"/>
                  <a:ext cx="228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533520" y="4430880"/>
            <a:ext cx="2138400" cy="826920"/>
            <a:chOff x="533520" y="4430880"/>
            <a:chExt cx="2138400" cy="826920"/>
          </a:xfrm>
        </p:grpSpPr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066680" y="4430880"/>
                  <a:ext cx="16052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,6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533520" y="4583160"/>
              <a:ext cx="533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).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6440" y="4430880"/>
                <a:ext cx="14446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67080" y="4430880"/>
                <a:ext cx="17924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3564000" y="6021360"/>
            <a:ext cx="3672000" cy="658800"/>
            <a:chOff x="3564000" y="6021360"/>
            <a:chExt cx="3672000" cy="658800"/>
          </a:xfrm>
        </p:grpSpPr>
        <p:grpSp>
          <p:nvGrpSpPr>
            <p:cNvPr id="102" name=""/>
            <p:cNvGrpSpPr/>
            <p:nvPr/>
          </p:nvGrpSpPr>
          <p:grpSpPr>
            <a:xfrm>
              <a:off x="5732640" y="6186600"/>
              <a:ext cx="918720" cy="376560"/>
              <a:chOff x="5732640" y="6186600"/>
              <a:chExt cx="918720" cy="376560"/>
            </a:xfrm>
          </p:grpSpPr>
          <p:sp>
            <p:nvSpPr>
              <p:cNvPr id="103" name=""/>
              <p:cNvSpPr/>
              <p:nvPr/>
            </p:nvSpPr>
            <p:spPr>
              <a:xfrm>
                <a:off x="574488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9540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264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42800" y="63169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7708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64000" y="60962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27360" y="6140520"/>
              <a:ext cx="82404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54440" y="61660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668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2128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264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0724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8600" y="61279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9284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91040" y="6066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4920" y="60325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45000" y="6021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06880" y="60390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2120" y="60246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716000" y="476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% = 0,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324000" y="189000"/>
            <a:ext cx="835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 (№ 9957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2)</a:t>
            </a:r>
            <a:br>
              <a:rPr sz="32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8920" y="549360"/>
            <a:ext cx="8713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мешали некоторое количество 15-процентного раствора некоторого вещества с таким же количеством 19-процентного раствора этого вещества. Сколько процентов составляет концентрация получившегося раствора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28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2" descr="http://www.ege-study.ru/ege-advices/pict1/215.png"/>
          <p:cNvPicPr/>
          <p:nvPr/>
        </p:nvPicPr>
        <p:blipFill>
          <a:blip r:embed="rId1"/>
          <a:stretch/>
        </p:blipFill>
        <p:spPr>
          <a:xfrm>
            <a:off x="250920" y="2060640"/>
            <a:ext cx="4319640" cy="1920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00720" y="34362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 результате получили раствор массой 2х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x"/>
          <p:cNvPicPr/>
          <p:nvPr/>
        </p:nvPicPr>
        <p:blipFill>
          <a:blip r:embed="rId2"/>
          <a:stretch/>
        </p:blipFill>
        <p:spPr>
          <a:xfrm>
            <a:off x="11499840" y="-136440"/>
            <a:ext cx="133200" cy="123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539640" y="40784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учаем: 0,15х + 0,19х = 0,34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x"/>
          <p:cNvPicPr/>
          <p:nvPr/>
        </p:nvPicPr>
        <p:blipFill>
          <a:blip r:embed="rId3"/>
          <a:stretch/>
        </p:blipFill>
        <p:spPr>
          <a:xfrm>
            <a:off x="1797120" y="-13644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+"/>
          <p:cNvPicPr/>
          <p:nvPr/>
        </p:nvPicPr>
        <p:blipFill>
          <a:blip r:embed="rId4"/>
          <a:stretch/>
        </p:blipFill>
        <p:spPr>
          <a:xfrm>
            <a:off x="1949400" y="-136440"/>
            <a:ext cx="181080" cy="14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x"/>
          <p:cNvPicPr/>
          <p:nvPr/>
        </p:nvPicPr>
        <p:blipFill>
          <a:blip r:embed="rId5"/>
          <a:stretch/>
        </p:blipFill>
        <p:spPr>
          <a:xfrm>
            <a:off x="2552760" y="-13644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="/>
          <p:cNvPicPr/>
          <p:nvPr/>
        </p:nvPicPr>
        <p:blipFill>
          <a:blip r:embed="rId6"/>
          <a:stretch/>
        </p:blipFill>
        <p:spPr>
          <a:xfrm>
            <a:off x="2705040" y="-136440"/>
            <a:ext cx="181080" cy="9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x"/>
          <p:cNvPicPr/>
          <p:nvPr/>
        </p:nvPicPr>
        <p:blipFill>
          <a:blip r:embed="rId7"/>
          <a:stretch/>
        </p:blipFill>
        <p:spPr>
          <a:xfrm>
            <a:off x="3297240" y="-13644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="/>
          <p:cNvPicPr/>
          <p:nvPr/>
        </p:nvPicPr>
        <p:blipFill>
          <a:blip r:embed="rId8"/>
          <a:stretch/>
        </p:blipFill>
        <p:spPr>
          <a:xfrm>
            <a:off x="3449520" y="-136440"/>
            <a:ext cx="181080" cy="95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*"/>
          <p:cNvPicPr/>
          <p:nvPr/>
        </p:nvPicPr>
        <p:blipFill>
          <a:blip r:embed="rId9"/>
          <a:stretch/>
        </p:blipFill>
        <p:spPr>
          <a:xfrm>
            <a:off x="4105440" y="-136440"/>
            <a:ext cx="114120" cy="10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x"/>
          <p:cNvPicPr/>
          <p:nvPr/>
        </p:nvPicPr>
        <p:blipFill>
          <a:blip r:embed="rId10"/>
          <a:stretch/>
        </p:blipFill>
        <p:spPr>
          <a:xfrm>
            <a:off x="4379760" y="-136440"/>
            <a:ext cx="133560" cy="1238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6"/>
          <p:cNvSpPr/>
          <p:nvPr/>
        </p:nvSpPr>
        <p:spPr>
          <a:xfrm>
            <a:off x="6013800" y="6308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7"/>
          <p:cNvSpPr/>
          <p:nvPr/>
        </p:nvSpPr>
        <p:spPr>
          <a:xfrm>
            <a:off x="401040" y="53737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8"/>
          <p:cNvSpPr/>
          <p:nvPr/>
        </p:nvSpPr>
        <p:spPr>
          <a:xfrm>
            <a:off x="3063960" y="530064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0,34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9"/>
          <p:cNvSpPr/>
          <p:nvPr/>
        </p:nvSpPr>
        <p:spPr>
          <a:xfrm>
            <a:off x="3715200" y="5373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 0,17 = 17%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1"/>
          <p:cNvSpPr/>
          <p:nvPr/>
        </p:nvSpPr>
        <p:spPr>
          <a:xfrm>
            <a:off x="4595760" y="234936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ь масса первого раствора равна 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2"/>
          <p:cNvSpPr/>
          <p:nvPr/>
        </p:nvSpPr>
        <p:spPr>
          <a:xfrm>
            <a:off x="5076000" y="28526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сса второго — тоже х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3"/>
          <p:cNvSpPr/>
          <p:nvPr/>
        </p:nvSpPr>
        <p:spPr>
          <a:xfrm>
            <a:off x="4299480" y="4076640"/>
            <a:ext cx="33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,34x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представим  как 0,17 · 2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34"/>
          <p:cNvSpPr/>
          <p:nvPr/>
        </p:nvSpPr>
        <p:spPr>
          <a:xfrm>
            <a:off x="3492360" y="3284640"/>
            <a:ext cx="792360" cy="360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35"/>
          <p:cNvSpPr/>
          <p:nvPr/>
        </p:nvSpPr>
        <p:spPr>
          <a:xfrm>
            <a:off x="3924360" y="3068640"/>
            <a:ext cx="287280" cy="720720"/>
          </a:xfrm>
          <a:prstGeom prst="ellipse">
            <a:avLst/>
          </a:prstGeom>
          <a:noFill/>
          <a:ln w="25560">
            <a:solidFill>
              <a:srgbClr val="030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6"/>
          <p:cNvSpPr/>
          <p:nvPr/>
        </p:nvSpPr>
        <p:spPr>
          <a:xfrm>
            <a:off x="7451640" y="3933720"/>
            <a:ext cx="360360" cy="647640"/>
          </a:xfrm>
          <a:prstGeom prst="ellipse">
            <a:avLst/>
          </a:prstGeom>
          <a:noFill/>
          <a:ln w="25560">
            <a:solidFill>
              <a:srgbClr val="030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7"/>
          <p:cNvSpPr/>
          <p:nvPr/>
        </p:nvSpPr>
        <p:spPr>
          <a:xfrm>
            <a:off x="2138400" y="450864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м в проценты  0,17 = 1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8"/>
          <p:cNvSpPr/>
          <p:nvPr/>
        </p:nvSpPr>
        <p:spPr>
          <a:xfrm>
            <a:off x="1268640" y="5373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,34х = 0,17·2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" y="58770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63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5280" y="4581360"/>
                <a:ext cx="78487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тво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04920" y="533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мешали некоторое количество 15-процентного раствора некоторого вещества с таким же количеством 19-процентного раствора этого вещества. Сколько процентов составляет концентрация получившегося раство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635280" y="6021360"/>
            <a:ext cx="3672000" cy="660240"/>
            <a:chOff x="3635280" y="6021360"/>
            <a:chExt cx="3672000" cy="660240"/>
          </a:xfrm>
        </p:grpSpPr>
        <p:grpSp>
          <p:nvGrpSpPr>
            <p:cNvPr id="174" name=""/>
            <p:cNvGrpSpPr/>
            <p:nvPr/>
          </p:nvGrpSpPr>
          <p:grpSpPr>
            <a:xfrm>
              <a:off x="5803920" y="6186600"/>
              <a:ext cx="918720" cy="376560"/>
              <a:chOff x="5803920" y="6186600"/>
              <a:chExt cx="918720" cy="376560"/>
            </a:xfrm>
          </p:grpSpPr>
          <p:sp>
            <p:nvSpPr>
              <p:cNvPr id="175" name=""/>
              <p:cNvSpPr/>
              <p:nvPr/>
            </p:nvSpPr>
            <p:spPr>
              <a:xfrm>
                <a:off x="5816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66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03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4080" y="63169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48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635280" y="60962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8640" y="6140520"/>
              <a:ext cx="82404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5720" y="61660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796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256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3392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852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19880" y="61279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64120" y="614052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62320" y="6066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6200" y="60325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16280" y="6021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78160" y="60390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3400" y="60246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06560" y="279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1906560" y="348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270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р-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270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щества в раств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3735000" y="279720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1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3735000" y="348948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1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19920" y="3184560"/>
            <a:ext cx="1828800" cy="581400"/>
            <a:chOff x="6019920" y="3184560"/>
            <a:chExt cx="1828800" cy="581400"/>
          </a:xfrm>
        </p:grpSpPr>
        <p:sp>
          <p:nvSpPr>
            <p:cNvPr id="201" name=""/>
            <p:cNvSpPr/>
            <p:nvPr/>
          </p:nvSpPr>
          <p:spPr>
            <a:xfrm>
              <a:off x="6019920" y="3184560"/>
              <a:ext cx="1828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07160" y="31845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093080" y="4797360"/>
                <a:ext cx="1149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906560" y="2803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1906560" y="3489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735000" y="280368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1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735000" y="3489480"/>
            <a:ext cx="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1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2803680"/>
            <a:ext cx="1676520" cy="1190520"/>
            <a:chOff x="228600" y="2803680"/>
            <a:chExt cx="1676520" cy="1190520"/>
          </a:xfrm>
        </p:grpSpPr>
        <p:sp>
          <p:nvSpPr>
            <p:cNvPr id="209" name=""/>
            <p:cNvSpPr/>
            <p:nvPr/>
          </p:nvSpPr>
          <p:spPr>
            <a:xfrm>
              <a:off x="228600" y="28036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356508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 раство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20120" y="26766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404040" y="2270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прост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24000" y="4292640"/>
                <a:ext cx="626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38334 0.07778 L 0.48716 0.05856 E">
                                      <p:cBhvr>
                                        <p:cTn id="24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59167 0.01111 L 0.56771 -0.03958 E">
                                      <p:cBhvr>
                                        <p:cTn id="24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L 0.12535 -0.03218 L 0.22813 -0.01736 E">
                                      <p:cBhvr>
                                        <p:cTn id="24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L 0.36667 0.05555 L 0.36702 -0.11551 E">
                                      <p:cBhvr>
                                        <p:cTn id="25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075 -0.18889 L 0.08333 -0.26667 E">
                                      <p:cBhvr>
                                        <p:cTn id="26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ая выноска 59"/>
          <p:cNvSpPr/>
          <p:nvPr/>
        </p:nvSpPr>
        <p:spPr>
          <a:xfrm>
            <a:off x="4140360" y="4292640"/>
            <a:ext cx="647640" cy="431640"/>
          </a:xfrm>
          <a:prstGeom prst="wedgeRectCallout">
            <a:avLst>
              <a:gd name="adj1" fmla="val -266912"/>
              <a:gd name="adj2" fmla="val 247425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ая выноска 58"/>
          <p:cNvSpPr/>
          <p:nvPr/>
        </p:nvSpPr>
        <p:spPr>
          <a:xfrm>
            <a:off x="3132000" y="4292640"/>
            <a:ext cx="792360" cy="504720"/>
          </a:xfrm>
          <a:prstGeom prst="wedgeRectCallout">
            <a:avLst>
              <a:gd name="adj1" fmla="val -131763"/>
              <a:gd name="adj2" fmla="val 59435"/>
            </a:avLst>
          </a:prstGeom>
          <a:solidFill>
            <a:srgbClr val="a9da74"/>
          </a:solidFill>
          <a:ln w="25560">
            <a:solidFill>
              <a:srgbClr val="a9da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с двумя скругленными соседними углами 40"/>
          <p:cNvSpPr/>
          <p:nvPr/>
        </p:nvSpPr>
        <p:spPr>
          <a:xfrm>
            <a:off x="1979640" y="2276640"/>
            <a:ext cx="1008000" cy="158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584000"/>
              <a:gd name="textAreaBottom" fmla="*/ 1584360 h 1584000"/>
            </a:gdLst>
            <a:ahLst/>
            <a:rect l="textAreaLeft" t="textAreaTop" r="textAreaRight" b="textAreaBottom"/>
            <a:pathLst>
              <a:path w="1008112" h="1584176">
                <a:moveTo>
                  <a:pt x="168022" y="0"/>
                </a:moveTo>
                <a:lnTo>
                  <a:pt x="840090" y="0"/>
                </a:lnTo>
                <a:lnTo>
                  <a:pt x="840090" y="0"/>
                </a:lnTo>
                <a:arcTo wR="168022" hR="168022" stAng="-5400000" swAng="5400000"/>
                <a:lnTo>
                  <a:pt x="1008112" y="1584176"/>
                </a:lnTo>
                <a:lnTo>
                  <a:pt x="0" y="1584176"/>
                </a:lnTo>
                <a:lnTo>
                  <a:pt x="0" y="168022"/>
                </a:lnTo>
                <a:lnTo>
                  <a:pt x="0" y="168022"/>
                </a:lnTo>
                <a:arcTo wR="168022" hR="168022" stAng="10800000" swAng="5400000"/>
                <a:close/>
              </a:path>
            </a:pathLst>
          </a:custGeom>
          <a:solidFill>
            <a:srgbClr val="6dd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с двумя скругленными соседними углами 39"/>
          <p:cNvSpPr/>
          <p:nvPr/>
        </p:nvSpPr>
        <p:spPr>
          <a:xfrm>
            <a:off x="395280" y="2276640"/>
            <a:ext cx="944640" cy="158400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584000"/>
              <a:gd name="textAreaBottom" fmla="*/ 1584360 h 1584000"/>
            </a:gdLst>
            <a:ahLst/>
            <a:rect l="textAreaLeft" t="textAreaTop" r="textAreaRight" b="textAreaBottom"/>
            <a:pathLst>
              <a:path w="945105" h="1584176">
                <a:moveTo>
                  <a:pt x="157521" y="0"/>
                </a:moveTo>
                <a:lnTo>
                  <a:pt x="787584" y="0"/>
                </a:lnTo>
                <a:lnTo>
                  <a:pt x="787584" y="0"/>
                </a:lnTo>
                <a:arcTo wR="157521" hR="157521" stAng="-5400000" swAng="5400000"/>
                <a:lnTo>
                  <a:pt x="945105" y="1584176"/>
                </a:lnTo>
                <a:lnTo>
                  <a:pt x="0" y="1584176"/>
                </a:lnTo>
                <a:lnTo>
                  <a:pt x="0" y="157521"/>
                </a:lnTo>
                <a:lnTo>
                  <a:pt x="0" y="157521"/>
                </a:lnTo>
                <a:arcTo wR="157521" hR="157521" stAng="10800000" swAng="5400000"/>
                <a:close/>
              </a:path>
            </a:pathLst>
          </a:custGeom>
          <a:solidFill>
            <a:srgbClr val="a9da7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араллелограмм 38"/>
          <p:cNvSpPr/>
          <p:nvPr/>
        </p:nvSpPr>
        <p:spPr>
          <a:xfrm>
            <a:off x="179280" y="1268280"/>
            <a:ext cx="8064720" cy="720720"/>
          </a:xfrm>
          <a:prstGeom prst="parallelogram">
            <a:avLst>
              <a:gd name="adj" fmla="val -20289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Скругленный прямоугольник 36"/>
          <p:cNvSpPr/>
          <p:nvPr/>
        </p:nvSpPr>
        <p:spPr>
          <a:xfrm>
            <a:off x="1619280" y="907920"/>
            <a:ext cx="7524720" cy="36036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Скругленный прямоугольник 34"/>
          <p:cNvSpPr/>
          <p:nvPr/>
        </p:nvSpPr>
        <p:spPr>
          <a:xfrm>
            <a:off x="250920" y="549360"/>
            <a:ext cx="6985080" cy="358560"/>
          </a:xfrm>
          <a:prstGeom prst="roundRect">
            <a:avLst>
              <a:gd name="adj" fmla="val 16667"/>
            </a:avLst>
          </a:prstGeom>
          <a:solidFill>
            <a:srgbClr val="a9da7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179280" y="4762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мешали 4 литра 15-процентного водного раствора некоторого вещества с 6 литрами 25-процентного водного раствора этого же вещества. Сколько процентов составляет концентрация получившегося раство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226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Прямоугольник 16"/>
          <p:cNvSpPr/>
          <p:nvPr/>
        </p:nvSpPr>
        <p:spPr>
          <a:xfrm>
            <a:off x="545400" y="0"/>
            <a:ext cx="61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(№ 9957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с двумя скругленными соседними углами 21"/>
          <p:cNvSpPr/>
          <p:nvPr/>
        </p:nvSpPr>
        <p:spPr>
          <a:xfrm>
            <a:off x="395280" y="2276640"/>
            <a:ext cx="944640" cy="158400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584000"/>
              <a:gd name="textAreaBottom" fmla="*/ 1584360 h 1584000"/>
            </a:gdLst>
            <a:ahLst/>
            <a:rect l="textAreaLeft" t="textAreaTop" r="textAreaRight" b="textAreaBottom"/>
            <a:pathLst>
              <a:path w="945105" h="1584176">
                <a:moveTo>
                  <a:pt x="157521" y="0"/>
                </a:moveTo>
                <a:lnTo>
                  <a:pt x="787584" y="0"/>
                </a:lnTo>
                <a:lnTo>
                  <a:pt x="787584" y="0"/>
                </a:lnTo>
                <a:arcTo wR="157521" hR="157521" stAng="-5400000" swAng="5400000"/>
                <a:lnTo>
                  <a:pt x="945105" y="1584176"/>
                </a:lnTo>
                <a:lnTo>
                  <a:pt x="0" y="1584176"/>
                </a:lnTo>
                <a:lnTo>
                  <a:pt x="0" y="157521"/>
                </a:lnTo>
                <a:lnTo>
                  <a:pt x="0" y="157521"/>
                </a:lnTo>
                <a:arcTo wR="157521" hR="157521" stAng="10800000" swAng="5400000"/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с двумя скругленными соседними углами 24"/>
          <p:cNvSpPr/>
          <p:nvPr/>
        </p:nvSpPr>
        <p:spPr>
          <a:xfrm>
            <a:off x="1979640" y="2276640"/>
            <a:ext cx="1008000" cy="158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584000"/>
              <a:gd name="textAreaBottom" fmla="*/ 1584360 h 1584000"/>
            </a:gdLst>
            <a:ahLst/>
            <a:rect l="textAreaLeft" t="textAreaTop" r="textAreaRight" b="textAreaBottom"/>
            <a:pathLst>
              <a:path w="1008112" h="1584176">
                <a:moveTo>
                  <a:pt x="168022" y="0"/>
                </a:moveTo>
                <a:lnTo>
                  <a:pt x="840090" y="0"/>
                </a:lnTo>
                <a:lnTo>
                  <a:pt x="840090" y="0"/>
                </a:lnTo>
                <a:arcTo wR="168022" hR="168022" stAng="-5400000" swAng="5400000"/>
                <a:lnTo>
                  <a:pt x="1008112" y="1584176"/>
                </a:lnTo>
                <a:lnTo>
                  <a:pt x="0" y="1584176"/>
                </a:lnTo>
                <a:lnTo>
                  <a:pt x="0" y="168022"/>
                </a:lnTo>
                <a:lnTo>
                  <a:pt x="0" y="168022"/>
                </a:lnTo>
                <a:arcTo wR="168022" hR="168022" stAng="10800000" swAng="5400000"/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с двумя скругленными соседними углами 25"/>
          <p:cNvSpPr/>
          <p:nvPr/>
        </p:nvSpPr>
        <p:spPr>
          <a:xfrm>
            <a:off x="3492360" y="2276640"/>
            <a:ext cx="1008360" cy="158400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584000"/>
              <a:gd name="textAreaBottom" fmla="*/ 1584360 h 1584000"/>
            </a:gdLst>
            <a:ahLst/>
            <a:rect l="textAreaLeft" t="textAreaTop" r="textAreaRight" b="textAreaBottom"/>
            <a:pathLst>
              <a:path w="1008112" h="1584176">
                <a:moveTo>
                  <a:pt x="168022" y="0"/>
                </a:moveTo>
                <a:lnTo>
                  <a:pt x="840090" y="0"/>
                </a:lnTo>
                <a:lnTo>
                  <a:pt x="840090" y="0"/>
                </a:lnTo>
                <a:arcTo wR="168022" hR="168022" stAng="-5400000" swAng="5400000"/>
                <a:lnTo>
                  <a:pt x="1008112" y="1584176"/>
                </a:lnTo>
                <a:lnTo>
                  <a:pt x="0" y="1584176"/>
                </a:lnTo>
                <a:lnTo>
                  <a:pt x="0" y="168022"/>
                </a:lnTo>
                <a:lnTo>
                  <a:pt x="0" y="168022"/>
                </a:lnTo>
                <a:arcTo wR="168022" hR="168022" stAng="10800000" swAng="5400000"/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6"/>
          <p:cNvSpPr/>
          <p:nvPr/>
        </p:nvSpPr>
        <p:spPr>
          <a:xfrm>
            <a:off x="395280" y="3429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5 %  от 4 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27"/>
          <p:cNvSpPr/>
          <p:nvPr/>
        </p:nvSpPr>
        <p:spPr>
          <a:xfrm>
            <a:off x="1476360" y="2924280"/>
            <a:ext cx="2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28"/>
          <p:cNvSpPr/>
          <p:nvPr/>
        </p:nvSpPr>
        <p:spPr>
          <a:xfrm>
            <a:off x="1979640" y="342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5 %  от 6 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29"/>
          <p:cNvSpPr/>
          <p:nvPr/>
        </p:nvSpPr>
        <p:spPr>
          <a:xfrm>
            <a:off x="3132000" y="2924280"/>
            <a:ext cx="2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31"/>
          <p:cNvSpPr/>
          <p:nvPr/>
        </p:nvSpPr>
        <p:spPr>
          <a:xfrm>
            <a:off x="414360" y="393372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м всего раствора:   4л + 6 л = 10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2"/>
          <p:cNvSpPr/>
          <p:nvPr/>
        </p:nvSpPr>
        <p:spPr>
          <a:xfrm>
            <a:off x="3492360" y="342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%  от 10 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3"/>
          <p:cNvSpPr/>
          <p:nvPr/>
        </p:nvSpPr>
        <p:spPr>
          <a:xfrm>
            <a:off x="6163920" y="63086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4643280" y="2349360"/>
                <a:ext cx="417672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ещества в раствор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енного  вещест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а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Text Box 7"/>
          <p:cNvSpPr/>
          <p:nvPr/>
        </p:nvSpPr>
        <p:spPr>
          <a:xfrm>
            <a:off x="1619280" y="537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62108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62108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62144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981440" y="472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053800" y="5373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13"/>
          <p:cNvGrpSpPr/>
          <p:nvPr/>
        </p:nvGrpSpPr>
        <p:grpSpPr>
          <a:xfrm>
            <a:off x="5075280" y="5084640"/>
            <a:ext cx="1153800" cy="581400"/>
            <a:chOff x="5075280" y="5084640"/>
            <a:chExt cx="1153800" cy="581400"/>
          </a:xfrm>
        </p:grpSpPr>
        <p:sp>
          <p:nvSpPr>
            <p:cNvPr id="254" name="Line 14"/>
            <p:cNvSpPr/>
            <p:nvPr/>
          </p:nvSpPr>
          <p:spPr>
            <a:xfrm>
              <a:off x="5075280" y="5155560"/>
              <a:ext cx="11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607720" y="508464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6"/>
              <p:cNvSpPr txBox="1"/>
              <p:nvPr/>
            </p:nvSpPr>
            <p:spPr>
              <a:xfrm>
                <a:off x="7956720" y="2565360"/>
                <a:ext cx="811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 Box 17"/>
          <p:cNvSpPr/>
          <p:nvPr/>
        </p:nvSpPr>
        <p:spPr>
          <a:xfrm>
            <a:off x="1979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,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050920" y="5373720"/>
            <a:ext cx="5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324000" y="4797360"/>
            <a:ext cx="1726560" cy="997560"/>
            <a:chOff x="324000" y="4797360"/>
            <a:chExt cx="1726560" cy="997560"/>
          </a:xfrm>
        </p:grpSpPr>
        <p:sp>
          <p:nvSpPr>
            <p:cNvPr id="260" name="Rectangle 20"/>
            <p:cNvSpPr/>
            <p:nvPr/>
          </p:nvSpPr>
          <p:spPr>
            <a:xfrm>
              <a:off x="324000" y="4797360"/>
              <a:ext cx="17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раство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Rectangle 21"/>
            <p:cNvSpPr/>
            <p:nvPr/>
          </p:nvSpPr>
          <p:spPr>
            <a:xfrm>
              <a:off x="324000" y="5426640"/>
              <a:ext cx="17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раство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Rectangle 22"/>
          <p:cNvSpPr/>
          <p:nvPr/>
        </p:nvSpPr>
        <p:spPr>
          <a:xfrm>
            <a:off x="5510520" y="465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55"/>
          <p:cNvSpPr/>
          <p:nvPr/>
        </p:nvSpPr>
        <p:spPr>
          <a:xfrm>
            <a:off x="250920" y="429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щества в растворе будет:  0,15⋅4 + 0,25⋅6 = 0,6 + 1,5 = 2,1 лит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56"/>
          <p:cNvSpPr/>
          <p:nvPr/>
        </p:nvSpPr>
        <p:spPr>
          <a:xfrm>
            <a:off x="2782440" y="494172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нцентрация ра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5"/>
              <p:cNvSpPr txBox="1"/>
              <p:nvPr/>
            </p:nvSpPr>
            <p:spPr>
              <a:xfrm>
                <a:off x="1403280" y="5877000"/>
                <a:ext cx="4267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-во  вещест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сь  раствор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Прямоугольник 61"/>
          <p:cNvSpPr/>
          <p:nvPr/>
        </p:nvSpPr>
        <p:spPr>
          <a:xfrm>
            <a:off x="465840" y="59500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ИТ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6"/>
              <p:cNvSpPr txBox="1"/>
              <p:nvPr/>
            </p:nvSpPr>
            <p:spPr>
              <a:xfrm>
                <a:off x="7093080" y="4797360"/>
                <a:ext cx="185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,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Прямоугольник 63"/>
          <p:cNvSpPr/>
          <p:nvPr/>
        </p:nvSpPr>
        <p:spPr>
          <a:xfrm>
            <a:off x="6014160" y="1844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ПОМ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0" y="3357720"/>
            <a:ext cx="6067440" cy="368280"/>
            <a:chOff x="4572000" y="3357720"/>
            <a:chExt cx="6067440" cy="368280"/>
          </a:xfrm>
        </p:grpSpPr>
        <p:sp>
          <p:nvSpPr>
            <p:cNvPr id="270" name=""/>
            <p:cNvSpPr/>
            <p:nvPr/>
          </p:nvSpPr>
          <p:spPr>
            <a:xfrm>
              <a:off x="4572000" y="3357720"/>
              <a:ext cx="60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). 4  0,15 = 0,6 (л) вещества в 1 растворе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057280" y="3430800"/>
                  <a:ext cx="181800" cy="14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4572000" y="3645000"/>
            <a:ext cx="6067440" cy="368280"/>
            <a:chOff x="4572000" y="3645000"/>
            <a:chExt cx="6067440" cy="368280"/>
          </a:xfrm>
        </p:grpSpPr>
        <p:sp>
          <p:nvSpPr>
            <p:cNvPr id="273" name=""/>
            <p:cNvSpPr/>
            <p:nvPr/>
          </p:nvSpPr>
          <p:spPr>
            <a:xfrm>
              <a:off x="4572000" y="3645000"/>
              <a:ext cx="60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). 6  0,25 = 1,5 (л) вещества во 2 раствор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57280" y="3718080"/>
                  <a:ext cx="181800" cy="14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27168E-006 L 0.40034 0.0548 E">
                                      <p:cBhvr>
                                        <p:cTn id="4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31214E-007 L 0.47986 -0.02682 E">
                                      <p:cBhvr>
                                        <p:cTn id="44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948E-006 L 0.35035 0.00486 E">
                                      <p:cBhvr>
                                        <p:cTn id="45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90751E-006 L 0.41337 -0.09202 E">
                                      <p:cBhvr>
                                        <p:cTn id="457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21387E-006 L -0.18611 0.35144 E">
                                      <p:cBhvr>
                                        <p:cTn id="46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972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4)</a:t>
            </a:r>
            <a:br>
              <a:rPr sz="32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54936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ноград содержит 90% влаги, а изюм  — 5%. Сколько килограммов винограда требуется для получения 20 килограммов изюма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278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Rectangle 1"/>
          <p:cNvSpPr/>
          <p:nvPr/>
        </p:nvSpPr>
        <p:spPr>
          <a:xfrm>
            <a:off x="250920" y="1783800"/>
            <a:ext cx="8713800" cy="2562840"/>
          </a:xfrm>
          <a:prstGeom prst="rect">
            <a:avLst/>
          </a:prstGeom>
          <a:solidFill>
            <a:srgbClr val="af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нимание! Если вам встретилась задача «о продуктах», то есть такая, где из винограда получается изюм, из абрикосов урюк, из хлеба сухари или из молока творог — знайте, что на самом деле это задача на растворы. Виноград мы тоже можем условно изобразить как раствор. В нем есть вода и «сухое вещество». У «сухого вещества» сложный химический состав, а по его вкусу, цвету и запаху мы могли бы понять, что это именно виноград, а не картошка. Изюм получается, когда из винограда испаряется вода. При этом количество «сухого вещества» остается постоянным. В винограде содержалось 90% воды, значит, «сухого вещества» было 10%. В изюме 5% воды и 95% «сухого вещества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%"/>
          <p:cNvPicPr/>
          <p:nvPr/>
        </p:nvPicPr>
        <p:blipFill>
          <a:blip r:embed="rId1"/>
          <a:stretch/>
        </p:blipFill>
        <p:spPr>
          <a:xfrm>
            <a:off x="12009600" y="0"/>
            <a:ext cx="228600" cy="162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%"/>
          <p:cNvPicPr/>
          <p:nvPr/>
        </p:nvPicPr>
        <p:blipFill>
          <a:blip r:embed="rId2"/>
          <a:stretch/>
        </p:blipFill>
        <p:spPr>
          <a:xfrm>
            <a:off x="16649640" y="0"/>
            <a:ext cx="228600" cy="162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x"/>
          <p:cNvPicPr/>
          <p:nvPr/>
        </p:nvPicPr>
        <p:blipFill>
          <a:blip r:embed="rId3"/>
          <a:stretch/>
        </p:blipFill>
        <p:spPr>
          <a:xfrm>
            <a:off x="4795920" y="274680"/>
            <a:ext cx="133200" cy="123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1"/>
          <p:cNvSpPr/>
          <p:nvPr/>
        </p:nvSpPr>
        <p:spPr>
          <a:xfrm>
            <a:off x="539640" y="6089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х = 1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27"/>
          <p:cNvSpPr/>
          <p:nvPr/>
        </p:nvSpPr>
        <p:spPr>
          <a:xfrm>
            <a:off x="6229440" y="62373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9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19"/>
          <p:cNvSpPr/>
          <p:nvPr/>
        </p:nvSpPr>
        <p:spPr>
          <a:xfrm>
            <a:off x="324000" y="4581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ь из х кг винограда получилось 20 кг изюма. Тог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451080" y="49417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0% от х = 95% от 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324000" y="5302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м уравнени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22"/>
          <p:cNvSpPr/>
          <p:nvPr/>
        </p:nvSpPr>
        <p:spPr>
          <a:xfrm>
            <a:off x="395280" y="566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,1х =</a:t>
            </a: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,95 ·</a:t>
            </a: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Скругленный прямоугольник 23"/>
          <p:cNvSpPr/>
          <p:nvPr/>
        </p:nvSpPr>
        <p:spPr>
          <a:xfrm>
            <a:off x="6948360" y="981000"/>
            <a:ext cx="43200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/>
          <p:nvPr/>
        </p:nvSpPr>
        <p:spPr>
          <a:xfrm>
            <a:off x="3061440" y="63104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26"/>
          <p:cNvSpPr/>
          <p:nvPr/>
        </p:nvSpPr>
        <p:spPr>
          <a:xfrm>
            <a:off x="2050920" y="4005360"/>
            <a:ext cx="936720" cy="718920"/>
          </a:xfrm>
          <a:prstGeom prst="roundRect">
            <a:avLst>
              <a:gd name="adj" fmla="val 16667"/>
            </a:avLst>
          </a:prstGeom>
          <a:solidFill>
            <a:srgbClr val="6dd9ff"/>
          </a:solidFill>
          <a:ln w="25560">
            <a:solidFill>
              <a:srgbClr val="6d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4)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8560" y="620640"/>
            <a:ext cx="87850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ноград содержит 90% влаги, а изюм  — 5%. Сколько килограммов винограда требуется для получения 20 килограммов изюма?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303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324000" y="3500280"/>
          <a:ext cx="4535280" cy="1098720"/>
        </p:xfrm>
        <a:graphic>
          <a:graphicData uri="http://schemas.openxmlformats.org/drawingml/2006/table">
            <a:tbl>
              <a:tblPr/>
              <a:tblGrid>
                <a:gridCol w="1334880"/>
                <a:gridCol w="1532160"/>
                <a:gridCol w="1668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е 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ю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79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1"/>
          <p:cNvSpPr/>
          <p:nvPr/>
        </p:nvSpPr>
        <p:spPr>
          <a:xfrm>
            <a:off x="415080" y="2277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ледим за количеством сухого вещества в винограде и изю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2411280" y="55936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90(кг) винограда надо вз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5"/>
          <p:cNvSpPr/>
          <p:nvPr/>
        </p:nvSpPr>
        <p:spPr>
          <a:xfrm>
            <a:off x="6235560" y="63086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1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7"/>
          <p:cNvSpPr/>
          <p:nvPr/>
        </p:nvSpPr>
        <p:spPr>
          <a:xfrm>
            <a:off x="3635280" y="1413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Второй способ объясн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8"/>
          <p:cNvSpPr/>
          <p:nvPr/>
        </p:nvSpPr>
        <p:spPr>
          <a:xfrm>
            <a:off x="2127600" y="40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19"/>
          <p:cNvSpPr/>
          <p:nvPr/>
        </p:nvSpPr>
        <p:spPr>
          <a:xfrm>
            <a:off x="378216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20"/>
          <p:cNvSpPr/>
          <p:nvPr/>
        </p:nvSpPr>
        <p:spPr>
          <a:xfrm>
            <a:off x="324000" y="1844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х (кг), винограда требуется для получения 20 кг изю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21"/>
          <p:cNvSpPr/>
          <p:nvPr/>
        </p:nvSpPr>
        <p:spPr>
          <a:xfrm>
            <a:off x="378324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2"/>
          <p:cNvSpPr/>
          <p:nvPr/>
        </p:nvSpPr>
        <p:spPr>
          <a:xfrm>
            <a:off x="468360" y="2637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винограде 90% влаги, значит 10% сухого вещ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3"/>
          <p:cNvSpPr/>
          <p:nvPr/>
        </p:nvSpPr>
        <p:spPr>
          <a:xfrm>
            <a:off x="468360" y="2997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зюме  5% влаги, значит 95% сухого вещества от 20кг изю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4"/>
          <p:cNvSpPr/>
          <p:nvPr/>
        </p:nvSpPr>
        <p:spPr>
          <a:xfrm>
            <a:off x="2055960" y="4292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5∙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5"/>
          <p:cNvSpPr/>
          <p:nvPr/>
        </p:nvSpPr>
        <p:spPr>
          <a:xfrm>
            <a:off x="250920" y="4653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авняем количество сухого вещества в винограде и изюме, составив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7"/>
          <p:cNvSpPr/>
          <p:nvPr/>
        </p:nvSpPr>
        <p:spPr>
          <a:xfrm>
            <a:off x="333360" y="508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,1х = 0,95·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8"/>
          <p:cNvSpPr/>
          <p:nvPr/>
        </p:nvSpPr>
        <p:spPr>
          <a:xfrm>
            <a:off x="2418480" y="50846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,1х = 1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29"/>
          <p:cNvSpPr/>
          <p:nvPr/>
        </p:nvSpPr>
        <p:spPr>
          <a:xfrm>
            <a:off x="3785760" y="50846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079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1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" y="59500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смотрите объяснение учителя математики Савченко Е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745000" y="3146400"/>
            <a:ext cx="136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это 19 к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4516200" y="24066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1931760" y="31291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1906560" y="24066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334" name="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04920" y="6555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ноград содержит 90% влаги, а изюм  — 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колько килограммов винограда требуется для полу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 килограммов изюм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635280" y="5950080"/>
            <a:ext cx="3672000" cy="660240"/>
            <a:chOff x="3635280" y="5950080"/>
            <a:chExt cx="3672000" cy="660240"/>
          </a:xfrm>
        </p:grpSpPr>
        <p:grpSp>
          <p:nvGrpSpPr>
            <p:cNvPr id="344" name=""/>
            <p:cNvGrpSpPr/>
            <p:nvPr/>
          </p:nvGrpSpPr>
          <p:grpSpPr>
            <a:xfrm>
              <a:off x="5803920" y="6115320"/>
              <a:ext cx="918720" cy="376560"/>
              <a:chOff x="5803920" y="6115320"/>
              <a:chExt cx="918720" cy="376560"/>
            </a:xfrm>
          </p:grpSpPr>
          <p:sp>
            <p:nvSpPr>
              <p:cNvPr id="345" name=""/>
              <p:cNvSpPr/>
              <p:nvPr/>
            </p:nvSpPr>
            <p:spPr>
              <a:xfrm>
                <a:off x="5816160" y="61282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66680" y="611532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03920" y="62434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14080" y="6245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48360" y="62294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635280" y="602496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98640" y="6069240"/>
              <a:ext cx="824040" cy="45576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25720" y="609480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796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9256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339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785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19880" y="605664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4120" y="6069240"/>
              <a:ext cx="3794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62320" y="59947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56200" y="59612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6280" y="59500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78160" y="59677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3400" y="59533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76520" y="19350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е вещ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4444920" y="1935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/>
          <p:nvPr/>
        </p:nvSpPr>
        <p:spPr>
          <a:xfrm>
            <a:off x="4591080" y="312912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28600" y="2406600"/>
            <a:ext cx="1676520" cy="1190880"/>
            <a:chOff x="228600" y="2406600"/>
            <a:chExt cx="1676520" cy="1190880"/>
          </a:xfrm>
        </p:grpSpPr>
        <p:sp>
          <p:nvSpPr>
            <p:cNvPr id="368" name=""/>
            <p:cNvSpPr/>
            <p:nvPr/>
          </p:nvSpPr>
          <p:spPr>
            <a:xfrm>
              <a:off x="228600" y="240660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иноград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600" y="316836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зюм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707880" y="3154320"/>
            <a:ext cx="181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кг изю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610080"/>
            <a:ext cx="693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80880" y="4068720"/>
            <a:ext cx="6248520" cy="429120"/>
            <a:chOff x="380880" y="4068720"/>
            <a:chExt cx="6248520" cy="429120"/>
          </a:xfrm>
        </p:grpSpPr>
        <p:sp>
          <p:nvSpPr>
            <p:cNvPr id="373" name=""/>
            <p:cNvSpPr/>
            <p:nvPr/>
          </p:nvSpPr>
          <p:spPr>
            <a:xfrm>
              <a:off x="380880" y="4068720"/>
              <a:ext cx="6248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). 20  0,95 = 19 (кг) сухого вещества в изюме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143000" y="4183200"/>
                  <a:ext cx="228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75" name=""/>
          <p:cNvSpPr/>
          <p:nvPr/>
        </p:nvSpPr>
        <p:spPr>
          <a:xfrm>
            <a:off x="2737080" y="3141720"/>
            <a:ext cx="136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это 19 к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46022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 кг сухого вещества в винограде – это 10% всего виног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5211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. 19 : 0,1 = 190 (кг) сухого винограда надо взя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88508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Заголовок 1"/>
          <p:cNvSpPr/>
          <p:nvPr/>
        </p:nvSpPr>
        <p:spPr>
          <a:xfrm>
            <a:off x="395280" y="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3bd"/>
                </a:solidFill>
                <a:latin typeface="Calibri"/>
              </a:rPr>
              <a:t>Прототип задания </a:t>
            </a:r>
            <a:r>
              <a:rPr b="1" lang="en-US" sz="3200" spc="-1" strike="noStrike">
                <a:solidFill>
                  <a:srgbClr val="0303bd"/>
                </a:solidFill>
                <a:latin typeface="Calibri"/>
              </a:rPr>
              <a:t>(№ 9957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1.66667E-006 -0.07778 L -0.00035 -0.10208 E">
                                      <p:cBhvr>
                                        <p:cTn id="68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7:54:14Z</dcterms:created>
  <dc:creator>zenalla</dc:creator>
  <dc:description/>
  <dc:language>en-US</dc:language>
  <cp:lastModifiedBy>Admin</cp:lastModifiedBy>
  <dcterms:modified xsi:type="dcterms:W3CDTF">2014-10-20T12:52:00Z</dcterms:modified>
  <cp:revision>180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