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AB8-AD5D-4632-973B-AE745220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AF5-2D87-454C-8DF2-E5BBE46F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C13-D8CE-413F-BE53-16C113D2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EDD-096A-45D5-8D9C-9826439D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D48-8384-4C34-96AF-88656286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50B-7D33-4A45-97EB-F5B2D46C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B7E-8B85-4CDA-82B4-F74E615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D3F-05FC-4066-88E6-81EA3254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F21-93B8-41F0-96F4-CACF631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153-6393-4FD3-B767-AE010B3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54D-42E1-4EA1-88C9-1BECC88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499-82C6-4957-B374-C75DC7F5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316E-E437-46A7-B9A1-D62F49758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20640"/>
            <a:ext cx="7848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фоническая 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чудо- музыка -.mp3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C7D4-A6F5-4BC9-9134-E0ACACA8A8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оганн Себастьян Б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емецкий композито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18 век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Бах"/>
          <p:cNvPicPr/>
          <p:nvPr/>
        </p:nvPicPr>
        <p:blipFill>
          <a:blip r:embed="rId1"/>
          <a:stretch/>
        </p:blipFill>
        <p:spPr>
          <a:xfrm>
            <a:off x="0" y="0"/>
            <a:ext cx="4608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ВИДЕО  Ломоносов и Бах.mpg" descr=""/>
          <p:cNvPicPr/>
          <p:nvPr/>
        </p:nvPicPr>
        <p:blipFill>
          <a:blip r:embed="rId2"/>
          <a:stretch/>
        </p:blipFill>
        <p:spPr>
          <a:xfrm>
            <a:off x="8358120" y="0"/>
            <a:ext cx="78588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ВИДЕО И.С.Бах.mpg" descr=""/>
          <p:cNvPicPr/>
          <p:nvPr/>
        </p:nvPicPr>
        <p:blipFill>
          <a:blip r:embed="rId3"/>
          <a:stretch/>
        </p:blipFill>
        <p:spPr>
          <a:xfrm>
            <a:off x="3500280" y="0"/>
            <a:ext cx="1571760" cy="10717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2F5-7D34-46A5-9CD3-D88550755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теодоракис"/>
          <p:cNvPicPr/>
          <p:nvPr/>
        </p:nvPicPr>
        <p:blipFill>
          <a:blip r:embed="rId1"/>
          <a:stretch/>
        </p:blipFill>
        <p:spPr>
          <a:xfrm>
            <a:off x="5045040" y="0"/>
            <a:ext cx="4098960" cy="551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теодоракис  микис"/>
          <p:cNvPicPr/>
          <p:nvPr/>
        </p:nvPicPr>
        <p:blipFill>
          <a:blip r:embed="rId2"/>
          <a:stretch/>
        </p:blipFill>
        <p:spPr>
          <a:xfrm>
            <a:off x="0" y="0"/>
            <a:ext cx="53118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4211640" y="5300640"/>
            <a:ext cx="47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ис  Теодоракис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М.Теодоракис. Я _ Фронт. Хор,Ф-но.mp3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Я-фронт Фанера.MP3" descr=""/>
          <p:cNvPicPr/>
          <p:nvPr/>
        </p:nvPicPr>
        <p:blipFill>
          <a:blip r:embed="rId4"/>
          <a:stretch/>
        </p:blipFill>
        <p:spPr>
          <a:xfrm>
            <a:off x="8501040" y="214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CE6-B10B-42C1-8274-89E8165F31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Impact"/>
              </a:rPr>
              <a:t>« Я – ф р о н т ».   М и к и с    Т е о д о р а к и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Шепчутся тайно город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Слышится тайный вздох с высо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Спорят Парнита и Химе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И Коккиния Тавр зовё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Тайно гудит подпольный мир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Полны глухой тревоги дн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Люди боятся солнца луче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А по ночам  поют он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03F-B536-438F-9321-E1515A269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В сердце моих родных Афин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Создал я звонких песен р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«Я –это фронт, звучит мой клич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се патриоты встаньте в строй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Крепни в боях единый фрон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Молодость, мощь свою позна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Пусть от тиранов и кровопийц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Будет навек очищен край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5AC-8CC4-4E92-9053-17571908E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роизведения, прозвучавшие на уроке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Что хотел выразить Бах в своём произведении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Что выражает его музык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Как воздействует музыка, звучавшая на уроке, на людей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C26-9034-4E9E-A935-24E26464D2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/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Полька                1. рус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бульба                2. грече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барыня              3. чеш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лезгинка.          4. белорус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5. сиртаки             5. украин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6. гопак                 6. венгер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7. чардаш             7. грузински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4CC-C06F-4EF1-A2C4-EA4DDD40C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твет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Полька                1. чеш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бульба                2. белорус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барыня              3. рус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лезгинка.          4. грузин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5. сиртаки             5. грече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6. гопак                 6. украин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7. чардаш             7. венгерски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CB3-6A38-4C1A-BB34-4850AED19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419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«Чудо – музы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1.Чудо –музы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пришла сегодня в д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Мы под музы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И спляшем и поё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Эй, ребята, кто знаком                 и незнак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Встанем вмес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Bookman Old Style"/>
              </a:rPr>
              <a:t>да притопнем каблу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Кабалевский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чудо- музыка -.mp3" descr=""/>
          <p:cNvPicPr/>
          <p:nvPr/>
        </p:nvPicPr>
        <p:blipFill>
          <a:blip r:embed="rId2"/>
          <a:stretch/>
        </p:blipFill>
        <p:spPr>
          <a:xfrm>
            <a:off x="3643200" y="357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F51-D94E-4359-9317-07EC520458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2.Кто захочет, тот пускай плясать идё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Чтобы шире был ребячий хоров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А коль нету хоровода,  не бе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И вдвоём сплясать неплохо иног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3. Ну-ка спляшем и вприсядку и в приско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Пусть взлетит платок, как белый голуб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С этой пляской в каждом месяце вес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Заплясали даже липы  у ок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4. Все прохожие пошли за нами в пляс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Medium"/>
              </a:rPr>
              <a:t>Вот как весело на улице у нас…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D079-FD88-4207-8AC0-638139EF5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оганн Себастьян Б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емецкий композито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18 век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Бах"/>
          <p:cNvPicPr/>
          <p:nvPr/>
        </p:nvPicPr>
        <p:blipFill>
          <a:blip r:embed="rId1"/>
          <a:stretch/>
        </p:blipFill>
        <p:spPr>
          <a:xfrm>
            <a:off x="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8EEF-CCFB-4F22-AE7E-A068AD9835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7"/>
          <p:cNvSpPr txBox="1"/>
          <p:nvPr/>
        </p:nvSpPr>
        <p:spPr>
          <a:xfrm>
            <a:off x="1714680" y="5072040"/>
            <a:ext cx="48574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ерков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вятого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Фомы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4" name="Picture 10" descr="C:\Documents and Settings\Admin\Рабочий стол\св фом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82112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88A-6869-48A8-A0C2-B9698CE4A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Documents and Settings\Admin\Рабочий стол\свото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2C56-4870-44C3-8FC9-6D1C013743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Бах стремился своей музыкой пробудить в людях живые человеческие чувства, стремился поднять, возвысить человека, облагородить, сделать свободным и смелы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C952-0D0A-4C93-8100-351F0EEA9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церк"/>
          <p:cNvPicPr/>
          <p:nvPr/>
        </p:nvPicPr>
        <p:blipFill>
          <a:blip r:embed="rId1"/>
          <a:stretch/>
        </p:blipFill>
        <p:spPr>
          <a:xfrm>
            <a:off x="4654440" y="0"/>
            <a:ext cx="4489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5"/>
          <p:cNvSpPr txBox="1"/>
          <p:nvPr/>
        </p:nvSpPr>
        <p:spPr>
          <a:xfrm>
            <a:off x="4932360" y="260280"/>
            <a:ext cx="38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рковный   орган</a:t>
            </a:r>
            <a:endParaRPr b="1" lang="en-US" sz="2000" spc="1" strike="noStrike">
              <a:ln w="64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17" descr="клавес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8"/>
          <p:cNvSpPr txBox="1"/>
          <p:nvPr/>
        </p:nvSpPr>
        <p:spPr>
          <a:xfrm>
            <a:off x="395280" y="26028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лавесин Баха</a:t>
            </a:r>
            <a:endParaRPr b="1" lang="en-US" sz="2000" spc="1" strike="noStrike">
              <a:ln w="64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E04-1436-4932-A0EE-F6E6A18F1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Comic Sans MS"/>
              </a:rPr>
              <a:t>Фуга</a:t>
            </a: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– строится на поочерёдном вступлении голос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 фуге все голоса важны. Они появляются то в верху, то в нижнем, то в среднем регистре, всё время развиваясь, расходясь, оставаясь по одному, по 2, то звуча все вместе. Все голоса ведут главную мысль, но развивают её по-сво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D9F-9DCD-42EF-B8E2-B8AB7651AB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11T08:47:01Z</dcterms:modified>
  <cp:revision>13</cp:revision>
  <dc:subject/>
  <dc:title>PowerPoint Presentation</dc:title>
</cp:coreProperties>
</file>