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28.jpeg" ContentType="image/jpeg"/>
  <Override PartName="/ppt/media/image27.png" ContentType="image/png"/>
  <Override PartName="/ppt/media/image26.jpeg" ContentType="image/jpeg"/>
  <Override PartName="/ppt/media/image23.png" ContentType="image/png"/>
  <Override PartName="/ppt/media/image4.jpeg" ContentType="image/jpeg"/>
  <Override PartName="/ppt/media/image31.jpeg" ContentType="image/jpeg"/>
  <Override PartName="/ppt/media/image25.png" ContentType="image/png"/>
  <Override PartName="/ppt/media/image29.png" ContentType="image/png"/>
  <Override PartName="/ppt/media/image6.png" ContentType="image/png"/>
  <Override PartName="/ppt/media/image7.png" ContentType="image/png"/>
  <Override PartName="/ppt/media/image2.png" ContentType="image/png"/>
  <Override PartName="/ppt/media/image32.png" ContentType="image/png"/>
  <Override PartName="/ppt/media/image22.jpeg" ContentType="image/jpeg"/>
  <Override PartName="/ppt/media/image9.png" ContentType="image/png"/>
  <Override PartName="/ppt/media/image14.jpeg" ContentType="image/jpeg"/>
  <Override PartName="/ppt/media/image8.png" ContentType="image/png"/>
  <Override PartName="/ppt/media/image11.png" ContentType="image/png"/>
  <Override PartName="/ppt/media/image12.jpeg" ContentType="image/jpeg"/>
  <Override PartName="/ppt/media/image13.png" ContentType="image/png"/>
  <Override PartName="/ppt/media/image30.png" ContentType="image/png"/>
  <Override PartName="/ppt/media/image5.png" ContentType="image/png"/>
  <Override PartName="/ppt/media/image33.png" ContentType="image/png"/>
  <Override PartName="/ppt/media/image3.png" ContentType="image/png"/>
  <Override PartName="/ppt/media/image1.jpeg" ContentType="image/jpeg"/>
  <Override PartName="/ppt/media/image10.png" ContentType="image/png"/>
  <Override PartName="/ppt/media/image24.jpeg" ContentType="image/jpeg"/>
  <Override PartName="/ppt/media/image16.jpeg" ContentType="image/jpeg"/>
  <Override PartName="/ppt/media/image17.png" ContentType="image/png"/>
  <Override PartName="/ppt/media/image15.png" ContentType="image/png"/>
  <Override PartName="/ppt/media/image18.jpeg" ContentType="image/jpeg"/>
  <Override PartName="/ppt/media/image21.png" ContentType="image/png"/>
  <Override PartName="/ppt/media/image19.png" ContentType="image/png"/>
  <Override PartName="/ppt/media/image2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E88BC-AB3F-46FC-8CB7-2A50D1FDF3D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877AF-2C4C-4626-8394-69AE369D669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C8D1D-9080-4386-A217-63674EB2F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E3411-9267-45D3-8C48-FCF980670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B5EC8-7E6D-415D-85B5-62791E977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D1C03-0C1F-4F9B-8F36-8C2F437FA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59864-FBBF-4AF3-85C7-5FE8AA421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61B37-9D0B-47DC-9DC7-561482C43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0DF10-F5F0-449D-90B7-72D4A5288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452A6-40C5-423E-BA5F-1C90A02C1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50CFF-AB49-4900-AC6F-593FBD977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B2E67-06F8-4A96-82C7-C8677D869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AC414-2D1C-4DC2-9510-62FD2F386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5B2CA-54E7-4B0C-BDAE-6A7C00143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90804-78EC-4D2F-ABAB-3DFB6832451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mg-fotki.yandex.ru/get/6300/157337526.0/0_6e9b4_2e3f1b38_XL" TargetMode="External"/><Relationship Id="rId2" Type="http://schemas.openxmlformats.org/officeDocument/2006/relationships/hyperlink" Target="http://alternathistory.org.ua/files/ad/T-34P.JPG" TargetMode="External"/><Relationship Id="rId3" Type="http://schemas.openxmlformats.org/officeDocument/2006/relationships/hyperlink" Target="http://kriminal.tv/images/stories/00new_site/hot_news/12.07.2011/___2_222.jpg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3.png"/><Relationship Id="rId4" Type="http://schemas.openxmlformats.org/officeDocument/2006/relationships/image" Target="../media/image14.jpe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4.jpe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4296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20000"/>
                </a:solidFill>
                <a:latin typeface="Times New Roman"/>
              </a:rPr>
              <a:t>Книга Слав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1571760" y="1357200"/>
            <a:ext cx="6757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частники: ученики 2 а класс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КОУ гимназии №259 г.Фокин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манда «Правнуки Победы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нига Анто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ельникова Ири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авченко Михаи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Чайкина Елизавет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уководитель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оргадзе Любовь Григорьев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Рисунок 4" descr="Victory Day (2).jpg"/>
          <p:cNvPicPr/>
          <p:nvPr/>
        </p:nvPicPr>
        <p:blipFill>
          <a:blip r:embed="rId1"/>
          <a:srcRect l="76811" t="54022" r="4" b="1690"/>
          <a:stretch/>
        </p:blipFill>
        <p:spPr>
          <a:xfrm rot="1327200">
            <a:off x="4078080" y="4806720"/>
            <a:ext cx="2119320" cy="25304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20000"/>
                </a:solidFill>
                <a:latin typeface="Times New Roman"/>
              </a:rPr>
              <a:t>Калинкин Владимир Тихонови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286080" y="928440"/>
            <a:ext cx="557208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ой прапрадедушка, Калинки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ладимир Тихонович, родился  в 190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оду в селе Дубасово Пензенско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убернии в семье повара. В августе 194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ода был призван в армию. Осенью 194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ода Владимир Тихонович проходи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урсы оперативных  работников 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Являлся Сотрудником Особого отдел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КВД 31 Западной стрелковой бригады. На фронт прибыл 2 декабря 1941 год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 защиту Москвы, воевал в состав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собых лыжных  батальонов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существлявших вылазки  в ты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ашистов, вызывая огонь на себ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" name="Группа 6"/>
          <p:cNvGrpSpPr/>
          <p:nvPr/>
        </p:nvGrpSpPr>
        <p:grpSpPr>
          <a:xfrm>
            <a:off x="1143000" y="1000080"/>
            <a:ext cx="1951200" cy="2741760"/>
            <a:chOff x="1143000" y="1000080"/>
            <a:chExt cx="1951200" cy="2741760"/>
          </a:xfrm>
        </p:grpSpPr>
        <p:pic>
          <p:nvPicPr>
            <p:cNvPr id="110" name="Рисунок 3" descr="J:\фото ВОВ\Рисунок (2).jpg"/>
            <p:cNvPicPr/>
            <p:nvPr/>
          </p:nvPicPr>
          <p:blipFill>
            <a:blip r:embed="rId1"/>
            <a:stretch/>
          </p:blipFill>
          <p:spPr>
            <a:xfrm>
              <a:off x="1357200" y="1142640"/>
              <a:ext cx="1593000" cy="22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" name="Рисунок 4" descr="Victory Day (12).png"/>
            <p:cNvPicPr/>
            <p:nvPr/>
          </p:nvPicPr>
          <p:blipFill>
            <a:blip r:embed="rId2">
              <a:lum bright="-2000"/>
            </a:blip>
            <a:stretch/>
          </p:blipFill>
          <p:spPr>
            <a:xfrm>
              <a:off x="1143000" y="1000080"/>
              <a:ext cx="1951200" cy="27417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12" name="Picture 5" descr="http://img-fotki.yandex.ru/get/6300/157337526.0/0_6e9b4_2e3f1b38_XL"/>
          <p:cNvPicPr/>
          <p:nvPr/>
        </p:nvPicPr>
        <p:blipFill>
          <a:blip r:embed="rId3"/>
          <a:stretch/>
        </p:blipFill>
        <p:spPr>
          <a:xfrm>
            <a:off x="3357720" y="1000080"/>
            <a:ext cx="357120" cy="28728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1"/>
          <p:cNvSpPr/>
          <p:nvPr/>
        </p:nvSpPr>
        <p:spPr>
          <a:xfrm>
            <a:off x="1071720" y="3722400"/>
            <a:ext cx="2214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алинки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ладимир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ихонови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941г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.Казань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4286160" y="213840"/>
            <a:ext cx="4857840" cy="664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боях подо Ржевом 12 декабр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942 года прапрадед был ране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 лечился в госпитале. Летом 19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ода ему присвоено звание гвард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апитана 30-й Гвардейской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рдена Красного Знамен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трелковой дивизии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гражден: орденам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течественной войны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тепеней, орденом Красно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везды и медалям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«За Победу над Германией»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«За оборону Москвы»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сле войны мой прапраде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жил и трудился в г. Ртищево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мер в 1992 году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авченко Михаи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2"/>
          <p:cNvSpPr/>
          <p:nvPr/>
        </p:nvSpPr>
        <p:spPr>
          <a:xfrm>
            <a:off x="1214280" y="2797920"/>
            <a:ext cx="31435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5 июня 194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. Юхновский район  Смоленской област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алинкин В. Т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мест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 однополчанам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сидит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" name="Группа 10"/>
          <p:cNvGrpSpPr/>
          <p:nvPr/>
        </p:nvGrpSpPr>
        <p:grpSpPr>
          <a:xfrm>
            <a:off x="857160" y="285840"/>
            <a:ext cx="3357720" cy="2500200"/>
            <a:chOff x="857160" y="285840"/>
            <a:chExt cx="3357720" cy="2500200"/>
          </a:xfrm>
        </p:grpSpPr>
        <p:pic>
          <p:nvPicPr>
            <p:cNvPr id="117" name="Рисунок 3" descr="J:\фото ВОВ\Рисунок (3а).jpg"/>
            <p:cNvPicPr/>
            <p:nvPr/>
          </p:nvPicPr>
          <p:blipFill>
            <a:blip r:embed="rId1"/>
            <a:stretch/>
          </p:blipFill>
          <p:spPr>
            <a:xfrm>
              <a:off x="1357200" y="428400"/>
              <a:ext cx="2786400" cy="211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" name="Рисунок 9" descr="Victory Day (12).png"/>
            <p:cNvPicPr/>
            <p:nvPr/>
          </p:nvPicPr>
          <p:blipFill>
            <a:blip r:embed="rId2"/>
            <a:stretch/>
          </p:blipFill>
          <p:spPr>
            <a:xfrm>
              <a:off x="857160" y="285840"/>
              <a:ext cx="3357720" cy="2500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19" name="Picture 6" descr="http://i036.radikal.ru/1306/57/97ebcf6dcfbc.gif"/>
          <p:cNvPicPr/>
          <p:nvPr/>
        </p:nvPicPr>
        <p:blipFill>
          <a:blip r:embed="rId3"/>
          <a:stretch/>
        </p:blipFill>
        <p:spPr>
          <a:xfrm>
            <a:off x="4429080" y="6095880"/>
            <a:ext cx="762120" cy="762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618920" y="214200"/>
            <a:ext cx="705636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20000"/>
                </a:solidFill>
                <a:latin typeface="Times New Roman"/>
              </a:rPr>
              <a:t>Интернет – ресурс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Box 4"/>
          <p:cNvSpPr/>
          <p:nvPr/>
        </p:nvSpPr>
        <p:spPr>
          <a:xfrm>
            <a:off x="1285920" y="928800"/>
            <a:ext cx="6858000" cy="85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сылки на графические ресурс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звезда - </a:t>
            </a:r>
            <a:r>
              <a:rPr b="0" lang="en-US" sz="1800" spc="-1" strike="noStrike" u="sng">
                <a:solidFill>
                  <a:srgbClr val="800000"/>
                </a:solidFill>
                <a:uFillTx/>
                <a:latin typeface="Times New Roman"/>
                <a:hlinkClick r:id="rId1"/>
              </a:rPr>
              <a:t>http://img-fotki.yandex.ru/get/6300/157337526.0/0_6e9b4_2e3f1b38_X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Танк –</a:t>
            </a:r>
            <a:r>
              <a:rPr b="0" lang="en-US" sz="1800" spc="-1" strike="noStrike" u="sng">
                <a:solidFill>
                  <a:srgbClr val="800000"/>
                </a:solidFill>
                <a:uFillTx/>
                <a:latin typeface="Times New Roman"/>
                <a:hlinkClick r:id="rId2"/>
              </a:rPr>
              <a:t>http://alternathistory.org.ua/files/ad/T-34P.JP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рдена Отечественной войны-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 u="sng">
                <a:solidFill>
                  <a:srgbClr val="800000"/>
                </a:solidFill>
                <a:uFillTx/>
                <a:latin typeface="Times New Roman"/>
                <a:hlinkClick r:id="rId3"/>
              </a:rPr>
              <a:t>http://kriminal.tv/images/stories/00new_site/hot_news/12.07.2011/___2_222.jp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рден  Красной Звезды-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http://sovsibir.ru/up/2009/230/230-07.jp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едаль за освобождение Праги-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http://www.kvvidkus1782.ru/szagn/img/4_39.jp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ечный огонь-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ttp://i036.radikal.ru/1306/57/97ebcf6dcfbc.g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рден Славы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I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степени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http://2gvshad.ru/img/awards/14.jp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удиозапись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ttp://live.cnews.ru/games/index.php?act=Print&amp;client=printer&amp;f=93&amp;t=694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71760" y="142920"/>
            <a:ext cx="712944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20000"/>
                </a:solidFill>
                <a:latin typeface="Times New Roman"/>
              </a:rPr>
              <a:t>Овчаров Николай Георгиеви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643200" y="785880"/>
            <a:ext cx="5214960" cy="564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ой прадед, Овчаров Николай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еоргиевич, родился  22 мая 1915год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станице Урупской Краснодарского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рая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о войны он  работал  учителе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чальных классов. В 1940 году был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изван в армию, воевал в финско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ойне. Затем  учился в Минско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анковом училище. 22 июня 1941 год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урсантам объявили о начале войны 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тправили на фронт. За заслуги в боя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ыл направлен на учебу в г.Ульяновс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танковое училище, закончив его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лучил офицерское звание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ой  прадед - участник знаменитог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ражения под Прохоровкой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5" descr="http://img-fotki.yandex.ru/get/6300/157337526.0/0_6e9b4_2e3f1b38_XL"/>
          <p:cNvPicPr/>
          <p:nvPr/>
        </p:nvPicPr>
        <p:blipFill>
          <a:blip r:embed="rId1"/>
          <a:stretch/>
        </p:blipFill>
        <p:spPr>
          <a:xfrm>
            <a:off x="3714840" y="857160"/>
            <a:ext cx="357120" cy="287280"/>
          </a:xfrm>
          <a:prstGeom prst="rect">
            <a:avLst/>
          </a:prstGeom>
          <a:ln w="0">
            <a:noFill/>
          </a:ln>
        </p:spPr>
      </p:pic>
      <p:grpSp>
        <p:nvGrpSpPr>
          <p:cNvPr id="54" name="Группа 7"/>
          <p:cNvGrpSpPr/>
          <p:nvPr/>
        </p:nvGrpSpPr>
        <p:grpSpPr>
          <a:xfrm>
            <a:off x="928800" y="1428840"/>
            <a:ext cx="2500200" cy="3571920"/>
            <a:chOff x="928800" y="1428840"/>
            <a:chExt cx="2500200" cy="3571920"/>
          </a:xfrm>
        </p:grpSpPr>
        <p:pic>
          <p:nvPicPr>
            <p:cNvPr id="55" name="Рисунок 5" descr="копия818.jpg"/>
            <p:cNvPicPr/>
            <p:nvPr/>
          </p:nvPicPr>
          <p:blipFill>
            <a:blip r:embed="rId2"/>
            <a:stretch/>
          </p:blipFill>
          <p:spPr>
            <a:xfrm>
              <a:off x="1187280" y="1603080"/>
              <a:ext cx="2241720" cy="2996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Picture 6" descr=""/>
            <p:cNvPicPr/>
            <p:nvPr/>
          </p:nvPicPr>
          <p:blipFill>
            <a:blip r:embed="rId3"/>
            <a:stretch/>
          </p:blipFill>
          <p:spPr>
            <a:xfrm>
              <a:off x="928800" y="1428840"/>
              <a:ext cx="2500200" cy="3571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" name="TextBox 8"/>
          <p:cNvSpPr/>
          <p:nvPr/>
        </p:nvSpPr>
        <p:spPr>
          <a:xfrm>
            <a:off x="1428840" y="4786200"/>
            <a:ext cx="2000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вчаров Николай Георгиевич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1213920" y="357120"/>
            <a:ext cx="764388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 одном из боев его  танк был подбит и загорелся. Экипаж успел покинуть машину, но прадедушка сильно обгорел. После госпиталя его снова направили на фронт. Он  освобождал Чехословакию. Чехи встречали русских с радостью. Прадед  вспоминал, что «вся броня тан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ыла усыпана цветами»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вчаров Николай Георгиевич дошёл до Берлин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нглийская  Королева подарила по отрезу на костю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сем офицерам, участвовавшим во взятии Берлина 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ены. Прадед его хранил до возвращения домой и  потом сшил костюм, которым очень гордился и берег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4" descr="http://alternathistory.org.ua/files/ad/T-34P.JPG"/>
          <p:cNvPicPr/>
          <p:nvPr/>
        </p:nvPicPr>
        <p:blipFill>
          <a:blip r:embed="rId1"/>
          <a:stretch/>
        </p:blipFill>
        <p:spPr>
          <a:xfrm>
            <a:off x="1285920" y="785880"/>
            <a:ext cx="785880" cy="357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1499760" y="285480"/>
            <a:ext cx="7186680" cy="61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о  время войны он  воевал в составе 1 Белорусског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 1 Украинского фронтов, прошел путь от рядовог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о   командира танковой роты в звании капитан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гражден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рденом Отечественной войны 1 степени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рденом Отечественной войны 2 степени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вумя орденами боевой Красной Звезды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едалью за освобождение Праг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сле войны он долго работал в школе учителем начальных классов, до последних дней помнил своих погибших друзей.   Умер он   в 2005 году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нтон Книг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8" descr="http://www.kvvidkus1782.ru/szagn/img/4_39.jpg"/>
          <p:cNvPicPr/>
          <p:nvPr/>
        </p:nvPicPr>
        <p:blipFill>
          <a:blip r:embed="rId1"/>
          <a:stretch/>
        </p:blipFill>
        <p:spPr>
          <a:xfrm>
            <a:off x="2286000" y="3786120"/>
            <a:ext cx="357120" cy="6588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2" descr="http://kriminal.tv/images/stories/00new_site/hot_news/12.07.2011/___2_222.jpg"/>
          <p:cNvPicPr/>
          <p:nvPr/>
        </p:nvPicPr>
        <p:blipFill>
          <a:blip r:embed="rId2"/>
          <a:stretch/>
        </p:blipFill>
        <p:spPr>
          <a:xfrm>
            <a:off x="1857240" y="1785960"/>
            <a:ext cx="642960" cy="6429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2" descr="http://kriminal.tv/images/stories/00new_site/hot_news/12.07.2011/___2_222.jpg"/>
          <p:cNvPicPr/>
          <p:nvPr/>
        </p:nvPicPr>
        <p:blipFill>
          <a:blip r:embed="rId3"/>
          <a:stretch/>
        </p:blipFill>
        <p:spPr>
          <a:xfrm>
            <a:off x="1857240" y="2500200"/>
            <a:ext cx="613080" cy="5716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" descr="http://sovsibir.ru/up/2009/230/230-07.jpg"/>
          <p:cNvPicPr/>
          <p:nvPr/>
        </p:nvPicPr>
        <p:blipFill>
          <a:blip r:embed="rId4"/>
          <a:stretch/>
        </p:blipFill>
        <p:spPr>
          <a:xfrm>
            <a:off x="2214720" y="3143160"/>
            <a:ext cx="500040" cy="5000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4" descr="http://sovsibir.ru/up/2009/230/230-07.jpg"/>
          <p:cNvPicPr/>
          <p:nvPr/>
        </p:nvPicPr>
        <p:blipFill>
          <a:blip r:embed="rId5"/>
          <a:stretch/>
        </p:blipFill>
        <p:spPr>
          <a:xfrm>
            <a:off x="1500120" y="3143160"/>
            <a:ext cx="500040" cy="5000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6" descr="http://i036.radikal.ru/1306/57/97ebcf6dcfbc.gif"/>
          <p:cNvPicPr/>
          <p:nvPr/>
        </p:nvPicPr>
        <p:blipFill>
          <a:blip r:embed="rId6"/>
          <a:stretch/>
        </p:blipFill>
        <p:spPr>
          <a:xfrm>
            <a:off x="4429080" y="5881680"/>
            <a:ext cx="976320" cy="9763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71760" y="142560"/>
            <a:ext cx="71294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820000"/>
                </a:solidFill>
                <a:latin typeface="Times New Roman"/>
              </a:rPr>
              <a:t>Чайкин Аркадий Васильевич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357360" y="856800"/>
            <a:ext cx="57862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ой прадедушка родился 14 июня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925 года. Отец  его был рабочим    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асильевском стекольном  заводе. В 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лет был  призван на фронт. Воевал в 26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трелковом полку 184 Духовщинско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трелковой дивизии. Награждён орденам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лавы 2 и 3 степени. Был ранен 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943 году на Калининском фронте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1944 - на Западном фронте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" name="Группа 9"/>
          <p:cNvGrpSpPr/>
          <p:nvPr/>
        </p:nvGrpSpPr>
        <p:grpSpPr>
          <a:xfrm>
            <a:off x="1071720" y="857160"/>
            <a:ext cx="1981080" cy="3071880"/>
            <a:chOff x="1071720" y="857160"/>
            <a:chExt cx="1981080" cy="3071880"/>
          </a:xfrm>
        </p:grpSpPr>
        <p:pic>
          <p:nvPicPr>
            <p:cNvPr id="70" name="Picture 5" descr="getImage2"/>
            <p:cNvPicPr/>
            <p:nvPr/>
          </p:nvPicPr>
          <p:blipFill>
            <a:blip r:embed="rId1">
              <a:lum contrast="10000"/>
            </a:blip>
            <a:stretch/>
          </p:blipFill>
          <p:spPr>
            <a:xfrm>
              <a:off x="1285920" y="928440"/>
              <a:ext cx="1713960" cy="2656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Picture 5" descr="D:\Диск Д для Любани\любаня\2 класс\ПРОЕКТ  ВОЙНА\Victory_Day_from_Tramplin1889\Victory_Day_from_Tramplin\Victory Day (12).png"/>
            <p:cNvPicPr/>
            <p:nvPr/>
          </p:nvPicPr>
          <p:blipFill>
            <a:blip r:embed="rId2"/>
            <a:stretch/>
          </p:blipFill>
          <p:spPr>
            <a:xfrm>
              <a:off x="1071720" y="857160"/>
              <a:ext cx="1981080" cy="3071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2" name="Picture 5" descr="http://img-fotki.yandex.ru/get/6300/157337526.0/0_6e9b4_2e3f1b38_XL"/>
          <p:cNvPicPr/>
          <p:nvPr/>
        </p:nvPicPr>
        <p:blipFill>
          <a:blip r:embed="rId3"/>
          <a:stretch/>
        </p:blipFill>
        <p:spPr>
          <a:xfrm>
            <a:off x="3857760" y="928800"/>
            <a:ext cx="357120" cy="287280"/>
          </a:xfrm>
          <a:prstGeom prst="rect">
            <a:avLst/>
          </a:prstGeom>
          <a:ln w="0">
            <a:noFill/>
          </a:ln>
        </p:spPr>
      </p:pic>
      <p:sp>
        <p:nvSpPr>
          <p:cNvPr id="73" name="TextBox 8"/>
          <p:cNvSpPr/>
          <p:nvPr/>
        </p:nvSpPr>
        <p:spPr>
          <a:xfrm>
            <a:off x="1285920" y="4071960"/>
            <a:ext cx="1714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Чайкин Аркадий Васильеви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Box 9"/>
          <p:cNvSpPr/>
          <p:nvPr/>
        </p:nvSpPr>
        <p:spPr>
          <a:xfrm>
            <a:off x="7000920" y="5286240"/>
            <a:ext cx="214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госпитале. Сентябрь 1943г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адедушка в центре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" name="Группа 14"/>
          <p:cNvGrpSpPr/>
          <p:nvPr/>
        </p:nvGrpSpPr>
        <p:grpSpPr>
          <a:xfrm>
            <a:off x="4286160" y="4857840"/>
            <a:ext cx="2714760" cy="2000160"/>
            <a:chOff x="4286160" y="4857840"/>
            <a:chExt cx="2714760" cy="2000160"/>
          </a:xfrm>
        </p:grpSpPr>
        <p:pic>
          <p:nvPicPr>
            <p:cNvPr id="76" name="Picture 8" descr="getImage"/>
            <p:cNvPicPr/>
            <p:nvPr/>
          </p:nvPicPr>
          <p:blipFill>
            <a:blip r:embed="rId4"/>
            <a:stretch/>
          </p:blipFill>
          <p:spPr>
            <a:xfrm>
              <a:off x="4643280" y="4929120"/>
              <a:ext cx="2286360" cy="170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" name="Рисунок 10" descr="Victory Day (12).png"/>
            <p:cNvPicPr/>
            <p:nvPr/>
          </p:nvPicPr>
          <p:blipFill>
            <a:blip r:embed="rId5"/>
            <a:stretch/>
          </p:blipFill>
          <p:spPr>
            <a:xfrm>
              <a:off x="4286160" y="4857840"/>
              <a:ext cx="2714760" cy="20001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8" name="Рисунок 13" descr="Victory Day (12).png"/>
          <p:cNvPicPr/>
          <p:nvPr/>
        </p:nvPicPr>
        <p:blipFill>
          <a:blip r:embed="rId6"/>
          <a:stretch/>
        </p:blipFill>
        <p:spPr>
          <a:xfrm>
            <a:off x="4286160" y="4857840"/>
            <a:ext cx="2714760" cy="20001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2857680" y="356760"/>
            <a:ext cx="5929200" cy="42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граждён орденами  Славы 2 и 3 степен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" name="Группа 34"/>
          <p:cNvGrpSpPr/>
          <p:nvPr/>
        </p:nvGrpSpPr>
        <p:grpSpPr>
          <a:xfrm>
            <a:off x="2071800" y="1000080"/>
            <a:ext cx="6119640" cy="2571840"/>
            <a:chOff x="2071800" y="1000080"/>
            <a:chExt cx="6119640" cy="2571840"/>
          </a:xfrm>
        </p:grpSpPr>
        <p:pic>
          <p:nvPicPr>
            <p:cNvPr id="81" name="Picture 10" descr="filterimage"/>
            <p:cNvPicPr/>
            <p:nvPr/>
          </p:nvPicPr>
          <p:blipFill>
            <a:blip r:embed="rId1"/>
            <a:stretch/>
          </p:blipFill>
          <p:spPr>
            <a:xfrm>
              <a:off x="2071800" y="1071360"/>
              <a:ext cx="1930680" cy="250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Picture 5" descr="http://2gvshad.ru/img/awards/14.jpg"/>
            <p:cNvPicPr/>
            <p:nvPr/>
          </p:nvPicPr>
          <p:blipFill>
            <a:blip r:embed="rId2"/>
            <a:stretch/>
          </p:blipFill>
          <p:spPr>
            <a:xfrm>
              <a:off x="4049640" y="1298520"/>
              <a:ext cx="807840" cy="1477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Picture 11" descr="наградной лист"/>
            <p:cNvPicPr/>
            <p:nvPr/>
          </p:nvPicPr>
          <p:blipFill>
            <a:blip r:embed="rId3"/>
            <a:stretch/>
          </p:blipFill>
          <p:spPr>
            <a:xfrm>
              <a:off x="5429160" y="1000080"/>
              <a:ext cx="1920600" cy="257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icture 9" descr="http://img-fotki.yandex.ru/get/5306/85354436.d1/0_6c345_b258d495_XL"/>
            <p:cNvPicPr/>
            <p:nvPr/>
          </p:nvPicPr>
          <p:blipFill>
            <a:blip r:embed="rId4"/>
            <a:stretch/>
          </p:blipFill>
          <p:spPr>
            <a:xfrm>
              <a:off x="7286760" y="1357200"/>
              <a:ext cx="904680" cy="1533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5" name="TextBox 11"/>
          <p:cNvSpPr/>
          <p:nvPr/>
        </p:nvSpPr>
        <p:spPr>
          <a:xfrm>
            <a:off x="2571840" y="4286160"/>
            <a:ext cx="48578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1"/>
          <p:cNvSpPr/>
          <p:nvPr/>
        </p:nvSpPr>
        <p:spPr>
          <a:xfrm>
            <a:off x="1285920" y="3869640"/>
            <a:ext cx="75009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ГРАДНОЙ ЛИС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амилия, имя и отчество -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Чайкин Аркадий Васильеви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вание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красноармеец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3. Должность, часть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ручной пулемётчик 5 стрелковой роты 262 стрелкового полка 184 Духовщинской стрелковой дивизи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едставляется к Ордену «Слава 3 – й степени»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Прямоугольник 36"/>
          <p:cNvSpPr/>
          <p:nvPr/>
        </p:nvSpPr>
        <p:spPr>
          <a:xfrm>
            <a:off x="1214280" y="571680"/>
            <a:ext cx="77155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раткое, конкретное изложение личного боевого подвига или заслуг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расноармеец Чайкин А.В. 3.02.1944 г.  в районе села Брославы  Витебской области, в период наступательного боя  первым поднялся в атаку, увлекая за собой других бойцов, первым ворвался в траншеи противника, открыл сильный огонь, чем дал возможность успешному продвижению своего подразделения. 4, 5 и 6 января, когда противник предпринял ожесточённые контратаки, он вёл меткий огонь по противнику. В этих боях уничтожил до 20 немецких солдат. Находясь всё время под ружейно-пулемётным обстрелом, действовал смело и решительно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 мужество и отвагу проявленные в бою, достоин правительственной награды  Ордена «Славы 3 степени»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" dur="5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" dur="5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" dur="5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" dur="50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" dur="5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" dur="30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30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" dur="3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Box 9"/>
          <p:cNvSpPr/>
          <p:nvPr/>
        </p:nvSpPr>
        <p:spPr>
          <a:xfrm>
            <a:off x="1357200" y="3143160"/>
            <a:ext cx="235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.В. Чайкин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послевоенные год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Прямоугольник 11"/>
          <p:cNvSpPr/>
          <p:nvPr/>
        </p:nvSpPr>
        <p:spPr>
          <a:xfrm>
            <a:off x="3571920" y="357120"/>
            <a:ext cx="52862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сле  выздоровления вернулся на фронт и опять - страшное  ранение. Он рассказывал, что в составе 3-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человек они пошли за «языком» и попали на минное поле. Все погибли, а он подобрал оторванную по бедро ногу и закричал: «Мама!» Пролечившись в госпитале,  он вернулся домо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сле войны, до самого выхода на пенсию, проработал в военно-паспортном столе поселкового совета.     Умер  совсем недавно - 20 марта 2012 год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Группа 12"/>
          <p:cNvGrpSpPr/>
          <p:nvPr/>
        </p:nvGrpSpPr>
        <p:grpSpPr>
          <a:xfrm>
            <a:off x="1143000" y="500040"/>
            <a:ext cx="2214720" cy="2682720"/>
            <a:chOff x="1143000" y="500040"/>
            <a:chExt cx="2214720" cy="2682720"/>
          </a:xfrm>
        </p:grpSpPr>
        <p:pic>
          <p:nvPicPr>
            <p:cNvPr id="91" name="Picture 6" descr="getImage 4"/>
            <p:cNvPicPr/>
            <p:nvPr/>
          </p:nvPicPr>
          <p:blipFill>
            <a:blip r:embed="rId1"/>
            <a:stretch/>
          </p:blipFill>
          <p:spPr>
            <a:xfrm>
              <a:off x="1428480" y="642600"/>
              <a:ext cx="1929240" cy="2299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" name="Рисунок 14" descr="Victory Day (12).png"/>
            <p:cNvPicPr/>
            <p:nvPr/>
          </p:nvPicPr>
          <p:blipFill>
            <a:blip r:embed="rId2"/>
            <a:stretch/>
          </p:blipFill>
          <p:spPr>
            <a:xfrm>
              <a:off x="1143000" y="500040"/>
              <a:ext cx="2214720" cy="26827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3" name="Picture 5" descr="C:\Documents and Settings\Администратор\Мои документы\Загрузки\PA130974.JPG"/>
          <p:cNvPicPr/>
          <p:nvPr/>
        </p:nvPicPr>
        <p:blipFill>
          <a:blip r:embed="rId3"/>
          <a:stretch/>
        </p:blipFill>
        <p:spPr>
          <a:xfrm>
            <a:off x="1143000" y="428760"/>
            <a:ext cx="4037040" cy="3857400"/>
          </a:xfrm>
          <a:prstGeom prst="rect">
            <a:avLst/>
          </a:prstGeom>
          <a:ln w="0">
            <a:noFill/>
          </a:ln>
        </p:spPr>
      </p:pic>
      <p:sp>
        <p:nvSpPr>
          <p:cNvPr id="94" name="Прямоугольник 17"/>
          <p:cNvSpPr/>
          <p:nvPr/>
        </p:nvSpPr>
        <p:spPr>
          <a:xfrm>
            <a:off x="1214280" y="4286160"/>
            <a:ext cx="75009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Чайкина Елизавета с портретом прадедушки. 2013г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гда я рассказывала о нем в классе, то ребята сказали «Лиза, ты похожа на прадедушку» 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Я этим горжусь.                                 Чайкина Елизавет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Picture 10" descr="http://i036.radikal.ru/1306/57/97ebcf6dcfbc.gif"/>
          <p:cNvPicPr/>
          <p:nvPr/>
        </p:nvPicPr>
        <p:blipFill>
          <a:blip r:embed="rId4"/>
          <a:stretch/>
        </p:blipFill>
        <p:spPr>
          <a:xfrm>
            <a:off x="4572000" y="5952960"/>
            <a:ext cx="905040" cy="9050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" dur="5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" dur="5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" dur="5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71760" y="-360"/>
            <a:ext cx="7115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20000"/>
                </a:solidFill>
                <a:latin typeface="Times New Roman"/>
              </a:rPr>
              <a:t>Азиков Иван Павлови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42640" y="3357360"/>
            <a:ext cx="1714680" cy="1282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зиков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ван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авлови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2928960" y="785880"/>
            <a:ext cx="6215040" cy="59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ой прадедушка,  Азиков Ива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авлович, родился 12 сентября 1918  года в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ордовской  АССР  с. Дубенки. Рос 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оспитывался в крестьянской семье. В 193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оду был призван на службу в армии. Воева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 японцами на реке Халкин-Гол в Монголии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1941 году в звании младший сержант был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тправлен на Западный фронт. Воевал 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ехоте. В боях на Днепре в 1942 году бы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нен в ногу, получил контузию. Госпиталь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де он находился, захватили немцы. Все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неных увезли в  Германию в нацистск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нцлагерь Заксенхаузен – «лагерь смерти»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адедушка пытался бежать, но в одной и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еревень Белоруссии  был пойман 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озвращен обратно в лагерь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5" descr="http://img-fotki.yandex.ru/get/6300/157337526.0/0_6e9b4_2e3f1b38_XL"/>
          <p:cNvPicPr/>
          <p:nvPr/>
        </p:nvPicPr>
        <p:blipFill>
          <a:blip r:embed="rId1"/>
          <a:stretch/>
        </p:blipFill>
        <p:spPr>
          <a:xfrm>
            <a:off x="3286080" y="857160"/>
            <a:ext cx="357120" cy="287280"/>
          </a:xfrm>
          <a:prstGeom prst="rect">
            <a:avLst/>
          </a:prstGeom>
          <a:ln w="0">
            <a:noFill/>
          </a:ln>
        </p:spPr>
      </p:pic>
      <p:grpSp>
        <p:nvGrpSpPr>
          <p:cNvPr id="100" name="Группа 8"/>
          <p:cNvGrpSpPr/>
          <p:nvPr/>
        </p:nvGrpSpPr>
        <p:grpSpPr>
          <a:xfrm>
            <a:off x="1071720" y="1071720"/>
            <a:ext cx="1643040" cy="2000160"/>
            <a:chOff x="1071720" y="1071720"/>
            <a:chExt cx="1643040" cy="2000160"/>
          </a:xfrm>
        </p:grpSpPr>
        <p:pic>
          <p:nvPicPr>
            <p:cNvPr id="101" name="Picture 2" descr="D:\Диск Д для Любани\любаня\2 класс\ПРОЕКТ  ВОЙНА\МЕЛЬНИКОВА\Копия Азиков Иван Павлович.jpeg"/>
            <p:cNvPicPr/>
            <p:nvPr/>
          </p:nvPicPr>
          <p:blipFill>
            <a:blip r:embed="rId2"/>
            <a:stretch/>
          </p:blipFill>
          <p:spPr>
            <a:xfrm>
              <a:off x="1220760" y="1145520"/>
              <a:ext cx="1417680" cy="170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" name="Рисунок 9" descr="Victory Day (12).png"/>
            <p:cNvPicPr/>
            <p:nvPr/>
          </p:nvPicPr>
          <p:blipFill>
            <a:blip r:embed="rId3"/>
            <a:stretch/>
          </p:blipFill>
          <p:spPr>
            <a:xfrm>
              <a:off x="1071720" y="1071720"/>
              <a:ext cx="1643040" cy="20001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285840"/>
            <a:ext cx="77868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1943 году его переправили  в Карелию,  в лагерь для советских военнопленных. В 1944 году был освобожден моряками Северного Флота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сле войны  вернулся в  родное село Дубенки. Работал бухгалтером в «Райпотребсоюзе». В 1947 году женился на моей прабабушке Марии Ивановне. У них родилось 3 детей.  Мой дедушка был средним сыном, он мне и рассказал о моем прадедушке, который воевал за нашу Родину.  Умер Иван Павлович  в 1991 году 17 апреля.   Был награжден: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рденом Отечественной Войны 2 степени,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едалью «За боевые заслуги»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едалью «За отвагу»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Picture 4" descr=""/>
          <p:cNvPicPr/>
          <p:nvPr/>
        </p:nvPicPr>
        <p:blipFill>
          <a:blip r:embed="rId1"/>
          <a:stretch/>
        </p:blipFill>
        <p:spPr>
          <a:xfrm>
            <a:off x="1428840" y="4214880"/>
            <a:ext cx="1357200" cy="1143000"/>
          </a:xfrm>
          <a:prstGeom prst="rect">
            <a:avLst/>
          </a:prstGeom>
          <a:ln w="0">
            <a:noFill/>
          </a:ln>
        </p:spPr>
      </p:pic>
      <p:sp>
        <p:nvSpPr>
          <p:cNvPr id="105" name="TextBox 6"/>
          <p:cNvSpPr/>
          <p:nvPr/>
        </p:nvSpPr>
        <p:spPr>
          <a:xfrm>
            <a:off x="1428840" y="5357880"/>
            <a:ext cx="728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рден Отечественной  войны 2 степен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ото из личного архива.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ельникова Ири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icture 10" descr="http://i036.radikal.ru/1306/57/97ebcf6dcfbc.gif"/>
          <p:cNvPicPr/>
          <p:nvPr/>
        </p:nvPicPr>
        <p:blipFill>
          <a:blip r:embed="rId2"/>
          <a:stretch/>
        </p:blipFill>
        <p:spPr>
          <a:xfrm>
            <a:off x="4929120" y="5786280"/>
            <a:ext cx="833400" cy="833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6T20:41:41Z</dcterms:created>
  <dc:creator>Елена</dc:creator>
  <dc:description/>
  <dc:language>en-US</dc:language>
  <cp:lastModifiedBy>Admin</cp:lastModifiedBy>
  <dcterms:modified xsi:type="dcterms:W3CDTF">2014-10-28T11:45:42Z</dcterms:modified>
  <cp:revision>156</cp:revision>
  <dc:subject/>
  <dc:title>Слайд 1</dc:title>
</cp:coreProperties>
</file>