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D84-46BA-41AB-8CBB-8A138285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CBC-3357-470D-9E21-A5E0F646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9BE-BEDE-43DA-9E13-866DCA19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A1B-B327-4398-8E9D-84F0D9BC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0F3-204B-407D-9DBE-76105C1B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237-31BB-4D35-9925-1DEBF280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598-97F4-4537-888D-075757AD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F56-BE51-4903-9D3B-425F01CD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D31-FD49-4ECB-9C2F-7D491349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F26-8B1A-4E17-AFEE-BCCEAC68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A5A-9175-4D05-9B86-338E6E1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589-7AD5-447D-AF98-F64956D4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F21C-FB5E-42E2-A3F4-44DF5D1C1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Городской дизайн</a:t>
            </a:r>
            <a:br>
              <a:rPr sz="4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рок 7.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8 класс. 3 четверть. Город и человек. Социальное значение дизайна и архитектуры как среды жизни человек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71680" y="5786280"/>
            <a:ext cx="821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ОУ Аннинская СОШ Ломоносовский район Ленинградская област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читель Куприк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moi-portal.ru/uploads/images/00/00/02/2012/11/07/127e00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c.pics.livejournal.com/sefeol/37994060/29345/29345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picsdesktop.net/christmas/640x480/PicsDesktop.net_90.jpg"/>
          <p:cNvPicPr/>
          <p:nvPr/>
        </p:nvPicPr>
        <p:blipFill>
          <a:blip r:embed="rId1"/>
          <a:stretch/>
        </p:blipFill>
        <p:spPr>
          <a:xfrm>
            <a:off x="0" y="357120"/>
            <a:ext cx="90946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readmas.ru/wp-content/filesall/2011/07/proekt_bistro_16_na_strelke_ht_readmas.ru_30.jpg"/>
          <p:cNvPicPr/>
          <p:nvPr/>
        </p:nvPicPr>
        <p:blipFill>
          <a:blip r:embed="rId1"/>
          <a:stretch/>
        </p:blipFill>
        <p:spPr>
          <a:xfrm>
            <a:off x="0" y="0"/>
            <a:ext cx="872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rt-on.ru/wp-content/uploads/2011/12/Knitting_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ratanews.ru/i/editor_upload/images/drevo_gelaniy_-_kronshtadt_-.jpg"/>
          <p:cNvPicPr/>
          <p:nvPr/>
        </p:nvPicPr>
        <p:blipFill>
          <a:blip r:embed="rId1"/>
          <a:stretch/>
        </p:blipFill>
        <p:spPr>
          <a:xfrm>
            <a:off x="12142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foretime.ru/wp-content/uploads/2011/11/pamyatnik-vlyublennym-kolobkam-v-dnepropetrovs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g-fotki.yandex.ru/get/6441/41297756.94/0_864b4_a9eb551f_XL.jpg"/>
          <p:cNvPicPr/>
          <p:nvPr/>
        </p:nvPicPr>
        <p:blipFill>
          <a:blip r:embed="rId1"/>
          <a:srcRect l="0" t="0" r="0" b="11666"/>
          <a:stretch/>
        </p:blipFill>
        <p:spPr>
          <a:xfrm>
            <a:off x="0" y="285840"/>
            <a:ext cx="9166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redkod.ru/furniture_star/images/015.jpg"/>
          <p:cNvPicPr/>
          <p:nvPr/>
        </p:nvPicPr>
        <p:blipFill>
          <a:blip r:embed="rId1"/>
          <a:stretch/>
        </p:blipFill>
        <p:spPr>
          <a:xfrm>
            <a:off x="0" y="142920"/>
            <a:ext cx="91663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baruk.ru/images/baruk/resize/?z=800&amp;file=/netcat_files/1656/1719/117636f8417287fe1547857ede924530"/>
          <p:cNvPicPr/>
          <p:nvPr/>
        </p:nvPicPr>
        <p:blipFill>
          <a:blip r:embed="rId1"/>
          <a:stretch/>
        </p:blipFill>
        <p:spPr>
          <a:xfrm>
            <a:off x="3571920" y="285840"/>
            <a:ext cx="5357880" cy="40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arhinovosti.ru/wp-content/uploads/2010/02/162.jpg"/>
          <p:cNvPicPr/>
          <p:nvPr/>
        </p:nvPicPr>
        <p:blipFill>
          <a:blip r:embed="rId2"/>
          <a:srcRect l="0" t="0" r="0" b="5090"/>
          <a:stretch/>
        </p:blipFill>
        <p:spPr>
          <a:xfrm>
            <a:off x="3571920" y="4357800"/>
            <a:ext cx="181908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img1.liveinternet.ru/images/attach/c/3/83/464/83464947_Ograda_Mihaylovskogo_sada.jpg"/>
          <p:cNvPicPr/>
          <p:nvPr/>
        </p:nvPicPr>
        <p:blipFill>
          <a:blip r:embed="rId3"/>
          <a:stretch/>
        </p:blipFill>
        <p:spPr>
          <a:xfrm>
            <a:off x="214200" y="3357720"/>
            <a:ext cx="3143520" cy="331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img0.liveinternet.ru/images/attach/c/6/93/520/93520022_864511.jpg"/>
          <p:cNvPicPr/>
          <p:nvPr/>
        </p:nvPicPr>
        <p:blipFill>
          <a:blip r:embed="rId4"/>
          <a:stretch/>
        </p:blipFill>
        <p:spPr>
          <a:xfrm>
            <a:off x="5429160" y="4357800"/>
            <a:ext cx="3429000" cy="227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stat16.privet.ru/lr/090bbabc43cc88a2c8a437d39d890d9e"/>
          <p:cNvPicPr/>
          <p:nvPr/>
        </p:nvPicPr>
        <p:blipFill>
          <a:blip r:embed="rId5"/>
          <a:stretch/>
        </p:blipFill>
        <p:spPr>
          <a:xfrm>
            <a:off x="142920" y="285840"/>
            <a:ext cx="3201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piterrok.ru/uploads/posts/2011-09/1317234811_img_9885-kopiya.jpg"/>
          <p:cNvPicPr/>
          <p:nvPr/>
        </p:nvPicPr>
        <p:blipFill>
          <a:blip r:embed="rId1"/>
          <a:srcRect l="0" t="0" r="0" b="7293"/>
          <a:stretch/>
        </p:blipFill>
        <p:spPr>
          <a:xfrm>
            <a:off x="142920" y="571680"/>
            <a:ext cx="4797360" cy="5929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piterrok.ru/uploads/posts/2011-09/1317234903_img_9888-kopiya.jpg"/>
          <p:cNvPicPr/>
          <p:nvPr/>
        </p:nvPicPr>
        <p:blipFill>
          <a:blip r:embed="rId2"/>
          <a:srcRect l="0" t="0" r="0" b="9378"/>
          <a:stretch/>
        </p:blipFill>
        <p:spPr>
          <a:xfrm>
            <a:off x="5000760" y="3857760"/>
            <a:ext cx="3889080" cy="264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piterrok.ru/uploads/posts/2011-09/1317235019_img_9895-kopiya.jpg"/>
          <p:cNvPicPr/>
          <p:nvPr/>
        </p:nvPicPr>
        <p:blipFill>
          <a:blip r:embed="rId3"/>
          <a:srcRect l="0" t="0" r="0" b="8593"/>
          <a:stretch/>
        </p:blipFill>
        <p:spPr>
          <a:xfrm>
            <a:off x="6215040" y="500040"/>
            <a:ext cx="261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Фотограф"/>
          <p:cNvPicPr/>
          <p:nvPr/>
        </p:nvPicPr>
        <p:blipFill>
          <a:blip r:embed="rId1"/>
          <a:srcRect l="0" t="0" r="0" b="5002"/>
          <a:stretch/>
        </p:blipFill>
        <p:spPr>
          <a:xfrm>
            <a:off x="3357720" y="-79200"/>
            <a:ext cx="2928960" cy="68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photos.wikimapia.org/p/00/03/09/85/73_fu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036.radikal.ru/1108/67/3f8a68f1ebd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43.radikal.ru/i102/0909/b8/c8217399e94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tat19.privet.ru/lr/0b1a71a74658b4e908d6f45ce0d8e6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metronews.ru/_internal/gxml!0/2qijkhn0ctpwx8acoz5fxkpvtmr4nbh$jyia7q1nq5phguf3e3z5uw8b3zttur9/000-mvd6324647.jpeg"/>
          <p:cNvPicPr/>
          <p:nvPr/>
        </p:nvPicPr>
        <p:blipFill>
          <a:blip r:embed="rId1"/>
          <a:stretch/>
        </p:blipFill>
        <p:spPr>
          <a:xfrm>
            <a:off x="13572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5:28:54Z</dcterms:created>
  <dc:creator>Admin</dc:creator>
  <dc:description/>
  <dc:language>en-US</dc:language>
  <cp:lastModifiedBy>Admin</cp:lastModifiedBy>
  <dcterms:modified xsi:type="dcterms:W3CDTF">2014-10-28T15:55:06Z</dcterms:modified>
  <cp:revision>13</cp:revision>
  <dc:subject/>
  <dc:title>Слайд 1</dc:title>
</cp:coreProperties>
</file>