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508-B566-46F7-A7F2-CCB5124D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990-BF54-43E0-9292-427A0435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C7F-21BA-47C2-8DFB-4F783EC3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A09-C944-4D40-96F7-8B64AAFD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C1A-859E-4276-969C-2A14062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14D0-7948-4206-ABEE-9792D3D5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D6A2-E5AC-463B-8774-FB72FB6D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82CC-F808-4732-B347-5DC797B5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CD4-7829-4077-8B59-72676AA9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699C-08FD-4BE0-91A3-5FE7FD1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2250-A0CE-4640-89A4-D81A155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5C6-D433-45D7-8B09-AB8CAE0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80E5-F3D3-4B27-873D-2E55D93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DF9E-A4A2-4EDB-AB86-CC8ADD53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8E6D-3E92-4146-A341-DF52B5D2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6EC-C29B-4126-9272-0F736F79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5076-8869-4F4A-96FA-BCC0C020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037-5B2D-4ED7-898D-41CC1C7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B77-69FF-4376-9DB7-0F1F1CA0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17C-B6FD-48C8-B652-3B177170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177-A70C-4B4C-9CE1-71EAA876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FCA-BB9B-475F-A329-A11B271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379-B985-4DB2-8C57-364391FE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22C-4674-4258-BE3A-355D2BB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98B1-8CC8-4393-823E-F19F0B5A8C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BBC-A0DC-4068-901D-B479885842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loranimal.ru/pages/animal/l/1189.html" TargetMode="External"/><Relationship Id="rId3" Type="http://schemas.openxmlformats.org/officeDocument/2006/relationships/hyperlink" Target="http://www.floranimal.ru/pages/animal/l/1194.html" TargetMode="External"/><Relationship Id="rId4" Type="http://schemas.openxmlformats.org/officeDocument/2006/relationships/hyperlink" Target="http://www.floranimal.ru/pages/animal/l/1194.html" TargetMode="External"/><Relationship Id="rId5" Type="http://schemas.openxmlformats.org/officeDocument/2006/relationships/hyperlink" Target="http://www.floranimal.ru/pages/animal/l/1194.html" TargetMode="External"/><Relationship Id="rId6" Type="http://schemas.openxmlformats.org/officeDocument/2006/relationships/hyperlink" Target="http://www.floranimal.ru/pages/animal/l/1194.html" TargetMode="External"/><Relationship Id="rId7" Type="http://schemas.openxmlformats.org/officeDocument/2006/relationships/hyperlink" Target="http://www.floranimal.ru/pages/animal/l/1194.html" TargetMode="External"/><Relationship Id="rId8" Type="http://schemas.openxmlformats.org/officeDocument/2006/relationships/hyperlink" Target="http://www.floranimal.ru/pages/animal/l/1194.html" TargetMode="External"/><Relationship Id="rId9" Type="http://schemas.openxmlformats.org/officeDocument/2006/relationships/hyperlink" Target="http://www.floranimal.ru/pages/animal/l/1194.html" TargetMode="External"/><Relationship Id="rId10" Type="http://schemas.openxmlformats.org/officeDocument/2006/relationships/hyperlink" Target="http://www.floranimal.ru/pages/animal/l/1194.html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025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Какие хищные птицы из Красной книги обитают в нашей местност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считаем , что в нашей местности обитают хищные  птицы , занесенные в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лан исследован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яснить какие птицы обитают в нашей мест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учить Красную книгу Саратовской обла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яснить обитают ли в нашей местности хищные птицы, занесенные в Красную книг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аше иссле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учили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зяли заметки из старых газет, архивов, Интерн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шли фотограф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зит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Змееяд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(Али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Полевой лунь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(Але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олевой лун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60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УНЬ ПОЛЕВОЙ (Circus cyane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ипичный представитель группы луней. Общая длина 45-56 см, размах крыльев полевого луня 100- 125 см, длина крыла 33-40 см, вес 300- 600 г. Самки полевого луня заметно крупнее самцов. Окраска взрослых самцов и самок резко различна. У самцов (двухлетних и старше) спинная сторона бледно-сизая, "седая" ("седой как лунь"); надхвостье белое; передние первостепенные маховые с черной вершиной, остальные серо-сизые, все с беловатыми основаниями внутренних опахал; средние рулевые серо-сизые, остальные сизые на наружных опахалах, белые с буроватыми пестринами на внутренних опахалах; брюшная сторона белая; горло, зоб, а иногда и грудь сизые. Клюв черный, радужина желтая, когти черные, восковица и лапы желтые. У самок спинная сторона бурая с охристо-рыжеватыми пятнами, с поперечнополосатыми маховыми и рулевыми; брюшная сторона охристая с бурым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5280" y="1557000"/>
            <a:ext cx="55087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дкий гнездящийся вид области. В прошлом широко населял все Правобережье, однако повсеместно (даже в самых северных районах) уступал на гнездовании по численности степному луню (Радищев, 1899). В первой половине нашего столетия встречи вида в репродуктивный период известны почти из всех районов области (Козловский, 1949). В настоящее время гнездовой ареал отодвинулся на север. В Правобережье распространен широко, в приграничных районах с Пензенской и Ульяновской областями даже является характерной птицей открытого ландшафта. Южнее распространен более спорадично. В Заволжье сохранился только в северных, прилегающих к р. Волге, районах.В пределах Саратовской области лежит южная часть ареала вида, численность повсеместно низкая. По данным маршрутных учетов, в гнездовое время в открытых местообитаниях Татищевского района в 1991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ЛУНЬ ПОЛЕВОЙ"/>
          <p:cNvPicPr/>
          <p:nvPr/>
        </p:nvPicPr>
        <p:blipFill>
          <a:blip r:embed="rId2"/>
          <a:stretch/>
        </p:blipFill>
        <p:spPr>
          <a:xfrm>
            <a:off x="6227640" y="12682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меея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392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МЕЕЯД (Circaetus gallic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бщая длина змееяда обыкновенного 67-72 см, размах крыльев 160-190 см, длина крыла 52- 60 см. Самки змееяда обыкновенного крупнее самцов. Оба пола окрашены одинаково. Общая окраска спинной стороны взрослых птиц серовато-бурая с черно-бурыми первостепенными передними маховыми, на задних первостепенных маховых беловатый рисунок у основания; рулевые бурые с 2-4 черно-бурыми поперечными полосами; брюшная сторона бледно-бурая и охристая с бурым продольным и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ень редкий гнездящийся вид. Литературные сведения о прошлом распространении змееяда на севере Нижнего Поволжья крайне скудны. Они ограничиваются наблюдениями И.Б. Волчанецкого (1937), П.Н. Козловского (1949) и П.С. Козлова (1950). На основе этих исследований достоверное гнездование птиц в первой половине нашего столетия подтверждено лишь для территории Вольского района. В настоящее время встречается в Красноармейском районе вдоль р. Волги (Мосейкин, 1991), а также на юге Вольского райо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341000"/>
            <a:ext cx="4316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нездится в Воскресенском районе, кроме того, на основании многочисленных летних встреч и богатства трофической базы, предполагается гнездование змееяда в пойме р. Хопра в пределах Романовского, Аркадакского и Балашовского районов. В.П. Белик (1995) указывает на встречи в гнездовой период взрослых и находки жилых гнезд и выводков змееяда в верховьях р. Иловли в Красноармейском районе. Популяция змееяда в Саратовской области стабильна и насчитывает около 30 пар (Красная книга…, 1996)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ЗМЕЕЯД"/>
          <p:cNvPicPr/>
          <p:nvPr/>
        </p:nvPicPr>
        <p:blipFill>
          <a:blip r:embed="rId2"/>
          <a:stretch/>
        </p:blipFill>
        <p:spPr>
          <a:xfrm>
            <a:off x="6012000" y="112536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в ряд источников из архивов газет, Интернета, мы пришли к вывод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территории Саратовской области отмечено 32 вида дневных хищных птиц, принадлежащих к трем семействам (Pandionidae, Accipitridae и Falconidae). Из них 24 гнездящихся, 3 пролетных и 5 залетных видов. Наиболее многочисленными в Саратовской области в целом за период исследований являются черный коршун, луговой лунь, ястреб-перепелятник, канюк, чеглок, обыкновенная пустельга и кобчик. В Красную книгу Саратовской области включены 14 видов дневных хищных птиц изучаемых семейст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Использованная литератур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floranimal.ru/pages/animal/l/1189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tp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://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www.floranimal.ru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/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pages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/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animal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/l/1194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щные птицы Саратовской области Е.В. Завьялов Саратовский ун-т, кафедра морфологии и экологии животных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http://www.ucheba.ru/referats/7233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5:00:51Z</dcterms:created>
  <dc:creator>south6</dc:creator>
  <dc:description/>
  <dc:language>en-US</dc:language>
  <cp:lastModifiedBy>Катя</cp:lastModifiedBy>
  <dcterms:modified xsi:type="dcterms:W3CDTF">2014-01-18T17:39:44Z</dcterms:modified>
  <cp:revision>3</cp:revision>
  <dc:subject/>
  <dc:title>Какие животные из Красной книги обитают в нашей местности?</dc:title>
</cp:coreProperties>
</file>