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D540C-30B7-4509-ADA6-009D6255F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1E2D9-A923-42B2-9362-BB4FE3E9B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6ADD6F-4D4E-4A7E-9F71-306F605046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3FE42-AEE6-48B9-8E8F-F5C5D09DF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522CB-AC50-42E4-8CC6-A2CA319F3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E29C2-5A71-405B-9277-36C829371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CD96B-3CAE-452A-8718-DCCA48AA0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F61B3-CD53-4D26-ADDB-7E77FE953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9B038A-B8AC-454D-9132-06F181E533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2D7716-2873-4289-ABE4-1AF0763810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A08305-D84F-49A4-8295-937386E4ED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89C5FB-1E19-4FC0-806E-81C3C2A1E9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6991F-F06A-4C95-929D-3F5658EAA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D08156-F495-446E-A20B-1976C801B0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BF85D-84CD-483F-B6F1-6DC789C5A1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367646-19D0-48C3-BC71-E73817E52E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63E561-AAF6-424F-ABC0-AC69EEDB55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D65910-8F7E-4ABB-8A29-97299439EB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6FB2E9-3F07-40C9-BA10-17430710C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54E4EF-5F1B-41FD-831B-0A7D761AB3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9DADB8-0A9E-4AC0-B031-B355BD2C34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40CA29-510C-42C9-AAE7-7B1E12DB57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94F09D-BC9F-4837-8D48-3EC4A9B7F1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BD9AE-E288-4AED-A83A-DD7753D7D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992DDF-17E5-44EE-9921-CD5EB8492E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E1E09A-4915-4724-8E6E-E5CD4A7C95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888637-3CB5-4630-B892-019090C410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0DD2D4-6E3F-45D0-B7BE-C7AB256A87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A36879-BAA8-48DB-92F5-223D7642DE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816141-46E5-4098-891E-5FAE587C9E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AB5F9A-FE0F-4E4D-AE61-8BE26E29DB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035DFE-D24C-4FE6-84DD-0CCA33B347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A3651E-9291-4B76-A9DB-DCA338DE32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6C9778-FEF7-4332-8CBE-E2131CF6F3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A8968-23BC-4385-804B-7F8E6A71E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497062-9501-481B-8454-1D2207B0F4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12E741-E4D8-4117-80FA-8A0B22229B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290889-7B3C-4087-93B2-2608A98AB0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EE9EBAA-3F58-41E8-8EE4-8F530997486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CEBC64-87C6-4F2B-91F7-3BB034FB78E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A0FF60C-8F81-4A95-84DD-C8BF2246A73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8C90A8-46DC-487B-BCE3-FD2D457AE0B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04554E1-958F-4FDB-B3FF-A3475F0F4A9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471E322-7C7F-48C5-A9DA-9CF915FFC80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140B1F-22DA-4895-8830-EDAE1690CE2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2A5B8-08E4-4D19-AF20-ED80093C2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F31DE3-DCE8-4DEA-BCD4-07D2FBE693B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D88260D-945A-4B41-830C-453C01F8D2D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DFFB7C-59E9-4DDE-BD90-47C337EFB02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D2A98C1-3FFF-4277-8618-3D1575B93B9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222F049-21EA-4EF1-8442-003BBD734C9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4BD4F0E-D00B-45CB-BEE1-9F7BF2BFFA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0AD1CB-4978-414B-B348-5DB470A068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4D84E7-310F-4AEF-B53E-19EC622463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C7F0AD-C300-4435-A3C1-90AA954104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1E5566-D201-47D2-B3D8-B998D976A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31D30-0479-420A-8CB3-E9F42AD6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6B99D7-F959-469F-9FA9-1CE80F7774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09B00D-3540-48BE-B857-FA5744763F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48879B-9E4F-4434-B376-5EA3DDA4B8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808553-5136-4CB0-9C09-68EB43DB3E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EB0E71-6BBC-42F2-B40E-4A1CF24638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6B4A4D-6F8E-43B0-9EAC-DE52EF89DC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E2339F-3707-46EC-8ADF-7763F4CA63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5966F690-D86F-43CC-A6BF-CDC674934E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4011E46-9D13-42E5-B5B1-6829CB4E9D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4093495-B4C6-474C-BC05-833657BFBB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1E41E-DE3A-45C6-8743-0D5B039E2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E3D44F8-47E9-4DCC-94B8-28E712C636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330A5FE-BA7E-424B-A32B-7FBCF78B49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C5AE2164-54BD-4C0C-9EDE-96153B3B69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4695B6D-6C1A-403B-B680-A1DBE9EDD3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BA0B97B-7C88-424A-B5F0-48DEBC8F24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CBF374F-7395-4EA8-B165-19244A6BAE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F05B5D28-8924-4666-945B-0915118CEB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2504E90-7FDF-4726-BA47-B6777C9EB3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BE412BF-5000-447D-A34D-A30024C7A87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BEC933B3-AC44-4DA6-9DC6-B7969590D61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C747E-0CE6-44BE-BF84-F6E6A316F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A580144-9917-4F56-B300-7A45604120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9CE9B083-102D-4700-BEE2-1348F677E9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5822680-EA8D-451C-826A-04B6017EEB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858A009-6892-4733-A0B4-1221786D6E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F732B87-62C1-417A-81CF-B952AB9626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AB3EED4-A6BB-4ABC-B735-BB2AFED020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33A0735-1D45-4F6E-A183-02A0B9685E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36DB1C6-1F73-4975-A226-DB7CC3E36C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C75AA9B-77AD-4597-9DBF-BE97BC3089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4B603CC-DA79-411F-B594-58641CA456F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A9FB-B13B-43A0-A03E-750577F3A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EC23431E-CCDE-4BDF-864E-AC209D802D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810AC2-A486-4D99-866E-0EE06E2C72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B53AF8-CD68-4CE6-A828-48C677491D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ED65A6-4A5C-4C5C-9534-2361BF8A4F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163E85-8971-47F7-ACF7-5C3E5232CC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4303E3-5AE2-455D-86F2-C6EBC139D6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FB9783-9552-437C-8CE9-D750FC67DE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4C5C25-90E7-4B54-8716-F4DD7AB1E0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FF704F-A668-469F-A18F-19DC476946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FF6F6E-571C-468B-8A37-2B868440F2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59B5F-DBD6-46CA-9624-F752A670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908C5D-94C8-4252-A24B-752CBC5EB3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2EBAEF8-1F46-42DA-ABCD-4EA26F43B3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FF84A07-DB5E-4750-857F-A99205CAD4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4F668F-0ED3-4D65-AD66-69EC36B0F6D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B79CA7-B4B4-4408-9419-396BA2BD06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D87FB2-13EF-4B32-A079-DBDA88333E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B58A2FE-85B5-4AD2-B18E-9AECB6F1B7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C21538-E0B3-4781-AF21-D3951BF2ED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FAC199-3AEC-419B-9560-12721475DC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6B8A14-0D28-411C-8C60-BB81692012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2B8AD-B11F-4C6C-BEBE-29F8F795D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AF6E8-6C54-4A16-9D14-159796592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B2D042-B1CC-440E-A30A-C783E92E8A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ED8047-FC4E-40AF-936D-E3A3B81B85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F52343-F206-487A-88E1-4C392E2477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608891-DCB1-4D55-AE33-768D4D3190F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1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F14B3D-75E2-4A52-B5D8-4CC92583E9E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8D7A1CE-0839-4C6D-8A5F-66F113F2A33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D73410-B572-4A23-A611-6959E7E89A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1166B39-5106-4DB3-B73E-03F66A127AA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A2CA78-9FA4-49CD-9B02-4580397849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2D3804-B5FC-41F0-99AF-1E1C52DBB8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4BBA-50E9-43B4-877C-83E9C5FE4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409BDC-51B0-4FD7-9CF0-ADB2D3035D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5013EB-DA48-4B4E-97ED-EDEC94704A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BBD0BB-E25C-4409-9E11-72EA460AB7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AB5BC0-CAAB-4F2A-B012-75BC1B38F8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BF935E-C5E1-4A26-A7AC-89948D3AE1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8ED0C40-D29F-441F-8B9B-E7E219DCF38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A48AEE5-0644-4BE8-B091-7838895F222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BFD7544-4731-4A04-B2FC-26F27E875BD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A8A80F-2E39-48CE-9144-A50E27E5D4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D3F1AA8-1EAD-4284-859A-F03D5E7784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EDD05-FD47-42CE-B53C-8A9A760C4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82B13F-39C5-4FDA-AC40-14F19975AE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AC357B-E2AB-4ED8-BB1A-706D707202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3D317BD-D9D6-44B3-BBDD-36BD82B02B6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8C2D428-1F8C-47EF-B5DE-E73DC4DC45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B131CC-2AEE-4962-BCEB-98FFAAB2C4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C59D78-B3FA-4CDD-87CC-99F75F75DDF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3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7ABC304-2C43-4D2B-BA1E-9FE4648DF5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3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CCE4954-58D2-4C85-A1A4-377499E2120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C864B9-0C6F-4B56-A3BB-D76E8DC45E2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641608B-00EF-4C54-B97D-8598B73E566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7287C-6C5A-4E40-BB91-EBF180E33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4C4700-F2EE-4D7D-A0D3-26B42EDA6C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37520A7-1C4F-409C-B832-41F6955425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FC61FFD-C934-435D-87C0-2DF60B5D05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A2EC144-D695-427D-AD26-3CD98C2F11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B4693C5-F3FE-4346-BE83-060B8E9A34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5E5327-E13A-45C5-BE20-A6C226829A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8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885C77-4434-4DC3-B588-67425F88A5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C76E8C-6415-40A7-85FF-D72A508D83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8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76430F-31CD-42DA-B34B-C8EB206E749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4A34A48-CE97-4C57-9E1C-6BD4370206B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92720-54BA-4010-9AE7-68B593AF2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9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24D563-CCAF-48C7-BD3D-2F47BF53805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9ECD508-E438-4625-BF18-79F40C9A909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1F3B0A3-3797-481A-98FD-FF49CFDFBC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88F6FCF-77DE-4AAE-861D-4507DCAEE8F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A68E9E7-4EDE-4D0F-BEF3-6AE4EF91C5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187E15F-7005-460B-B9CB-8FDBE67210C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55DDB1-1A20-456A-8350-90AC2853AD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B7FC3B1-316F-4152-8650-FF96307BE8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F13B951-2A71-4B77-85B8-4258BF2353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6AC6D0C-EDFD-4767-9D64-C8B58071B2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CDE00-94E3-4AB6-A12E-8354C6AB5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A3F5763-2E40-4B0A-95F8-46E1D209E7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4C068A1-A40C-42A4-92C6-BC007FE7443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4FD21AC-AEBF-43B5-B290-28232E397C6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EC7EA46-6080-45ED-AA78-DED345DC302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ABD2F9E-D932-4244-9C52-5C633F00385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368A75-4E61-425C-8466-768AB881686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5FC950-2812-4445-8F98-6AF725D237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99751F-0115-43BE-BA25-266A42092B8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28738DA-CB9F-4BBA-985C-C3D19EA9CB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075299-F240-4DEC-B83D-081F1B2B78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7FD1C-32E9-40EE-BE19-95980EF97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B8597F-F36A-424C-BD7E-AA58BD15D74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AA5D849-CD42-4CE0-980E-DFE18DCDBAA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D8C4B6-100F-438F-9109-0AF991CCB50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58391BD-BB41-4098-B1AA-2F09E296667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2CCA630-A5ED-4A25-B53F-96EF6CE995F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2AEB2A0-0457-4EC5-B0CA-9B6F6ABD5A2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E11B8C8-72F9-4CAC-9839-60F1DDC2F15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F01ACF4-ECA8-4C4C-8E30-6451857AFE4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734CFD7-AD15-4447-9A7D-91E8CCF4DA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14A0796-E2A8-412B-8996-D99817133AE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35ADB-2660-4DA7-8BA7-DAE6E3DB6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E16F7E1-0872-449F-96D6-EBB2EF00FF8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67B939-8EF5-45E4-9269-07FDEB0496F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42492FF-6BA8-450A-81D7-A3695D783B0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581E95F-A0AA-43A6-9AA6-37173244068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B6251FF-1C8F-4ADC-9B61-28D88A0D591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55AC88C-D6FD-49B0-B216-4BEBEA6796E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7D75B49-B458-4575-9457-F905FB3B7EC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8EF3FEF-0CF7-436F-B631-1A532D76423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5E0DF1-C168-43F6-98AC-60D2D14140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1FDC6D1-676D-46C8-BCEA-DD0EAF0306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259D8-3D3E-4EF4-84A4-3A5F96FB0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B5A7BDE-1DA9-490B-8C04-F50F7B8F9EE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7FBB839-8770-4C7F-B363-F1FA0A986AB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BA7F43B-DBCC-40A1-9FC8-3724BB5CC8B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9A7B6A8-F2B8-40A2-A6AA-BF4D451FF6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CFD9B1-6A9E-43F9-B7AB-20CE7CC4524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2C88CC3-EF01-420C-9850-28CC917FA13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437F58-9204-4A25-A471-6F8F2C976D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C8461BE-37D5-4021-B71D-28F92B5459F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9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355D768-1F23-4158-861E-2F34BC997E8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48B8F23-D018-4DEB-875D-77EDEE65FEB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8C266-862F-438C-80F6-1EE0584CF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D167622-9315-4ABE-B836-9DB92CE3B9F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1A57FD4-5395-48A1-B001-728B9ECB08F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98E3D06-E918-4265-913A-3D174F50784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1B6CBE5-9038-4FCA-BE67-AFB2DEC6B6B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8BF8F48-C53E-49D8-81D8-F04784B821D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0541D7-BCED-4275-BEFE-5A157137F3E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577F0C-2327-466D-9E32-B312802CB6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138A3E0-3426-4FD6-BA83-EDB27C777D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9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F07525-DBD9-4E2A-9793-31163AC0645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9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6D1BCF2-8961-44DD-AC03-736C473DCAD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960E-CAA7-4489-ABA0-DDA514D20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A8705-C942-453E-8F9A-1378B124E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0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29153BA-CAF5-4B4B-9BA5-E12E1C201EA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B27D0D2-A417-46F8-85CE-96C66A1936D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1047B61-205A-4661-8D9F-511828E1341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D6623BF-EC3C-4769-AA69-3A1A5277804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8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E2B6A09-D685-400C-8BD1-4E33850A493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42DA944-8FE9-4D87-882B-0E9EFDA0CBA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300798-1B3F-4E15-804C-E2C6F47734B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BCC2BC2-21FE-4D0A-8A5A-79BCBEB000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8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8729378-6B87-40A9-9DC0-3932E4CB7A4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487E446-F81F-4F87-962C-1F13FFB385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17D4D-7122-407B-B653-A956AE0CD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8B16893-25C6-48C8-B67C-03FDF99073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0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60CC345-7A7B-4986-BF02-BE833BE791B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0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BC9DC4A-1D7A-409F-8F0D-1A1B532A4D5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5FFF7E1-CF24-4F7B-8FD5-0D0B231440D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2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A6FD0A2-8E18-43B7-A3F3-6708262E04A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6E5C184-C62E-488F-9E94-27A86BD9535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2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821B651-B44C-4D33-A9F9-4D06073E319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8FB70E-B8AA-4EE0-ACA6-B82EF58F2F9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03AE309-19BD-4568-BE71-21E4F599ADC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EC788AA-B0BB-4160-B5EC-A86A749E79A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387F4-A4D3-495B-B3AE-DB78C9E1F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3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6DA6B89-2597-49F1-A154-35485AA2059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E80442D-11F3-4207-A87C-180B6A2AB16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7CCFE8C-2842-47AC-B108-C659C78716F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52F0762-53FA-4381-B0A2-C42D49D60AD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41900D3-8614-41BD-985F-74E98BD56D6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7E38CBC-4BAC-46DF-94FD-A573069CDAE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7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061B46C-FC64-4722-8086-724B5414494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7971DDF-12D6-4E59-934F-03FAD51AD47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92B27BF-B926-4683-8641-1EF4694DB2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A35E4BF-CD4C-49C4-841B-D4603E1020A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99D12-1625-42B9-83A6-583591D0D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E15F79B-A963-4479-90BD-9C5EA4CEC31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F975431-AEC5-47CE-96B6-6AC1163E6AE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3691494-EB96-4DAD-9A5E-6EB6CC73AF1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F44B14F-D42E-4BC8-911A-C267E0B9A0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75147BE-B3D3-46AF-BB6E-EDAE32B5B6E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CF9A91C-A071-4CEA-BE5A-907B9473B43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78A2772-EEE3-4401-93CF-59868DCE6AB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62F0D58-434F-4099-96AE-C7AACF0888B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435AE5-1D2F-4DDE-B5EE-A82F4C8DE20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9B52924-A6AE-427D-B4FA-FECE873386C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6592F-7CFC-4A53-A0E3-38CEA9DF9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2E730E6-7B89-4112-8273-66813792C46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EE28D23-A41D-4444-AEB1-B64656DC5D1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E5980F3-4D23-4145-8D96-ECC51ABB72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58D9FA7-EAED-42AF-8CC9-C41F03DF541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07826A2-FD40-4F43-A0BD-E53B8F0405F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90CBBFF-5483-46DD-BD16-ACD8FCEEEB3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93FF51-E3B9-4055-8F31-03561EDD1D1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3EBEE3A-0618-49C5-B2B7-B4E7B9D607C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B3C2E64-230E-418F-A4EA-88C92AAE382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ABDA7D7-CD5E-405C-AF11-5A53F8ECA94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F4A85-262A-4BD1-8D28-1AD6F9123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9510C09-AF02-430A-B43D-51C3A5A64C4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F5FADEF-9AA0-41A5-876F-CCBDF5F767F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EC74718-996F-4375-B7FF-443184F5AFF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3BC6667-AE3E-4C48-A2EE-894C12A7A4C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3507361-7E5C-4AF5-87D2-B7540A08ECF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07ECF63-D3D6-4F94-8EED-E991C540F05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ACF4030-AC20-40ED-B095-8B44B127346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11483BF-5596-44DC-98D7-4A530BC44F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0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89C54FA-3004-44CF-92B6-9328C3268AD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025E87E-8EF9-4E23-94B0-E505F3F179E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8B74D-018A-4D91-9325-45BF8F4D9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0E551F4-C0A2-47C9-AFE7-134F9A920ED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9EF9739-CA60-49F1-99DF-BB5662B99BE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0CC2CCB-3FFA-489B-B65D-7CD4F021387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DAB4344-BACE-4F5D-B65A-6FB604833D5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FB25840-4C21-4718-9B61-5DB450193C0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CDCAD7C-CC0B-4CEA-8164-80D405C1FF6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1391912-50F9-47AF-A475-EBD78FAF9C2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4BCBB4D-EEFB-4F44-B856-71755154D44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8D00E99-93ED-4D54-B9E6-931B094E1D1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34FF3B2-4CBE-4B8A-8329-37547B8FAEC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C97F17-A0E4-4233-A821-7789B26D8E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E09D124-A4CE-4C10-B328-227C022D9DC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B6770B3-2DEF-42E4-88C3-E57576C3CFB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5D67383-E0F1-47C2-9E37-04AE98A392C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CB4E809-6B83-47D2-BE8E-92F46E2B37E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EFB25AE-8BB6-44AB-97A5-EC58AD5ACFA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EB5DDEF-2F0C-4170-96B0-99773E78557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9EECCFD-D280-4FF4-96FB-062E32E0438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AA302A4-9AA1-4B24-A91D-8040D51C770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A59754F-D81E-428B-AEBD-2D5C2F8ED34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4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8EA0A8D-2883-4FE3-BD35-EF1054EE38B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12D96-6694-4912-93CC-4530073C4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6F9BF44-9FBB-48EA-80F5-931A2DB415F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5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DDDFCBF-EA07-44AA-88B8-1FCB1F58C8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5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9663447-82D1-4B9A-902E-E04921765E7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F6CFC2C-6AA5-4535-A28F-4803E232C85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6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47A4720-29DD-4B4D-9461-92945340985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CA05E99-D17B-4C08-A139-587DFBEB98B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1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99BCAB9-4347-4C23-BF04-A103867AC93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8932166-5A8C-43E6-A973-8963291054F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AC612AB-E81D-4E38-B1B6-3ED0A9F6409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B92066B-DA3C-490A-AF59-AFDE9722C03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330534-E785-48C5-82A6-159AC649D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21A0A0C-B18B-4D7D-B765-1CFEEDFFE25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D65E24C-4AEC-4610-B71A-596490E7274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9B5F07B-6C68-43E8-9425-62B8779040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36629BE-BE77-42B4-9E82-10D7151DBE0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87DF121-AB0F-4238-A38B-66ED37D7AED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12D4AE5-99B2-431B-8AC4-D238270C85F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4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415A474-28AC-4CCF-AF4F-7D904212646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3F39014-4F7D-4613-956D-90CA60ECA34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9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99624D8-D0A1-4419-8A8E-F83715A2D09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F1BE67E-F33E-4BEA-8A2A-1C596DA5647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0425-2F6B-4C43-82D9-F7E0681C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FD811-4E4B-4709-B3AF-6C0A0C52B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56BA4E9-8530-468D-B31B-F63957359F3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CC7768D-AE3F-4843-A6A5-95B73EFA870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98B8D8F-2C9C-47B0-9CA2-9535CB9A717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D3153B2-DB0C-4F10-BB6C-28A54534171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9E2AEA1-4EAE-42A4-9C06-3EA9DA08D5E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9AF9D0E-63F3-49CC-98C7-61E5F768D68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9B2F049-704D-4351-A18C-08031136C17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1CEBC35-74D8-43B0-AC49-BA9B4508CCE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651F5E1-6D54-4741-AFA0-C4B5280D6AB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A8A6CE9-88DA-4259-A670-A381B9B32F9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FF30F-B571-4CB6-B0EC-0AAA13A1C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3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DEFD819-223E-465B-916C-64F22EAA5E7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94BF975-F1B7-4175-988B-9427F844532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8713573-AA39-41A1-8A24-11EF4B56A5B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182CBA6-7DA4-4982-B86A-198997C7E2E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B43BE23-B5D2-47DD-9EB2-5B466F6C8D2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E56A120-5D25-4C0F-9CF6-4EB172BF485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2A0111-6CFB-44A7-B65E-10467C9950A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8BEE4AD-8434-4AB9-8AE2-BE0709E65CA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6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E596157-467F-4EBF-A90F-60DEFD9EEC6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184FEFE-0098-4837-886E-8627F06E3B5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3C873-6213-42B7-93FE-49FE4DA52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6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592B468-C8CD-4FE0-84FC-B05B8377532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5E836E2-90B8-442A-862F-029CB2D9EE0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7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1A7C46A-D1C6-4B44-955A-D61DC29C4E5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9EABE88-6743-4729-9331-DF405099C53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8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C161016-7841-4176-B594-6099CC7748B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AC37EBA-48E6-40C0-8D92-47A99A480B0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56945DA-5DBF-45D3-8CA3-CB1D2467636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ED6D1A9-92A9-4DFD-A84D-B726002ED4A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728F98D-D3C4-4E53-B078-C1A6E9A804B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E688E1E-EA3E-4FA6-9190-64CDC5E1426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8D889-70AB-42C2-8CD7-CB288DF01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0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FC86CD9-6836-467B-BEA2-D7AB77AC82F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8CA9AB4-55C2-4627-9B7A-D55B4D54CE9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0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CD04B9A-85CC-494E-8EC4-32C923D931C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C115E14-54B8-450D-AF11-C062120AB94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2525A6B-EFAB-47E6-A64A-CA07196DA07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97F8C47-D2E7-45DF-96DC-6169CFCE88D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B0C9018-A7D2-4C36-86F8-0D5107F5065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AC95E9E-9B75-4099-8967-BC189294FC3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6E8519F-833E-413F-A44F-07817CCDC48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B58D305-17F1-4A88-9383-340EC8B599A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C6374-5C6A-45CE-AB4B-42BDF67BA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3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35308A9-41B9-42A8-8616-15D84637264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3D96F60-4C3A-4655-9673-0D564B24B11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4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1FC7D4E-C943-4C04-9755-0B0D595F9B7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000EF1C-ECBA-487F-890C-9BBC1213072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4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496DD7F-4530-4DDD-AB78-88DEBC8E8A0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05A3C2A-728E-436B-A11E-7245E720683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1EB6C52-E0E1-4151-A38F-8C840F03F42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C12FE25-D335-4F40-92A6-47451E2B6BC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49C3EA7-AAE5-4F26-9142-DF5A8676E99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7D4BC0D-F141-420F-B0C5-FAF4109EE88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6D64D-8B18-4EF8-961D-66129A210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02D35DB-9F3F-4EF3-A9D9-F7EAC12195D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64CBB7A-552D-4A6B-B213-590CC306DA6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DC07259-F90E-41EF-A7FE-D82C0F2F240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6FE8F13-8D8D-44DA-8E64-7E1086AA550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8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E6FC504-9618-45A8-9187-A3C9426541A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7C567D7-E939-4E02-B2C7-F75F1D4B36F2}"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8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A054FBB-6142-4C05-8EB2-C6B9F1FFC21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FA8AE36-C406-41BF-871C-A07FAE16E82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0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0217056-3D57-4437-AFAF-993BA4F8CD6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6EF0EDB-EE54-4963-A4BD-663C1ADA161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12AEB-468D-4B8A-8566-7B4FEAD75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1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9124767-B749-49EE-A64C-71AEF7771FF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827DA80-BA4C-4049-886E-B00AC2F97B2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E9210A5-24CD-4243-813F-37F7043271A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C4962A4-2D3B-464B-B37E-C486FC03DD3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DAD60B9-20E9-4331-932E-097211E45F2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0D0FBF6-8D31-4BCA-AD03-D7D41530FFD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B9EA128-ED50-4376-80EE-DCC9F0D37AC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01C4177-F8CB-4999-925E-2B93E06147A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3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22C41EC-A916-4624-9DDF-735B074D9EB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8E23CA84-60AA-457E-80BD-65558160F78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2B0FE-57AA-4030-92A5-B8E5B027B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5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58ED9C9-17EC-4A63-8B7E-4C07CCDE089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F705951-2131-4325-91F0-9DEB1EAA20E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6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2CFDD7F-1D88-4603-B160-965643C50E2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FB0CB51-CD25-445C-9AAA-2088B956697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E563E91-6EDE-4E77-9816-24D0D002BBF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6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D87F475-CD5F-439A-B2CC-65083937A69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6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00F251E-5008-4112-8C48-1E63504EB4F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166B939-2BDA-4F4C-936D-CB645435F85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D86784B-EF0B-475F-8E41-CF31C924C58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32DF11C-C3B5-4D56-8C56-8EC522BFBFC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9FF89-D12B-4473-9459-887B18826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8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2831BC0-875E-4AE2-8588-2889B77C7D7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7D2EF8-9806-4D01-9898-75B5DBAF87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DCA44-AA00-4871-A1D2-554CE281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6596F-8B22-4E74-8398-4A586BC1E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9E764-630A-4DDC-817D-4D55F5975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137FB-C1AF-4BD6-95BC-A468A35A4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DA95C-0820-49EE-9034-8990B9039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04982-D946-4C62-86CC-B4CB3E37E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BD698-1413-4A50-BC43-EEA5427CD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2BFBA-CE4D-4874-A1B3-2D4BA5328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1533C-B0DF-4A65-A500-E4D75B3C7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1ECE5-D2E9-499E-989B-E055CD1BC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CCC34-1495-416C-8CF3-F7F4E5B044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3E217-89C0-4C34-9B94-C8BCD942D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377F4F-8332-4F98-AC28-F8051D5E8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2A4425-7837-4890-933E-2370094F03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5D3F0-EE57-4FAA-AD2F-AAD3C336A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027F6-3094-4692-8BE7-E85784396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B7887-D6CF-4F81-8FFB-6DB141597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4EAF4-7562-4FF9-95F5-6126B7622D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5F245-E5ED-47E6-9C4A-DFA1EB0C4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A6DEF-3044-4C4C-AA51-FA342F8B4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00EEF-2806-4BB9-88AF-5E73EF010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AF58F-05B7-4CE4-A84F-8D6C411FE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A7F2-81C3-4469-9BD0-ED5D51470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14122-3F10-4CF5-AD9E-ABB8F4347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813045-17F8-43C8-BE23-3AA3638D9C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CBFA8-083C-4898-BA22-AD555CCA0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6B6D40-8476-4609-B174-FA33D7DA32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B73B978-9C15-43B1-892A-B27F41DA1A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7EFA0E-50E9-438E-B580-B33559F1933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4B44FD-49CB-4598-B8E0-1E6E648C9D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E1D342-BE75-4679-8D76-86BE7ABF52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9CF9BBF-D855-4875-87E4-EAB2239667D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105419-5CCD-4632-8095-3ED4DA501D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78C3-12F6-46B8-807D-96C37CB3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9F773D-379B-422D-826E-573A27F8966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3494D2-4157-4D56-A944-3E3271F06D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671025-ACEC-4A5D-95E7-DE293AB36A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9F34251-4C6D-45AE-BBA8-091D713EB5D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E48683E-1F02-4EE2-B9C9-1F0B49CCF5C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1C1670-CCBB-422E-BDD6-E0C0ABB5B4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8AE14-E582-46C4-901B-A36FCC19F4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85DF6-6022-4CFE-930E-488DD92682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CB5CB5-C0E8-411A-9094-9C352F5E3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A5B86-44E9-40E9-A79D-ED269C007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39B6-7AE7-47E6-9771-9D1BF7BD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C21C1-9B42-4FB3-8EDD-284EC5B6F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84562-E9BE-4E29-B441-BA965C556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468A1-F51C-4D28-AD71-7FCCDFAF8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47712-2DA9-4173-B61E-B4F151A27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304FD-2D36-4EAA-B560-B5492E9F6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C00439-32F2-459C-AC4D-F2DA2A3C07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AB76D3-BCDA-48AC-9DFC-0817384991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E9815A-6099-4BD6-A43C-F2DCB66574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53DFA4-A013-4AEC-98DB-4AE6062A48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75C2CB-525D-4BB9-9893-3E2F8B7A27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85.xml"/><Relationship Id="rId8" Type="http://schemas.openxmlformats.org/officeDocument/2006/relationships/slideLayout" Target="../slideLayouts/slideLayout386.xml"/><Relationship Id="rId9" Type="http://schemas.openxmlformats.org/officeDocument/2006/relationships/slideLayout" Target="../slideLayouts/slideLayout387.xml"/><Relationship Id="rId10" Type="http://schemas.openxmlformats.org/officeDocument/2006/relationships/slideLayout" Target="../slideLayouts/slideLayout388.xml"/><Relationship Id="rId11" Type="http://schemas.openxmlformats.org/officeDocument/2006/relationships/slideLayout" Target="../slideLayouts/slideLayout389.xml"/><Relationship Id="rId12" Type="http://schemas.openxmlformats.org/officeDocument/2006/relationships/slideLayout" Target="../slideLayouts/slideLayout390.xml"/><Relationship Id="rId13" Type="http://schemas.openxmlformats.org/officeDocument/2006/relationships/slideLayout" Target="../slideLayouts/slideLayout391.xml"/><Relationship Id="rId14" Type="http://schemas.openxmlformats.org/officeDocument/2006/relationships/slideLayout" Target="../slideLayouts/slideLayout392.xml"/><Relationship Id="rId15" Type="http://schemas.openxmlformats.org/officeDocument/2006/relationships/slideLayout" Target="../slideLayouts/slideLayout393.xml"/><Relationship Id="rId16" Type="http://schemas.openxmlformats.org/officeDocument/2006/relationships/slideLayout" Target="../slideLayouts/slideLayout394.xml"/><Relationship Id="rId17" Type="http://schemas.openxmlformats.org/officeDocument/2006/relationships/slideLayout" Target="../slideLayouts/slideLayout395.xml"/><Relationship Id="rId18"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6.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6.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7.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7.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D5E6-0DA9-416D-99A7-E1CD25CD33E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91" name=""/>
          <p:cNvGrpSpPr/>
          <p:nvPr/>
        </p:nvGrpSpPr>
        <p:grpSpPr>
          <a:xfrm>
            <a:off x="318960" y="1752480"/>
            <a:ext cx="8825040" cy="5129280"/>
            <a:chOff x="318960" y="1752480"/>
            <a:chExt cx="8825040" cy="5129280"/>
          </a:xfrm>
        </p:grpSpPr>
        <p:sp>
          <p:nvSpPr>
            <p:cNvPr id="79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79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79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9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7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799" name="PlaceHolder 2"/>
          <p:cNvSpPr>
            <a:spLocks noGrp="1"/>
          </p:cNvSpPr>
          <p:nvPr>
            <p:ph type="dt" idx="2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0" name="PlaceHolder 3"/>
          <p:cNvSpPr>
            <a:spLocks noGrp="1"/>
          </p:cNvSpPr>
          <p:nvPr>
            <p:ph type="ftr" idx="2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1" name="PlaceHolder 4"/>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2939-CE1B-4DC1-AFCD-D710CF4F33A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7EB2-4C67-4F9A-B5F9-B5FFF7CE12B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8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1"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2" name="PlaceHolder 3"/>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2A44-1543-401E-8042-21C24E8EB63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3" name="PlaceHolder 4"/>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20" name=""/>
          <p:cNvGrpSpPr/>
          <p:nvPr/>
        </p:nvGrpSpPr>
        <p:grpSpPr>
          <a:xfrm>
            <a:off x="0" y="0"/>
            <a:ext cx="9144000" cy="6858000"/>
            <a:chOff x="0" y="0"/>
            <a:chExt cx="9144000" cy="6858000"/>
          </a:xfrm>
        </p:grpSpPr>
        <p:sp>
          <p:nvSpPr>
            <p:cNvPr id="92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2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24" name=""/>
          <p:cNvGrpSpPr/>
          <p:nvPr/>
        </p:nvGrpSpPr>
        <p:grpSpPr>
          <a:xfrm>
            <a:off x="0" y="6019920"/>
            <a:ext cx="7848720" cy="857160"/>
            <a:chOff x="0" y="6019920"/>
            <a:chExt cx="7848720" cy="857160"/>
          </a:xfrm>
        </p:grpSpPr>
        <p:sp>
          <p:nvSpPr>
            <p:cNvPr id="92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26" name=""/>
            <p:cNvGrpSpPr/>
            <p:nvPr/>
          </p:nvGrpSpPr>
          <p:grpSpPr>
            <a:xfrm>
              <a:off x="3946680" y="6019920"/>
              <a:ext cx="3902040" cy="857160"/>
              <a:chOff x="3946680" y="6019920"/>
              <a:chExt cx="3902040" cy="857160"/>
            </a:xfrm>
          </p:grpSpPr>
          <p:sp>
            <p:nvSpPr>
              <p:cNvPr id="92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3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33" name=""/>
          <p:cNvGrpSpPr/>
          <p:nvPr/>
        </p:nvGrpSpPr>
        <p:grpSpPr>
          <a:xfrm>
            <a:off x="627120" y="6021360"/>
            <a:ext cx="5684760" cy="849240"/>
            <a:chOff x="627120" y="6021360"/>
            <a:chExt cx="5684760" cy="849240"/>
          </a:xfrm>
        </p:grpSpPr>
        <p:sp>
          <p:nvSpPr>
            <p:cNvPr id="93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4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4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4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4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5EBB-EF63-4330-B678-A82FCBE7AE6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81" name=""/>
          <p:cNvGrpSpPr/>
          <p:nvPr/>
        </p:nvGrpSpPr>
        <p:grpSpPr>
          <a:xfrm>
            <a:off x="-6480" y="20520"/>
            <a:ext cx="9144000" cy="6858000"/>
            <a:chOff x="-6480" y="20520"/>
            <a:chExt cx="9144000" cy="6858000"/>
          </a:xfrm>
        </p:grpSpPr>
        <p:sp>
          <p:nvSpPr>
            <p:cNvPr id="98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8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85" name=""/>
          <p:cNvGrpSpPr/>
          <p:nvPr/>
        </p:nvGrpSpPr>
        <p:grpSpPr>
          <a:xfrm>
            <a:off x="-1440" y="6033960"/>
            <a:ext cx="7844400" cy="850680"/>
            <a:chOff x="-1440" y="6033960"/>
            <a:chExt cx="7844400" cy="850680"/>
          </a:xfrm>
        </p:grpSpPr>
        <p:sp>
          <p:nvSpPr>
            <p:cNvPr id="98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87" name=""/>
            <p:cNvGrpSpPr/>
            <p:nvPr/>
          </p:nvGrpSpPr>
          <p:grpSpPr>
            <a:xfrm>
              <a:off x="3944880" y="6033960"/>
              <a:ext cx="3898080" cy="850680"/>
              <a:chOff x="3944880" y="6033960"/>
              <a:chExt cx="3898080" cy="850680"/>
            </a:xfrm>
          </p:grpSpPr>
          <p:sp>
            <p:nvSpPr>
              <p:cNvPr id="98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9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94" name=""/>
          <p:cNvGrpSpPr/>
          <p:nvPr/>
        </p:nvGrpSpPr>
        <p:grpSpPr>
          <a:xfrm>
            <a:off x="627120" y="6021360"/>
            <a:ext cx="5684760" cy="849240"/>
            <a:chOff x="627120" y="6021360"/>
            <a:chExt cx="5684760" cy="849240"/>
          </a:xfrm>
        </p:grpSpPr>
        <p:sp>
          <p:nvSpPr>
            <p:cNvPr id="99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0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0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002"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03" name="PlaceHolder 3"/>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7D61-74A7-40C7-B342-60F0BC98972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04"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1" name="PlaceHolder 1"/>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42" name="PlaceHolder 2"/>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4323-588D-459E-A654-394BC1B043C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043" name=""/>
          <p:cNvGrpSpPr/>
          <p:nvPr/>
        </p:nvGrpSpPr>
        <p:grpSpPr>
          <a:xfrm>
            <a:off x="0" y="0"/>
            <a:ext cx="9140760" cy="6850080"/>
            <a:chOff x="0" y="0"/>
            <a:chExt cx="9140760" cy="6850080"/>
          </a:xfrm>
        </p:grpSpPr>
        <p:grpSp>
          <p:nvGrpSpPr>
            <p:cNvPr id="1044" name=""/>
            <p:cNvGrpSpPr/>
            <p:nvPr/>
          </p:nvGrpSpPr>
          <p:grpSpPr>
            <a:xfrm>
              <a:off x="2743200" y="3540240"/>
              <a:ext cx="6392880" cy="3309840"/>
              <a:chOff x="2743200" y="3540240"/>
              <a:chExt cx="6392880" cy="3309840"/>
            </a:xfrm>
          </p:grpSpPr>
          <p:sp>
            <p:nvSpPr>
              <p:cNvPr id="10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53" name="PlaceHolder 4"/>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1" name=""/>
          <p:cNvGrpSpPr/>
          <p:nvPr/>
        </p:nvGrpSpPr>
        <p:grpSpPr>
          <a:xfrm>
            <a:off x="0" y="0"/>
            <a:ext cx="9140760" cy="6850080"/>
            <a:chOff x="0" y="0"/>
            <a:chExt cx="9140760" cy="6850080"/>
          </a:xfrm>
        </p:grpSpPr>
        <p:grpSp>
          <p:nvGrpSpPr>
            <p:cNvPr id="1092" name=""/>
            <p:cNvGrpSpPr/>
            <p:nvPr/>
          </p:nvGrpSpPr>
          <p:grpSpPr>
            <a:xfrm>
              <a:off x="2743200" y="3540240"/>
              <a:ext cx="6392880" cy="3309840"/>
              <a:chOff x="2743200" y="3540240"/>
              <a:chExt cx="6392880" cy="3309840"/>
            </a:xfrm>
          </p:grpSpPr>
          <p:sp>
            <p:nvSpPr>
              <p:cNvPr id="10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101" name="PlaceHolder 2"/>
          <p:cNvSpPr>
            <a:spLocks noGrp="1"/>
          </p:cNvSpPr>
          <p:nvPr>
            <p:ph type="dt" idx="4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02" name="PlaceHolder 3"/>
          <p:cNvSpPr>
            <a:spLocks noGrp="1"/>
          </p:cNvSpPr>
          <p:nvPr>
            <p:ph type="ftr" idx="4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03" name="PlaceHolder 4"/>
          <p:cNvSpPr>
            <a:spLocks noGrp="1"/>
          </p:cNvSpPr>
          <p:nvPr>
            <p:ph type="sldNum" idx="4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8AF5-D76C-4A07-B631-B053609CE3B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1440" y="0"/>
            <a:ext cx="9149040" cy="6851520"/>
            <a:chOff x="1440" y="0"/>
            <a:chExt cx="9149040" cy="6851520"/>
          </a:xfrm>
        </p:grpSpPr>
        <p:sp>
          <p:nvSpPr>
            <p:cNvPr id="114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44" name=""/>
            <p:cNvGrpSpPr/>
            <p:nvPr/>
          </p:nvGrpSpPr>
          <p:grpSpPr>
            <a:xfrm>
              <a:off x="457200" y="0"/>
              <a:ext cx="8093160" cy="6851520"/>
              <a:chOff x="457200" y="0"/>
              <a:chExt cx="8093160" cy="6851520"/>
            </a:xfrm>
          </p:grpSpPr>
          <p:sp>
            <p:nvSpPr>
              <p:cNvPr id="114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4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5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69" name=""/>
            <p:cNvGrpSpPr/>
            <p:nvPr/>
          </p:nvGrpSpPr>
          <p:grpSpPr>
            <a:xfrm>
              <a:off x="1440" y="622440"/>
              <a:ext cx="9141120" cy="2493720"/>
              <a:chOff x="1440" y="622440"/>
              <a:chExt cx="9141120" cy="2493720"/>
            </a:xfrm>
          </p:grpSpPr>
          <p:sp>
            <p:nvSpPr>
              <p:cNvPr id="117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7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7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7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7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7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7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78" name="PlaceHolder 2"/>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9"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0" name="PlaceHolder 4"/>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DD75-116E-47E2-8497-A0880ACA492E}"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8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18" name=""/>
          <p:cNvGrpSpPr/>
          <p:nvPr/>
        </p:nvGrpSpPr>
        <p:grpSpPr>
          <a:xfrm>
            <a:off x="0" y="0"/>
            <a:ext cx="9148320" cy="6851520"/>
            <a:chOff x="0" y="0"/>
            <a:chExt cx="9148320" cy="6851520"/>
          </a:xfrm>
        </p:grpSpPr>
        <p:sp>
          <p:nvSpPr>
            <p:cNvPr id="121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222" name=""/>
            <p:cNvGrpSpPr/>
            <p:nvPr/>
          </p:nvGrpSpPr>
          <p:grpSpPr>
            <a:xfrm>
              <a:off x="455400" y="0"/>
              <a:ext cx="8092440" cy="6851520"/>
              <a:chOff x="455400" y="0"/>
              <a:chExt cx="8092440" cy="6851520"/>
            </a:xfrm>
          </p:grpSpPr>
          <p:sp>
            <p:nvSpPr>
              <p:cNvPr id="122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23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247" name=""/>
            <p:cNvGrpSpPr/>
            <p:nvPr/>
          </p:nvGrpSpPr>
          <p:grpSpPr>
            <a:xfrm>
              <a:off x="0" y="622440"/>
              <a:ext cx="9140760" cy="2493720"/>
              <a:chOff x="0" y="622440"/>
              <a:chExt cx="9140760" cy="2493720"/>
            </a:xfrm>
          </p:grpSpPr>
          <p:sp>
            <p:nvSpPr>
              <p:cNvPr id="124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25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2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256"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5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58"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614C-58CF-4B8F-BA18-6D0351BD94F3}"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95" name=""/>
          <p:cNvGrpSpPr/>
          <p:nvPr/>
        </p:nvGrpSpPr>
        <p:grpSpPr>
          <a:xfrm>
            <a:off x="0" y="6480"/>
            <a:ext cx="9140760" cy="6851520"/>
            <a:chOff x="0" y="6480"/>
            <a:chExt cx="9140760" cy="6851520"/>
          </a:xfrm>
        </p:grpSpPr>
        <p:sp>
          <p:nvSpPr>
            <p:cNvPr id="129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9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298" name=""/>
            <p:cNvGrpSpPr/>
            <p:nvPr/>
          </p:nvGrpSpPr>
          <p:grpSpPr>
            <a:xfrm>
              <a:off x="0" y="6480"/>
              <a:ext cx="9140760" cy="6851520"/>
              <a:chOff x="0" y="6480"/>
              <a:chExt cx="9140760" cy="6851520"/>
            </a:xfrm>
          </p:grpSpPr>
          <p:sp>
            <p:nvSpPr>
              <p:cNvPr id="1299"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00"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01"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302"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03"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04"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0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306"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30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grpSp>
      </p:grpSp>
      <p:sp>
        <p:nvSpPr>
          <p:cNvPr id="1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0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0" name="PlaceHolder 3"/>
          <p:cNvSpPr>
            <a:spLocks noGrp="1"/>
          </p:cNvSpPr>
          <p:nvPr>
            <p:ph type="dt" idx="55"/>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11"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12" name="PlaceHolder 5"/>
          <p:cNvSpPr>
            <a:spLocks noGrp="1"/>
          </p:cNvSpPr>
          <p:nvPr>
            <p:ph type="sldNum" idx="57"/>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E6D2-E4BE-4A98-B73A-CF77FF440E7D}"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7734-92F3-4988-B418-D6C1FEF7CD0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349" name=""/>
          <p:cNvGrpSpPr/>
          <p:nvPr/>
        </p:nvGrpSpPr>
        <p:grpSpPr>
          <a:xfrm>
            <a:off x="0" y="6480"/>
            <a:ext cx="9140760" cy="6851520"/>
            <a:chOff x="0" y="6480"/>
            <a:chExt cx="9140760" cy="6851520"/>
          </a:xfrm>
        </p:grpSpPr>
        <p:grpSp>
          <p:nvGrpSpPr>
            <p:cNvPr id="1350" name=""/>
            <p:cNvGrpSpPr/>
            <p:nvPr/>
          </p:nvGrpSpPr>
          <p:grpSpPr>
            <a:xfrm>
              <a:off x="0" y="1843200"/>
              <a:ext cx="9140760" cy="5014800"/>
              <a:chOff x="0" y="1843200"/>
              <a:chExt cx="9140760" cy="5014800"/>
            </a:xfrm>
          </p:grpSpPr>
          <p:sp>
            <p:nvSpPr>
              <p:cNvPr id="13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35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35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grpSp>
          <p:nvGrpSpPr>
            <p:cNvPr id="1356" name=""/>
            <p:cNvGrpSpPr/>
            <p:nvPr/>
          </p:nvGrpSpPr>
          <p:grpSpPr>
            <a:xfrm>
              <a:off x="552600" y="6480"/>
              <a:ext cx="8588160" cy="6851520"/>
              <a:chOff x="552600" y="6480"/>
              <a:chExt cx="8588160" cy="6851520"/>
            </a:xfrm>
          </p:grpSpPr>
          <p:sp>
            <p:nvSpPr>
              <p:cNvPr id="135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36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grpSp>
      </p:grpSp>
      <p:sp>
        <p:nvSpPr>
          <p:cNvPr id="136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64" name="PlaceHolder 2"/>
          <p:cNvSpPr>
            <a:spLocks noGrp="1"/>
          </p:cNvSpPr>
          <p:nvPr>
            <p:ph type="dt" idx="58"/>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65" name="PlaceHolder 3"/>
          <p:cNvSpPr>
            <a:spLocks noGrp="1"/>
          </p:cNvSpPr>
          <p:nvPr>
            <p:ph type="ftr" idx="59"/>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66" name="PlaceHolder 4"/>
          <p:cNvSpPr>
            <a:spLocks noGrp="1"/>
          </p:cNvSpPr>
          <p:nvPr>
            <p:ph type="sldNum" idx="6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5B9E-EA08-4572-ACF6-034796CBCF3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03" name=""/>
          <p:cNvGrpSpPr/>
          <p:nvPr/>
        </p:nvGrpSpPr>
        <p:grpSpPr>
          <a:xfrm>
            <a:off x="0" y="0"/>
            <a:ext cx="7242120" cy="1981080"/>
            <a:chOff x="0" y="0"/>
            <a:chExt cx="7242120" cy="1981080"/>
          </a:xfrm>
        </p:grpSpPr>
        <p:sp>
          <p:nvSpPr>
            <p:cNvPr id="14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8"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09"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10"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49ED-0C53-47E3-8454-4CB442F6C997}"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47" name=""/>
          <p:cNvGrpSpPr/>
          <p:nvPr/>
        </p:nvGrpSpPr>
        <p:grpSpPr>
          <a:xfrm>
            <a:off x="0" y="0"/>
            <a:ext cx="8458200" cy="5943600"/>
            <a:chOff x="0" y="0"/>
            <a:chExt cx="8458200" cy="5943600"/>
          </a:xfrm>
        </p:grpSpPr>
        <p:sp>
          <p:nvSpPr>
            <p:cNvPr id="14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450" name="PlaceHolder 1"/>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51" name="PlaceHolder 2"/>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52" name="PlaceHolder 3"/>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A4F8-CC85-48FD-BBDC-183601A4B239}"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9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491" name=""/>
          <p:cNvGrpSpPr/>
          <p:nvPr/>
        </p:nvGrpSpPr>
        <p:grpSpPr>
          <a:xfrm>
            <a:off x="3240" y="4267080"/>
            <a:ext cx="9140760" cy="2590920"/>
            <a:chOff x="3240" y="4267080"/>
            <a:chExt cx="9140760" cy="2590920"/>
          </a:xfrm>
        </p:grpSpPr>
        <p:sp>
          <p:nvSpPr>
            <p:cNvPr id="149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493" name=""/>
            <p:cNvGrpSpPr/>
            <p:nvPr/>
          </p:nvGrpSpPr>
          <p:grpSpPr>
            <a:xfrm>
              <a:off x="5600880" y="5897520"/>
              <a:ext cx="1256760" cy="827280"/>
              <a:chOff x="5600880" y="5897520"/>
              <a:chExt cx="1256760" cy="827280"/>
            </a:xfrm>
          </p:grpSpPr>
          <p:sp>
            <p:nvSpPr>
              <p:cNvPr id="149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50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1505" name=""/>
            <p:cNvGrpSpPr/>
            <p:nvPr/>
          </p:nvGrpSpPr>
          <p:grpSpPr>
            <a:xfrm>
              <a:off x="2819520" y="5764320"/>
              <a:ext cx="2581200" cy="1084320"/>
              <a:chOff x="2819520" y="5764320"/>
              <a:chExt cx="2581200" cy="1084320"/>
            </a:xfrm>
          </p:grpSpPr>
          <p:sp>
            <p:nvSpPr>
              <p:cNvPr id="150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151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24" name=""/>
            <p:cNvGrpSpPr/>
            <p:nvPr/>
          </p:nvGrpSpPr>
          <p:grpSpPr>
            <a:xfrm>
              <a:off x="6553080" y="5334120"/>
              <a:ext cx="2144880" cy="1303200"/>
              <a:chOff x="6553080" y="5334120"/>
              <a:chExt cx="2144880" cy="1303200"/>
            </a:xfrm>
          </p:grpSpPr>
          <p:sp>
            <p:nvSpPr>
              <p:cNvPr id="152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52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153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1542" name=""/>
            <p:cNvGrpSpPr/>
            <p:nvPr/>
          </p:nvGrpSpPr>
          <p:grpSpPr>
            <a:xfrm>
              <a:off x="8381880" y="4800600"/>
              <a:ext cx="674640" cy="409680"/>
              <a:chOff x="8381880" y="4800600"/>
              <a:chExt cx="674640" cy="409680"/>
            </a:xfrm>
          </p:grpSpPr>
          <p:sp>
            <p:nvSpPr>
              <p:cNvPr id="154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54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54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550" name=""/>
              <p:cNvGrpSpPr/>
              <p:nvPr/>
            </p:nvGrpSpPr>
            <p:grpSpPr>
              <a:xfrm>
                <a:off x="8542440" y="4897440"/>
                <a:ext cx="360360" cy="209520"/>
                <a:chOff x="8542440" y="4897440"/>
                <a:chExt cx="360360" cy="209520"/>
              </a:xfrm>
            </p:grpSpPr>
            <p:sp>
              <p:nvSpPr>
                <p:cNvPr id="155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155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57"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59"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5F3B-C1F1-4B9C-B8DB-5596ACED116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596" name=""/>
          <p:cNvGrpSpPr/>
          <p:nvPr/>
        </p:nvGrpSpPr>
        <p:grpSpPr>
          <a:xfrm>
            <a:off x="3240" y="4267080"/>
            <a:ext cx="9140760" cy="2590920"/>
            <a:chOff x="3240" y="4267080"/>
            <a:chExt cx="9140760" cy="2590920"/>
          </a:xfrm>
        </p:grpSpPr>
        <p:sp>
          <p:nvSpPr>
            <p:cNvPr id="159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598" name=""/>
            <p:cNvGrpSpPr/>
            <p:nvPr/>
          </p:nvGrpSpPr>
          <p:grpSpPr>
            <a:xfrm>
              <a:off x="5600880" y="5897520"/>
              <a:ext cx="1256760" cy="827280"/>
              <a:chOff x="5600880" y="5897520"/>
              <a:chExt cx="1256760" cy="827280"/>
            </a:xfrm>
          </p:grpSpPr>
          <p:sp>
            <p:nvSpPr>
              <p:cNvPr id="159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60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1610" name=""/>
            <p:cNvGrpSpPr/>
            <p:nvPr/>
          </p:nvGrpSpPr>
          <p:grpSpPr>
            <a:xfrm>
              <a:off x="2819520" y="5764320"/>
              <a:ext cx="2581200" cy="1084320"/>
              <a:chOff x="2819520" y="5764320"/>
              <a:chExt cx="2581200" cy="1084320"/>
            </a:xfrm>
          </p:grpSpPr>
          <p:sp>
            <p:nvSpPr>
              <p:cNvPr id="161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161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629" name=""/>
            <p:cNvGrpSpPr/>
            <p:nvPr/>
          </p:nvGrpSpPr>
          <p:grpSpPr>
            <a:xfrm>
              <a:off x="6553080" y="5334120"/>
              <a:ext cx="2144880" cy="1303200"/>
              <a:chOff x="6553080" y="5334120"/>
              <a:chExt cx="2144880" cy="1303200"/>
            </a:xfrm>
          </p:grpSpPr>
          <p:sp>
            <p:nvSpPr>
              <p:cNvPr id="163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63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164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1647" name=""/>
            <p:cNvGrpSpPr/>
            <p:nvPr/>
          </p:nvGrpSpPr>
          <p:grpSpPr>
            <a:xfrm>
              <a:off x="8381880" y="4800600"/>
              <a:ext cx="674640" cy="409680"/>
              <a:chOff x="8381880" y="4800600"/>
              <a:chExt cx="674640" cy="409680"/>
            </a:xfrm>
          </p:grpSpPr>
          <p:sp>
            <p:nvSpPr>
              <p:cNvPr id="164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65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65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655" name=""/>
              <p:cNvGrpSpPr/>
              <p:nvPr/>
            </p:nvGrpSpPr>
            <p:grpSpPr>
              <a:xfrm>
                <a:off x="8542440" y="4897440"/>
                <a:ext cx="360360" cy="209520"/>
                <a:chOff x="8542440" y="4897440"/>
                <a:chExt cx="360360" cy="209520"/>
              </a:xfrm>
            </p:grpSpPr>
            <p:sp>
              <p:nvSpPr>
                <p:cNvPr id="165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165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166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661" name="PlaceHolder 2"/>
          <p:cNvSpPr>
            <a:spLocks noGrp="1"/>
          </p:cNvSpPr>
          <p:nvPr>
            <p:ph type="dt" idx="7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2"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3" name="PlaceHolder 4"/>
          <p:cNvSpPr>
            <a:spLocks noGrp="1"/>
          </p:cNvSpPr>
          <p:nvPr>
            <p:ph type="sldNum" idx="7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FBFB-78C2-4EAA-BF95-3D5AF75ED8B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700" name=""/>
          <p:cNvGrpSpPr/>
          <p:nvPr/>
        </p:nvGrpSpPr>
        <p:grpSpPr>
          <a:xfrm>
            <a:off x="0" y="0"/>
            <a:ext cx="9142560" cy="6856560"/>
            <a:chOff x="0" y="0"/>
            <a:chExt cx="9142560" cy="6856560"/>
          </a:xfrm>
        </p:grpSpPr>
        <p:sp>
          <p:nvSpPr>
            <p:cNvPr id="170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702" name=""/>
            <p:cNvGrpSpPr/>
            <p:nvPr/>
          </p:nvGrpSpPr>
          <p:grpSpPr>
            <a:xfrm>
              <a:off x="0" y="0"/>
              <a:ext cx="9142560" cy="6856560"/>
              <a:chOff x="0" y="0"/>
              <a:chExt cx="9142560" cy="6856560"/>
            </a:xfrm>
          </p:grpSpPr>
          <p:sp>
            <p:nvSpPr>
              <p:cNvPr id="170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70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70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70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70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70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70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7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7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7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7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7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7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7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7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7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7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7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728" name=""/>
              <p:cNvGrpSpPr/>
              <p:nvPr/>
            </p:nvGrpSpPr>
            <p:grpSpPr>
              <a:xfrm>
                <a:off x="0" y="0"/>
                <a:ext cx="9140760" cy="1658880"/>
                <a:chOff x="0" y="0"/>
                <a:chExt cx="9140760" cy="1658880"/>
              </a:xfrm>
            </p:grpSpPr>
            <p:sp>
              <p:nvSpPr>
                <p:cNvPr id="17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744" name=""/>
              <p:cNvGrpSpPr/>
              <p:nvPr/>
            </p:nvGrpSpPr>
            <p:grpSpPr>
              <a:xfrm>
                <a:off x="0" y="885960"/>
                <a:ext cx="9140760" cy="772920"/>
                <a:chOff x="0" y="885960"/>
                <a:chExt cx="9140760" cy="772920"/>
              </a:xfrm>
            </p:grpSpPr>
            <p:sp>
              <p:nvSpPr>
                <p:cNvPr id="17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747" name=""/>
              <p:cNvGrpSpPr/>
              <p:nvPr/>
            </p:nvGrpSpPr>
            <p:grpSpPr>
              <a:xfrm>
                <a:off x="419040" y="1649520"/>
                <a:ext cx="8255160" cy="5207040"/>
                <a:chOff x="419040" y="1649520"/>
                <a:chExt cx="8255160" cy="5207040"/>
              </a:xfrm>
            </p:grpSpPr>
            <p:sp>
              <p:nvSpPr>
                <p:cNvPr id="17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7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66" name="PlaceHolder 2"/>
          <p:cNvSpPr>
            <a:spLocks noGrp="1"/>
          </p:cNvSpPr>
          <p:nvPr>
            <p:ph type="dt" idx="7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7" name="PlaceHolder 3"/>
          <p:cNvSpPr>
            <a:spLocks noGrp="1"/>
          </p:cNvSpPr>
          <p:nvPr>
            <p:ph type="ftr" idx="7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68" name="PlaceHolder 4"/>
          <p:cNvSpPr>
            <a:spLocks noGrp="1"/>
          </p:cNvSpPr>
          <p:nvPr>
            <p:ph type="sldNum" idx="7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0305-3D8F-49A7-BE51-CAA305EBF81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806" name=""/>
          <p:cNvGrpSpPr/>
          <p:nvPr/>
        </p:nvGrpSpPr>
        <p:grpSpPr>
          <a:xfrm>
            <a:off x="0" y="0"/>
            <a:ext cx="9142560" cy="6856560"/>
            <a:chOff x="0" y="0"/>
            <a:chExt cx="9142560" cy="6856560"/>
          </a:xfrm>
        </p:grpSpPr>
        <p:sp>
          <p:nvSpPr>
            <p:cNvPr id="18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808" name=""/>
            <p:cNvGrpSpPr/>
            <p:nvPr/>
          </p:nvGrpSpPr>
          <p:grpSpPr>
            <a:xfrm>
              <a:off x="0" y="0"/>
              <a:ext cx="9142560" cy="6856560"/>
              <a:chOff x="0" y="0"/>
              <a:chExt cx="9142560" cy="6856560"/>
            </a:xfrm>
          </p:grpSpPr>
          <p:sp>
            <p:nvSpPr>
              <p:cNvPr id="18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8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8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8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8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8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8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8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8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8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8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8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8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8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8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8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8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834" name=""/>
              <p:cNvGrpSpPr/>
              <p:nvPr/>
            </p:nvGrpSpPr>
            <p:grpSpPr>
              <a:xfrm>
                <a:off x="0" y="0"/>
                <a:ext cx="9140760" cy="1658880"/>
                <a:chOff x="0" y="0"/>
                <a:chExt cx="9140760" cy="1658880"/>
              </a:xfrm>
            </p:grpSpPr>
            <p:sp>
              <p:nvSpPr>
                <p:cNvPr id="18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850" name=""/>
              <p:cNvGrpSpPr/>
              <p:nvPr/>
            </p:nvGrpSpPr>
            <p:grpSpPr>
              <a:xfrm>
                <a:off x="0" y="885960"/>
                <a:ext cx="9140760" cy="772920"/>
                <a:chOff x="0" y="885960"/>
                <a:chExt cx="9140760" cy="772920"/>
              </a:xfrm>
            </p:grpSpPr>
            <p:sp>
              <p:nvSpPr>
                <p:cNvPr id="18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853" name=""/>
              <p:cNvGrpSpPr/>
              <p:nvPr/>
            </p:nvGrpSpPr>
            <p:grpSpPr>
              <a:xfrm>
                <a:off x="419040" y="1649520"/>
                <a:ext cx="8255160" cy="5207040"/>
                <a:chOff x="419040" y="1649520"/>
                <a:chExt cx="8255160" cy="5207040"/>
              </a:xfrm>
            </p:grpSpPr>
            <p:sp>
              <p:nvSpPr>
                <p:cNvPr id="18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8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8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872" name="PlaceHolder 2"/>
          <p:cNvSpPr>
            <a:spLocks noGrp="1"/>
          </p:cNvSpPr>
          <p:nvPr>
            <p:ph type="dt" idx="7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73" name="PlaceHolder 3"/>
          <p:cNvSpPr>
            <a:spLocks noGrp="1"/>
          </p:cNvSpPr>
          <p:nvPr>
            <p:ph type="ftr" idx="7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74" name="PlaceHolder 4"/>
          <p:cNvSpPr>
            <a:spLocks noGrp="1"/>
          </p:cNvSpPr>
          <p:nvPr>
            <p:ph type="sldNum" idx="7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0227-AA82-4D19-B12A-5ED103A024E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11" name=""/>
          <p:cNvGrpSpPr/>
          <p:nvPr/>
        </p:nvGrpSpPr>
        <p:grpSpPr>
          <a:xfrm>
            <a:off x="0" y="3902040"/>
            <a:ext cx="3400560" cy="2949480"/>
            <a:chOff x="0" y="3902040"/>
            <a:chExt cx="3400560" cy="2949480"/>
          </a:xfrm>
        </p:grpSpPr>
        <p:sp>
          <p:nvSpPr>
            <p:cNvPr id="191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9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21"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22"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923"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4FA1-2BBF-4E79-88B0-F3D80FDA0F8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60" name=""/>
          <p:cNvGrpSpPr/>
          <p:nvPr/>
        </p:nvGrpSpPr>
        <p:grpSpPr>
          <a:xfrm>
            <a:off x="0" y="3902040"/>
            <a:ext cx="3400560" cy="2949480"/>
            <a:chOff x="0" y="3902040"/>
            <a:chExt cx="3400560" cy="2949480"/>
          </a:xfrm>
        </p:grpSpPr>
        <p:sp>
          <p:nvSpPr>
            <p:cNvPr id="196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6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96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969" name="PlaceHolder 2"/>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70"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971" name="PlaceHolder 4"/>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20B2-A8D8-401E-A37D-44A4E5AF1C4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008" name=""/>
          <p:cNvGrpSpPr/>
          <p:nvPr/>
        </p:nvGrpSpPr>
        <p:grpSpPr>
          <a:xfrm>
            <a:off x="0" y="2438280"/>
            <a:ext cx="9144000" cy="4046760"/>
            <a:chOff x="0" y="2438280"/>
            <a:chExt cx="9144000" cy="4046760"/>
          </a:xfrm>
        </p:grpSpPr>
        <p:sp>
          <p:nvSpPr>
            <p:cNvPr id="200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02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2025" name="PlaceHolder 2"/>
          <p:cNvSpPr>
            <a:spLocks noGrp="1"/>
          </p:cNvSpPr>
          <p:nvPr>
            <p:ph type="dt" idx="8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026" name="PlaceHolder 3"/>
          <p:cNvSpPr>
            <a:spLocks noGrp="1"/>
          </p:cNvSpPr>
          <p:nvPr>
            <p:ph type="ftr" idx="8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027" name="PlaceHolder 4"/>
          <p:cNvSpPr>
            <a:spLocks noGrp="1"/>
          </p:cNvSpPr>
          <p:nvPr>
            <p:ph type="sldNum" idx="8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04D8-DBA2-4FC4-BBD9-4AEFA850D37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28"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3600" y="1422360"/>
            <a:ext cx="9143640" cy="5435640"/>
            <a:chOff x="3600" y="1422360"/>
            <a:chExt cx="9143640" cy="5435640"/>
          </a:xfrm>
        </p:grpSpPr>
        <p:grpSp>
          <p:nvGrpSpPr>
            <p:cNvPr id="115" name=""/>
            <p:cNvGrpSpPr/>
            <p:nvPr/>
          </p:nvGrpSpPr>
          <p:grpSpPr>
            <a:xfrm>
              <a:off x="31680" y="1422360"/>
              <a:ext cx="9115560" cy="5435640"/>
              <a:chOff x="31680" y="1422360"/>
              <a:chExt cx="9115560" cy="5435640"/>
            </a:xfrm>
          </p:grpSpPr>
          <p:sp>
            <p:nvSpPr>
              <p:cNvPr id="11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1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1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1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2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grpSp>
        <p:grpSp>
          <p:nvGrpSpPr>
            <p:cNvPr id="129" name=""/>
            <p:cNvGrpSpPr/>
            <p:nvPr/>
          </p:nvGrpSpPr>
          <p:grpSpPr>
            <a:xfrm>
              <a:off x="3600" y="3639960"/>
              <a:ext cx="2193840" cy="2694240"/>
              <a:chOff x="3600" y="3639960"/>
              <a:chExt cx="2193840" cy="2694240"/>
            </a:xfrm>
          </p:grpSpPr>
          <p:sp>
            <p:nvSpPr>
              <p:cNvPr id="13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3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3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3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3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4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4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4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5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6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7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7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18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8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19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20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0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1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22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2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3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4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5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25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25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26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26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26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2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66"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E2CE-352E-4D9A-AEC0-6FA66250D6B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065" name=""/>
          <p:cNvGrpSpPr/>
          <p:nvPr/>
        </p:nvGrpSpPr>
        <p:grpSpPr>
          <a:xfrm>
            <a:off x="0" y="2438280"/>
            <a:ext cx="9144000" cy="4046760"/>
            <a:chOff x="0" y="2438280"/>
            <a:chExt cx="9144000" cy="4046760"/>
          </a:xfrm>
        </p:grpSpPr>
        <p:sp>
          <p:nvSpPr>
            <p:cNvPr id="206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6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07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8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0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2082" name="PlaceHolder 2"/>
          <p:cNvSpPr>
            <a:spLocks noGrp="1"/>
          </p:cNvSpPr>
          <p:nvPr>
            <p:ph type="dt" idx="8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083" name="PlaceHolder 3"/>
          <p:cNvSpPr>
            <a:spLocks noGrp="1"/>
          </p:cNvSpPr>
          <p:nvPr>
            <p:ph type="ftr" idx="8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084" name="PlaceHolder 4"/>
          <p:cNvSpPr>
            <a:spLocks noGrp="1"/>
          </p:cNvSpPr>
          <p:nvPr>
            <p:ph type="sldNum" idx="9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FDC-6F86-4812-8303-7A838289B30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21" name=""/>
          <p:cNvGrpSpPr/>
          <p:nvPr/>
        </p:nvGrpSpPr>
        <p:grpSpPr>
          <a:xfrm>
            <a:off x="3800520" y="1789200"/>
            <a:ext cx="5348160" cy="5056200"/>
            <a:chOff x="3800520" y="1789200"/>
            <a:chExt cx="5348160" cy="5056200"/>
          </a:xfrm>
        </p:grpSpPr>
        <p:sp>
          <p:nvSpPr>
            <p:cNvPr id="21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21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21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58" name="PlaceHolder 3"/>
          <p:cNvSpPr>
            <a:spLocks noGrp="1"/>
          </p:cNvSpPr>
          <p:nvPr>
            <p:ph type="dt" idx="9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59" name="PlaceHolder 4"/>
          <p:cNvSpPr>
            <a:spLocks noGrp="1"/>
          </p:cNvSpPr>
          <p:nvPr>
            <p:ph type="ftr" idx="9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60" name="PlaceHolder 5"/>
          <p:cNvSpPr>
            <a:spLocks noGrp="1"/>
          </p:cNvSpPr>
          <p:nvPr>
            <p:ph type="sldNum" idx="9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19F9-D0D5-4AA8-AD81-BDA60F52C62E}"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97" name=""/>
          <p:cNvGrpSpPr/>
          <p:nvPr/>
        </p:nvGrpSpPr>
        <p:grpSpPr>
          <a:xfrm>
            <a:off x="3800520" y="1789200"/>
            <a:ext cx="5348160" cy="5056200"/>
            <a:chOff x="3800520" y="1789200"/>
            <a:chExt cx="5348160" cy="5056200"/>
          </a:xfrm>
        </p:grpSpPr>
        <p:sp>
          <p:nvSpPr>
            <p:cNvPr id="21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22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22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232" name="PlaceHolder 1"/>
          <p:cNvSpPr>
            <a:spLocks noGrp="1"/>
          </p:cNvSpPr>
          <p:nvPr>
            <p:ph type="dt" idx="9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33" name="PlaceHolder 2"/>
          <p:cNvSpPr>
            <a:spLocks noGrp="1"/>
          </p:cNvSpPr>
          <p:nvPr>
            <p:ph type="ftr" idx="9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235" name="PlaceHolder 4"/>
          <p:cNvSpPr>
            <a:spLocks noGrp="1"/>
          </p:cNvSpPr>
          <p:nvPr>
            <p:ph type="sldNum" idx="9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88C-202B-463F-9D46-52486F2CCA0A}"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72" name=""/>
          <p:cNvGrpSpPr/>
          <p:nvPr/>
        </p:nvGrpSpPr>
        <p:grpSpPr>
          <a:xfrm>
            <a:off x="0" y="0"/>
            <a:ext cx="9144000" cy="6856560"/>
            <a:chOff x="0" y="0"/>
            <a:chExt cx="9144000" cy="6856560"/>
          </a:xfrm>
        </p:grpSpPr>
        <p:sp>
          <p:nvSpPr>
            <p:cNvPr id="227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227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229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230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309" name=""/>
            <p:cNvGrpSpPr/>
            <p:nvPr/>
          </p:nvGrpSpPr>
          <p:grpSpPr>
            <a:xfrm>
              <a:off x="0" y="2590920"/>
              <a:ext cx="9140760" cy="2949480"/>
              <a:chOff x="0" y="2590920"/>
              <a:chExt cx="9140760" cy="2949480"/>
            </a:xfrm>
          </p:grpSpPr>
          <p:sp>
            <p:nvSpPr>
              <p:cNvPr id="231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2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3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14" name="PlaceHolder 3"/>
          <p:cNvSpPr>
            <a:spLocks noGrp="1"/>
          </p:cNvSpPr>
          <p:nvPr>
            <p:ph type="dt" idx="9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15"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16" name="PlaceHolder 5"/>
          <p:cNvSpPr>
            <a:spLocks noGrp="1"/>
          </p:cNvSpPr>
          <p:nvPr>
            <p:ph type="sldNum" idx="9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7513-85BC-4A92-AA53-2BE54A0FEDB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7"/>
    <p:sldLayoutId id="2147484066" r:id="rId8"/>
    <p:sldLayoutId id="2147484067" r:id="rId9"/>
    <p:sldLayoutId id="2147484068" r:id="rId10"/>
    <p:sldLayoutId id="2147484069" r:id="rId11"/>
    <p:sldLayoutId id="2147484070" r:id="rId12"/>
    <p:sldLayoutId id="2147484071" r:id="rId13"/>
    <p:sldLayoutId id="2147484072" r:id="rId14"/>
    <p:sldLayoutId id="2147484073" r:id="rId15"/>
    <p:sldLayoutId id="2147484074" r:id="rId16"/>
    <p:sldLayoutId id="2147484075" r:id="rId17"/>
    <p:sldLayoutId id="2147484076" r:id="rId18"/>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353" name=""/>
          <p:cNvGrpSpPr/>
          <p:nvPr/>
        </p:nvGrpSpPr>
        <p:grpSpPr>
          <a:xfrm>
            <a:off x="0" y="0"/>
            <a:ext cx="9144000" cy="6856560"/>
            <a:chOff x="0" y="0"/>
            <a:chExt cx="9144000" cy="6856560"/>
          </a:xfrm>
        </p:grpSpPr>
        <p:sp>
          <p:nvSpPr>
            <p:cNvPr id="23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23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23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23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390" name=""/>
            <p:cNvGrpSpPr/>
            <p:nvPr/>
          </p:nvGrpSpPr>
          <p:grpSpPr>
            <a:xfrm>
              <a:off x="0" y="2590920"/>
              <a:ext cx="9140760" cy="2949480"/>
              <a:chOff x="0" y="2590920"/>
              <a:chExt cx="9140760" cy="2949480"/>
            </a:xfrm>
          </p:grpSpPr>
          <p:sp>
            <p:nvSpPr>
              <p:cNvPr id="23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239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394" name="PlaceHolder 2"/>
          <p:cNvSpPr>
            <a:spLocks noGrp="1"/>
          </p:cNvSpPr>
          <p:nvPr>
            <p:ph type="dt" idx="10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95" name="PlaceHolder 3"/>
          <p:cNvSpPr>
            <a:spLocks noGrp="1"/>
          </p:cNvSpPr>
          <p:nvPr>
            <p:ph type="ftr" idx="10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96" name="PlaceHolder 4"/>
          <p:cNvSpPr>
            <a:spLocks noGrp="1"/>
          </p:cNvSpPr>
          <p:nvPr>
            <p:ph type="sldNum" idx="10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4D8A-722E-4192-8F96-F1020C9A315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43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35" name="PlaceHolder 3"/>
          <p:cNvSpPr>
            <a:spLocks noGrp="1"/>
          </p:cNvSpPr>
          <p:nvPr>
            <p:ph type="dt" idx="10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6"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37" name="PlaceHolder 5"/>
          <p:cNvSpPr>
            <a:spLocks noGrp="1"/>
          </p:cNvSpPr>
          <p:nvPr>
            <p:ph type="sldNum" idx="10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DF21-3C48-40A6-8333-670B196DC3B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475" name="PlaceHolder 2"/>
          <p:cNvSpPr>
            <a:spLocks noGrp="1"/>
          </p:cNvSpPr>
          <p:nvPr>
            <p:ph type="dt" idx="10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6" name="PlaceHolder 3"/>
          <p:cNvSpPr>
            <a:spLocks noGrp="1"/>
          </p:cNvSpPr>
          <p:nvPr>
            <p:ph type="ftr" idx="10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77" name="PlaceHolder 4"/>
          <p:cNvSpPr>
            <a:spLocks noGrp="1"/>
          </p:cNvSpPr>
          <p:nvPr>
            <p:ph type="sldNum" idx="10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55A5-EE27-4AAB-A3B6-E254CEF040A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6"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17"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18"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DFD2-6619-4F6B-9A3D-67D0F3CF6E2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6" name="PlaceHolder 2"/>
          <p:cNvSpPr>
            <a:spLocks noGrp="1"/>
          </p:cNvSpPr>
          <p:nvPr>
            <p:ph type="dt" idx="11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57" name="PlaceHolder 3"/>
          <p:cNvSpPr>
            <a:spLocks noGrp="1"/>
          </p:cNvSpPr>
          <p:nvPr>
            <p:ph type="ftr" idx="11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58" name="PlaceHolder 4"/>
          <p:cNvSpPr>
            <a:spLocks noGrp="1"/>
          </p:cNvSpPr>
          <p:nvPr>
            <p:ph type="sldNum" idx="11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9582-9EF1-4B3B-AC65-1FA5E23E4E0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95" name=""/>
          <p:cNvGrpSpPr/>
          <p:nvPr/>
        </p:nvGrpSpPr>
        <p:grpSpPr>
          <a:xfrm>
            <a:off x="0" y="0"/>
            <a:ext cx="8686800" cy="4876920"/>
            <a:chOff x="0" y="0"/>
            <a:chExt cx="8686800" cy="4876920"/>
          </a:xfrm>
        </p:grpSpPr>
        <p:sp>
          <p:nvSpPr>
            <p:cNvPr id="2596"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597" name=""/>
            <p:cNvGrpSpPr/>
            <p:nvPr/>
          </p:nvGrpSpPr>
          <p:grpSpPr>
            <a:xfrm>
              <a:off x="380880" y="1417680"/>
              <a:ext cx="8305920" cy="182520"/>
              <a:chOff x="380880" y="1417680"/>
              <a:chExt cx="8305920" cy="182520"/>
            </a:xfrm>
          </p:grpSpPr>
          <p:sp>
            <p:nvSpPr>
              <p:cNvPr id="2598"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9"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26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0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2" name="PlaceHolder 3"/>
          <p:cNvSpPr>
            <a:spLocks noGrp="1"/>
          </p:cNvSpPr>
          <p:nvPr>
            <p:ph type="dt" idx="11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03" name="PlaceHolder 4"/>
          <p:cNvSpPr>
            <a:spLocks noGrp="1"/>
          </p:cNvSpPr>
          <p:nvPr>
            <p:ph type="ftr" idx="11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04" name="PlaceHolder 5"/>
          <p:cNvSpPr>
            <a:spLocks noGrp="1"/>
          </p:cNvSpPr>
          <p:nvPr>
            <p:ph type="sldNum" idx="11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F89C-9673-4A0C-9625-89AE35D48DD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05"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3600" y="1422360"/>
            <a:ext cx="9143640" cy="5435640"/>
            <a:chOff x="3600" y="1422360"/>
            <a:chExt cx="9143640" cy="5435640"/>
          </a:xfrm>
        </p:grpSpPr>
        <p:grpSp>
          <p:nvGrpSpPr>
            <p:cNvPr id="307" name=""/>
            <p:cNvGrpSpPr/>
            <p:nvPr/>
          </p:nvGrpSpPr>
          <p:grpSpPr>
            <a:xfrm>
              <a:off x="31680" y="1422360"/>
              <a:ext cx="9115560" cy="5435640"/>
              <a:chOff x="31680" y="1422360"/>
              <a:chExt cx="9115560" cy="5435640"/>
            </a:xfrm>
          </p:grpSpPr>
          <p:sp>
            <p:nvSpPr>
              <p:cNvPr id="30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0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1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32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eaeaea"/>
                  </a:solidFill>
                  <a:latin typeface="Arial"/>
                </a:endParaRPr>
              </a:p>
            </p:txBody>
          </p:sp>
        </p:grpSp>
        <p:grpSp>
          <p:nvGrpSpPr>
            <p:cNvPr id="321" name=""/>
            <p:cNvGrpSpPr/>
            <p:nvPr/>
          </p:nvGrpSpPr>
          <p:grpSpPr>
            <a:xfrm>
              <a:off x="3600" y="3639960"/>
              <a:ext cx="2193840" cy="2694240"/>
              <a:chOff x="3600" y="3639960"/>
              <a:chExt cx="2193840" cy="2694240"/>
            </a:xfrm>
          </p:grpSpPr>
          <p:sp>
            <p:nvSpPr>
              <p:cNvPr id="32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2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2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2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2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2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2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2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3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3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4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4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5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6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6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7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7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8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39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39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0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41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2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3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4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4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4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44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45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eaeaea"/>
                  </a:solidFill>
                  <a:latin typeface="Arial"/>
                </a:endParaRPr>
              </a:p>
            </p:txBody>
          </p:sp>
          <p:sp>
            <p:nvSpPr>
              <p:cNvPr id="45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5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45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4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58"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5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60"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50B4-1CED-40F8-A615-E2DF85986F13}" type="slidenum">
              <a:rPr b="0" lang="ru-RU"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642" name=""/>
          <p:cNvGrpSpPr/>
          <p:nvPr/>
        </p:nvGrpSpPr>
        <p:grpSpPr>
          <a:xfrm>
            <a:off x="0" y="0"/>
            <a:ext cx="8763120" cy="5943600"/>
            <a:chOff x="0" y="0"/>
            <a:chExt cx="8763120" cy="5943600"/>
          </a:xfrm>
        </p:grpSpPr>
        <p:sp>
          <p:nvSpPr>
            <p:cNvPr id="2643"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644" name=""/>
            <p:cNvGrpSpPr/>
            <p:nvPr/>
          </p:nvGrpSpPr>
          <p:grpSpPr>
            <a:xfrm>
              <a:off x="0" y="3505320"/>
              <a:ext cx="8763120" cy="2438280"/>
              <a:chOff x="0" y="3505320"/>
              <a:chExt cx="8763120" cy="2438280"/>
            </a:xfrm>
          </p:grpSpPr>
          <p:sp>
            <p:nvSpPr>
              <p:cNvPr id="2645"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46"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47"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2648" name=""/>
            <p:cNvGrpSpPr/>
            <p:nvPr/>
          </p:nvGrpSpPr>
          <p:grpSpPr>
            <a:xfrm>
              <a:off x="635040" y="533520"/>
              <a:ext cx="8077320" cy="304560"/>
              <a:chOff x="635040" y="533520"/>
              <a:chExt cx="8077320" cy="304560"/>
            </a:xfrm>
          </p:grpSpPr>
          <p:sp>
            <p:nvSpPr>
              <p:cNvPr id="2649"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50"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265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2652" name="PlaceHolder 2"/>
          <p:cNvSpPr>
            <a:spLocks noGrp="1"/>
          </p:cNvSpPr>
          <p:nvPr>
            <p:ph type="dt" idx="11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3" name="PlaceHolder 3"/>
          <p:cNvSpPr>
            <a:spLocks noGrp="1"/>
          </p:cNvSpPr>
          <p:nvPr>
            <p:ph type="ftr" idx="11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4" name="PlaceHolder 4"/>
          <p:cNvSpPr>
            <a:spLocks noGrp="1"/>
          </p:cNvSpPr>
          <p:nvPr>
            <p:ph type="sldNum" idx="12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97DC-AEFC-4CD5-8AA6-29C789A4F61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97" name=""/>
          <p:cNvGrpSpPr/>
          <p:nvPr/>
        </p:nvGrpSpPr>
        <p:grpSpPr>
          <a:xfrm>
            <a:off x="0" y="0"/>
            <a:ext cx="9144000" cy="6934320"/>
            <a:chOff x="0" y="0"/>
            <a:chExt cx="9144000" cy="6934320"/>
          </a:xfrm>
        </p:grpSpPr>
        <p:sp>
          <p:nvSpPr>
            <p:cNvPr id="49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50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50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7BBD-7464-4A62-9499-A098FD64A3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57" name=""/>
          <p:cNvGrpSpPr/>
          <p:nvPr/>
        </p:nvGrpSpPr>
        <p:grpSpPr>
          <a:xfrm>
            <a:off x="0" y="0"/>
            <a:ext cx="9144000" cy="6934320"/>
            <a:chOff x="0" y="0"/>
            <a:chExt cx="9144000" cy="6934320"/>
          </a:xfrm>
        </p:grpSpPr>
        <p:sp>
          <p:nvSpPr>
            <p:cNvPr id="55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56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56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57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742B-397C-462D-A110-E8EF23B476A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16" name=""/>
          <p:cNvGrpSpPr/>
          <p:nvPr/>
        </p:nvGrpSpPr>
        <p:grpSpPr>
          <a:xfrm>
            <a:off x="0" y="0"/>
            <a:ext cx="9159840" cy="6858000"/>
            <a:chOff x="0" y="0"/>
            <a:chExt cx="9159840" cy="6858000"/>
          </a:xfrm>
        </p:grpSpPr>
        <p:sp>
          <p:nvSpPr>
            <p:cNvPr id="61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0"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41"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5B44-33BA-4ABE-A0F8-553395C5239B}"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42"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79" name=""/>
          <p:cNvGrpSpPr/>
          <p:nvPr/>
        </p:nvGrpSpPr>
        <p:grpSpPr>
          <a:xfrm>
            <a:off x="0" y="0"/>
            <a:ext cx="9159840" cy="6858000"/>
            <a:chOff x="0" y="0"/>
            <a:chExt cx="9159840" cy="6858000"/>
          </a:xfrm>
        </p:grpSpPr>
        <p:sp>
          <p:nvSpPr>
            <p:cNvPr id="68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02"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04"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92FD-AF13-46E2-86D5-A842C023FDFF}"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41" name=""/>
          <p:cNvGrpSpPr/>
          <p:nvPr/>
        </p:nvGrpSpPr>
        <p:grpSpPr>
          <a:xfrm>
            <a:off x="318960" y="1828800"/>
            <a:ext cx="8825040" cy="5029200"/>
            <a:chOff x="318960" y="1828800"/>
            <a:chExt cx="8825040" cy="5029200"/>
          </a:xfrm>
        </p:grpSpPr>
        <p:sp>
          <p:nvSpPr>
            <p:cNvPr id="74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74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4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4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74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75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8F6F-AB22-4B0F-85BE-337357F02E1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4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43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5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685800" y="151920"/>
            <a:ext cx="763128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Кугультинов</a:t>
            </a:r>
            <a:r>
              <a:rPr b="0" lang="en-US" sz="4000" spc="-1" strike="noStrike">
                <a:solidFill>
                  <a:srgbClr val="ffffcc"/>
                </a:solidFill>
                <a:latin typeface="Tahoma"/>
              </a:rPr>
              <a:t>- певец калмыцкой степи!</a:t>
            </a:r>
            <a:endParaRPr b="0" lang="en-US" sz="4000" spc="-1" strike="noStrike">
              <a:solidFill>
                <a:srgbClr val="ffffcc"/>
              </a:solidFill>
              <a:latin typeface="Tahoma"/>
            </a:endParaRPr>
          </a:p>
        </p:txBody>
      </p:sp>
      <p:pic>
        <p:nvPicPr>
          <p:cNvPr id="2692" name="" descr=""/>
          <p:cNvPicPr/>
          <p:nvPr/>
        </p:nvPicPr>
        <p:blipFill>
          <a:blip r:embed="rId1"/>
          <a:stretch/>
        </p:blipFill>
        <p:spPr>
          <a:xfrm>
            <a:off x="1609560" y="1619280"/>
            <a:ext cx="5940720" cy="447660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691"/>
                                        </p:tgtEl>
                                        <p:attrNameLst>
                                          <p:attrName>style.visibility</p:attrName>
                                        </p:attrNameLst>
                                      </p:cBhvr>
                                      <p:to>
                                        <p:strVal val="visible"/>
                                      </p:to>
                                    </p:set>
                                    <p:animEffect filter="fade" transition="in">
                                      <p:cBhvr additive="repl">
                                        <p:cTn id="7" dur="2000"/>
                                        <p:tgtEl>
                                          <p:spTgt spid="2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ентябрь 1956 г.- реабилитирован ,восстановлен членом КПСС и Союза писателей СССР. До июня 1957г. Является писателем г.Норильска . В это время принимает активное участие в восстановлении автономии калмыцкого народ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ето 1956г.-принимал участие в работе инициативной группы калмыков во главе с О.И.Городовиковым по восстановлению Калмыцкой АССР</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Июнь 1957г.-сентябрь1957- ответственный секретарь Союза писателей Калмыкии, непосредственно занимается восстановлением калмыцкой литературы, переводит произведения калмыцких писателей на русский язык для последующего их издания в центральной печати и московских издательствах.</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ентябрь1957г.-1959г.-слушатель Высших литературных курсов при Литературном институте им.М.Горького в г.Москв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Н.Кугультинов родился в Калмыкии, в семье сельского учителя в 1922г. Неоглядный мир ковыльной степи, озаренной солнцем, оглашенной призывным ржанием вожака бесчисленного табуна и пронизанный тонким свистом стоящих столбиком у своих норок сусликов, вошел в его глаза, не боящихся смотреть прямо на солнце наполненные радостью жизни и удивлением ее многообразием. И вместе с этой необозримостью мира ,врастая в его впечатлительную душу, вошел воздух истории родного народа, золотой воздух легенд и сказаний, былей и небылиц , яви и фантазии , обид и предчувствий – воздух света и надежд его народ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тот мир по праву наследия стал его миром с первого взгляда, с первым звуком материнского голоса Потом эта стихийная сила любви превратилась в осознанность и просвещенность и ,подкрепленная мудростью опыта жизни и смерти, подняла его к вершинам осмысления Земли и Человечества.</a:t>
            </a:r>
            <a:endParaRPr b="0" lang="en-US" sz="2400" spc="-1" strike="noStrike">
              <a:solidFill>
                <a:srgbClr val="ffffff"/>
              </a:solidFill>
              <a:latin typeface="Tahoma"/>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го  поэзия – поэзия зрелой мысли и возвышенной души. И я не преувеличивая могу сказать , что никого из современных поэтов, которых я знаю так широко, эпически не раскрывал природу нависшей над человечеством трагедии, как это сделал он, Давид КУГУЛЬТИНОВ в поэме «Бунт разум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рудным тернистым был жизненный путь Д.Н.КУГУЛЬТИНОВА. судьба не была к нему особенно милостивой, она наделила его верностью любви и горечью предательства , она провела его по переднему краю всенародного подвига Великой Отечественной Войны к празднику Победы. Она не позволила ему склонить кудрявую голову перед унижением, она научила его спокойно нести бремя заслуженной слав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Фронтовой лирике поэта проникновенно зазвучали интернациональные мотивы. В суровые дни испытаний на нравственную прочность поэзия Кугультинова обрела мужество, мудрость, идейную глубину , внутреннюю атмосферу, которая покоряет миллионы читателей, своей достоверностью, высокой правдой.</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йна оставила неизгладимый след в судьбе и творчестве поэта. Прошлое вновь и вновь воскрешается в его поэзии в образах тех, кто смертью своей во имя Родины вошел в бессмертие Он создает стихи «Любовь и война», «Моабитский узник», «Воспоминания», разбуженные Вьетнамом.</a:t>
            </a:r>
            <a:endParaRPr b="0" lang="en-US" sz="2000" spc="-1" strike="noStrike">
              <a:solidFill>
                <a:srgbClr val="ffffff"/>
              </a:solidFill>
              <a:latin typeface="Tahoma"/>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угультинов создал свыше 40 книг, которые вышли на русском , калмыцком , украинском , белорусском , азербайджанском и др. языках. Лучшие произведения поэта переведены на английский , арабский , японский , чешский ,  монгольский и др. язык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 всенародном признании творчества поэта свидетельствовало присвоение ему звания народного поэта Калмыкии, присуждение ему Государственной премии РСФСР за поэтическую книгу «Я твой ровесник» в 1967г.,Государственной премии СССР за сборник «Зов апреля» в 1976г.</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Давида Кугультинова есть стих «Душа слова», строки которого исполнены глубокого смысла:</a:t>
            </a: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тенков множество в себе та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вучание не больше чем одеж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 каждого из слов душа сво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 душу говорящего похожа.</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ы видим за строками «душу говорящего», душу большого поэта, живущего жизнью народа, прошедшего вместе с ним его  радостные и драматические моменты.</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Жить народной жизнью – значит вместить и прошлое и настоящее народа , вобрать в себя и переосмыслить в свете времени многовековой духовный опыт народа. Как это удалось осуществить поэту, прекрасно демонстрируют поэмы – сказки Д.Кугультинова «Золотое сердце», «Песнь чудесной птицы», «Равные солнцу», «Сар-герел», «Цветок одолевший бурю» и други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Размышляя о сущности бытия , поэт-философ Д.Кугультинов не обходит самого насущного вопроса сегодняшней жизни на земле – вопроса о мире как необходимом условии существования всего живого. Страстно , гневно , убедительно звучит его слово – предупреждение , слово – призыв к людям земли , к их разуму в поэме «Воспоминания, разбуженные Вьетнамом»...</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Я верю – жизнь не обратится вспять!</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Тот, кто ведет корабль к пучине звездной,</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Научится грядущим управлять</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Теперь- теперь, пока еще не поздно!...</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дающихся успехов Д.Кугультинов достиг в жанре , история становления и развития которого в калмыцкой поэзии связана с факторами взаимодействия национальных и интернациональных традиций. Этот жанр- поэма. Он написал больше 15 поэ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унт разума»- самой значительной по поднимаемым проблемам , но включаемым в орбиту художественного воплощения поэтическим средства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ращаясь к судьбе родного народа , к родной природе , Давид Никитич находит эмоционально емкие слова для передачи чувства любви к Родине. Мир Родины, ее мудрая природа обогащает поэта «древней силой всепонимани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братски, сердечно   ,проникновенно говорил о творчестве Кугультинова народный поэт Дагестана – Расул Гамзатов .Он сравнивал Кугультинова с самой высокой горой. «Я знаю три горы в Калмыкии: это- «Джангар», Ока Городовиков, и Давид Кугультинов».</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08" name=""/>
          <p:cNvSpPr/>
          <p:nvPr/>
        </p:nvSpPr>
        <p:spPr>
          <a:xfrm>
            <a:off x="250920" y="549360"/>
            <a:ext cx="87138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Поэзия Д. Кугультинова всегда находит горячий отклик в сердцах читателей своей искренностью, глубиной, обращенностью к жизни своего народа-труженника,к социальным и духовно-нравственным процессам общества.</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Кугультинов остается верным своей художественной природе, характеру своего дарования. Он никогда не пытается петь чужим языком, в нем нет ничего показного. Серьезно и углубленно делает свое дело, подобно трудолюбивому пахарю. Кугультинова не назовешь баловнем судьбы .Он с достоинством прошел через все беды. Но не очерствел душой, не разлюбил ничего, что было ему дорого- Родину, степь, доброту, честность, дружбу, женскую красоту.</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Поэт высокой культуры , Давид Кугультинов свободно владеет всеми богатствами фольклора своей родной Калмыкии, страны сказок. Все сказки поэта очень интересны, поэтому что они рассказывают о добре и зле, силе и жестокости, мудрости и глупости и о многом другом. В его сказках добро побеждает зло, торжествует дружба,  любовь, красота. Сказки написаны стихами, читаются легко.</a:t>
            </a:r>
            <a:endParaRPr b="0" lang="en-US" sz="2000" spc="-1" strike="noStrike">
              <a:solidFill>
                <a:srgbClr val="eaeaea"/>
              </a:solidFill>
              <a:latin typeface="Arial"/>
            </a:endParaRPr>
          </a:p>
        </p:txBody>
      </p:sp>
    </p:spTree>
  </p:cSld>
  <p:transition>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Мощной эпической волной окатило поэзию Кугультинова в 60-е годы, когда он с внутренней уверенностью- встал на родную землю. Новой силой напитала его «та земля, что всегда мила, что опорой верной была с самых первых наших шагов, та единственная земля, что мы родиною зовём?» В стихах и поэмах «Золотое сердце», «Равина солнцу», «Песнь чудесной птицы», «Живая вода» он ищет сопряжения истории и современности, их связи.</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Но как бы круг порочный ни смыкался,</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Как ночь над нами ни была глуха,-</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От правды я своей не отрекался,</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Не отступал от своего стиха!...</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Не потерял я совести от страха, </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Не позабыл природный свой язык,</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Под именем бурята иль казаха</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Не прятался...  Я был и есть калмык!</a:t>
            </a:r>
            <a:endParaRPr b="0" lang="en-US" sz="2400" spc="-1" strike="noStrike">
              <a:solidFill>
                <a:srgbClr val="ffffff"/>
              </a:solidFill>
              <a:latin typeface="Garamond"/>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Пер. Ю. Нейман)</a:t>
            </a:r>
            <a:endParaRPr b="0" lang="en-US" sz="2400" spc="-1" strike="noStrike">
              <a:solidFill>
                <a:srgbClr val="ffffff"/>
              </a:solidFill>
              <a:latin typeface="Garamond"/>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ельзя не отметить особенное восторженное отношение Д. Кугультинова к его родной калмыцкой степи. Кто хоть раз побывал в калмыцкой степи, очаровывался её широтой, просторами, выносливостью тех, кто обитает в степи, для кого степь является родным домом. Таким домом является степь для великого поэта Калмыкии- Д.Н. Кугультинова.</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 свете только- степь и небо.</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 свете- птицы, степь и я.</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 счастье духа, счастье тела-</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стор, не знающий предела.</a:t>
            </a:r>
            <a:endParaRPr b="0" lang="en-US" sz="2800" spc="-1" strike="noStrike">
              <a:solidFill>
                <a:srgbClr val="ffffff"/>
              </a:solidFill>
              <a:latin typeface="Tahom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тихах и поэмах Д. Кугультинова предстаёт поэтический праздник души его родного народа, певучей, как весенний ветер, пробегающий по цветущим тюльпанам ковыльной степи.</a:t>
            </a: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 ты прекрасна, степь моя, в апреле!</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Хрустально-звонкий воздух, и простор,</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колокольчик жаворонка трел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ы- музыка, чьи звуки с давних пор</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ой-то гений, в неизвестность канув,</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реложил на музыку тюльпанов.</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го поэзия красочна, добра, общительна, как сама душа народа, понимающая, что чужого горя не бывает, и исповедующая каждым словом своим эту прекрасную истину. Его книги доступны всем: и малым, и старым- и почитаемы по достоинству. У его книг, как у птиц далёкие пути полёта.</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его поэзии глубокие корни, она выросла на поле неиссякаемой мудрости, на том червонном золоте народного опыта, который так тщательно отбирает и сохраняет Истор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ша республика гордится и преклоняется перед великим гением, мудрым наставником, советчиком, великим человеком- ДАВИДОМ НИКИТИЧЕМ КУГУЛЬТИНОВЫМ!!!</a:t>
            </a:r>
            <a:endParaRPr b="0" lang="en-US" sz="2000" spc="-1" strike="noStrike">
              <a:solidFill>
                <a:srgbClr val="ffffff"/>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971280" y="188640"/>
            <a:ext cx="7848360" cy="3600360"/>
          </a:xfrm>
          <a:prstGeom prst="rect">
            <a:avLst/>
          </a:prstGeom>
          <a:noFill/>
          <a:ln w="0">
            <a:noFill/>
          </a:ln>
        </p:spPr>
        <p:txBody>
          <a:bodyPr lIns="90000" rIns="90000" tIns="46800" bIns="4680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Forte"/>
              </a:rPr>
              <a:t>Никто не помнит</a:t>
            </a:r>
            <a:br>
              <a:rPr sz="3200"/>
            </a:br>
            <a:r>
              <a:rPr b="0" lang="en-US" sz="3200" spc="-1" strike="noStrike">
                <a:solidFill>
                  <a:srgbClr val="ffffcc"/>
                </a:solidFill>
                <a:latin typeface="Forte"/>
              </a:rPr>
              <a:t>Своего рождения.</a:t>
            </a:r>
            <a:br>
              <a:rPr sz="3200"/>
            </a:br>
            <a:r>
              <a:rPr b="0" lang="en-US" sz="3200" spc="-1" strike="noStrike">
                <a:solidFill>
                  <a:srgbClr val="ffffcc"/>
                </a:solidFill>
                <a:latin typeface="Forte"/>
              </a:rPr>
              <a:t>Никто не вспомнит</a:t>
            </a:r>
            <a:br>
              <a:rPr sz="3200"/>
            </a:br>
            <a:r>
              <a:rPr b="0" lang="en-US" sz="3200" spc="-1" strike="noStrike">
                <a:solidFill>
                  <a:srgbClr val="ffffcc"/>
                </a:solidFill>
                <a:latin typeface="Forte"/>
              </a:rPr>
              <a:t>Свой последний час.</a:t>
            </a:r>
            <a:br>
              <a:rPr sz="3200"/>
            </a:br>
            <a:r>
              <a:rPr b="0" lang="en-US" sz="3200" spc="-1" strike="noStrike">
                <a:solidFill>
                  <a:srgbClr val="ffffcc"/>
                </a:solidFill>
                <a:latin typeface="Forte"/>
              </a:rPr>
              <a:t>Два рубежа, две грани, два мгновенья</a:t>
            </a:r>
            <a:br>
              <a:rPr sz="3200"/>
            </a:br>
            <a:r>
              <a:rPr b="0" lang="en-US" sz="3200" spc="-1" strike="noStrike">
                <a:solidFill>
                  <a:srgbClr val="ffffcc"/>
                </a:solidFill>
                <a:latin typeface="Forte"/>
              </a:rPr>
              <a:t>Не ведомы ни одному из нас!</a:t>
            </a:r>
            <a:br>
              <a:rPr sz="3200"/>
            </a:br>
            <a:r>
              <a:rPr b="0" lang="en-US" sz="3200" spc="-1" strike="noStrike">
                <a:solidFill>
                  <a:srgbClr val="ffffcc"/>
                </a:solidFill>
                <a:latin typeface="Forte"/>
              </a:rPr>
              <a:t>(Пер. Ю. Нейман)</a:t>
            </a:r>
            <a:endParaRPr b="0" lang="en-US" sz="3200" spc="-1" strike="noStrike">
              <a:solidFill>
                <a:srgbClr val="ffffcc"/>
              </a:solidFill>
              <a:latin typeface="Arial"/>
            </a:endParaRPr>
          </a:p>
        </p:txBody>
      </p:sp>
      <p:sp>
        <p:nvSpPr>
          <p:cNvPr id="2694" name="PlaceHolder 2"/>
          <p:cNvSpPr>
            <a:spLocks noGrp="1"/>
          </p:cNvSpPr>
          <p:nvPr>
            <p:ph type="subTitle"/>
          </p:nvPr>
        </p:nvSpPr>
        <p:spPr>
          <a:xfrm>
            <a:off x="0" y="3860640"/>
            <a:ext cx="9144000" cy="2997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22 г.- 13 марта в х. Абганер Гаханкин Западного улуса Калмыцкой АО (ныне с. Эсто-Алтай, колхоз им. Карла Маркса Яшалтинского района Республики Калмыкия) в семье школьного учителя родился первый ребёнок и был наречён  именем Дава. Он стал первым внуком Эмке Джамсуевича Кугультинова, зажиточного крестьянина- скотовода, и этот факт сыграл свою роль в судьбе будущего поэта.</a:t>
            </a:r>
            <a:endParaRPr b="0" lang="en-US" sz="2400" spc="-1" strike="noStrike">
              <a:solidFill>
                <a:srgbClr val="eaeaea"/>
              </a:solidFill>
              <a:latin typeface="Verdan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67г.- присуждена Государственная премия РСФСР за сборник «Я твой ровесник»</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76г.- присуждена Государственная премия СССР за сборник «Зов апрел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80г.- избран депутатом Верховного Совета Калмыцкой АССР.</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85г.- вновь избран депутатом Верховного Совета Калмыцкой АССР.</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Декабрь 1988-январь 1992г.- депутат Верховного Совета СССР. Член Президиума ВС СССР.</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90г.- присвоено звание Героя Социалистического Труда.</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90г.- в Смитсоновской астрофизической обсерватории (США) Центр по малым планетам зарегистрировал планету №2296 под именем «Кугультинов»</a:t>
            </a:r>
            <a:endParaRPr b="0" lang="en-US" sz="2800" spc="-1" strike="noStrike">
              <a:solidFill>
                <a:srgbClr val="eaeaea"/>
              </a:solidFill>
              <a:latin typeface="Arial"/>
            </a:endParaRPr>
          </a:p>
        </p:txBody>
      </p:sp>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991г.- избран членом ЦК и Политбюро ЦК Компартии России.</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993г.- председатель Совета Старейшин при Президенте Республики Калмыкия К. Илюмжинове.</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993г.- член комиссии по Государственным премиям при Президенте РФ Б.Ельцине.</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рт 1997г.- Указом Президента РФ Б. Ельцина награждён орденом «За заслуги перед Отечеством» </a:t>
            </a:r>
            <a:r>
              <a:rPr b="0" lang="en-US" sz="2400" spc="-1" strike="noStrike">
                <a:solidFill>
                  <a:srgbClr val="ffffff"/>
                </a:solidFill>
                <a:latin typeface="Arial"/>
              </a:rPr>
              <a:t>III</a:t>
            </a:r>
            <a:r>
              <a:rPr b="0" lang="ru-RU" sz="2400" spc="-1" strike="noStrike">
                <a:solidFill>
                  <a:srgbClr val="ffffff"/>
                </a:solidFill>
                <a:latin typeface="Arial"/>
              </a:rPr>
              <a:t> степени.</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970-80-е гг.- Д. Кугультинов избирался вице-президентом общества «СССР- Таиланд», председателем Комитета солидарности писателей стран Азии и Африки при Союзе писателей РСФСР. В составе правительственных и творческих делегаций был в США, Японии, Китае, Индии, Алжире, Тунисе, Италии, Ливане, Монголии, Болгарии, Польше, Чехословакии и других странах, а в 1990-е годы также в странах СНГ.</a:t>
            </a:r>
            <a:endParaRPr b="0" lang="en-US" sz="2400" spc="-1" strike="noStrike">
              <a:solidFill>
                <a:srgbClr val="ffffff"/>
              </a:solidFill>
              <a:latin typeface="Arial"/>
            </a:endParaRPr>
          </a:p>
        </p:txBody>
      </p:sp>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июня 2006г.</a:t>
            </a:r>
            <a:r>
              <a:rPr b="0" lang="en-US" sz="3200" spc="-1" strike="noStrike">
                <a:solidFill>
                  <a:srgbClr val="ffffff"/>
                </a:solidFill>
                <a:latin typeface="Arial"/>
              </a:rPr>
              <a:t> </a:t>
            </a:r>
            <a:r>
              <a:rPr b="0" lang="en-US" sz="2800" spc="-1" strike="noStrike">
                <a:solidFill>
                  <a:srgbClr val="ffffff"/>
                </a:solidFill>
                <a:latin typeface="Arial"/>
              </a:rPr>
              <a:t>жители республики простились с народным поэтом Калмыкии Давидом Никитичем Кугультиновым. Было ему- 85 лет.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тдать последние почести, проститься с великим поэтом приехали делегации из многих регионов России и зарубежа. Мировая литература понесла огромный невосполнимый урон.</a:t>
            </a:r>
            <a:endParaRPr b="0" lang="en-US" sz="2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тот день, когда я не увижу дн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Я верю, сокрушаясь и стена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матерински примешь ты мен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берёшь мой прах, Калмыкия родна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гда я вновь и вновь перечитываю стихи Д. Кугультинова, когда вспоминаю о его тяжёлой трудной жизни, полностью отданной своему народу, я понимаю, что его творчество нельзя не уважать и не любить потому, что всё, чему посвятил свою жизнь Д. Кугультинов, служит высокой цели- воспитанию гражданственности, ответственности за мир на всей земле и вызывает самый сердечный отклик в сердцах людей.</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 очень люблю поэзию Д.Н. Кугультинова, отношусь к нему с особым глубоким уважением как к человеку очень сильному, мудрому, мужественному, который сумел все трудности своего пути преодолеть с достоинством и остаться человеком, остаться самим собой, чистым и честным перед своей совестью, перед своим народом. Он много сделал за свои годы. Но то беспокойство, без которого не может жить его творческая душа, заставляет верить в то, что слово, подвластное редкостному таланту Д. Кугультинова, ещё долго будет будоражить человеческие души, просветляя и обнадёживая их на горной дороге к человеческому празднику.</a:t>
            </a:r>
            <a:endParaRPr b="0" lang="en-US" sz="2400" spc="-1" strike="noStrike">
              <a:solidFill>
                <a:srgbClr val="ffffff"/>
              </a:solidFill>
              <a:latin typeface="Tahoma"/>
            </a:endParaRPr>
          </a:p>
        </p:txBody>
      </p:sp>
    </p:spTree>
  </p:cSld>
  <p:transition>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3000"/>
          </a:bodyPr>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эт Кугультинов, чьё имя Давид,</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хоже, уж очень красивый на вид.</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екрасен и ликом, красавец душой.</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о очевидно: Он- мастер большой.</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Иным я представить его не могу-</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ед строк красотою теперь я в дому-</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ое звучанье и эхо стиха!</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чёл- и как будто ушёл от греха,</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Души очищенье нашла я в строках,</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торые льются, звенят, как река.</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ни так естественны, словно взросли</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 цветами, травою. Они- из земли</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Вобрали ту силу, что в плен вас берёт, </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ревожит и манит, зовёт вас вперёд-</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 земле, что калмыцкою степью зовут,</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де нежной весною тюльпаны цветут,</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де воздух хрустальный, полынь и чабрец,</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т запахов пряных вы пьяны вконец!</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Я степь не видала, но, строки прочтя,</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же не могу жить, поэта не чтя.</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ак силу таланта вовсю проявив,</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станется в сердце красивый Давид.</a:t>
            </a:r>
            <a:endParaRPr b="0" lang="en-US" sz="1600" spc="-1" strike="noStrike">
              <a:solidFill>
                <a:srgbClr val="ffffff"/>
              </a:solidFill>
              <a:latin typeface="Tahom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льга Смирнова)</a:t>
            </a:r>
            <a:endParaRPr b="0" lang="en-US" sz="16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2717" name="" descr=""/>
          <p:cNvPicPr/>
          <p:nvPr/>
        </p:nvPicPr>
        <p:blipFill>
          <a:blip r:embed="rId2"/>
          <a:stretch/>
        </p:blipFill>
        <p:spPr>
          <a:xfrm>
            <a:off x="4211640" y="1197000"/>
            <a:ext cx="4753080" cy="4608360"/>
          </a:xfrm>
          <a:prstGeom prst="rect">
            <a:avLst/>
          </a:prstGeom>
          <a:ln w="0">
            <a:noFill/>
          </a:ln>
        </p:spPr>
      </p:pic>
    </p:spTree>
  </p:cSld>
  <p:transition>
    <p:wheel spokes="3"/>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Список используемой литературы:</a:t>
            </a:r>
            <a:endParaRPr b="0" lang="en-US" sz="3800" spc="-1" strike="noStrike">
              <a:solidFill>
                <a:srgbClr val="330033"/>
              </a:solidFill>
              <a:latin typeface="Times New Roman"/>
            </a:endParaRPr>
          </a:p>
        </p:txBody>
      </p:sp>
      <p:sp>
        <p:nvSpPr>
          <p:cNvPr id="2719" name="PlaceHolder 2"/>
          <p:cNvSpPr>
            <a:spLocks noGrp="1"/>
          </p:cNvSpPr>
          <p:nvPr>
            <p:ph/>
          </p:nvPr>
        </p:nvSpPr>
        <p:spPr>
          <a:xfrm>
            <a:off x="179280" y="1773360"/>
            <a:ext cx="8785440" cy="4680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вид Кугультин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биография, статьи, выступлени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иста. Калмыцкое книжное издательство 1997 г.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Ю. Розенблю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вид Кугультин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сква, Издательство «Советская Россия» 1969 г.</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рджиева Д.Б., Бадмаева З.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Слово о Д.Кугультинове</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иста. Калмыцкое книжное издательство. 1983 г.</a:t>
            </a:r>
            <a:endParaRPr b="0" lang="en-US" sz="2400" spc="-1" strike="noStrike">
              <a:solidFill>
                <a:srgbClr val="000000"/>
              </a:solidFill>
              <a:latin typeface="Arial"/>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69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31 г.- дед раскулачен, сослан с семьёй на Урал. Отцу Давы-  Никите Эмкеновичу-  вместе с сыном удаётся перебраться в совхоз №107 «Тангчин Зянг» (ныне совхоз «40 лет ВЛКСМ» Приютненского района), где он работает учителем, заведующим школой- семилеткой. В этом совхозе Дава пошёл в школу, здесь и начал писать свои первые стихи, напечатанные в многотиражке совхозного политотдела, о чём впоследствии не без иронии он сказал, что эти стихи давали ему повод воображать себя большим поэтом.</a:t>
            </a:r>
            <a:endParaRPr b="0" lang="en-US" sz="28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96" name="PlaceHolder 1"/>
          <p:cNvSpPr>
            <a:spLocks noGrp="1"/>
          </p:cNvSpPr>
          <p:nvPr>
            <p:ph/>
          </p:nvPr>
        </p:nvSpPr>
        <p:spPr>
          <a:xfrm>
            <a:off x="0" y="0"/>
            <a:ext cx="9144000" cy="6524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37-1938г.- Д. Кугультинов- ученик 10 класса средней школы №1 г. Элисты. Будучи учеником 8 класса средней школы №1, входит в «Тайный союз вечных друзей», в котором состояли ученики Тишман Азыдов, Владимир Текучев, Евгения Косиева, Елена Соколова, Юрий Лабутин, избранный секретарём «Союза». Давида Кугультинова избирают президентом «Тайного союза...» По доносу одного из учеников было заведено дело на его членов и в первую очередь на Давида. Дело было закрыто после вмешательства и объяснений В.П.Козлова, впоследствии секретаря райкома партии.</a:t>
            </a:r>
            <a:endParaRPr b="0" lang="en-US" sz="3200" spc="-1" strike="noStrike">
              <a:solidFill>
                <a:srgbClr val="ffffff"/>
              </a:solidFill>
              <a:latin typeface="Times New Roman"/>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9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39 г.- Д. Кугультинов- студент Калмпединститута в г.Астрахани. Стихи молодого поэта печатаются на страницах</a:t>
            </a:r>
            <a:r>
              <a:rPr b="0" lang="en-US" sz="3200" spc="-1" strike="noStrike">
                <a:solidFill>
                  <a:srgbClr val="ffffff"/>
                </a:solidFill>
                <a:latin typeface="Arial"/>
              </a:rPr>
              <a:t> </a:t>
            </a:r>
            <a:r>
              <a:rPr b="0" lang="en-US" sz="3200" spc="-1" strike="noStrike">
                <a:solidFill>
                  <a:srgbClr val="ffffff"/>
                </a:solidFill>
                <a:latin typeface="Tahoma"/>
              </a:rPr>
              <a:t>республиканских газет. Стихи несли в себе ощущение новой исторической перспективы, открывшейся после Октябрьской революции перед народом, его культурой, передавали светлое радостное восприятие мира новой личностью.</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тихотворение «Джангарчи», написанное накануне 500- летию юбилея калмыцкого героического эпоса в 1939 г., наполнено этими чувствами, мажорными тонами, светлым мировосприятием человека, рождённого в советской стране.</a:t>
            </a:r>
            <a:endParaRPr b="0" lang="en-US" sz="32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Где весёлая жизнь молодая взошла,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 песни звенят без конца, без числ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 властвуют больше невзгоды над нами,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ияют счастливые годы над нами.</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д солнцем советским цветуща, ясна,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бескрайние дали шагает страна...</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полненные взрывной лирической эмоциональностью строки молодого поэта, вместе со всем народом испытывающего духовный подъём, чувство необратимого движения вперёд, уже тогда обратили внимание  на себя таких признанных мастеров слова, как Александр Фадеев, Микола Бажан.</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940 г.- стихи Д. Кугультинова на калмыцком языке изданы отдельной книгой- «Стихи юности». В докладе на </a:t>
            </a:r>
            <a:r>
              <a:rPr b="0" lang="en-US" sz="3200" spc="-1" strike="noStrike">
                <a:solidFill>
                  <a:srgbClr val="ffffff"/>
                </a:solidFill>
                <a:latin typeface="Tahoma"/>
              </a:rPr>
              <a:t>VIII</a:t>
            </a:r>
            <a:r>
              <a:rPr b="0" lang="ru-RU" sz="3200" spc="-1" strike="noStrike">
                <a:solidFill>
                  <a:srgbClr val="ffffff"/>
                </a:solidFill>
                <a:latin typeface="Tahoma"/>
              </a:rPr>
              <a:t> пленуме СП СССР, проходившем в г. Элисте в связи с 500- летием «Джангара», лирическое дарование Д. Кугультинова отмечено как явление нового таланта в калмыцкой литературе. Стихи в переводе на русский язык получили хороший отзыв А. Фадеева и др. Принят в Союз писателей СССР. Со второго курса пединститута Д. Кугультинов призван в Красную Армию, старшиной, а затем младшим лейтенантом служит в составе наших войск в МНР. </a:t>
            </a:r>
            <a:endParaRPr b="0" lang="en-US" sz="32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42 г.- с началом Великой Отечественной Войны подаёт заявление о направлении на фронт и с 1942 г. В составе войск 2-го Украинского фронта принимает участие в боях. Был офицером- политработником, корреспондентом дивизионной газеты 252-й стрелковой Харьковско- Братиславской орденов Красного Знамени и Богдана Хмельницкого дивизии. Принимал участие в форсировании Днепра, а также в Корсунь-  Шевченковской операции. На фронте принят в члены КПСС.</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Май 1944г.- снят с передовой за принадлежность к калмыцкому народу, депортированному в декабре 1943г. в Сибирь.</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Май 1944г.- преподаватель автомобильного техникума в г.Бийске (Алтай) по апрель 1945г.</a:t>
            </a:r>
            <a:endParaRPr b="0" lang="en-US" sz="2800" spc="-1" strike="noStrike">
              <a:solidFill>
                <a:srgbClr val="ffffff"/>
              </a:solidFill>
              <a:latin typeface="Garamond"/>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01" name="PlaceHolder 1"/>
          <p:cNvSpPr>
            <a:spLocks noGrp="1"/>
          </p:cNvSpPr>
          <p:nvPr>
            <p:ph/>
          </p:nvPr>
        </p:nvSpPr>
        <p:spPr>
          <a:xfrm>
            <a:off x="0" y="0"/>
            <a:ext cx="8820000" cy="63086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прель 1945г.-сентябрь 1965г.- арестован, осужден за стихи и выступления в защиту калмыцкого народа по статье 58/10 и препровожден в Норильск где на заводе №25 (никелевом) Норильского горлага (государственного особо режимного лагеря) был пачуковщиком,  медстатистом, прачкой, бригадиром на строительстве Норильского аэропорта, завскладом.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1992г АО «Норильский комбинат» присвоил Д Кугультинову звание «Почетный пачуковщик»,  принял в акционеры выделив льготные и обычные акци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7:12:56Z</dcterms:created>
  <dc:creator>ЛЕНУСЬКА</dc:creator>
  <dc:description/>
  <dc:language>en-US</dc:language>
  <cp:lastModifiedBy>Натаха</cp:lastModifiedBy>
  <dcterms:modified xsi:type="dcterms:W3CDTF">2007-01-23T14:40:42Z</dcterms:modified>
  <cp:revision>8</cp:revision>
  <dc:subject/>
  <dc:title>ДАВИД НИКИТИЧ КУГУЛЬТИНОВ</dc:title>
</cp:coreProperties>
</file>