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18.gif" ContentType="image/gif"/>
  <Override PartName="/ppt/media/image4.png" ContentType="image/png"/>
  <Override PartName="/ppt/media/image20.png" ContentType="image/png"/>
  <Override PartName="/ppt/media/image15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1591C-8B6E-40F1-A2DC-33F37F832E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872C9-193D-490E-8C01-5D1ED1F6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9B676-0DFC-4467-860A-D1934B42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AE97D-3FFE-4959-A478-815AEC352A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8260E-AAB1-44E7-83EC-42C48B9B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DA4BC-274A-4AB8-A1A2-992BA2F8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33F3C-A428-4668-A1D0-ACD6860C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1B3D2-C3D1-4C7A-B652-D5B919128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6EFF8-6075-4987-873A-70E12A998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00B35-6C5D-4AE3-95E0-A412681E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EBE5D-D634-463B-A210-A97F30A3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E86E7-C037-42C1-BFB3-F3789D28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298381-980B-4C1B-9393-E13659E21E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iomas.vsau.ru/uch_proz/ei/txt/up/txt/imgtxt/8.htm1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580536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604a7b"/>
                </a:solidFill>
                <a:latin typeface="Arial"/>
              </a:rPr>
              <a:t>Тема «</a:t>
            </a:r>
            <a:r>
              <a:rPr b="1" lang="en-US" sz="3600" spc="-1" strike="noStrike">
                <a:solidFill>
                  <a:srgbClr val="604a7b"/>
                </a:solidFill>
                <a:latin typeface="Consolas"/>
              </a:rPr>
              <a:t>Электронные таблицы</a:t>
            </a:r>
            <a:r>
              <a:rPr b="1" lang="en-US" sz="3600" spc="-1" strike="noStrike">
                <a:solidFill>
                  <a:srgbClr val="604a7b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300720" y="3500280"/>
            <a:ext cx="2530440" cy="2432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211640" y="393372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619280" y="3573360"/>
            <a:ext cx="2224080" cy="2224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1557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Моделирование ситуаци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«Обои и комната» в среде табличного процессо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00040" y="272880"/>
            <a:ext cx="86439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Какой вид ссылок применяется при $а$2?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612720" y="1646280"/>
            <a:ext cx="791208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) относитель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) смешан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) абсолют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2781360"/>
            <a:ext cx="3357360" cy="7142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4000" y="476280"/>
            <a:ext cx="84992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604a7b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olas"/>
              </a:rPr>
              <a:t>Определите количество ячеек, входящих в диапазон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600" spc="-1" strike="noStrike">
                <a:solidFill>
                  <a:srgbClr val="000000"/>
                </a:solidFill>
                <a:latin typeface="Consolas"/>
              </a:rPr>
              <a:t>2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600" spc="-1" strike="noStrike">
                <a:solidFill>
                  <a:srgbClr val="000000"/>
                </a:solidFill>
                <a:latin typeface="Consolas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olas"/>
              </a:rPr>
              <a:t>1)25    2)15    3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600" spc="-1" strike="noStrike">
                <a:solidFill>
                  <a:srgbClr val="000000"/>
                </a:solidFill>
                <a:latin typeface="Consolas"/>
              </a:rPr>
              <a:t>    4)3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2349360"/>
            <a:ext cx="84992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539" t="12251" r="63081" b="58158"/>
          <a:stretch/>
        </p:blipFill>
        <p:spPr>
          <a:xfrm>
            <a:off x="1979640" y="2133720"/>
            <a:ext cx="5545080" cy="3382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276720" y="2637000"/>
            <a:ext cx="1871640" cy="1296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3276720" y="1341360"/>
            <a:ext cx="863640" cy="358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95280" y="0"/>
            <a:ext cx="8229600" cy="36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В ячейке A1 электронной таблицы записана формула С2+$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3. Какой вид приобретет формула после копирования содержимого ячейки A1 в B1?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642960" y="3071880"/>
            <a:ext cx="8229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2+$D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2+$C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3+$C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2+$C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571680" y="3714840"/>
            <a:ext cx="2500200" cy="5713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95280" y="620640"/>
            <a:ext cx="854388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Как называется средство для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автоматического заполнения ячеек?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2700360"/>
            <a:ext cx="899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) маркер автозаполнения          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) автоматическая нумерация           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) нумерованный спис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643120"/>
            <a:ext cx="6335640" cy="596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9640" y="333360"/>
            <a:ext cx="8185320" cy="23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В каком месте находится значок объединения ячеек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360360" y="2700360"/>
            <a:ext cx="899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) панель Стандартная          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) панель Форматирования          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) строка адреса и форму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3240000"/>
            <a:ext cx="6335640" cy="596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35040" y="179280"/>
            <a:ext cx="8184960" cy="23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Как выглядит значок для объединения двух ячеек?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0" t="0" r="37449" b="76669"/>
          <a:stretch/>
        </p:blipFill>
        <p:spPr>
          <a:xfrm>
            <a:off x="0" y="1628640"/>
            <a:ext cx="9144000" cy="259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flipV="1">
            <a:off x="3924360" y="2707920"/>
            <a:ext cx="1979640" cy="3243240"/>
          </a:xfrm>
          <a:prstGeom prst="line">
            <a:avLst/>
          </a:prstGeom>
          <a:ln w="108000">
            <a:solidFill>
              <a:srgbClr val="dc2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адача «Обои и комната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 магазине продаются обои. Наименования, длина и ширина рулона известны. Необходимо помочь покупателю быстро определить необходимое количество рулонов обоев для оклейки любой комнат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78588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Формализация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124000" y="1844640"/>
            <a:ext cx="5886000" cy="4520880"/>
            <a:chOff x="2124000" y="1844640"/>
            <a:chExt cx="5886000" cy="4520880"/>
          </a:xfrm>
        </p:grpSpPr>
        <p:sp>
          <p:nvSpPr>
            <p:cNvPr id="100" name=""/>
            <p:cNvSpPr/>
            <p:nvPr/>
          </p:nvSpPr>
          <p:spPr>
            <a:xfrm>
              <a:off x="2124000" y="1844640"/>
              <a:ext cx="5884920" cy="45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520" rIns="65520" tIns="65520" bIns="6552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Форма комнаты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Что известно о комнате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Как учитывается неоклеиваемая поверхность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Что известно об обоях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Какая часть рулона уходит на обрезки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Надо ли покупать рулоны «про запас»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Что надо определить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24000" y="1844640"/>
              <a:ext cx="1440" cy="451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08920" y="1844640"/>
              <a:ext cx="1080" cy="451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24000" y="1844640"/>
              <a:ext cx="588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24000" y="6364080"/>
              <a:ext cx="588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14240" y="237960"/>
            <a:ext cx="8229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Информационная модель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>
            <a:lum contrast="48000"/>
          </a:blip>
          <a:srcRect l="0" t="50889" r="0" b="8266"/>
          <a:stretch/>
        </p:blipFill>
        <p:spPr>
          <a:xfrm>
            <a:off x="179280" y="2781360"/>
            <a:ext cx="8964720" cy="3095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>
            <a:lum contrast="66000"/>
          </a:blip>
          <a:srcRect l="0" t="0" r="0" b="84381"/>
          <a:stretch/>
        </p:blipFill>
        <p:spPr>
          <a:xfrm>
            <a:off x="0" y="1197000"/>
            <a:ext cx="8680320" cy="9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>
            <a:lum contrast="42000"/>
          </a:blip>
          <a:srcRect l="0" t="0" r="-851" b="83455"/>
          <a:stretch/>
        </p:blipFill>
        <p:spPr>
          <a:xfrm>
            <a:off x="250920" y="549360"/>
            <a:ext cx="8569080" cy="1079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>
            <a:lum contrast="54000"/>
          </a:blip>
          <a:srcRect l="0" t="91319" r="0" b="0"/>
          <a:stretch/>
        </p:blipFill>
        <p:spPr>
          <a:xfrm>
            <a:off x="324000" y="4076640"/>
            <a:ext cx="8459640" cy="863640"/>
          </a:xfrm>
          <a:prstGeom prst="rect">
            <a:avLst/>
          </a:prstGeom>
          <a:ln w="34920">
            <a:solidFill>
              <a:srgbClr val="4f81bd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4">
            <a:lum contrast="54000"/>
          </a:blip>
          <a:srcRect l="0" t="15631" r="-377" b="49537"/>
          <a:stretch/>
        </p:blipFill>
        <p:spPr>
          <a:xfrm>
            <a:off x="250920" y="1628640"/>
            <a:ext cx="871380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учиться использовать электронные таблицы для автоматизац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расче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63640" y="2708280"/>
            <a:ext cx="4935600" cy="3040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24360" y="3860640"/>
            <a:ext cx="4500360" cy="246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144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1332000" y="765000"/>
            <a:ext cx="7542000" cy="55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При расчете фактической площади рулона надо отбросить обрезк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 =l *d*15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При расчете фактической площади стен учитывать неоклеиваемую площадь окон и дверей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ком = 2*(a+b)*h*10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Количество обоев вычислим по формуле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 = Sком/Sр +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907920"/>
            <a:ext cx="9142200" cy="4592520"/>
            <a:chOff x="0" y="907920"/>
            <a:chExt cx="9142200" cy="4592520"/>
          </a:xfrm>
        </p:grpSpPr>
        <p:sp>
          <p:nvSpPr>
            <p:cNvPr id="115" name=""/>
            <p:cNvSpPr/>
            <p:nvPr/>
          </p:nvSpPr>
          <p:spPr>
            <a:xfrm>
              <a:off x="5803200" y="3991680"/>
              <a:ext cx="3337560" cy="15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=ROUNDUP($B$9/D14)+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47040" y="3991680"/>
              <a:ext cx="2756160" cy="15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=S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стен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/ S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рулонов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3991680"/>
              <a:ext cx="3047040" cy="15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Количество рулонов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803200" y="2449800"/>
              <a:ext cx="3337560" cy="15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B14*C14*(1-$B$12)</a:t>
              </a:r>
              <a:r>
                <a:rPr b="0" lang="ar-SA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‏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Или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B14*C14*0,9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7040" y="2449800"/>
              <a:ext cx="2756160" cy="15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alibri"/>
                </a:rPr>
                <a:t>= ( 1- 15%)*l *d</a:t>
              </a: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0" y="2449800"/>
              <a:ext cx="3047040" cy="15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Площадь рулон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803200" y="907920"/>
              <a:ext cx="3337560" cy="15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Или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47040" y="907920"/>
              <a:ext cx="2756160" cy="15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300" spc="-1" strike="noStrike">
                  <a:solidFill>
                    <a:srgbClr val="000000"/>
                  </a:solidFill>
                  <a:latin typeface="Calibri"/>
                </a:rPr>
                <a:t>= 2*(a+b)*h*(1-10%)</a:t>
              </a:r>
              <a:r>
                <a:rPr b="0" lang="ar-SA" sz="23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‏</a:t>
              </a: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907920"/>
              <a:ext cx="3047040" cy="15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Площадь стен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907920"/>
              <a:ext cx="9141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449800"/>
              <a:ext cx="9141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3991680"/>
              <a:ext cx="9141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5499000"/>
              <a:ext cx="9141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907920"/>
              <a:ext cx="1080" cy="459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7040" y="907920"/>
              <a:ext cx="1080" cy="459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03200" y="907920"/>
              <a:ext cx="1440" cy="459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141120" y="907920"/>
              <a:ext cx="1080" cy="459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1"/>
          <a:srcRect l="22788" t="52882" r="50578" b="43584"/>
          <a:stretch/>
        </p:blipFill>
        <p:spPr>
          <a:xfrm>
            <a:off x="5867280" y="981000"/>
            <a:ext cx="2664000" cy="576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rcRect l="35402" t="52655" r="39666" b="44101"/>
          <a:stretch/>
        </p:blipFill>
        <p:spPr>
          <a:xfrm>
            <a:off x="5796000" y="2014560"/>
            <a:ext cx="2808360" cy="3888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692360" y="0"/>
            <a:ext cx="59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тематическая мод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8858160" cy="635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260360" y="1440000"/>
            <a:ext cx="6840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8360" y="692280"/>
            <a:ext cx="8280360" cy="3557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">
              <a:avLst>
                <a:gd name="adj" fmla="val 21528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Соблюдайте правила техники безопасности,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во время работы заботьтесь о своем здоровье!!!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9640" y="1413000"/>
            <a:ext cx="8280360" cy="3557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">
              <a:avLst>
                <a:gd name="adj" fmla="val 21528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Упражнения для глаз!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Calibri"/>
              </a:rPr>
              <a:t>Поморгаем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932360" y="198900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Calibri"/>
              </a:rPr>
              <a:t>Посчитаем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олько ли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 видит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" descr="vase2.jpg (10273 bytes)"/>
          <p:cNvPicPr/>
          <p:nvPr/>
        </p:nvPicPr>
        <p:blipFill>
          <a:blip r:embed="rId1"/>
          <a:stretch/>
        </p:blipFill>
        <p:spPr>
          <a:xfrm>
            <a:off x="4859280" y="115920"/>
            <a:ext cx="3830760" cy="4869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vase3.jpg (5524 bytes)"/>
          <p:cNvPicPr/>
          <p:nvPr/>
        </p:nvPicPr>
        <p:blipFill>
          <a:blip r:embed="rId2"/>
          <a:stretch/>
        </p:blipFill>
        <p:spPr>
          <a:xfrm>
            <a:off x="826920" y="5013360"/>
            <a:ext cx="75614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Calibri"/>
              </a:rPr>
              <a:t>Подвигаем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771640" y="278136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859280" y="2852640"/>
            <a:ext cx="151452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Calibri"/>
              </a:rPr>
              <a:t>Найдите пять ли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" descr="flowers.jpg (15639 bytes)"/>
          <p:cNvPicPr/>
          <p:nvPr/>
        </p:nvPicPr>
        <p:blipFill>
          <a:blip r:embed="rId1"/>
          <a:stretch/>
        </p:blipFill>
        <p:spPr>
          <a:xfrm>
            <a:off x="4305240" y="0"/>
            <a:ext cx="483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079640" y="720720"/>
            <a:ext cx="6840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" descr="bulb.gif (3679 bytes)"/>
          <p:cNvPicPr/>
          <p:nvPr/>
        </p:nvPicPr>
        <p:blipFill>
          <a:blip r:embed="rId1"/>
          <a:stretch/>
        </p:blipFill>
        <p:spPr>
          <a:xfrm>
            <a:off x="2195640" y="189000"/>
            <a:ext cx="4824360" cy="45241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24000" y="4797360"/>
            <a:ext cx="85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0 секунд смотрите на центр спирали лампочки, а затем переведите взгляд на пустой квадрат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 увидите, что лампочка загори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rcRect l="8131" t="0" r="0" b="0"/>
          <a:stretch/>
        </p:blipFill>
        <p:spPr>
          <a:xfrm>
            <a:off x="5076720" y="404640"/>
            <a:ext cx="4067280" cy="3829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rcRect l="53021" t="0" r="0" b="0"/>
          <a:stretch/>
        </p:blipFill>
        <p:spPr>
          <a:xfrm>
            <a:off x="324000" y="549360"/>
            <a:ext cx="1849320" cy="3527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rcRect l="0" t="0" r="46816" b="0"/>
          <a:stretch/>
        </p:blipFill>
        <p:spPr>
          <a:xfrm>
            <a:off x="2340000" y="620640"/>
            <a:ext cx="2663640" cy="3828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08000" y="3483000"/>
            <a:ext cx="525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6600" spc="-1" strike="noStrike">
                <a:solidFill>
                  <a:srgbClr val="604a7b"/>
                </a:solidFill>
                <a:latin typeface="Arial"/>
              </a:rPr>
              <a:t>Разминк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40000" y="720720"/>
            <a:ext cx="70196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Запишите домашнее задание в тетрадь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>
            <a:off x="1079640" y="1433520"/>
            <a:ext cx="792000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741240" indent="-284040">
              <a:lnSpc>
                <a:spcPct val="98000"/>
              </a:lnSpc>
              <a:spcBef>
                <a:spcPts val="799"/>
              </a:spcBef>
              <a:tabLst>
                <a:tab algn="l" pos="0"/>
                <a:tab algn="l" pos="7412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Составить компьютерную модель «Потолочная плитка». Известны длина и ширина потолка и размер одной плитки - 50см Х 50см. Необходимо помочь покупателю быстро определить необходимое количество упаковок плитки, если известно что в одной упаковке 2 м</a:t>
            </a:r>
            <a:r>
              <a:rPr b="0" lang="en-US" sz="2800" spc="-1" strike="noStrike" baseline="33000">
                <a:solidFill>
                  <a:srgbClr val="000000"/>
                </a:solidFill>
                <a:latin typeface="Calibri"/>
                <a:ea typeface="DejaVu San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. Упаковки продаются только целик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7412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15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1656720"/>
            <a:ext cx="8300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егодня я узнал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ыло интересно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ыло трудно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Я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 понял, что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еперь я могу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Я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 приобрел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Я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 научился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Я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 смог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Я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 попробую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еня удивило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Если что-то не получалось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не захотелось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рок дал мне для жизни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419640" y="0"/>
            <a:ext cx="5803560" cy="4354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179280" y="260280"/>
            <a:ext cx="252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99cc00"/>
                    </a:gs>
                  </a:gsLst>
                  <a:lin ang="8100000"/>
                </a:gradFill>
                <a:latin typeface="Arial"/>
              </a:rPr>
              <a:t>ИТОГ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99cc00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rcRect l="23748" t="30871" r="15877" b="1347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04000" y="1916280"/>
            <a:ext cx="208908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Ярлыки дл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бозначения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лист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765000"/>
            <a:ext cx="180000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трока форму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 адрес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9" name="" descr=""/>
            <p:cNvPicPr/>
            <p:nvPr/>
          </p:nvPicPr>
          <p:blipFill>
            <a:blip r:embed="rId3"/>
            <a:srcRect l="23748" t="30871" r="15877" b="1347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804000" y="1916280"/>
              <a:ext cx="2089080" cy="72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Ярлыки для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бозначения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листов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50920" y="765000"/>
              <a:ext cx="1800000" cy="57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Строка формул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и адрес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68360" y="692280"/>
            <a:ext cx="82296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Электронная таблица – эт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) устройство ввода графической информации в ЭВ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) компьютерный эквивалент обычной таблицы, в клетках которой записаны данные различных тип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) устройство ввода числовой информации  в ЭВ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2637000"/>
            <a:ext cx="8001000" cy="2016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95280" y="403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колько листов по умолчанию содержат электронные таблицы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)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)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)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г)6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1557360"/>
            <a:ext cx="2000160" cy="6429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604a7b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04a7b"/>
                </a:solidFill>
                <a:latin typeface="Arial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еречислите номера ответов, в которых правильно указан адрес ячей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)5В    2)G20   3)DB5   4)AZ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1908000" y="2421000"/>
            <a:ext cx="2808360" cy="720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-1584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Что могут обозначать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1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, R7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) адреса яче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) списки ячее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1484280"/>
            <a:ext cx="3598920" cy="6429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28800" y="357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С чего должна начинаться формула в электронных таблицах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785880" y="2643120"/>
            <a:ext cx="77724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) со знака ":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) со знака "=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714240" y="3286080"/>
            <a:ext cx="3143520" cy="6429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Лебедевы</cp:lastModifiedBy>
  <dcterms:modified xsi:type="dcterms:W3CDTF">2013-01-15T18:18:57Z</dcterms:modified>
  <cp:revision>6</cp:revision>
  <dc:subject/>
  <dc:title>Слайд 1</dc:title>
</cp:coreProperties>
</file>