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77C07-BE35-42DF-8999-6E3FFE282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F5DF7-68C9-4288-A31A-3F542CED2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69E05-9289-4DDA-865A-1EC5AA18B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C1B0D-458E-45D3-9C47-6816E9346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01FE1-E5E1-4FD3-BFE6-32E219E86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F2F1B-759C-4D3A-91A7-0FDF79D48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9A008-3C2F-4CDC-9FA3-EC23E737B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2307E-EF2F-4458-AF75-1417422D3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69624-0B5A-4E4F-8B66-3C4ABE218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B2304-9CFC-4808-9B4F-E2B5BEE42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B33C7-CFCF-4A42-B2C6-7ABA24B2E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51254-47DB-4C46-BAD0-099483D0D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02B70-7440-42E2-94B1-09B46D03F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FE7CD-AFC3-4CA0-AD44-194E83B8D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B2A4C-6053-4829-A214-6E88BB8F7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04F7C-286B-439D-9028-523247A41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768B7-6E7D-435E-BB4C-3EFC43BE0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75EDC-6936-4FCD-A4A5-94B06484A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AF129-8435-4B9E-BA5F-697D5AE87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22B08-6DAB-4CF5-A537-6E86C74F7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438E6-A4CC-4C71-B8F9-C87AB242A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9FDCA-1DC6-42C2-A60F-7AFEA4E28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F9800-10FC-48C4-BFF4-6789BB571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E69F9-D8CD-41BC-9F9F-232D96F70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90811-4F62-47E1-BC5F-C43B0F9D78A3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76B7B-A913-4EF0-A124-8831FC4D65FE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" descr=""/>
          <p:cNvPicPr/>
          <p:nvPr/>
        </p:nvPicPr>
        <p:blipFill>
          <a:blip r:embed="rId1"/>
          <a:stretch/>
        </p:blipFill>
        <p:spPr>
          <a:xfrm rot="1357200">
            <a:off x="5409720" y="685440"/>
            <a:ext cx="3353040" cy="2641680"/>
          </a:xfrm>
          <a:prstGeom prst="rect">
            <a:avLst/>
          </a:prstGeom>
          <a:ln w="0">
            <a:noFill/>
          </a:ln>
        </p:spPr>
      </p:pic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Осень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2"/>
          <a:stretch/>
        </p:blipFill>
        <p:spPr>
          <a:xfrm rot="20764800">
            <a:off x="837720" y="609120"/>
            <a:ext cx="2600280" cy="2438640"/>
          </a:xfrm>
          <a:prstGeom prst="rect">
            <a:avLst/>
          </a:prstGeom>
          <a:ln w="0">
            <a:noFill/>
          </a:ln>
        </p:spPr>
      </p:pic>
      <p:pic>
        <p:nvPicPr>
          <p:cNvPr id="386" name="" descr=""/>
          <p:cNvPicPr/>
          <p:nvPr/>
        </p:nvPicPr>
        <p:blipFill>
          <a:blip r:embed="rId3"/>
          <a:stretch/>
        </p:blipFill>
        <p:spPr>
          <a:xfrm>
            <a:off x="1981080" y="2514600"/>
            <a:ext cx="5019840" cy="401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" descr=""/>
          <p:cNvPicPr/>
          <p:nvPr/>
        </p:nvPicPr>
        <p:blipFill>
          <a:blip r:embed="rId1"/>
          <a:stretch/>
        </p:blipFill>
        <p:spPr>
          <a:xfrm>
            <a:off x="609480" y="457200"/>
            <a:ext cx="784872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" descr=""/>
          <p:cNvPicPr/>
          <p:nvPr/>
        </p:nvPicPr>
        <p:blipFill>
          <a:blip r:embed="rId1"/>
          <a:stretch/>
        </p:blipFill>
        <p:spPr>
          <a:xfrm>
            <a:off x="685800" y="533520"/>
            <a:ext cx="784872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609480" y="457200"/>
            <a:ext cx="792504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" descr=""/>
          <p:cNvPicPr/>
          <p:nvPr/>
        </p:nvPicPr>
        <p:blipFill>
          <a:blip r:embed="rId1"/>
          <a:stretch/>
        </p:blipFill>
        <p:spPr>
          <a:xfrm>
            <a:off x="609480" y="457200"/>
            <a:ext cx="792504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" descr=""/>
          <p:cNvPicPr/>
          <p:nvPr/>
        </p:nvPicPr>
        <p:blipFill>
          <a:blip r:embed="rId1"/>
          <a:stretch/>
        </p:blipFill>
        <p:spPr>
          <a:xfrm>
            <a:off x="609480" y="533520"/>
            <a:ext cx="792504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" descr=""/>
          <p:cNvPicPr/>
          <p:nvPr/>
        </p:nvPicPr>
        <p:blipFill>
          <a:blip r:embed="rId1"/>
          <a:stretch/>
        </p:blipFill>
        <p:spPr>
          <a:xfrm>
            <a:off x="685800" y="457200"/>
            <a:ext cx="792468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685800" y="380880"/>
            <a:ext cx="784872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" descr=""/>
          <p:cNvPicPr/>
          <p:nvPr/>
        </p:nvPicPr>
        <p:blipFill>
          <a:blip r:embed="rId1"/>
          <a:stretch/>
        </p:blipFill>
        <p:spPr>
          <a:xfrm>
            <a:off x="685800" y="457200"/>
            <a:ext cx="7848720" cy="60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" descr=""/>
          <p:cNvPicPr/>
          <p:nvPr/>
        </p:nvPicPr>
        <p:blipFill>
          <a:blip r:embed="rId1"/>
          <a:stretch/>
        </p:blipFill>
        <p:spPr>
          <a:xfrm>
            <a:off x="609480" y="304920"/>
            <a:ext cx="8001000" cy="62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29T13:16:56Z</dcterms:created>
  <dc:creator>admin</dc:creator>
  <dc:description/>
  <dc:language>en-US</dc:language>
  <cp:lastModifiedBy>admin</cp:lastModifiedBy>
  <dcterms:modified xsi:type="dcterms:W3CDTF">2014-10-28T15:37:15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