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7.jpeg" ContentType="image/jpeg"/>
  <Override PartName="/ppt/media/image6.jpeg" ContentType="image/jpeg"/>
  <Override PartName="/ppt/media/image22.jpeg" ContentType="image/jpeg"/>
  <Override PartName="/ppt/media/image1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png" ContentType="image/png"/>
  <Override PartName="/ppt/media/image28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701C-90A7-4E32-A914-7FBCFECDB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E9C3-AC3B-4580-B6DC-58308907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2A2A-F728-408A-AFC1-EBDC6BB63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A5C3-D51C-4DE9-B228-CF3ABA0C2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7724-B214-4504-8F9B-767517096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A77B-014D-4559-8489-036B9E8A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010C-2F03-43C1-9C3C-9B5B8D29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3DE0-9FA8-4AF3-811A-88B5DED4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386C-6429-45E0-91B6-D7DD7980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8517-BAE0-404E-A153-DA4F3F39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520B-A506-439A-B4B6-860A91F1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7CF3-1755-4CA0-B62C-DEF81CCA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9F5E-281D-4DB8-9D8D-3395688C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69BC-954C-4323-92E0-B7C8395D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3D11-11E0-4CA8-8F7A-BF8B3045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ABB6-CB3F-48FE-8954-91FB9319B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73A0-9A9B-4D19-8FAE-458DF2C16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1B22-B0E3-496D-B63D-19BC3AFE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5474-03B7-4F98-B939-A6254B55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20C8-6352-44F5-A348-90486282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0543-7DB4-4B85-8433-9E780F45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92E6-9F4B-425C-84E3-45553D58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1C69-F9C7-4C6B-9518-8A0E6BA0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4D39-2A14-453C-8BCC-5F5661CA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B047-D87F-4E0C-AE68-80E454B181AC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9719-F383-4793-9F3B-D40E0BA3F28F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Тема урока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36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Кукла-закрутк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8" descr=""/>
          <p:cNvPicPr/>
          <p:nvPr/>
        </p:nvPicPr>
        <p:blipFill>
          <a:blip r:embed="rId2"/>
          <a:stretch/>
        </p:blipFill>
        <p:spPr>
          <a:xfrm>
            <a:off x="450720" y="19512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Documents and Settings\YA_MAKAK\Рабочий стол\Новая папка\Безимени-1 копия.jpg"/>
          <p:cNvPicPr/>
          <p:nvPr/>
        </p:nvPicPr>
        <p:blipFill>
          <a:blip r:embed="rId3"/>
          <a:stretch/>
        </p:blipFill>
        <p:spPr>
          <a:xfrm>
            <a:off x="500040" y="3714840"/>
            <a:ext cx="3625920" cy="2857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C:\Documents and Settings\YA_MAKAK\Рабочий стол\Новая папка\DSC00081.jpg"/>
          <p:cNvPicPr/>
          <p:nvPr/>
        </p:nvPicPr>
        <p:blipFill>
          <a:blip r:embed="rId4"/>
          <a:stretch/>
        </p:blipFill>
        <p:spPr>
          <a:xfrm>
            <a:off x="4714920" y="3571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-360" y="1535040"/>
            <a:ext cx="4040280" cy="13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зять квадрат из однотонной ткани положить в центр детали синтепон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101920" y="1535040"/>
            <a:ext cx="404172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Сделав шарик закрутить нитками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Теперь нужно расправить ткань, определить, где будет перед куклы, и убрать лишние складочки назад, округлив голову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8460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1600200"/>
            <a:ext cx="2685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Сделать два шарика из разноцветной ткани - это грудь куклы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риложить грудь к заготовленной детали и скрутить ниткам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10" descr="C:\Documents and Settings\YA_MAKAK\Рабочий стол\Новая папка\DSC00091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C:\Documents and Settings\YA_MAKAK\Рабочий стол\Новая папка\DSC00087.jpg"/>
          <p:cNvPicPr/>
          <p:nvPr/>
        </p:nvPicPr>
        <p:blipFill>
          <a:blip r:embed="rId3"/>
          <a:stretch/>
        </p:blipFill>
        <p:spPr>
          <a:xfrm>
            <a:off x="4500720" y="500040"/>
            <a:ext cx="3714480" cy="2786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C:\Documents and Settings\YA_MAKAK\Рабочий стол\Новая папка\DSC00093.jpg"/>
          <p:cNvPicPr/>
          <p:nvPr/>
        </p:nvPicPr>
        <p:blipFill>
          <a:blip r:embed="rId4"/>
          <a:stretch/>
        </p:blipFill>
        <p:spPr>
          <a:xfrm>
            <a:off x="3071880" y="4000680"/>
            <a:ext cx="33336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785520"/>
            <a:ext cx="403848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Скрутить руки из прямоугольных деталей и прикрутить  к полученным деталям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10" descr="C:\Documents and Settings\YA_MAKAK\Рабочий стол\Новая папка\DSC00082.jpg"/>
          <p:cNvPicPr/>
          <p:nvPr/>
        </p:nvPicPr>
        <p:blipFill>
          <a:blip r:embed="rId2"/>
          <a:stretch/>
        </p:blipFill>
        <p:spPr>
          <a:xfrm>
            <a:off x="4572000" y="2142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C:\Documents and Settings\YA_MAKAK\Рабочий стол\Новая папка\DSC00083.jpg"/>
          <p:cNvPicPr/>
          <p:nvPr/>
        </p:nvPicPr>
        <p:blipFill>
          <a:blip r:embed="rId3"/>
          <a:stretch/>
        </p:blipFill>
        <p:spPr>
          <a:xfrm>
            <a:off x="4500720" y="2928960"/>
            <a:ext cx="4317840" cy="3238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C:\Documents and Settings\YA_MAKAK\Рабочий стол\Новая папка\DSC00096.jpg"/>
          <p:cNvPicPr/>
          <p:nvPr/>
        </p:nvPicPr>
        <p:blipFill>
          <a:blip r:embed="rId4"/>
          <a:stretch/>
        </p:blipFill>
        <p:spPr>
          <a:xfrm>
            <a:off x="357120" y="3429000"/>
            <a:ext cx="43182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3400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На талию прикручивают передник и юбку, направляя детали вверх. Затем опустить их и расправить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2" descr="C:\Documents and Settings\YA_MAKAK\Рабочий стол\Новая папка\DSC00097.jpg"/>
          <p:cNvPicPr/>
          <p:nvPr/>
        </p:nvPicPr>
        <p:blipFill>
          <a:blip r:embed="rId2"/>
          <a:stretch/>
        </p:blipFill>
        <p:spPr>
          <a:xfrm>
            <a:off x="3801960" y="1714680"/>
            <a:ext cx="534204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285840"/>
            <a:ext cx="40384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Теперь самая интересная и творческая работа: мы будем свою куклу наряжать. Здесь можно проявить всю свою фантазию и мастерство. В доме часто остается много лоскутков и обрезков от тканей, которые можно использовать для костюма нашей куклы. Это может быть и широкая юбка-солнце, и цветной сарафан, и душегрея, и понева. На голову можно повязать косынку или сделать головной убор, передник можно украсить, используя  тесьму, атласную ленту, кружево бисер, бусинки)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2" descr="C:\Documents and Settings\YA_MAKAK\Рабочий стол\Новая папка\Безимени-1.jpg"/>
          <p:cNvPicPr/>
          <p:nvPr/>
        </p:nvPicPr>
        <p:blipFill>
          <a:blip r:embed="rId2"/>
          <a:stretch/>
        </p:blipFill>
        <p:spPr>
          <a:xfrm>
            <a:off x="4429080" y="1285920"/>
            <a:ext cx="4516560" cy="47289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2"/>
          <a:stretch/>
        </p:blipFill>
        <p:spPr>
          <a:xfrm>
            <a:off x="268200" y="-79200"/>
            <a:ext cx="5851440" cy="1511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Documents and Settings\YA_MAKAK\Мои документы\С флешки\русский костюм\Cost_210.jpg"/>
          <p:cNvPicPr/>
          <p:nvPr/>
        </p:nvPicPr>
        <p:blipFill>
          <a:blip r:embed="rId3"/>
          <a:stretch/>
        </p:blipFill>
        <p:spPr>
          <a:xfrm>
            <a:off x="285840" y="1143000"/>
            <a:ext cx="2428920" cy="3038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14440" indent="-38628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ddc3"/>
                </a:solidFill>
                <a:latin typeface="Times New Roman"/>
              </a:rPr>
              <a:t>И на севере, и на юге рубаху шили из домотканого холста, щедро украшая ее вышивкой, узорным ткачеством, композициями из тесьмы, галуна, блесток.</a:t>
            </a:r>
            <a:br>
              <a:rPr sz="1800"/>
            </a:br>
            <a:r>
              <a:rPr b="0" lang="en-US" sz="1800" spc="-1" strike="noStrike">
                <a:solidFill>
                  <a:srgbClr val="ebddc3"/>
                </a:solidFill>
                <a:latin typeface="Times New Roman"/>
              </a:rPr>
              <a:t>Сочетание белого и красного цвета - отличительная черта как вышивки, так и русской народной одежды в целом.</a:t>
            </a:r>
            <a:br>
              <a:rPr sz="2800"/>
            </a:br>
            <a:r>
              <a:rPr b="0" lang="en-US" sz="2800" spc="-1" strike="noStrike">
                <a:solidFill>
                  <a:srgbClr val="ebddc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3" descr="C:\Documents and Settings\YA_MAKAK\Мои документы\С флешки\русский костюм\Cost_52.jpg"/>
          <p:cNvPicPr/>
          <p:nvPr/>
        </p:nvPicPr>
        <p:blipFill>
          <a:blip r:embed="rId4"/>
          <a:stretch/>
        </p:blipFill>
        <p:spPr>
          <a:xfrm>
            <a:off x="2786040" y="2000160"/>
            <a:ext cx="2228760" cy="3318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Documents and Settings\YA_MAKAK\Мои документы\С флешки\русский костюм\Cost_75.jpg"/>
          <p:cNvPicPr/>
          <p:nvPr/>
        </p:nvPicPr>
        <p:blipFill>
          <a:blip r:embed="rId5"/>
          <a:stretch/>
        </p:blipFill>
        <p:spPr>
          <a:xfrm>
            <a:off x="1143000" y="3929040"/>
            <a:ext cx="1824120" cy="2664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6"/>
          <a:stretch/>
        </p:blipFill>
        <p:spPr>
          <a:xfrm>
            <a:off x="5572080" y="428760"/>
            <a:ext cx="28576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2" descr=""/>
          <p:cNvPicPr/>
          <p:nvPr/>
        </p:nvPicPr>
        <p:blipFill>
          <a:blip r:embed="rId2"/>
          <a:stretch/>
        </p:blipFill>
        <p:spPr>
          <a:xfrm>
            <a:off x="291960" y="268200"/>
            <a:ext cx="8401320" cy="1158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"/>
          <p:cNvPicPr/>
          <p:nvPr/>
        </p:nvPicPr>
        <p:blipFill>
          <a:blip r:embed="rId3"/>
          <a:stretch/>
        </p:blipFill>
        <p:spPr>
          <a:xfrm>
            <a:off x="4000680" y="928800"/>
            <a:ext cx="2517480" cy="3635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4"/>
          <a:stretch/>
        </p:blipFill>
        <p:spPr>
          <a:xfrm>
            <a:off x="285840" y="1285920"/>
            <a:ext cx="2943000" cy="2914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"/>
          <p:cNvPicPr/>
          <p:nvPr/>
        </p:nvPicPr>
        <p:blipFill>
          <a:blip r:embed="rId5"/>
          <a:stretch/>
        </p:blipFill>
        <p:spPr>
          <a:xfrm>
            <a:off x="6572160" y="1285920"/>
            <a:ext cx="2214720" cy="5362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6"/>
          <a:stretch/>
        </p:blipFill>
        <p:spPr>
          <a:xfrm>
            <a:off x="285840" y="4714920"/>
            <a:ext cx="49878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acee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14200" y="285480"/>
            <a:ext cx="221472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вычное представление о русском женском костюме обычно связано с рубахой, сарафаном, поясом, иногда передником. На севере часто сарафаны дополняли нагрудной распашной одеждой епанечкой, а в холодную погоду на сарафан надевали душегрею с длинными рукава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10" descr=""/>
          <p:cNvPicPr/>
          <p:nvPr/>
        </p:nvPicPr>
        <p:blipFill>
          <a:blip r:embed="rId2"/>
          <a:stretch/>
        </p:blipFill>
        <p:spPr>
          <a:xfrm>
            <a:off x="3214800" y="214200"/>
            <a:ext cx="3276360" cy="3643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3"/>
          <a:stretch/>
        </p:blipFill>
        <p:spPr>
          <a:xfrm>
            <a:off x="3500280" y="3571920"/>
            <a:ext cx="3140280" cy="3222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"/>
          <p:cNvPicPr/>
          <p:nvPr/>
        </p:nvPicPr>
        <p:blipFill>
          <a:blip r:embed="rId4"/>
          <a:stretch/>
        </p:blipFill>
        <p:spPr>
          <a:xfrm>
            <a:off x="6643800" y="285840"/>
            <a:ext cx="223992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00000"/>
                </a:solidFill>
                <a:latin typeface="Arial"/>
              </a:rPr>
              <a:t>Красивая кукла, с  любовью сделанная своими руками, была гордостью девочки и ее верной подругой.</a:t>
            </a:r>
            <a:br>
              <a:rPr sz="2100"/>
            </a:b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9" descr="C:\Documents and Settings\YA_MAKAK\Мои документы\С флешки\IMG_0568.JPG"/>
          <p:cNvPicPr/>
          <p:nvPr/>
        </p:nvPicPr>
        <p:blipFill>
          <a:blip r:embed="rId2"/>
          <a:stretch/>
        </p:blipFill>
        <p:spPr>
          <a:xfrm>
            <a:off x="1500120" y="1357200"/>
            <a:ext cx="70009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2" descr="C:\Documents and Settings\YA_MAKAK\Мои документы\С флешки\IMG_0561.JPG"/>
          <p:cNvPicPr/>
          <p:nvPr/>
        </p:nvPicPr>
        <p:blipFill>
          <a:blip r:embed="rId2"/>
          <a:stretch/>
        </p:blipFill>
        <p:spPr>
          <a:xfrm>
            <a:off x="1357200" y="642960"/>
            <a:ext cx="7215480" cy="56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3" descr="C:\Documents and Settings\YA_MAKAK\Мои документы\С флешки\IMG_0562.JPG"/>
          <p:cNvPicPr/>
          <p:nvPr/>
        </p:nvPicPr>
        <p:blipFill>
          <a:blip r:embed="rId2"/>
          <a:stretch/>
        </p:blipFill>
        <p:spPr>
          <a:xfrm>
            <a:off x="1143000" y="571680"/>
            <a:ext cx="735804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10" descr="C:\Documents and Settings\YA_MAKAK\Мои документы\С флешки\IMG_0571.JPG"/>
          <p:cNvPicPr/>
          <p:nvPr/>
        </p:nvPicPr>
        <p:blipFill>
          <a:blip r:embed="rId2"/>
          <a:stretch/>
        </p:blipFill>
        <p:spPr>
          <a:xfrm>
            <a:off x="952560" y="500040"/>
            <a:ext cx="76914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18" descr="C:\Documents and Settings\YA_MAKAK\Мои документы\С флешки\IMG_0563.JPG"/>
          <p:cNvPicPr/>
          <p:nvPr/>
        </p:nvPicPr>
        <p:blipFill>
          <a:blip r:embed="rId2"/>
          <a:stretch/>
        </p:blipFill>
        <p:spPr>
          <a:xfrm>
            <a:off x="857160" y="500040"/>
            <a:ext cx="771552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8:57:41Z</dcterms:created>
  <dc:creator>User</dc:creator>
  <dc:description/>
  <dc:language>en-US</dc:language>
  <cp:lastModifiedBy>ас</cp:lastModifiedBy>
  <dcterms:modified xsi:type="dcterms:W3CDTF">2011-04-11T17:25:14Z</dcterms:modified>
  <cp:revision>34</cp:revision>
  <dc:subject/>
  <dc:title>Слайд 1</dc:title>
</cp:coreProperties>
</file>