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94C-C91A-477D-B69B-E5FC5798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E499-3A59-420F-8A2C-AC1EFEF4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A4C-5289-4FC6-BF0C-AB54CC9D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130-9711-4927-811C-D1EF2FF7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E26F-B783-4DCF-9DC7-F3D6C4A1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0756-4DBC-4013-96C0-F23F408D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CDD4-1045-4124-B6AD-E4B0C60C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526C-867C-4DC8-8B26-D4C57C71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ACD0-0460-47DB-8F50-9ABFDCE6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D8EC-91E7-4451-9E6E-41F54E0E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8691-F644-4EF2-A0A4-FA62C7A1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F24-BCB1-435B-A18B-279FA25D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3841-F00F-4EB0-A8D0-62645A8C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418E-AF8F-480C-90C8-2C013F3F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638E-7C50-4A43-8A4F-46F0EBA4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B644-D231-428E-AB76-CAEC6241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222B-2E1B-4367-8AFB-46D5F94C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AD1E-99FC-4C4A-95E4-72AC9C51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6C3B-9DA8-4251-9905-E196A924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B82-381B-475F-998E-BB0B2F28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DBF-4471-4AF8-84A6-11CA853B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D8EE-F1A3-463A-98DF-F98A4FB2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8DD5-BE44-40AD-82D0-2642D19D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92AC-53D4-4120-B4F5-EF93AFF7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74C6-BB09-4930-BD9D-7552A30634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9FEE-14E2-4081-88F4-9A85B5F9B6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11"/>
          <p:cNvSpPr txBox="1"/>
          <p:nvPr/>
        </p:nvSpPr>
        <p:spPr>
          <a:xfrm>
            <a:off x="684360" y="1052640"/>
            <a:ext cx="540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лассный час</a:t>
            </a:r>
            <a:endParaRPr b="1" lang="en-US" sz="32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WordArt 12"/>
          <p:cNvSpPr txBox="1"/>
          <p:nvPr/>
        </p:nvSpPr>
        <p:spPr>
          <a:xfrm>
            <a:off x="684360" y="3500280"/>
            <a:ext cx="6264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еши сегодня лучше стать!</a:t>
            </a:r>
            <a:endParaRPr b="1" lang="en-US" sz="2800" spc="1" strike="noStrike">
              <a:ln w="1260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15"/>
          <p:cNvSpPr/>
          <p:nvPr/>
        </p:nvSpPr>
        <p:spPr>
          <a:xfrm>
            <a:off x="250920" y="2133720"/>
            <a:ext cx="7561080" cy="40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18" y="612"/>
                </a:moveTo>
                <a:lnTo>
                  <a:pt x="21877" y="612"/>
                </a:lnTo>
                <a:lnTo>
                  <a:pt x="21877" y="-1913"/>
                </a:lnTo>
                <a:lnTo>
                  <a:pt x="9537" y="-4448"/>
                </a:lnTo>
              </a:path>
              <a:path w="21600" h="21600">
                <a:moveTo>
                  <a:pt x="21818" y="0"/>
                </a:moveTo>
                <a:lnTo>
                  <a:pt x="21818" y="2160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7"/>
          <p:cNvSpPr txBox="1"/>
          <p:nvPr/>
        </p:nvSpPr>
        <p:spPr>
          <a:xfrm>
            <a:off x="324000" y="333360"/>
            <a:ext cx="7416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итать себя - это </a:t>
            </a:r>
            <a:endParaRPr b="0" i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просто, но возможно!</a:t>
            </a:r>
            <a:endParaRPr b="0" i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755640" y="1700280"/>
            <a:ext cx="69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971640" y="2349360"/>
            <a:ext cx="6335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33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Желать,  уметь трудить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Изучат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Ставить це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Награждат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Верить в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Line 5"/>
          <p:cNvSpPr/>
          <p:nvPr/>
        </p:nvSpPr>
        <p:spPr>
          <a:xfrm>
            <a:off x="179280" y="3429000"/>
            <a:ext cx="8856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971640" y="3357720"/>
            <a:ext cx="0" cy="1425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2771640" y="3357720"/>
            <a:ext cx="0" cy="1425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6372360" y="3357720"/>
            <a:ext cx="0" cy="1425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8172360" y="3357720"/>
            <a:ext cx="0" cy="1425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4572000" y="3357720"/>
            <a:ext cx="0" cy="1425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19"/>
          <p:cNvSpPr txBox="1"/>
          <p:nvPr/>
        </p:nvSpPr>
        <p:spPr>
          <a:xfrm>
            <a:off x="1258920" y="907920"/>
            <a:ext cx="5689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системе Норбекова</a:t>
            </a:r>
            <a:endParaRPr b="0" i="1" lang="en-US" sz="24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6" name="WordArt 21"/>
          <p:cNvSpPr txBox="1"/>
          <p:nvPr/>
        </p:nvSpPr>
        <p:spPr>
          <a:xfrm>
            <a:off x="1692360" y="260280"/>
            <a:ext cx="47512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ула успеха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7" name="Text Box 22"/>
          <p:cNvSpPr/>
          <p:nvPr/>
        </p:nvSpPr>
        <p:spPr>
          <a:xfrm>
            <a:off x="395280" y="2852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с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3"/>
          <p:cNvSpPr/>
          <p:nvPr/>
        </p:nvSpPr>
        <p:spPr>
          <a:xfrm>
            <a:off x="2843280" y="285264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4"/>
          <p:cNvSpPr/>
          <p:nvPr/>
        </p:nvSpPr>
        <p:spPr>
          <a:xfrm>
            <a:off x="2050920" y="2852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Улы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5"/>
          <p:cNvSpPr/>
          <p:nvPr/>
        </p:nvSpPr>
        <p:spPr>
          <a:xfrm>
            <a:off x="3492360" y="2852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6"/>
          <p:cNvSpPr/>
          <p:nvPr/>
        </p:nvSpPr>
        <p:spPr>
          <a:xfrm>
            <a:off x="5435640" y="2852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Увер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8"/>
          <p:cNvSpPr/>
          <p:nvPr/>
        </p:nvSpPr>
        <p:spPr>
          <a:xfrm>
            <a:off x="7632720" y="2852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9"/>
          <p:cNvSpPr/>
          <p:nvPr/>
        </p:nvSpPr>
        <p:spPr>
          <a:xfrm>
            <a:off x="7094520" y="4869000"/>
            <a:ext cx="120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00"/>
                </a:solidFill>
                <a:latin typeface="Wingdings"/>
                <a:ea typeface="Wingdings"/>
              </a:rPr>
              <a:t>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0"/>
          <p:cNvSpPr/>
          <p:nvPr/>
        </p:nvSpPr>
        <p:spPr>
          <a:xfrm>
            <a:off x="1265400" y="5013360"/>
            <a:ext cx="951840" cy="119124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1"/>
          <p:cNvSpPr/>
          <p:nvPr/>
        </p:nvSpPr>
        <p:spPr>
          <a:xfrm>
            <a:off x="4069440" y="4941720"/>
            <a:ext cx="112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6600ff"/>
                </a:solidFill>
                <a:latin typeface="Wingdings"/>
                <a:ea typeface="Wingdings"/>
              </a:rPr>
              <a:t>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2"/>
          <p:cNvSpPr/>
          <p:nvPr/>
        </p:nvSpPr>
        <p:spPr>
          <a:xfrm>
            <a:off x="2340000" y="5661000"/>
            <a:ext cx="15112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3"/>
          <p:cNvSpPr/>
          <p:nvPr/>
        </p:nvSpPr>
        <p:spPr>
          <a:xfrm>
            <a:off x="5364000" y="5661000"/>
            <a:ext cx="151164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5"/>
          <p:cNvSpPr/>
          <p:nvPr/>
        </p:nvSpPr>
        <p:spPr>
          <a:xfrm>
            <a:off x="611280" y="1474920"/>
            <a:ext cx="64087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66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Я увидел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66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66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Я услышал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66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66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Я почувствовал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66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66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Я понял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66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WordArt 13"/>
          <p:cNvSpPr txBox="1"/>
          <p:nvPr/>
        </p:nvSpPr>
        <p:spPr>
          <a:xfrm>
            <a:off x="611280" y="333360"/>
            <a:ext cx="698508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флексия - осмысление</a:t>
            </a:r>
            <a:endParaRPr b="1" lang="en-US" sz="3200" spc="1" strike="noStrike">
              <a:ln w="12600">
                <a:solidFill>
                  <a:srgbClr val="990033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15"/>
          <p:cNvSpPr/>
          <p:nvPr/>
        </p:nvSpPr>
        <p:spPr>
          <a:xfrm>
            <a:off x="468360" y="1658880"/>
            <a:ext cx="489564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36" y="4000"/>
                </a:moveTo>
                <a:lnTo>
                  <a:pt x="22027" y="4000"/>
                </a:lnTo>
                <a:lnTo>
                  <a:pt x="22027" y="-12544"/>
                </a:lnTo>
                <a:lnTo>
                  <a:pt x="6353" y="-29138"/>
                </a:lnTo>
              </a:path>
              <a:path w="21600" h="21600">
                <a:moveTo>
                  <a:pt x="21936" y="0"/>
                </a:moveTo>
                <a:lnTo>
                  <a:pt x="21936" y="2160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WordArt 5"/>
          <p:cNvSpPr txBox="1"/>
          <p:nvPr/>
        </p:nvSpPr>
        <p:spPr>
          <a:xfrm>
            <a:off x="250920" y="189000"/>
            <a:ext cx="3924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cc"/>
                  </a:solidFill>
                  <a:miter/>
                </a:ln>
                <a:solidFill>
                  <a:srgbClr val="a50021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бастьян Брент</a:t>
            </a:r>
            <a:endParaRPr b="1" lang="en-US" sz="1800" spc="1" strike="noStrike">
              <a:ln w="12600">
                <a:solidFill>
                  <a:srgbClr val="0033cc"/>
                </a:solidFill>
                <a:miter/>
              </a:ln>
              <a:solidFill>
                <a:srgbClr val="a50021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468360" y="177336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Спеши сегодня лучше ста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2"/>
          <p:cNvSpPr/>
          <p:nvPr/>
        </p:nvSpPr>
        <p:spPr>
          <a:xfrm>
            <a:off x="3276720" y="2687760"/>
            <a:ext cx="4824360" cy="4033800"/>
          </a:xfrm>
          <a:prstGeom prst="borderCallout1">
            <a:avLst>
              <a:gd name="adj1" fmla="val 18750"/>
              <a:gd name="adj2" fmla="val -8333"/>
              <a:gd name="adj3" fmla="val -1888"/>
              <a:gd name="adj4" fmla="val -50277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3492360" y="2852640"/>
            <a:ext cx="43927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Кто воздвигнет тебя к небеса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- Только с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Кто низвергнет тебя с высо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- Только 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Где куются ключи к твоей горькой судьб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- Лишь в т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Чем расплатишься ты за проигранный б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- Лишь соб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468360" y="260280"/>
            <a:ext cx="7416720" cy="137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Arial"/>
              </a:rPr>
              <a:t>Как стать умным, сильным, смелым, привлекательным, чтобы вас любили, уважали, признав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7"/>
          <p:cNvSpPr txBox="1"/>
          <p:nvPr/>
        </p:nvSpPr>
        <p:spPr>
          <a:xfrm>
            <a:off x="571680" y="1714680"/>
            <a:ext cx="748980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339933"/>
                </a:solidFill>
                <a:latin typeface="Arial"/>
              </a:rPr>
              <a:t>"Познай себя"</a:t>
            </a:r>
            <a:endParaRPr b="0" i="1" lang="en-US" sz="1800" spc="1" strike="noStrike">
              <a:ln w="9360">
                <a:solidFill>
                  <a:srgbClr val="339933"/>
                </a:solidFill>
                <a:miter/>
              </a:ln>
              <a:solidFill>
                <a:srgbClr val="339933"/>
              </a:solidFill>
              <a:latin typeface="Arial"/>
              <a:ea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3059280" y="4869000"/>
            <a:ext cx="576072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Надо знать себя, чтобы потом что-то в себе исправлять, совершенствовать,  разв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50"/>
          <p:cNvSpPr/>
          <p:nvPr/>
        </p:nvSpPr>
        <p:spPr>
          <a:xfrm>
            <a:off x="395280" y="2133720"/>
            <a:ext cx="7394760" cy="22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23" y="1105"/>
                </a:moveTo>
                <a:lnTo>
                  <a:pt x="22931" y="1105"/>
                </a:lnTo>
                <a:lnTo>
                  <a:pt x="22931" y="13786"/>
                </a:lnTo>
                <a:lnTo>
                  <a:pt x="10480" y="26513"/>
                </a:lnTo>
              </a:path>
              <a:path w="21600" h="21600">
                <a:moveTo>
                  <a:pt x="21823" y="0"/>
                </a:moveTo>
                <a:lnTo>
                  <a:pt x="21823" y="2160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1258920" y="1484280"/>
            <a:ext cx="3457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4"/>
          <p:cNvSpPr/>
          <p:nvPr/>
        </p:nvSpPr>
        <p:spPr>
          <a:xfrm>
            <a:off x="826920" y="2349360"/>
            <a:ext cx="66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емперамент - качество личности, определяющее активность и эмоциональность стиля поведени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51"/>
          <p:cNvSpPr txBox="1"/>
          <p:nvPr/>
        </p:nvSpPr>
        <p:spPr>
          <a:xfrm>
            <a:off x="324000" y="549360"/>
            <a:ext cx="748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арактер - стержень личности, </a:t>
            </a:r>
            <a:endParaRPr b="1" lang="en-US" sz="32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рабатывается и изменяется в течение жизни.</a:t>
            </a:r>
            <a:endParaRPr b="1" lang="en-US" sz="32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Text Box 58"/>
          <p:cNvSpPr/>
          <p:nvPr/>
        </p:nvSpPr>
        <p:spPr>
          <a:xfrm>
            <a:off x="179280" y="24922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61"/>
          <p:cNvGrpSpPr/>
          <p:nvPr/>
        </p:nvGrpSpPr>
        <p:grpSpPr>
          <a:xfrm>
            <a:off x="894960" y="4549320"/>
            <a:ext cx="1339920" cy="2008800"/>
            <a:chOff x="894960" y="4549320"/>
            <a:chExt cx="1339920" cy="2008800"/>
          </a:xfrm>
        </p:grpSpPr>
        <p:sp>
          <p:nvSpPr>
            <p:cNvPr id="160" name="AutoShape 62"/>
            <p:cNvSpPr/>
            <p:nvPr/>
          </p:nvSpPr>
          <p:spPr>
            <a:xfrm rot="18900000">
              <a:off x="1139760" y="4730400"/>
              <a:ext cx="323640" cy="32076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63"/>
            <p:cNvSpPr/>
            <p:nvPr/>
          </p:nvSpPr>
          <p:spPr>
            <a:xfrm rot="8100000">
              <a:off x="1063080" y="4652280"/>
              <a:ext cx="495360" cy="49212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64"/>
            <p:cNvSpPr/>
            <p:nvPr/>
          </p:nvSpPr>
          <p:spPr>
            <a:xfrm>
              <a:off x="1322280" y="5892840"/>
              <a:ext cx="457200" cy="457200"/>
            </a:xfrm>
            <a:prstGeom prst="diamond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65"/>
            <p:cNvSpPr/>
            <p:nvPr/>
          </p:nvSpPr>
          <p:spPr>
            <a:xfrm flipH="1" rot="16200000">
              <a:off x="1186920" y="5519520"/>
              <a:ext cx="714600" cy="72720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66"/>
            <p:cNvSpPr/>
            <p:nvPr/>
          </p:nvSpPr>
          <p:spPr>
            <a:xfrm flipH="1">
              <a:off x="1360440" y="6237360"/>
              <a:ext cx="312480" cy="31752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67"/>
            <p:cNvSpPr/>
            <p:nvPr/>
          </p:nvSpPr>
          <p:spPr>
            <a:xfrm rot="8100000">
              <a:off x="1042200" y="5175360"/>
              <a:ext cx="716040" cy="71424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8"/>
            <p:cNvSpPr/>
            <p:nvPr/>
          </p:nvSpPr>
          <p:spPr>
            <a:xfrm>
              <a:off x="1915920" y="5925960"/>
              <a:ext cx="318960" cy="63216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01" h="398">
                  <a:moveTo>
                    <a:pt x="0" y="0"/>
                  </a:moveTo>
                  <a:lnTo>
                    <a:pt x="0" y="199"/>
                  </a:lnTo>
                  <a:lnTo>
                    <a:pt x="200" y="397"/>
                  </a:lnTo>
                  <a:lnTo>
                    <a:pt x="200" y="196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w="1260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69"/>
          <p:cNvGrpSpPr/>
          <p:nvPr/>
        </p:nvGrpSpPr>
        <p:grpSpPr>
          <a:xfrm>
            <a:off x="2987640" y="4508640"/>
            <a:ext cx="836280" cy="2146320"/>
            <a:chOff x="2987640" y="4508640"/>
            <a:chExt cx="836280" cy="2146320"/>
          </a:xfrm>
        </p:grpSpPr>
        <p:sp>
          <p:nvSpPr>
            <p:cNvPr id="168" name="Rectangle 70"/>
            <p:cNvSpPr/>
            <p:nvPr/>
          </p:nvSpPr>
          <p:spPr>
            <a:xfrm>
              <a:off x="3411720" y="6000840"/>
              <a:ext cx="322200" cy="3254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71"/>
            <p:cNvSpPr/>
            <p:nvPr/>
          </p:nvSpPr>
          <p:spPr>
            <a:xfrm rot="10800000">
              <a:off x="3173400" y="4508640"/>
              <a:ext cx="642960" cy="64296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72"/>
            <p:cNvSpPr/>
            <p:nvPr/>
          </p:nvSpPr>
          <p:spPr>
            <a:xfrm rot="10800000">
              <a:off x="3377880" y="5662440"/>
              <a:ext cx="446040" cy="44604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73"/>
            <p:cNvSpPr/>
            <p:nvPr/>
          </p:nvSpPr>
          <p:spPr>
            <a:xfrm rot="16200000">
              <a:off x="2989440" y="5000400"/>
              <a:ext cx="641160" cy="64476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74"/>
            <p:cNvSpPr/>
            <p:nvPr/>
          </p:nvSpPr>
          <p:spPr>
            <a:xfrm>
              <a:off x="3319560" y="4653000"/>
              <a:ext cx="317520" cy="31608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75"/>
            <p:cNvSpPr/>
            <p:nvPr/>
          </p:nvSpPr>
          <p:spPr>
            <a:xfrm flipH="1">
              <a:off x="3361680" y="6343920"/>
              <a:ext cx="314280" cy="31104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6"/>
            <p:cNvSpPr/>
            <p:nvPr/>
          </p:nvSpPr>
          <p:spPr>
            <a:xfrm>
              <a:off x="3059280" y="5653440"/>
              <a:ext cx="639720" cy="33624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403" h="212">
                  <a:moveTo>
                    <a:pt x="0" y="0"/>
                  </a:moveTo>
                  <a:lnTo>
                    <a:pt x="211" y="211"/>
                  </a:lnTo>
                  <a:lnTo>
                    <a:pt x="402" y="211"/>
                  </a:lnTo>
                  <a:lnTo>
                    <a:pt x="399" y="208"/>
                  </a:lnTo>
                  <a:lnTo>
                    <a:pt x="192" y="1"/>
                  </a:lnTo>
                  <a:lnTo>
                    <a:pt x="186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w="1260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77"/>
          <p:cNvGrpSpPr/>
          <p:nvPr/>
        </p:nvGrpSpPr>
        <p:grpSpPr>
          <a:xfrm>
            <a:off x="4643280" y="5084640"/>
            <a:ext cx="1411200" cy="2067840"/>
            <a:chOff x="4643280" y="5084640"/>
            <a:chExt cx="1411200" cy="2067840"/>
          </a:xfrm>
        </p:grpSpPr>
        <p:sp>
          <p:nvSpPr>
            <p:cNvPr id="176" name="AutoShape 78"/>
            <p:cNvSpPr/>
            <p:nvPr/>
          </p:nvSpPr>
          <p:spPr>
            <a:xfrm flipH="1" rot="2700000">
              <a:off x="5428080" y="6024600"/>
              <a:ext cx="506160" cy="51264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79"/>
            <p:cNvSpPr/>
            <p:nvPr/>
          </p:nvSpPr>
          <p:spPr>
            <a:xfrm flipH="1" rot="13500000">
              <a:off x="4837680" y="6289920"/>
              <a:ext cx="715680" cy="71388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80"/>
            <p:cNvSpPr/>
            <p:nvPr/>
          </p:nvSpPr>
          <p:spPr>
            <a:xfrm flipH="1" rot="16200000">
              <a:off x="5214960" y="5086080"/>
              <a:ext cx="324000" cy="32076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81"/>
            <p:cNvSpPr/>
            <p:nvPr/>
          </p:nvSpPr>
          <p:spPr>
            <a:xfrm flipH="1" rot="5400000">
              <a:off x="5333760" y="5549760"/>
              <a:ext cx="714240" cy="72720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82"/>
            <p:cNvSpPr/>
            <p:nvPr/>
          </p:nvSpPr>
          <p:spPr>
            <a:xfrm flipH="1" rot="8100000">
              <a:off x="5175360" y="5637960"/>
              <a:ext cx="319320" cy="31284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83"/>
            <p:cNvSpPr/>
            <p:nvPr/>
          </p:nvSpPr>
          <p:spPr>
            <a:xfrm>
              <a:off x="4643280" y="5792760"/>
              <a:ext cx="687240" cy="234720"/>
            </a:xfrm>
            <a:custGeom>
              <a:avLst/>
              <a:gdLst>
                <a:gd name="textAreaLeft" fmla="*/ 0 w 687240"/>
                <a:gd name="textAreaRight" fmla="*/ 687600 w 6872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433" h="148">
                  <a:moveTo>
                    <a:pt x="0" y="0"/>
                  </a:moveTo>
                  <a:lnTo>
                    <a:pt x="143" y="145"/>
                  </a:lnTo>
                  <a:lnTo>
                    <a:pt x="432" y="147"/>
                  </a:lnTo>
                  <a:lnTo>
                    <a:pt x="286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w="1260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84"/>
            <p:cNvSpPr/>
            <p:nvPr/>
          </p:nvSpPr>
          <p:spPr>
            <a:xfrm>
              <a:off x="5046480" y="5141880"/>
              <a:ext cx="457200" cy="457200"/>
            </a:xfrm>
            <a:prstGeom prst="diamond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85"/>
          <p:cNvGrpSpPr/>
          <p:nvPr/>
        </p:nvGrpSpPr>
        <p:grpSpPr>
          <a:xfrm>
            <a:off x="6523920" y="5307480"/>
            <a:ext cx="1757520" cy="1330200"/>
            <a:chOff x="6523920" y="5307480"/>
            <a:chExt cx="1757520" cy="1330200"/>
          </a:xfrm>
        </p:grpSpPr>
        <p:sp>
          <p:nvSpPr>
            <p:cNvPr id="184" name="AutoShape 86"/>
            <p:cNvSpPr/>
            <p:nvPr/>
          </p:nvSpPr>
          <p:spPr>
            <a:xfrm rot="2700000">
              <a:off x="7507440" y="5833800"/>
              <a:ext cx="641160" cy="64152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87"/>
            <p:cNvSpPr/>
            <p:nvPr/>
          </p:nvSpPr>
          <p:spPr>
            <a:xfrm flipH="1" rot="2700000">
              <a:off x="6587640" y="6260760"/>
              <a:ext cx="314280" cy="31104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8"/>
            <p:cNvSpPr/>
            <p:nvPr/>
          </p:nvSpPr>
          <p:spPr>
            <a:xfrm rot="18900000">
              <a:off x="7583400" y="5373360"/>
              <a:ext cx="322200" cy="327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89"/>
            <p:cNvSpPr/>
            <p:nvPr/>
          </p:nvSpPr>
          <p:spPr>
            <a:xfrm rot="16200000">
              <a:off x="6723000" y="5961240"/>
              <a:ext cx="444240" cy="44424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90"/>
            <p:cNvSpPr/>
            <p:nvPr/>
          </p:nvSpPr>
          <p:spPr>
            <a:xfrm>
              <a:off x="7169040" y="5956560"/>
              <a:ext cx="642960" cy="64440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91"/>
            <p:cNvSpPr/>
            <p:nvPr/>
          </p:nvSpPr>
          <p:spPr>
            <a:xfrm rot="13500000">
              <a:off x="7665840" y="6235560"/>
              <a:ext cx="317520" cy="31464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92"/>
            <p:cNvSpPr/>
            <p:nvPr/>
          </p:nvSpPr>
          <p:spPr>
            <a:xfrm>
              <a:off x="7823160" y="5694480"/>
              <a:ext cx="215640" cy="6890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136" h="434">
                  <a:moveTo>
                    <a:pt x="135" y="433"/>
                  </a:moveTo>
                  <a:lnTo>
                    <a:pt x="135" y="13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97"/>
                  </a:lnTo>
                  <a:lnTo>
                    <a:pt x="4" y="301"/>
                  </a:lnTo>
                  <a:lnTo>
                    <a:pt x="135" y="432"/>
                  </a:lnTo>
                  <a:lnTo>
                    <a:pt x="135" y="433"/>
                  </a:lnTo>
                </a:path>
              </a:pathLst>
            </a:custGeom>
            <a:solidFill>
              <a:srgbClr val="0000ff"/>
            </a:solidFill>
            <a:ln w="1260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Object 10"/>
          <p:cNvGraphicFramePr/>
          <p:nvPr/>
        </p:nvGraphicFramePr>
        <p:xfrm>
          <a:off x="0" y="0"/>
          <a:ext cx="79567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956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457200" y="4243320"/>
            <a:ext cx="1889280" cy="2028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133200" y="1584360"/>
            <a:ext cx="1963800" cy="2103480"/>
          </a:xfrm>
          <a:prstGeom prst="rect">
            <a:avLst/>
          </a:prstGeom>
          <a:ln w="0">
            <a:noFill/>
          </a:ln>
        </p:spPr>
      </p:pic>
      <p:sp>
        <p:nvSpPr>
          <p:cNvPr id="195" name="WordArt 15"/>
          <p:cNvSpPr txBox="1"/>
          <p:nvPr/>
        </p:nvSpPr>
        <p:spPr>
          <a:xfrm>
            <a:off x="684360" y="476280"/>
            <a:ext cx="6048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ангвиник</a:t>
            </a:r>
            <a:endParaRPr b="0" i="1" lang="en-US" sz="44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0" y="357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олеон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Бонапа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714240" y="61437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расов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8"/>
          <p:cNvSpPr/>
          <p:nvPr/>
        </p:nvSpPr>
        <p:spPr>
          <a:xfrm>
            <a:off x="2771640" y="2205000"/>
            <a:ext cx="6048360" cy="403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72" y="612"/>
                </a:moveTo>
                <a:lnTo>
                  <a:pt x="22348" y="612"/>
                </a:lnTo>
                <a:lnTo>
                  <a:pt x="22348" y="-2134"/>
                </a:lnTo>
                <a:lnTo>
                  <a:pt x="4195" y="-5000"/>
                </a:lnTo>
              </a:path>
              <a:path w="21600" h="21600">
                <a:moveTo>
                  <a:pt x="21872" y="0"/>
                </a:moveTo>
                <a:lnTo>
                  <a:pt x="21872" y="2160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2700360" y="2205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лю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5940360" y="220500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ин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1"/>
          <p:cNvSpPr/>
          <p:nvPr/>
        </p:nvSpPr>
        <p:spPr>
          <a:xfrm>
            <a:off x="2771640" y="2997360"/>
            <a:ext cx="2951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обильность, оптимизм, жизнерадостность, общительность, отзывчивость, успешность в делах, трудоспособность, лидер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5940360" y="2997360"/>
            <a:ext cx="280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клонность к зазнайству, разделение работ на интересные и неинтересные, легкомыслие, поверхнос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3"/>
          <p:cNvSpPr/>
          <p:nvPr/>
        </p:nvSpPr>
        <p:spPr>
          <a:xfrm>
            <a:off x="5796000" y="2205000"/>
            <a:ext cx="0" cy="403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"/>
          <p:cNvSpPr/>
          <p:nvPr/>
        </p:nvSpPr>
        <p:spPr>
          <a:xfrm>
            <a:off x="2879640" y="2708280"/>
            <a:ext cx="59403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7120080" y="1657440"/>
            <a:ext cx="1890720" cy="2030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6669000" y="4316400"/>
            <a:ext cx="1962360" cy="2103480"/>
          </a:xfrm>
          <a:prstGeom prst="rect">
            <a:avLst/>
          </a:prstGeom>
          <a:ln w="0">
            <a:noFill/>
          </a:ln>
        </p:spPr>
      </p:pic>
      <p:sp>
        <p:nvSpPr>
          <p:cNvPr id="207" name="WordArt 6"/>
          <p:cNvSpPr txBox="1"/>
          <p:nvPr/>
        </p:nvSpPr>
        <p:spPr>
          <a:xfrm>
            <a:off x="539640" y="549360"/>
            <a:ext cx="6121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Холерик</a:t>
            </a:r>
            <a:endParaRPr b="0" i="1" lang="en-US" sz="44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659640" y="393372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7308720" y="357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ушкин А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6983280" y="62866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воров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1"/>
          <p:cNvSpPr/>
          <p:nvPr/>
        </p:nvSpPr>
        <p:spPr>
          <a:xfrm>
            <a:off x="428760" y="2714760"/>
            <a:ext cx="5975280" cy="31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75" y="779"/>
                </a:moveTo>
                <a:lnTo>
                  <a:pt x="22415" y="779"/>
                </a:lnTo>
                <a:lnTo>
                  <a:pt x="22415" y="-5573"/>
                </a:lnTo>
                <a:lnTo>
                  <a:pt x="9503" y="-9501"/>
                </a:lnTo>
              </a:path>
              <a:path w="21600" h="21600">
                <a:moveTo>
                  <a:pt x="21875" y="0"/>
                </a:moveTo>
                <a:lnTo>
                  <a:pt x="21875" y="2160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79280" y="29242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лю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3924360" y="2924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ин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611280" y="2852640"/>
            <a:ext cx="266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468360" y="3573360"/>
            <a:ext cx="302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ктивность, энергичность, увлеченность, оптимизм, трудоспособность, целеустремл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3564000" y="3573360"/>
            <a:ext cx="28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Горячность, невыдержанность, нетерпеливость, беспокойность, непостоян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8"/>
          <p:cNvSpPr/>
          <p:nvPr/>
        </p:nvSpPr>
        <p:spPr>
          <a:xfrm>
            <a:off x="3564000" y="2781360"/>
            <a:ext cx="0" cy="3168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395280" y="3429000"/>
            <a:ext cx="59770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6"/>
          <p:cNvSpPr txBox="1"/>
          <p:nvPr/>
        </p:nvSpPr>
        <p:spPr>
          <a:xfrm>
            <a:off x="684360" y="549360"/>
            <a:ext cx="59752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легматик</a:t>
            </a:r>
            <a:endParaRPr b="0" i="1" lang="en-US" sz="44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50920" y="3645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утузов М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395280" y="630864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3059280" y="2349360"/>
            <a:ext cx="5760720" cy="30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86" y="798"/>
                </a:moveTo>
                <a:lnTo>
                  <a:pt x="21963" y="798"/>
                </a:lnTo>
                <a:lnTo>
                  <a:pt x="21963" y="-3478"/>
                </a:lnTo>
                <a:lnTo>
                  <a:pt x="3297" y="-7776"/>
                </a:lnTo>
              </a:path>
              <a:path w="21600" h="21600">
                <a:moveTo>
                  <a:pt x="21886" y="0"/>
                </a:moveTo>
                <a:lnTo>
                  <a:pt x="21886" y="2160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3203640" y="2421000"/>
            <a:ext cx="180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2"/>
          <a:stretch/>
        </p:blipFill>
        <p:spPr>
          <a:xfrm>
            <a:off x="133200" y="1731960"/>
            <a:ext cx="1890720" cy="2028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"/>
          <p:cNvPicPr/>
          <p:nvPr/>
        </p:nvPicPr>
        <p:blipFill>
          <a:blip r:embed="rId3"/>
          <a:stretch/>
        </p:blipFill>
        <p:spPr>
          <a:xfrm>
            <a:off x="493560" y="4248000"/>
            <a:ext cx="1884600" cy="20973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5"/>
          <p:cNvSpPr/>
          <p:nvPr/>
        </p:nvSpPr>
        <p:spPr>
          <a:xfrm>
            <a:off x="684360" y="6237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ылов И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3635280" y="24922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лю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3132000" y="3213000"/>
            <a:ext cx="26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стойчивость, постоянство, терпеливость, надежность, осмотрительность, миролюбив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622764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ин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5796000" y="3213000"/>
            <a:ext cx="28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ассивность, медлительность, невырази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5724360" y="2349360"/>
            <a:ext cx="0" cy="3095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1"/>
          <p:cNvSpPr/>
          <p:nvPr/>
        </p:nvSpPr>
        <p:spPr>
          <a:xfrm>
            <a:off x="3059280" y="2997360"/>
            <a:ext cx="57607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6"/>
          <p:cNvSpPr txBox="1"/>
          <p:nvPr/>
        </p:nvSpPr>
        <p:spPr>
          <a:xfrm>
            <a:off x="539640" y="620640"/>
            <a:ext cx="61200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еланхолик</a:t>
            </a:r>
            <a:endParaRPr b="0" i="1" lang="en-US" sz="44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500720" y="407664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Кутузов М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324000" y="2708280"/>
            <a:ext cx="6121080" cy="35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69" y="700"/>
                </a:moveTo>
                <a:lnTo>
                  <a:pt x="22194" y="700"/>
                </a:lnTo>
                <a:lnTo>
                  <a:pt x="22194" y="-3896"/>
                </a:lnTo>
                <a:lnTo>
                  <a:pt x="11164" y="-8521"/>
                </a:lnTo>
              </a:path>
              <a:path w="21600" h="21600">
                <a:moveTo>
                  <a:pt x="21869" y="0"/>
                </a:moveTo>
                <a:lnTo>
                  <a:pt x="21869" y="2160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2" descr=""/>
          <p:cNvPicPr/>
          <p:nvPr/>
        </p:nvPicPr>
        <p:blipFill>
          <a:blip r:embed="rId2"/>
          <a:stretch/>
        </p:blipFill>
        <p:spPr>
          <a:xfrm>
            <a:off x="7102440" y="1670040"/>
            <a:ext cx="1809720" cy="20304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"/>
          <p:cNvPicPr/>
          <p:nvPr/>
        </p:nvPicPr>
        <p:blipFill>
          <a:blip r:embed="rId3"/>
          <a:stretch/>
        </p:blipFill>
        <p:spPr>
          <a:xfrm>
            <a:off x="6669000" y="4029120"/>
            <a:ext cx="2036880" cy="21034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4"/>
          <p:cNvSpPr/>
          <p:nvPr/>
        </p:nvSpPr>
        <p:spPr>
          <a:xfrm>
            <a:off x="7358040" y="35719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голь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6877080" y="6021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уковский Н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826920" y="2852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лю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3995640" y="2852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ин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250920" y="3500280"/>
            <a:ext cx="302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ысокая чувствительность, мягкость, человечность, рассудительность, доброжелательность, способность к сочувств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4067280" y="2852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3348000" y="3573360"/>
            <a:ext cx="28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изкая работоспособность, мнительность, ранимость, тревожность, пессимисти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1"/>
          <p:cNvSpPr/>
          <p:nvPr/>
        </p:nvSpPr>
        <p:spPr>
          <a:xfrm>
            <a:off x="3276720" y="2708280"/>
            <a:ext cx="71280" cy="3529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2"/>
          <p:cNvSpPr/>
          <p:nvPr/>
        </p:nvSpPr>
        <p:spPr>
          <a:xfrm>
            <a:off x="357120" y="3357720"/>
            <a:ext cx="6120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5"/>
          <p:cNvSpPr txBox="1"/>
          <p:nvPr/>
        </p:nvSpPr>
        <p:spPr>
          <a:xfrm>
            <a:off x="179280" y="333360"/>
            <a:ext cx="763272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и сильные и слабые стороны характера</a:t>
            </a:r>
            <a:endParaRPr b="1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4067280" y="1746360"/>
            <a:ext cx="0" cy="4778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403280" y="15573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С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716360" y="155736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Слаб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0"/>
          <p:cNvSpPr/>
          <p:nvPr/>
        </p:nvSpPr>
        <p:spPr>
          <a:xfrm>
            <a:off x="611280" y="2133720"/>
            <a:ext cx="669744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1909440" y="5433840"/>
            <a:ext cx="6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5436720" y="551664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3780000" y="1052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Wingdings"/>
                <a:ea typeface="Wingdings"/>
              </a:rPr>
              <a:t>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2:10:53Z</dcterms:created>
  <dc:creator>User</dc:creator>
  <dc:description/>
  <dc:language>en-US</dc:language>
  <cp:lastModifiedBy>Admin</cp:lastModifiedBy>
  <dcterms:modified xsi:type="dcterms:W3CDTF">2012-01-10T02:25:26Z</dcterms:modified>
  <cp:revision>80</cp:revision>
  <dc:subject/>
  <dc:title>Слайд 1</dc:title>
</cp:coreProperties>
</file>