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1A3F-B9D8-4FF0-BDFA-1990DA1B4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9DF7-8D97-4077-8E1D-772E39F83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9C30-C69C-4542-B849-3701A1673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0E2E-726E-4E6A-84FE-E7B202981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1EB3-4B69-42C5-B93C-0C1977787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F9F20-94F1-4613-83D8-A3D41A8A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62C1-8979-47BF-8479-D3F4D7DB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7AC7A-9406-4113-985C-4BD455F24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781B-53F5-4A42-B846-96A26BFD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CD44C-E2B3-42CE-BC1A-D0EF2524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C55D-C1B3-4FA9-9F01-69987397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973E-B27B-44D3-819C-87044845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8E2E-9D24-4E7C-9A17-9B2FCC2C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6173F-2870-4F32-A7EC-71D126A9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A327-3943-48BB-BF4E-0B78BAA0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8E0D1-CA07-49BF-AF37-78F5B2C3F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F362-F9B8-47CB-AE21-1293CEC89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1DB3B-141F-4AA8-9CC3-52CE2B5ED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3A07C-F5B1-4C54-AB70-271C48A2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2C776-2831-4891-A0F6-7C528081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89DF8-088D-4C05-8393-1EFF35DD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26A7A-2AD2-4AC7-99C2-068EE847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2047-6C6A-4DC2-834D-E3598EEE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A4F5B-08DD-46BB-81DB-E0B4CFF8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7CFC5-31A8-486B-8007-ABAB106A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2622D-9B94-47B2-9367-82A3BE5B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74A52-B923-46BD-9D1F-22B006CE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E2880-B629-482C-80CD-824B55A4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25258-9C05-456F-9EB5-2AD91F984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5A475-DD7F-4BA0-9C41-F8F39FC15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37433-9EDF-4862-9DB0-501D6790B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D77DB-87E7-445F-A23F-8E04AE3A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EA395-F87D-49BA-AB0A-2F23717A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C9B5-3C92-427D-AB32-FF61D166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DAA95-8CD2-448B-9474-022A0F89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3E1C7-DFCD-4C2B-82AE-41A4AB26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76F39-F5A0-4D5B-A987-8BE51EAF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C7D24-F17C-49CE-A6D3-26FAA60E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C9B1A-D658-4123-A304-0E6557AF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044FA-17F7-47F9-96F2-EBBF20BD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EB641-C869-4A68-9943-571E8DCD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861FE-52F5-4805-9964-E4AF0DFA9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25205-DF3A-4A26-9F56-31D357EBF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4C563-D74F-4ABE-A1E2-B1E221EE7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B8DD-3B0C-4EEB-BF2B-8D271D9F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FA330-E05A-44AA-81FA-CFB6072A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D5612-C4DF-4FFC-8137-352AF8F5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F7DDB-0E0C-4FE1-A99A-DDA2B526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9E530-D815-43D2-833A-9CDA679EE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D8B6C-2FAF-4334-82D8-F5174897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87402-FD80-4402-8C35-8D45E207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43EBA-32AE-480F-B33E-9F5DD51F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052C4-9485-4A50-A7CC-C06D5827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10989-72D8-41DA-9A35-11B338DB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4EC52-7C18-43B7-A2F3-4C364A404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D609-63A6-4ECD-BE32-6A37DDE3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3C11B-C974-41C7-B61C-D5C9093B9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7C161-0732-409C-8763-BFA198B51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154E5-C905-43A9-8996-A1BCECAC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AE7A3-ADA8-42C1-A603-B2A52AC9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91AC0-72A8-47F6-8C1F-667707EF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7F8A8-63D5-4A30-95D7-E772E047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A2674-F6F5-4708-BC74-10F77661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5155C-ED31-4913-9449-038F5E99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5FDC7-400C-49D6-9903-18CCC370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B1950-C360-451F-AA8B-8CD370C3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E1AC-CCB7-4333-B14A-E19E0119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81E6D-AF1D-49CB-BF95-8DCA01B7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E170A-BF7D-46C7-9902-B3B2C53DF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67140-5D32-4DE5-B77F-EB2CD35BB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A02E-4903-4ACA-B824-2D20BD8F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989D-0D56-45A5-93DA-883F5335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83E7-572E-4BB1-80C3-6939061F873C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4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32B1-A4E9-4A45-81EC-4C86FFF975CC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D9D88-F24A-4670-AF0F-86CA9B88A86E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5681-BED1-4FE9-9D40-1B61C92A790C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2AAD-4047-4573-821B-57C1AD30A985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3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FB37-D2BA-4DE9-BD68-DE65F9742D93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85000" cy="184140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212400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Автор: Сергиенко Валерия Александровна,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ученица 9 «А» класса МБОУ Лицей № 88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уководители: Глинских И.Ф. , Исакова О.В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TextBox 3"/>
          <p:cNvSpPr/>
          <p:nvPr/>
        </p:nvSpPr>
        <p:spPr>
          <a:xfrm>
            <a:off x="1476360" y="476280"/>
            <a:ext cx="63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Телекоммуникационный конкурс компьютерных про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«Ради жизни на земле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Номинация «История одной вещ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3851280" y="1600200"/>
            <a:ext cx="511344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Для Кузеванова Александра Павловича, врача полка в военные годы, таким талисманом стала полевая сумка, его незаменимая помощница на войне, с которой он спас жизни многим раненым бойцам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80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5" descr="IMG_1069.JPG"/>
          <p:cNvPicPr/>
          <p:nvPr/>
        </p:nvPicPr>
        <p:blipFill>
          <a:blip r:embed="rId2"/>
          <a:stretch/>
        </p:blipFill>
        <p:spPr>
          <a:xfrm>
            <a:off x="324000" y="1557360"/>
            <a:ext cx="3557520" cy="3240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4716000" y="1600200"/>
            <a:ext cx="397044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В августе 1943 года Александр Павлович мог погибнуть у Харькова от пули, но защитила его…сумка, верная подруга и соратница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83" name="Рисунок 3" descr="IMG_1068.JPG"/>
          <p:cNvPicPr/>
          <p:nvPr/>
        </p:nvPicPr>
        <p:blipFill>
          <a:blip r:embed="rId1"/>
          <a:stretch/>
        </p:blipFill>
        <p:spPr>
          <a:xfrm>
            <a:off x="324000" y="1773360"/>
            <a:ext cx="4379760" cy="3959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Она пострадала от пули, но Александр Павлович остался жив благодаря ей до победного конца. Её залатал лучший мастер полка, и солдат продолжил военный путь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Содержимое 3" descr="IMG_1067.JPG"/>
          <p:cNvPicPr/>
          <p:nvPr/>
        </p:nvPicPr>
        <p:blipFill>
          <a:blip r:embed="rId1"/>
          <a:stretch/>
        </p:blipFill>
        <p:spPr>
          <a:xfrm>
            <a:off x="468360" y="1916280"/>
            <a:ext cx="4127400" cy="3097080"/>
          </a:xfrm>
          <a:prstGeom prst="rect">
            <a:avLst/>
          </a:prstGeom>
          <a:ln w="0">
            <a:noFill/>
          </a:ln>
        </p:spPr>
      </p:pic>
      <p:sp>
        <p:nvSpPr>
          <p:cNvPr id="286" name="TextBox 6"/>
          <p:cNvSpPr/>
          <p:nvPr/>
        </p:nvSpPr>
        <p:spPr>
          <a:xfrm>
            <a:off x="4788000" y="2060640"/>
            <a:ext cx="38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В его семье этот талисман стал реликв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96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Сам он прожил славную жизнь длиной в 82 года, за военные заслуги был удостоен многих наград, таких как орден Красной звезды, медаль «За боевые награды», за освобождение Белграда, за участие в Отечественной войне I степени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Прямоугольник 3" descr=""/>
          <p:cNvPicPr/>
          <p:nvPr/>
        </p:nvPicPr>
        <p:blipFill>
          <a:blip r:embed="rId1"/>
          <a:stretch/>
        </p:blipFill>
        <p:spPr>
          <a:xfrm>
            <a:off x="281160" y="2206800"/>
            <a:ext cx="8538840" cy="14936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4T16:08:15Z</dcterms:created>
  <dc:creator>Samsung</dc:creator>
  <dc:description/>
  <dc:language>en-US</dc:language>
  <cp:lastModifiedBy>Samsung</cp:lastModifiedBy>
  <dcterms:modified xsi:type="dcterms:W3CDTF">2013-04-14T16:49:55Z</dcterms:modified>
  <cp:revision>6</cp:revision>
  <dc:subject/>
  <dc:title>ПОДАРОК СУДЬБЫ</dc:title>
</cp:coreProperties>
</file>