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48D-B5DF-4CBC-A22A-63BFCC5D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862-587D-4671-BC90-0C4C5AB1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8A8-82B3-4C5E-AE01-F2CE1B06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CFA-3C33-4A57-A7A5-5ED83216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6DE6-452B-49EC-B14E-230ABD87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6153-C3FC-4EB3-B014-BAF682C3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5C5D-5903-4455-9958-16C1D0B7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B61A-3F29-4C75-9994-66E0F303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2599-277D-4701-BA0D-8601392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8A2A-EC06-4E3C-B9C2-A74BDBAF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1057-A02A-428C-B72B-E6CF0A4F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2F5-66CD-4AA0-AB6A-1BF6C929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EB40-3874-4E4B-9758-4F15318C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D6D3-2D5C-4E0E-9C31-A4542B7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E412-754A-44A2-A220-9422843D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9F0B-9147-43AC-8CF3-0B6E3649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27A5-4F8D-422E-BEA5-6F9EC11B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0B98-685A-4E60-B919-DC2959B0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CAAE-F851-450C-AC71-56F1FA53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AE4B-791C-4B07-B51B-93985FC3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AED1-58B2-4547-99B2-8B51832F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489F-0C57-496D-AD7C-E6E55BAE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291-B515-4334-87B7-E33E548A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DA0D-18D0-4162-8519-D9B75A6E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6DC2-6416-42BA-8377-820DE8F8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019D-E1C9-48ED-B29F-95BE49E3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3138-1ACD-4CC5-AEAD-59F50E0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24D4-6916-44F5-918D-C14751F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16BD-9057-4607-B735-BFE1BEE6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1D11-A8A7-45E3-B190-74DB4B23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DFC7-767A-43A7-8689-6449A27C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7ACAB-31A7-4900-B3A5-330423C2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6D092-BBF5-4482-AADE-FBE60B2F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557-33DE-4A8B-8BAF-3C58FA6B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BFCB-D0D8-470E-ABB4-E1349B58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2FC2-7DC8-4A12-BD54-D5F05023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A69B-1249-4E82-9447-30B2FA57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A9A2-D2B6-471E-A1F1-48EB773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3163-6EA0-4E25-99E9-D63FFAEC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3983-78AC-44B8-B6B1-1FF97273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C31F4-FF41-4C6C-9D52-CE86242F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7800-DCCD-4F72-B8BF-5AD0AD64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CCE9-12FF-42EF-AA83-8A8FE4AC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A91-6DF1-4C5D-931E-E86A061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9A4-7E5A-46B3-802D-2E723E3E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E96-28D5-40F9-81FF-D5F5C2BF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A4A-A4C5-427A-96B9-71263391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1F7-C026-47A7-B5D4-4397CDC2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C672-C066-49B6-A3B1-3DBF6E8860AE}" type="slidenum">
              <a:rPr b="0" lang="ru-RU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ECF1-4227-4D60-B799-8AEF7D0CD052}" type="slidenum">
              <a:rPr b="0" lang="ru-RU" sz="1200" spc="-1" strike="noStrike">
                <a:solidFill>
                  <a:srgbClr val="e3e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2550-509A-465D-933C-94CD03270BE8}" type="slidenum">
              <a:rPr b="0" lang="ru-RU" sz="1200" spc="-1" strike="noStrike">
                <a:solidFill>
                  <a:srgbClr val="e3e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1DF-E747-467D-A00F-563C0FB30ED6}" type="slidenum">
              <a:rPr b="0" lang="ru-RU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Box 3" descr=""/>
          <p:cNvPicPr/>
          <p:nvPr/>
        </p:nvPicPr>
        <p:blipFill>
          <a:blip r:embed="rId1"/>
          <a:stretch/>
        </p:blipFill>
        <p:spPr>
          <a:xfrm>
            <a:off x="560520" y="1616040"/>
            <a:ext cx="82296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937ab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Рисунок 3" descr="лужа.jpg"/>
          <p:cNvPicPr/>
          <p:nvPr/>
        </p:nvPicPr>
        <p:blipFill>
          <a:blip r:embed="rId1"/>
          <a:stretch/>
        </p:blipFill>
        <p:spPr>
          <a:xfrm>
            <a:off x="107172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1357200" y="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лыхали о в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она везд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3000240" y="2071800"/>
            <a:ext cx="392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уж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G:\Картинки\sea_00190.jpg"/>
          <p:cNvPicPr/>
          <p:nvPr/>
        </p:nvPicPr>
        <p:blipFill>
          <a:blip r:embed="rId1"/>
          <a:stretch/>
        </p:blipFill>
        <p:spPr>
          <a:xfrm>
            <a:off x="1643040" y="1785960"/>
            <a:ext cx="5943600" cy="45115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2286000" y="10000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р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4"/>
          <p:cNvSpPr/>
          <p:nvPr/>
        </p:nvSpPr>
        <p:spPr>
          <a:xfrm>
            <a:off x="3286080" y="92880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ке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:\Картинки\sea_00139.jpg"/>
          <p:cNvPicPr/>
          <p:nvPr/>
        </p:nvPicPr>
        <p:blipFill>
          <a:blip r:embed="rId1"/>
          <a:stretch/>
        </p:blipFill>
        <p:spPr>
          <a:xfrm>
            <a:off x="1643040" y="1714680"/>
            <a:ext cx="61866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4"/>
          <p:cNvSpPr/>
          <p:nvPr/>
        </p:nvSpPr>
        <p:spPr>
          <a:xfrm>
            <a:off x="3792240" y="107172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в ре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G:\Картинки\o_bd6a86c9e4dacba24c3ace2e89036f9d.jpg"/>
          <p:cNvPicPr/>
          <p:nvPr/>
        </p:nvPicPr>
        <p:blipFill>
          <a:blip r:embed="rId1"/>
          <a:stretch/>
        </p:blipFill>
        <p:spPr>
          <a:xfrm>
            <a:off x="1311120" y="1828800"/>
            <a:ext cx="66628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5" descr="G:\Картинки\62.jpg"/>
          <p:cNvPicPr/>
          <p:nvPr/>
        </p:nvPicPr>
        <p:blipFill>
          <a:blip r:embed="rId1"/>
          <a:stretch/>
        </p:blipFill>
        <p:spPr>
          <a:xfrm>
            <a:off x="1231920" y="1616040"/>
            <a:ext cx="6454800" cy="49071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937ab4"/>
              </a:solidFill>
              <a:latin typeface="Calibri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2071800" y="78588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оз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937ab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Рисунок 3" descr="кран.jpg"/>
          <p:cNvPicPr/>
          <p:nvPr/>
        </p:nvPicPr>
        <p:blipFill>
          <a:blip r:embed="rId1"/>
          <a:stretch/>
        </p:blipFill>
        <p:spPr>
          <a:xfrm>
            <a:off x="785880" y="1571760"/>
            <a:ext cx="7394400" cy="492912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  <p:sp>
        <p:nvSpPr>
          <p:cNvPr id="214" name="TextBox 4"/>
          <p:cNvSpPr/>
          <p:nvPr/>
        </p:nvSpPr>
        <p:spPr>
          <a:xfrm>
            <a:off x="1571760" y="35712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водопроводном кр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04:08Z</dcterms:created>
  <dc:creator>Kit</dc:creator>
  <dc:description/>
  <dc:language>en-US</dc:language>
  <cp:lastModifiedBy>User_VS</cp:lastModifiedBy>
  <dcterms:modified xsi:type="dcterms:W3CDTF">2014-10-28T17:18:59Z</dcterms:modified>
  <cp:revision>73</cp:revision>
  <dc:subject/>
  <dc:title>Вода и ее свойства</dc:title>
</cp:coreProperties>
</file>