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294-695C-4C09-9FFB-44F31070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EE2-F984-4B66-9244-3961F3D2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111-22EF-49CE-B8DF-EB53DE9B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8E5-110E-46F0-9964-73A8DE05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4DDA-0469-425F-9D44-5712DA9D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2A9C-EF48-4B3A-A5DB-A35D950B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0C53-ACF9-44AC-A4DA-268D0AE7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9476-CDD0-4EDC-8157-46D89F1A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2866-0EDC-4DB3-AFC1-8BD5C99D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6C02-85A1-4CB9-AEE9-9F0B7760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117B-E521-4CC7-B494-B8D146AA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5CC-06A4-45DE-A8E5-9D2FC026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D525-662D-4ED4-A0D8-4BBF0D1C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E7BA-4C10-4E27-A43E-DF45538B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902D-2801-4FE6-AF7E-F1F7A670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6EBE-3831-46EA-8366-DBF16D24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FE03-C30F-47C5-A914-2B910D94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48FA-30FB-4107-BE6D-AB51791D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32CC-E5C5-4596-8547-F662027C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FE82E-0691-4F33-A899-FC6361B5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F8A5E-E08D-49DE-BDD8-8F1F3726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71E3-B118-4391-B963-35B3897B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4D5-FFA1-4DF4-914E-D413F765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7FFE-43AA-430D-B9AF-AD2233FB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A716-1CD2-4C31-9979-94095D69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FF601-03BD-4583-A8F9-842627A4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8F89-D3D2-41BC-924B-F970DEE8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0175-FD6B-485E-B8FE-8A14A8F1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59F35-C587-4AEC-8459-A10E0BC3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0410E-A217-4339-9D2C-1E0EF703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3D84-1068-4F42-BF79-7A470B1F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9EA6-D73C-4479-9EE5-E4BAB027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C8505-CCF3-42D2-BAC8-D836E1D5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7BA-CD89-4D48-920A-9A321EB5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714E-2850-4383-B5FB-461DC80E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4C014-03CA-4853-80D9-513BAFC4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BA6AF-4A62-43BC-BC0C-01D9D7EC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72869-C1FA-4E96-8B6A-10CB5090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AE588-5D11-4759-8D6E-BDACCFA9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B8384-7A51-40C2-98CD-6E7DB370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49C0A-AC62-4943-A3AF-5095FB39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D0AB-3062-4974-9DE0-734DF261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3283-519B-47DD-9695-7ABEBC88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80E-953E-49F6-8A03-496BE949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438-BAE0-4762-AF7C-8338F978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F79-67DC-431D-987D-E9816F82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E74-6F5B-4710-A07B-FEB3E5EA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518-4866-443B-B8B3-4494E7A4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84BC-F491-47A8-AC2D-F21A7CA961D1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5850-5776-4FD1-91D3-FA07F00597EE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4E4A-BDD2-455B-B424-C035F40F21C9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8767-6FE6-4C29-BA66-468CC80AC94D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4" descr=""/>
          <p:cNvPicPr/>
          <p:nvPr/>
        </p:nvPicPr>
        <p:blipFill>
          <a:blip r:embed="rId1"/>
          <a:stretch/>
        </p:blipFill>
        <p:spPr>
          <a:xfrm>
            <a:off x="4998960" y="536400"/>
            <a:ext cx="4303800" cy="2030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G:\Картинки\3409.jpg"/>
          <p:cNvPicPr/>
          <p:nvPr/>
        </p:nvPicPr>
        <p:blipFill>
          <a:blip r:embed="rId2"/>
          <a:stretch/>
        </p:blipFill>
        <p:spPr>
          <a:xfrm>
            <a:off x="4638600" y="3425760"/>
            <a:ext cx="4578480" cy="3505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G:\Картинки\12158.jpg"/>
          <p:cNvPicPr/>
          <p:nvPr/>
        </p:nvPicPr>
        <p:blipFill>
          <a:blip r:embed="rId3"/>
          <a:stretch/>
        </p:blipFill>
        <p:spPr>
          <a:xfrm>
            <a:off x="214200" y="928800"/>
            <a:ext cx="45291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G:\Картинки\0_cf63_18ccb9a2_XL.jpg"/>
          <p:cNvPicPr/>
          <p:nvPr/>
        </p:nvPicPr>
        <p:blipFill>
          <a:blip r:embed="rId1"/>
          <a:stretch/>
        </p:blipFill>
        <p:spPr>
          <a:xfrm>
            <a:off x="2286000" y="1643040"/>
            <a:ext cx="465768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Rectangle 4" descr=""/>
          <p:cNvPicPr/>
          <p:nvPr/>
        </p:nvPicPr>
        <p:blipFill>
          <a:blip r:embed="rId1"/>
          <a:stretch/>
        </p:blipFill>
        <p:spPr>
          <a:xfrm>
            <a:off x="1785960" y="285840"/>
            <a:ext cx="6353280" cy="24256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5" descr="000 348.jpg"/>
          <p:cNvPicPr/>
          <p:nvPr/>
        </p:nvPicPr>
        <p:blipFill>
          <a:blip r:embed="rId2"/>
          <a:stretch/>
        </p:blipFill>
        <p:spPr>
          <a:xfrm>
            <a:off x="2357280" y="3000240"/>
            <a:ext cx="4191120" cy="314352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7" descr="G:\Картинки\big-3948-553-preview.jpg"/>
          <p:cNvPicPr/>
          <p:nvPr/>
        </p:nvPicPr>
        <p:blipFill>
          <a:blip r:embed="rId1"/>
          <a:stretch/>
        </p:blipFill>
        <p:spPr>
          <a:xfrm>
            <a:off x="6132600" y="2401920"/>
            <a:ext cx="3054240" cy="4376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C:\Documents and Settings\Админ\Рабочий стол\ihc00009.jpg"/>
          <p:cNvPicPr/>
          <p:nvPr/>
        </p:nvPicPr>
        <p:blipFill>
          <a:blip r:embed="rId2"/>
          <a:stretch/>
        </p:blipFill>
        <p:spPr>
          <a:xfrm>
            <a:off x="-42840" y="2401920"/>
            <a:ext cx="3255840" cy="436392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 6" descr=""/>
          <p:cNvPicPr/>
          <p:nvPr/>
        </p:nvPicPr>
        <p:blipFill>
          <a:blip r:embed="rId3"/>
          <a:stretch/>
        </p:blipFill>
        <p:spPr>
          <a:xfrm>
            <a:off x="1066680" y="658800"/>
            <a:ext cx="7583760" cy="1517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7" descr="000 347.jpg"/>
          <p:cNvPicPr/>
          <p:nvPr/>
        </p:nvPicPr>
        <p:blipFill>
          <a:blip r:embed="rId4"/>
          <a:stretch/>
        </p:blipFill>
        <p:spPr>
          <a:xfrm>
            <a:off x="2500200" y="2928960"/>
            <a:ext cx="3929040" cy="294624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5" descr="гэс"/>
          <p:cNvPicPr/>
          <p:nvPr/>
        </p:nvPicPr>
        <p:blipFill>
          <a:blip r:embed="rId1"/>
          <a:stretch/>
        </p:blipFill>
        <p:spPr>
          <a:xfrm>
            <a:off x="4133880" y="1428840"/>
            <a:ext cx="5010120" cy="393228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4" descr=""/>
          <p:cNvPicPr/>
          <p:nvPr/>
        </p:nvPicPr>
        <p:blipFill>
          <a:blip r:embed="rId2"/>
          <a:stretch/>
        </p:blipFill>
        <p:spPr>
          <a:xfrm>
            <a:off x="0" y="2214720"/>
            <a:ext cx="49878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04:08Z</dcterms:created>
  <dc:creator>Kit</dc:creator>
  <dc:description/>
  <dc:language>en-US</dc:language>
  <cp:lastModifiedBy>User_VS</cp:lastModifiedBy>
  <dcterms:modified xsi:type="dcterms:W3CDTF">2014-10-28T17:27:26Z</dcterms:modified>
  <cp:revision>81</cp:revision>
  <dc:subject/>
  <dc:title>Вода и ее свойства</dc:title>
</cp:coreProperties>
</file>