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26A-7A2C-446E-AF47-AC6C1408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950-7659-4CE0-A6CD-60C4BF6A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29C-7E37-4C2A-BBFA-883C33D8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EB4-080B-4B9A-A93A-C760CE16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42B3-F3BC-4055-91DA-C85A201E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7356-AE27-4D91-9BD5-C5869FF1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7386-83E7-4168-8CDB-C6FC70BE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C7C5-5B14-4113-9EDA-D365DF84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6BFC-E266-4290-B44B-50E2E0C9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B495-8D5A-4C6E-B04A-23E0455D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432E-2949-4296-AFAD-02776B3C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A7B-2B65-4791-8E24-928A359E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6CF9-EF5C-4B37-BE24-98E679BF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38D0-1678-4ECF-966F-92F01517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2AEF-20D2-4CEB-9353-519E7B97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6CF6-12AC-49A6-9D51-42DC1C7B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5EC8-993C-419C-A006-F4531A89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3FF-D33B-4E9C-869E-77D39609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907-0398-4EE0-B683-A875E5A8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BD0-D920-4998-9A8C-11A430AF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FB7-367A-4DDC-A6AB-890F5293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87B-6075-4666-88EA-0ABEB67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848-5415-47AC-AD66-552AEF2B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66F-C23F-45EE-BBB6-7B406BB7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C7F5-C831-475C-AB97-18915C5258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C0C6-3CBF-4290-BD4D-8DF129A7B2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4873"/>
                </a:solidFill>
                <a:latin typeface="Garamond"/>
              </a:rPr>
              <a:t>Презентация </a:t>
            </a:r>
            <a:br>
              <a:rPr sz="900"/>
            </a:br>
            <a:r>
              <a:rPr b="1" lang="ru-RU" sz="3800" spc="-1" strike="noStrike">
                <a:solidFill>
                  <a:srgbClr val="004873"/>
                </a:solidFill>
                <a:latin typeface="Garamond"/>
              </a:rPr>
              <a:t>учителя русского языка и    литературы,  этикета</a:t>
            </a:r>
            <a:br>
              <a:rPr sz="3800"/>
            </a:br>
            <a:r>
              <a:rPr b="1" lang="ru-RU" sz="3800" spc="-1" strike="noStrike">
                <a:solidFill>
                  <a:srgbClr val="004873"/>
                </a:solidFill>
                <a:latin typeface="Garamond"/>
              </a:rPr>
              <a:t>высшей  категории</a:t>
            </a:r>
            <a:br>
              <a:rPr sz="3800"/>
            </a:br>
            <a:br>
              <a:rPr sz="900"/>
            </a:br>
            <a:br>
              <a:rPr sz="1200"/>
            </a:br>
            <a:r>
              <a:rPr b="1" i="1" lang="ru-RU" sz="5000" spc="-1" strike="noStrike">
                <a:solidFill>
                  <a:srgbClr val="004873"/>
                </a:solidFill>
                <a:latin typeface="Garamond"/>
              </a:rPr>
              <a:t>Марьяны  Брониславовны</a:t>
            </a:r>
            <a:br>
              <a:rPr sz="5000"/>
            </a:br>
            <a:r>
              <a:rPr b="1" i="1" lang="ru-RU" sz="5000" spc="-1" strike="noStrike">
                <a:solidFill>
                  <a:srgbClr val="004873"/>
                </a:solidFill>
                <a:latin typeface="Garamond"/>
              </a:rPr>
              <a:t>Бондаренко</a:t>
            </a:r>
            <a:r>
              <a:rPr b="1" i="1" lang="ru-RU" sz="4800" spc="-1" strike="noStrike">
                <a:solidFill>
                  <a:srgbClr val="004873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62320" y="541008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4873"/>
                </a:solidFill>
                <a:latin typeface="Garamond"/>
              </a:rPr>
              <a:t>2010 г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4873"/>
                </a:solidFill>
                <a:latin typeface="Garamond"/>
              </a:rPr>
              <a:t>г. Пушк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4873"/>
                </a:solidFill>
                <a:latin typeface="Garamond"/>
              </a:rPr>
              <a:t>Творческие работы учащихся:</a:t>
            </a:r>
            <a:endParaRPr b="1" lang="en-US" sz="4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эссе, миниатюры, послания, стих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иллюстрации к эпизодам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обложки произведени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схемы, системы образ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планы, плакаты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инсценировки, игры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презентаци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82240"/>
            <a:ext cx="838512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4873"/>
                </a:solidFill>
                <a:latin typeface="Garamond"/>
              </a:rPr>
              <a:t>Внеклассные мероприятия:</a:t>
            </a:r>
            <a:endParaRPr b="1" lang="en-US" sz="5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Лицейский фестивал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нсценир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Д.Фонвизин «Недоросль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А.Грибоедов «Горе от ума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Дмитриев «Аппологи в четверостишьях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А.Пушкин «Верней нет места для признаний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И.Крылов «Дуб и трость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Н.Гоголь «Невский проспект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Конк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«Петербуржец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XI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века. Знатоки этикета», «Петербургский этикет»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Районные фестива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«</a:t>
            </a: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Молодёжь против наркотиков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«Восхождение традиций. Царское село – площадка толерантности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Фильм «Поведение горожанина в городе моей мечты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4873"/>
                </a:solidFill>
                <a:latin typeface="Garamond"/>
              </a:rPr>
              <a:t>Динамика развития интереса детей</a:t>
            </a:r>
            <a:br>
              <a:rPr sz="3400"/>
            </a:br>
            <a:r>
              <a:rPr b="1" lang="ru-RU" sz="3400" spc="-1" strike="noStrike">
                <a:solidFill>
                  <a:srgbClr val="004873"/>
                </a:solidFill>
                <a:latin typeface="Garamond"/>
              </a:rPr>
              <a:t>к творческой деятельности </a:t>
            </a:r>
            <a:br>
              <a:rPr sz="3400"/>
            </a:br>
            <a:r>
              <a:rPr b="1" lang="ru-RU" sz="3400" spc="-1" strike="noStrike">
                <a:solidFill>
                  <a:srgbClr val="004873"/>
                </a:solidFill>
                <a:latin typeface="Garamond"/>
              </a:rPr>
              <a:t>на уроках русского языка и литературы</a:t>
            </a:r>
            <a:br>
              <a:rPr sz="3400"/>
            </a:b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(по методике «Выбор деятельности»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6" descr="на начало"/>
          <p:cNvPicPr/>
          <p:nvPr/>
        </p:nvPicPr>
        <p:blipFill>
          <a:blip r:embed="rId1"/>
          <a:stretch/>
        </p:blipFill>
        <p:spPr>
          <a:xfrm>
            <a:off x="533520" y="2209680"/>
            <a:ext cx="3962160" cy="314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конец исследования"/>
          <p:cNvPicPr/>
          <p:nvPr/>
        </p:nvPicPr>
        <p:blipFill>
          <a:blip r:embed="rId2"/>
          <a:stretch/>
        </p:blipFill>
        <p:spPr>
          <a:xfrm>
            <a:off x="4648320" y="2209680"/>
            <a:ext cx="3983040" cy="31813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380880" y="57150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aramond"/>
              </a:rPr>
              <a:t>1 - репродуктивная, 2 - иллюстрирующая,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Garamond"/>
              </a:rPr>
              <a:t>3 - исследовательская, 4 - творческая,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Garamond"/>
              </a:rPr>
              <a:t>5 - педагогическая, 6 - игрова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4873"/>
                </a:solidFill>
                <a:latin typeface="Garamond"/>
              </a:rPr>
              <a:t>Фотоматериал</a:t>
            </a:r>
            <a:endParaRPr b="1" lang="en-US" sz="5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7" descr="школа нач 2009 уч года 081"/>
          <p:cNvPicPr/>
          <p:nvPr/>
        </p:nvPicPr>
        <p:blipFill>
          <a:blip r:embed="rId1"/>
          <a:stretch/>
        </p:blipFill>
        <p:spPr>
          <a:xfrm>
            <a:off x="4495680" y="3429000"/>
            <a:ext cx="4419720" cy="318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508360" y="1905120"/>
            <a:ext cx="3336840" cy="9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Царскосельская         ос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4343400" cy="327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7080" cy="2676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4114800" cy="308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школа нач 2009 уч года 079"/>
          <p:cNvPicPr/>
          <p:nvPr/>
        </p:nvPicPr>
        <p:blipFill>
          <a:blip r:embed="rId3"/>
          <a:stretch/>
        </p:blipFill>
        <p:spPr>
          <a:xfrm>
            <a:off x="5029200" y="304920"/>
            <a:ext cx="3781440" cy="2890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школа нач 2009 уч года 057"/>
          <p:cNvPicPr/>
          <p:nvPr/>
        </p:nvPicPr>
        <p:blipFill>
          <a:blip r:embed="rId4"/>
          <a:stretch/>
        </p:blipFill>
        <p:spPr>
          <a:xfrm>
            <a:off x="5029200" y="3581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600" y="29718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Уроки, уроки, уроки</a:t>
            </a:r>
            <a:r>
              <a:rPr b="1" i="1" lang="ru-RU" sz="30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057400" y="502884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4873"/>
                </a:solidFill>
                <a:latin typeface="Garamond"/>
              </a:rPr>
              <a:t>«Дети – это мира нежные загад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4873"/>
                </a:solidFill>
                <a:latin typeface="Garamond"/>
              </a:rPr>
              <a:t>  </a:t>
            </a:r>
            <a:r>
              <a:rPr b="1" lang="ru-RU" sz="3000" spc="-1" strike="noStrike">
                <a:solidFill>
                  <a:srgbClr val="004873"/>
                </a:solidFill>
                <a:latin typeface="Garamond"/>
              </a:rPr>
              <a:t>И в самих загадках кроется ответ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. Цвета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858000" cy="444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886200" y="3428640"/>
            <a:ext cx="4952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873"/>
                </a:solidFill>
                <a:latin typeface="Monotype Corsiva"/>
              </a:rPr>
              <a:t>Два мира есть у человека:</a:t>
            </a:r>
            <a:br>
              <a:rPr sz="3200"/>
            </a:br>
            <a:r>
              <a:rPr b="1" i="1" lang="ru-RU" sz="3200" spc="-1" strike="noStrike">
                <a:solidFill>
                  <a:srgbClr val="004873"/>
                </a:solidFill>
                <a:latin typeface="Monotype Corsiva"/>
              </a:rPr>
              <a:t>Один, который нас творил,</a:t>
            </a:r>
            <a:br>
              <a:rPr sz="3200"/>
            </a:br>
            <a:r>
              <a:rPr b="1" i="1" lang="ru-RU" sz="3200" spc="-1" strike="noStrike">
                <a:solidFill>
                  <a:srgbClr val="004873"/>
                </a:solidFill>
                <a:latin typeface="Monotype Corsiva"/>
              </a:rPr>
              <a:t>Другой, который мы от века</a:t>
            </a:r>
            <a:br>
              <a:rPr sz="3200"/>
            </a:br>
            <a:r>
              <a:rPr b="1" i="1" lang="ru-RU" sz="3200" spc="-1" strike="noStrike">
                <a:solidFill>
                  <a:srgbClr val="004873"/>
                </a:solidFill>
                <a:latin typeface="Monotype Corsiva"/>
              </a:rPr>
              <a:t>Творим по мере наших сил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i="1" lang="ru-RU" sz="2800" spc="-1" strike="noStrike">
                <a:solidFill>
                  <a:srgbClr val="004873"/>
                </a:solidFill>
                <a:latin typeface="Monotype Corsiva"/>
              </a:rPr>
              <a:t>Н.А. Заболоцкий</a:t>
            </a:r>
            <a:r>
              <a:rPr b="1" i="1" lang="ru-RU" sz="3200" spc="-1" strike="noStrike">
                <a:solidFill>
                  <a:srgbClr val="004873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фото"/>
          <p:cNvPicPr/>
          <p:nvPr/>
        </p:nvPicPr>
        <p:blipFill>
          <a:blip r:embed="rId1"/>
          <a:stretch/>
        </p:blipFill>
        <p:spPr>
          <a:xfrm>
            <a:off x="533520" y="609480"/>
            <a:ext cx="3151080" cy="39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120" y="304920"/>
            <a:ext cx="81536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4873"/>
                </a:solidFill>
                <a:latin typeface="Arno Pro Smbd"/>
              </a:rPr>
              <a:t>Педагогическое кред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 Smbd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no Pro Smbd"/>
              </a:rPr>
              <a:t>С юных лет, со времени студенчества меня удивили, обворожили, укрепили, убедили и благословили слова французского физика Б. Паскаля: «Ученик – это не сосуд, который  надо наполнить, а факел, который надо зажечь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no Pro Smbd"/>
              </a:rPr>
              <a:t>             </a:t>
            </a: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                       </a:t>
            </a:r>
            <a:r>
              <a:rPr b="1" i="1" lang="ru-RU" sz="2300" spc="-1" strike="noStrike">
                <a:solidFill>
                  <a:srgbClr val="000000"/>
                </a:solidFill>
                <a:latin typeface="Arno Pro Smbd"/>
              </a:rPr>
              <a:t>Сегодн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                      </a:t>
            </a: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Я – учитель, и поэтом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                              </a:t>
            </a: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Понимая – принимаю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                              </a:t>
            </a: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Принимая – люблю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                              </a:t>
            </a: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Любя – уч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                     </a:t>
            </a: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Ученик – это ребёнок, а поэтом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                               </a:t>
            </a: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Учась – любит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                               </a:t>
            </a: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Любя – принимает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                                </a:t>
            </a:r>
            <a:r>
              <a:rPr b="1" lang="ru-RU" sz="2300" spc="-1" strike="noStrike">
                <a:solidFill>
                  <a:srgbClr val="000000"/>
                </a:solidFill>
                <a:latin typeface="Arno Pro Smbd"/>
              </a:rPr>
              <a:t>Принимая – понимает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no Pro Smbd"/>
              </a:rPr>
              <a:t>      </a:t>
            </a:r>
            <a:r>
              <a:rPr b="1" i="1" lang="ru-RU" sz="2400" spc="-1" strike="noStrike" u="sng">
                <a:solidFill>
                  <a:srgbClr val="004873"/>
                </a:solidFill>
                <a:uFillTx/>
                <a:latin typeface="Arno Pro Smbd"/>
              </a:rPr>
              <a:t>Зав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no Pro Smbd"/>
              </a:rPr>
              <a:t>                                   … </a:t>
            </a:r>
            <a:r>
              <a:rPr b="1" lang="ru-RU" sz="2400" spc="-1" strike="noStrike">
                <a:solidFill>
                  <a:srgbClr val="000000"/>
                </a:solidFill>
                <a:latin typeface="Arno Pro Smbd"/>
              </a:rPr>
              <a:t>«дорогу осилит идущ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873"/>
                </a:solidFill>
                <a:latin typeface="Arno Pro Smbd"/>
              </a:rPr>
              <a:t>Убеждения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no Pro Smbd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no Pro Smbd"/>
              </a:rPr>
              <a:t>Язык – это наш дом, наше духовное «жилище». И может быть, это та самая национальная идея, к поискам которой обращены в наши дни усилия многих образованных людей, болеющих за судьбы родной страны. Но прежде всего это дом. Если не любить и не обустраивать свой дом, то и не воспитать привязанности к нему, не пробудить чувства ответственности за его настоящее и будуще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4873"/>
                </a:solidFill>
                <a:latin typeface="Adobe Garamond Pro"/>
              </a:rPr>
              <a:t>«Во дни сомнений, во дни тягостных раздумий о судьбах моей родины, - ты один мне поддержка и опора, о великий, могучий, правдивый и свободный русский язык! Не будь тебя – как не впасть в отчаяние при виде всего, что совершается дома? Но нельзя верить, чтобы такой язык не был дан великому народу!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dobe Garamond Pro"/>
              </a:rPr>
              <a:t>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dobe Garamond Pro"/>
              </a:rPr>
              <a:t>И.С. Турген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4873"/>
                </a:solidFill>
                <a:latin typeface="Garamond"/>
              </a:rPr>
              <a:t>Цели: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76400"/>
            <a:ext cx="8007480" cy="32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всестороннее развитие ребенк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создание условий для проявления личности ребенка, для проявления познавательной активности  учеников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18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4873"/>
                </a:solidFill>
                <a:latin typeface="Garamond"/>
              </a:rPr>
              <a:t>Задачи</a:t>
            </a:r>
            <a:r>
              <a:rPr b="1" lang="ru-RU" sz="4400" spc="-1" strike="noStrike">
                <a:solidFill>
                  <a:srgbClr val="004873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формировать у учащихся способности самостоятельно, активно и инициативно искать средства решения задач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способствовать пробуждению и обострению в ребенке чувства сове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способствовать возвышению его личности, нравственной регуляции</a:t>
            </a: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4873"/>
                </a:solidFill>
                <a:latin typeface="Garamond"/>
              </a:rPr>
              <a:t>Методическая работа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Образовательная програм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«Культура речи и этик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Работа над методической темой «Развитие  продуктивного мышления учащихся в культуротворческой деятельности, как компонента личностно-ориентированного обуч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Особый метод: </a:t>
            </a:r>
            <a:br>
              <a:rPr sz="4000"/>
            </a:br>
            <a:r>
              <a:rPr b="1" lang="ru-RU" sz="2900" spc="-1" strike="noStrike">
                <a:solidFill>
                  <a:srgbClr val="004873"/>
                </a:solidFill>
                <a:latin typeface="Garamond"/>
              </a:rPr>
              <a:t>приглашение к творческому самовыражению</a:t>
            </a:r>
            <a:endParaRPr b="1" lang="en-US" sz="2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Garamond"/>
              </a:rPr>
              <a:t>Суть метода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помочь каждому ученику найти точку опоры своей уникаль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уметь найти резервы собственной индивидуаль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привести каждого ученика в соприкосновение с собственным творчеств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4873"/>
                </a:solidFill>
                <a:latin typeface="Garamond"/>
              </a:rPr>
              <a:t>Различные структуры уроков:</a:t>
            </a:r>
            <a:endParaRPr b="1" lang="en-US" sz="5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уроки-мастерские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уроки-диспуты, семинары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уроки-диалог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урок-мастерская творческого письм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урок-анализ конкретных ситуаци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уроки-театрализаци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уроки-игра, путешеств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0-01-21T15:09:4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