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667-0C14-4580-AD4E-CB50FF1B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3CB-CA32-4B5F-B393-5EF2DC93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5F8D3-4EBB-45D5-9DB7-8D683A12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2076A-ED1B-4911-8B8F-E90320B4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20BC8-76D7-4DAE-A422-27326A3F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78060-3F5A-4CD0-AB10-46DF2840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7FAC5-0E3C-4037-9E74-15C1DEA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625C5-611B-401B-9540-820A01AD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A15CA-52D5-4539-AB3B-B90A999B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12975-593B-47F7-BED0-0C378AEB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2F2B2-318B-47EB-9C07-0F951EE0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2EA30-A374-4DDB-9505-5BDBC11E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285-A140-44DD-9A7F-2AE12ED3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3CE19-8AE3-49C0-BBD6-9A787871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68886-1F69-4935-B4FD-2DE440D3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C4E95-B161-4248-A466-9B48F8EC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D358E-571F-4E9E-B8F6-7AA6647E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AE358-2E3D-46FC-8776-CDA44F92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6A8A8-DD9B-49C0-BB00-C854E7B6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4F967-92B2-463D-84E2-4C240A17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271DD-AD72-4672-B665-22460DB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DF625-1B79-4B9B-8093-E1FF79DE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8F4DB-F2DB-4787-9B57-A1B74FA1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56F-C36B-4287-9364-88B7404B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E28A7-7B3F-41D2-A93B-1ADD26E2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E6B6C-2A1C-4FEA-A6F9-9C1179FB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C92D3-0CC9-4323-A3AC-E7D00F49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5B838-90E9-403A-A178-5895D0D4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1E847-AEA6-4871-9E57-537B7ACB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2CFA6-109A-4455-9C2F-ED9D4BBA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ED93C-AF5F-4DEB-BF7B-A132F8C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FC4C8-3E00-470A-B1D7-B8189C85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AB371-6BAC-47DB-8F76-61A2BB94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79191-3FCC-45CD-B051-28013554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5217-4316-4920-95A1-C1C8C996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D7C5A-37DD-47A0-8C97-5EAD7858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608C1-943D-4934-A448-62CEB447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A6289-433F-4363-8DF1-42C26107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E7BED-F110-48E3-9C33-E84BE3FD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86460-EB4D-43D2-8170-5CDCCE7C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395E7-37A7-46FE-8DBD-F1358CD4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5E197-DAA9-474F-A9CB-0BF975F5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D3368-11FF-4FF2-B3CF-5DAB9F9E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13637-E0D4-4107-A624-38D052DC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AB39B-8D23-479C-B284-6D5C9D8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7DD0-7A37-450A-B6A1-711B76DE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9ECDA-3E98-44EB-9B88-75D37154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5DE83-D188-4B74-9466-3D0A15E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CB574-6278-40C6-B0D9-398BB9F6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C5476-B532-41B3-8153-EC9CEF37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9BEBB-1D3E-49FB-AAFD-1499C8CF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964BA-1F38-4820-97AE-1EF2FECE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CBA29-E93E-424E-B8C8-6740E0D9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C23C1-C4FB-4271-AD5A-A82BEB09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CF9FA-D925-45B4-A447-A626C6BB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68E5D-5092-4A3D-A8DB-E3BC3A2D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5E36-4A7E-4E41-80B0-172D5FE1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87A37-8E6C-4360-BE04-1C6AAC0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59691-FADA-416D-ADE1-7F5C35BB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65B66-A515-493D-B4DF-84A77604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111C4-F01E-4B9C-909D-54C966AE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55CF3-FD51-486A-B5A5-8ED04F86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5508D-C03B-489B-A754-B7050B79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BDB19-05D5-47DB-A1B9-6DF943E0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EA7BD-CA6D-4D68-B7D2-DBA93AAC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DC495-6FCB-4E08-B5B3-50113380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48E81-4A7A-40D2-8554-9038725F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D072-5CBD-458F-B978-B5E42085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30419-F0EF-499B-B6D2-0427D9EA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528DD-863D-42A8-B37B-A092A28F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2CC2A-2660-4FA4-8C4C-A518F45D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52169-E173-47A6-9CB1-C1D15734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677C5-9FF7-48AA-916E-F4A34E48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75001-26DC-4EBC-8168-C9CF1353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346A6-E025-418F-B77A-006579EA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EC12F-CADD-4C95-A01C-18888950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C8F54-BB0B-4498-A104-7014E2A4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23565-FEED-4974-B930-D7C64962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BC8E-F3C2-4DD9-A9B9-27851CD9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B7AD1-0C28-4632-A23A-C6E3BFFA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A05F4-50AF-48F7-8C56-AD5761CF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64FBE-040C-429D-9629-5117047C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57D81-5994-4E81-8601-E26B6701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AB7DB-2B99-4423-8729-FC340BF3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ACBCC-75CB-4835-BA83-D1B9D98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337F2-3C05-4204-99D8-5728ACAF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C4376-FEF5-4587-B47B-F656CD8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C91B7-7579-4FA0-9B55-7A3E0336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9B501-F702-47F8-AF23-D9CEB9B1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8289-EE92-49DF-B52A-D04309E8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B153B-0842-4EE9-AC3A-08652B38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3EC4A-E4C6-4992-860E-C76FD072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0521E-ED1C-4286-8D99-8C66676E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85E91-C482-4B3A-A6F8-75A7CCA3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352AA-BCFF-42A4-998A-1A6CF69A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1F79E-26DA-49B8-B126-3212DF42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A1BB6-1C20-4590-A397-D722B36A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03325-6D8C-41FA-B1F0-102081A7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EDBFA-68E8-416B-B580-AEC5B5E2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2697C-D0AA-4FFE-9B49-DF851F1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F80F-70B8-460C-8220-AF69172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DE6C50-861C-48E6-97E0-334C6697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E7FEC-6A84-4EC1-9D15-D0883683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9C7A5-5160-441D-B2A7-1A0F925F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38E19F-94EC-4C94-B7CA-5725938B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0B9B35-E64A-4316-8914-1DFF252C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C241F-E14C-4EF7-9055-92D68660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21D37-A9B4-4D77-9BAF-C0208BFD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2EAEC-2639-4420-B705-9B413592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34067-E0FA-4622-99CD-CE3140E9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9F958-E9DA-42B9-821F-AF7FD6F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0FF-A1EE-4FB1-A0DE-D31944C3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F352-A21C-447F-B269-303A096F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0FAFD-AB83-4F1F-ABFB-E4C5FBA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94D385-4E38-4BD4-B617-6AB57B0C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20974-42E9-4BAB-B9B1-22130A4E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B01671-B091-4513-85BB-650B8223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C16AA-090C-4E2E-BB5E-848EC774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84178-8E2F-4A45-B196-A29A068B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BDE5B-B6E0-45D2-AF94-E563D954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D5558-79B6-4683-B331-5AC8A633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3F35B-1720-4AEE-95BA-2C64403A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4EB90-070E-4BCF-B304-339A6847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0C9F-2D05-4275-86A8-1A02123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8BA96-7663-41DF-B8A5-8804465E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59507-25FC-4133-90FA-302DADC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A9B45-FC83-4242-BED1-8B7647E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38B71-6339-417D-A12E-749B100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04094-B317-462F-8153-5BE6E5D1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93306-ED83-4E4A-BE35-DB31EA1D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0AF63F-59F7-40E1-801A-DCA4B55B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62A9B-64B2-4FD4-8234-9C7E0269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32104-6DF6-41F5-8387-C52B32E9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D5749-BF09-4BFF-A712-BCF9108D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5581-7D3F-42BD-9DBB-6152450B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3BD90-ED3D-4C62-AADC-F7D9E3CC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80798-70CF-44A0-89F1-591A7B14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2D939C-FFB8-4724-9726-FAFB7E1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2A6734-BD62-455B-8868-CF6D7DDF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EB2D3-CABB-45BE-A56D-007089CD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D3637-FA70-4B94-B715-BED0E37F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7F01AC-C0A9-4258-9E7C-AF54759D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CD369-71F6-41A0-B3B2-6F11E084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750E8-0B52-4463-8A11-82DB16CD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8355D-EB41-4215-8D4C-574860D5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5875-9F33-46E9-8A2C-FB43C5A1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46C74-20DE-4BE6-9E06-4C05FED5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6C1A3-3CEB-4964-A6D6-2E31F1B5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EFF7B-B80E-4B83-8682-814DBD5E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711E3-8CC7-4F8A-9FE7-20EEF064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603BB5-36BB-4067-B286-ED536F6E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1A554-CBF6-4375-8E11-1C351FC6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6D1EF-86F9-45DD-BC4C-C49B089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7EDE78-FE69-44FF-AFF9-796157CD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A841D-1342-49CC-8899-1C7BC2B2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C9F3E-02CA-4423-B9E9-2A9D53FB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58CE-DB8E-4625-AFC9-2B98F7BF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0C17A2-48AE-4BF8-93AF-A6995A3B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BCD33-459C-4040-AD5D-210DEC7D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B2B58-E0A0-423C-A182-BDF149FF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62A17-5D6D-438C-92DA-FB546468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D844A-1678-4464-888F-04789153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73D29B-BD7E-4949-A763-69F1E4B6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36594-14A7-4323-9D96-A90CF57E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F18A8-1287-4F9A-9DA6-C5143008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E61E23-C85B-4FBE-A5A5-B013E500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ACEC2-CE73-4073-BCC3-7401EEF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6692-3AA3-4998-973D-4B2CD651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79DF7E-69B5-4611-BD84-E85FEEC4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22E8F-D85F-4D37-9841-93B7E3DE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387BD-D585-4BCC-A39A-EAB60721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4652A3-A06B-4297-BCF7-1609E9AB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7BDD88-ED35-43FD-8D07-521CAA17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D1DAC4-66D4-4904-A43C-D30AB09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D67500-77ED-4DB8-8E7A-611D45D0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049B88-5809-415E-89BA-FF1BB524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AD715B-06EE-4E0B-BE5F-78E980D5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9E31B3-9C8E-4828-8F3E-DCA8270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600B-3469-4580-8CAF-1C16DE5F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6DF42B-297B-4699-88D0-DFD6C96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51BF29-C968-49D8-BA84-CAF4FF95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58583A-4D53-46A0-A3A3-E1D9FD07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F45C84-2A70-4833-944F-24628C4C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022D3F-9576-4DE5-B3BD-E703A7D1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97C4D-E4EE-4E07-9BC9-44DE5C95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C5DAC6-5F84-4853-B196-CA2DD2EC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3CC591-DE9D-4F80-88E9-8D7690B8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C9D84C-592E-4AC1-8E8F-C55BBCDA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DFCF23-4304-4124-A79E-B18AA4ED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2D5A-2BC1-4779-91F7-C915ACD0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1AFE9E-7113-4E7F-AB8D-83C4E57D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9E21D2-ACC1-4F54-915C-9A6074B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B43A0D-30D6-45C6-B977-22B78586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346559-2666-48CB-A55D-8E4D0744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462A4B-FF43-4766-B735-190893EA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13ADBA-B19B-42C8-89D3-D3385747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701227-041A-4C5B-A07B-85872329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8D4CB4-40A8-44AB-A526-F60958A1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03012A-B85A-4AA1-A628-79B699E6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745DC5-91A0-47E5-8FDD-754B1E07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6EB2-60E1-4119-8859-746A8F80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255B8F-3ADF-41AB-9240-5847A290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D96777-842E-407C-9E02-07746164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7DE942-A084-460C-93BB-197872F4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AEC975-863B-43CA-9E8B-106C995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488A9A-13DF-438F-8588-7E945788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86A52D-EBFB-4C63-8EE9-42F559AA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05366D-1F75-4523-8218-35601AE4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1C41BA-E10B-4691-B12D-40C8493F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98DDB7-4C3C-4C96-AE59-07FA59A4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D239-8AD7-4CBA-AB15-69C1A154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7C5-D97B-4785-803C-784B0F3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11D1-A09E-4C6E-8CB6-8597800B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A0CF-C06F-4311-B88D-15D9120E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22EA-F6FB-4E76-A8A2-C311027C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7C78-FC81-4A79-8509-3BC697CF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4198-469D-4B7C-AE47-1B324AEB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3105-B5EC-4961-9F5C-A8D9E1E1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7E9B-BC3E-44CA-99AF-99C93794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118BD-32E7-45A3-B478-2840277E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A9E0-C5F7-4261-8BAD-F384CC54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0B261-5A7B-4F9C-B593-483A514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EA1-67AB-4040-87F9-CE69665E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D198-9E5D-40B2-B7EC-3EEA2CF7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BDF6-AC78-4075-A76F-CCE66079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E86A5-0202-4D44-9123-4E36990F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FBF92-87FE-4215-802D-74CCED63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36464-F704-49BE-970D-C5F306E8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AC93-6426-4AB2-BA4C-7B61A855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614B-D80A-4418-9ED9-B9677A6F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A2EC-8F0A-4990-9F0F-9D76A1A6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5870F-143D-408C-8BD0-5364D264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BEFE-131B-4ECD-9118-B96FDAB4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FA2-3F08-475B-9EB9-9774DB7C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FFE1-6B33-4BDC-9EC3-67C5AF35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A4221-A9CF-4DCB-9D0B-31C1F61C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A5BB8-F7A3-4150-BFC1-404266AB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AFFD-97C0-4F52-8428-7D9F561E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D7F17-AC51-4417-8252-D07ED362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18057-01C9-4658-B9B9-3276EF39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08E5-46E6-4F13-86F2-6ECDC1F5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3BD24-0393-4932-8666-7D6A1E9E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0E0AA-32E3-4DE1-95E4-872CE87C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9B8ED-D7DF-45BD-9EC7-13F85730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095-1096-49AB-9F99-FB0AAB3F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7BC7B-E689-4BFF-984B-754CD5E4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E0E6-9671-4AC0-BD3D-1D87AA84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66591-F72F-4A5D-B878-C707F556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729F-F311-4CBC-857C-890C573A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6D344-8905-4F26-A7FB-8CD0AB2D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A8F38-4E1E-487A-A1B4-59B79F16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EE5C6-87CB-4E7A-BE6F-8A64C1AC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AE1F-3D03-4650-BB13-3BFAB26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C9A98-3866-4156-B67B-9542820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7A036-DB2E-43FA-A6D5-F8E153DB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9E7-31E6-44CB-9725-6948018D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68453-1F17-4AC1-9E77-4527B98C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78E43-B97C-4706-A64C-8EE35AA6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02A7D-5840-4F5B-BD73-F528798D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9ECC0-6F7C-473C-9D17-E4B3FBC2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BC007-F47B-4458-91E1-80CB813A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5EB9A-26C1-49B6-ADD8-8FD87858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4467F-7F4A-4428-9830-140F4B77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36D0B-C845-4B4A-B745-CFA6BC3E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4F09F-0226-4223-8BA3-221CDC41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65F67-D3C9-406C-A266-3D5A1F37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A26-B614-4853-858B-19FC9F7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24515-0236-4A16-9A11-A3BA30C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85C22-5297-4EEB-A1EB-9AD36563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555C-DBBF-46D2-A8F1-1A52C31B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02CDB-8CB1-4F0E-AF18-8D47ED1C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7D315-27AB-4659-BAD9-18BF350B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FCE45-B991-4324-8186-03820E39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11299-6BD2-4E8C-83B2-AC48BB1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E51C4-15F3-42CE-BDE5-926986DE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90E17-1C66-4871-B529-B88C3CE5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ACFC5-405E-4134-B923-A632827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5E1-D297-4879-8FB9-10A55FDA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C5687-E767-47A3-A726-C11E0AFE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6F7A0-DBE2-456E-A7E1-D936385D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CECC1-150F-462C-A94F-AF4BC3F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A79BE-8426-40AD-9B7C-B551D75C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452AE-28D4-460A-BCF4-3D20A563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1CD89-2048-4BEB-8F50-50852BEA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71D13-980A-4DC4-86F2-AC4A0894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8E4FA-7798-4D8E-9E5B-A3BC52D5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B0300-1792-4E56-8148-3313D0D2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C73D4-8466-4166-9343-691DB8C0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9D75-620A-4AB3-822B-DA0488C7B3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E19C-ED40-4BFF-90D3-C57E63D155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7C64-9610-40CB-AFB6-3A30BA81F3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3D93-8904-4C1E-A436-5BB6BFE290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3D20-F589-482D-9D3C-F5A065DE1F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B118-CCEF-42C4-AAA7-670E6F4B07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D20F-3819-44D9-A0AC-DFA51A68AB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95DA-AB90-4BD8-BCFB-6A2E3CF229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51D3-A661-4C94-A985-DA8561AFC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40C-C5F2-49DE-A6BD-B9648484C7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84DF-99E3-46AD-995C-F0F322ED04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37F4-7ADE-49C0-8DD4-BC11709B22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94A5-4F94-43BD-81B8-0CE2346E8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9D46-04C7-4AF4-B1ED-1D030E272B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37D6-1A44-483D-9F73-F274D13A20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3D25-EAFF-4CB6-A4FB-68655F280B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6A4-09A0-402E-AFA8-E84802264D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7304-2704-4130-B365-ED62C49003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6FC4-9683-4BD9-8F08-6C60BEBAC1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993A-2882-4805-8F96-8BD71BFE11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684E-BBE6-4375-9BE8-8B55CDDDBC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26AF-9078-494B-BD10-64CB9C8CE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5BF5-1C86-407C-A4E6-A8E5C1E456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7808-452D-41AB-84CF-8F2F11AA8A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4" descr=""/>
          <p:cNvPicPr/>
          <p:nvPr/>
        </p:nvPicPr>
        <p:blipFill>
          <a:blip r:embed="rId1"/>
          <a:stretch/>
        </p:blipFill>
        <p:spPr>
          <a:xfrm>
            <a:off x="1187280" y="1181160"/>
            <a:ext cx="7056720" cy="4902120"/>
          </a:xfrm>
          <a:prstGeom prst="rect">
            <a:avLst/>
          </a:prstGeom>
          <a:ln w="0">
            <a:noFill/>
          </a:ln>
        </p:spPr>
      </p:pic>
      <p:sp>
        <p:nvSpPr>
          <p:cNvPr id="985" name="Rectangle 5"/>
          <p:cNvSpPr/>
          <p:nvPr/>
        </p:nvSpPr>
        <p:spPr>
          <a:xfrm>
            <a:off x="2514240" y="-360"/>
            <a:ext cx="411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333399"/>
                </a:solidFill>
                <a:latin typeface="Garamond"/>
              </a:rPr>
              <a:t>езопас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aramond"/>
              </a:rPr>
              <a:t>в сети Интер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6"/>
          <p:cNvSpPr/>
          <p:nvPr/>
        </p:nvSpPr>
        <p:spPr>
          <a:xfrm>
            <a:off x="971640" y="3617640"/>
            <a:ext cx="7335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Анализируй и критиче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тносись к информационной продукции!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4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70567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Times New Roman"/>
              </a:rPr>
              <a:t>Сайты образовательно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для школьников и студентов (http://botan0.ru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уроки «ИнтернетУрок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terneturok.ru)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уроки по математике (http://www.indigos.ru/catalog/study/math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Онлайн-энциклопеди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кипедия – свободная энциклопедия (https://ru.wikipedia.org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ндекс – Энциклопедии и словари (http://slovari.yandex.ru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Megabook – Мегаэнциклопедия Кирилла и Мефодия (http://megabook.ru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нциклопедия Кругосвет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krugosvet.ru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Ресурсы Интернет-вещания 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ет-радио «Класс» / Новосибирская открытая образовательная сеть (http://www.edu54.ru/radio_class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вательно-просветительский и образовательный телеканал (http://www.znanietv.ru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енное интернет-пространство (http://интернет.дет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5"/>
          <p:cNvSpPr/>
          <p:nvPr/>
        </p:nvSpPr>
        <p:spPr>
          <a:xfrm>
            <a:off x="1692000" y="764280"/>
            <a:ext cx="52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Защитите себя в Интер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7"/>
          <p:cNvSpPr/>
          <p:nvPr/>
        </p:nvSpPr>
        <p:spPr>
          <a:xfrm>
            <a:off x="178200" y="1699560"/>
            <a:ext cx="42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майте о том, с кем разговаривае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8"/>
          <p:cNvSpPr/>
          <p:nvPr/>
        </p:nvSpPr>
        <p:spPr>
          <a:xfrm>
            <a:off x="4211640" y="5228280"/>
            <a:ext cx="46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омни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В Интернете не вся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информация надежна и не все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ользователи откровен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9"/>
          <p:cNvSpPr/>
          <p:nvPr/>
        </p:nvSpPr>
        <p:spPr>
          <a:xfrm>
            <a:off x="250920" y="5373720"/>
            <a:ext cx="45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гда удостоверяйтесь в том, что вам известно, кому предоставляется информация, и вы понимаете, в каких целях она будет использов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0"/>
          <p:cNvSpPr/>
          <p:nvPr/>
        </p:nvSpPr>
        <p:spPr>
          <a:xfrm rot="3418800">
            <a:off x="324000" y="907560"/>
            <a:ext cx="720720" cy="720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11"/>
          <p:cNvSpPr/>
          <p:nvPr/>
        </p:nvSpPr>
        <p:spPr>
          <a:xfrm>
            <a:off x="1187280" y="1413000"/>
            <a:ext cx="66978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2"/>
          <p:cNvSpPr/>
          <p:nvPr/>
        </p:nvSpPr>
        <p:spPr>
          <a:xfrm>
            <a:off x="1627560" y="18900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Garamond"/>
              </a:rPr>
              <a:t>ТРИ ОСНОВНЫЕ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3"/>
          <p:cNvSpPr/>
          <p:nvPr/>
        </p:nvSpPr>
        <p:spPr>
          <a:xfrm>
            <a:off x="4319640" y="2060640"/>
            <a:ext cx="482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когда не разглашайте в Интернете личную информацию, за исключением людей, которым вы доверяете. При запросе предоставления личной информации на веб-сайте всегда просматривайте разделы «Условия использования» или «Политика защиты конфиденциальной информации», чтобы убедиться в предоставлении оператором веб-сайта сведений о целях использования получаемой информации и ее передаче другим л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Picture 14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4076640" cy="3092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Group 3"/>
          <p:cNvGrpSpPr/>
          <p:nvPr/>
        </p:nvGrpSpPr>
        <p:grpSpPr>
          <a:xfrm>
            <a:off x="6933960" y="2590920"/>
            <a:ext cx="1904760" cy="1955880"/>
            <a:chOff x="6933960" y="2590920"/>
            <a:chExt cx="1904760" cy="1955880"/>
          </a:xfrm>
        </p:grpSpPr>
        <p:sp>
          <p:nvSpPr>
            <p:cNvPr id="1040" name="Oval 4"/>
            <p:cNvSpPr/>
            <p:nvPr/>
          </p:nvSpPr>
          <p:spPr>
            <a:xfrm>
              <a:off x="6934320" y="2590920"/>
              <a:ext cx="1904040" cy="1955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1" name="AutoShape 5"/>
            <p:cNvCxnSpPr/>
            <p:nvPr/>
          </p:nvCxnSpPr>
          <p:spPr>
            <a:xfrm>
              <a:off x="7886520" y="2590920"/>
              <a:ext cx="1440" cy="195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2" name="AutoShape 6"/>
            <p:cNvCxnSpPr/>
            <p:nvPr/>
          </p:nvCxnSpPr>
          <p:spPr>
            <a:xfrm>
              <a:off x="6933960" y="3568680"/>
              <a:ext cx="19047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43" name="Text Box 7"/>
            <p:cNvSpPr/>
            <p:nvPr/>
          </p:nvSpPr>
          <p:spPr>
            <a:xfrm>
              <a:off x="8044200" y="2891880"/>
              <a:ext cx="47664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8"/>
            <p:cNvSpPr/>
            <p:nvPr/>
          </p:nvSpPr>
          <p:spPr>
            <a:xfrm>
              <a:off x="7251480" y="2891880"/>
              <a:ext cx="4762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9"/>
            <p:cNvSpPr/>
            <p:nvPr/>
          </p:nvSpPr>
          <p:spPr>
            <a:xfrm>
              <a:off x="7251480" y="3794040"/>
              <a:ext cx="476280" cy="6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10"/>
            <p:cNvSpPr/>
            <p:nvPr/>
          </p:nvSpPr>
          <p:spPr>
            <a:xfrm>
              <a:off x="8044200" y="3794040"/>
              <a:ext cx="7945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Rectangle 11"/>
          <p:cNvSpPr/>
          <p:nvPr/>
        </p:nvSpPr>
        <p:spPr>
          <a:xfrm>
            <a:off x="-49320" y="152388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из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3009960" y="15238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4"/>
          <p:cNvSpPr/>
          <p:nvPr/>
        </p:nvSpPr>
        <p:spPr>
          <a:xfrm>
            <a:off x="7162920" y="17834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15"/>
          <p:cNvGrpSpPr/>
          <p:nvPr/>
        </p:nvGrpSpPr>
        <p:grpSpPr>
          <a:xfrm>
            <a:off x="3886200" y="2514240"/>
            <a:ext cx="1905120" cy="1956240"/>
            <a:chOff x="3886200" y="2514240"/>
            <a:chExt cx="1905120" cy="1956240"/>
          </a:xfrm>
        </p:grpSpPr>
        <p:sp>
          <p:nvSpPr>
            <p:cNvPr id="1052" name="Oval 16"/>
            <p:cNvSpPr/>
            <p:nvPr/>
          </p:nvSpPr>
          <p:spPr>
            <a:xfrm>
              <a:off x="3886200" y="2514600"/>
              <a:ext cx="1904400" cy="195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3" name="AutoShape 17"/>
            <p:cNvCxnSpPr/>
            <p:nvPr/>
          </p:nvCxnSpPr>
          <p:spPr>
            <a:xfrm>
              <a:off x="4838760" y="2514240"/>
              <a:ext cx="1440" cy="195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4" name="AutoShape 18"/>
            <p:cNvCxnSpPr/>
            <p:nvPr/>
          </p:nvCxnSpPr>
          <p:spPr>
            <a:xfrm>
              <a:off x="3886200" y="3492720"/>
              <a:ext cx="19051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5" name="Text Box 19"/>
            <p:cNvSpPr/>
            <p:nvPr/>
          </p:nvSpPr>
          <p:spPr>
            <a:xfrm>
              <a:off x="4996440" y="2815560"/>
              <a:ext cx="47664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20"/>
            <p:cNvSpPr/>
            <p:nvPr/>
          </p:nvSpPr>
          <p:spPr>
            <a:xfrm>
              <a:off x="4203360" y="2815560"/>
              <a:ext cx="476280" cy="60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21"/>
            <p:cNvSpPr/>
            <p:nvPr/>
          </p:nvSpPr>
          <p:spPr>
            <a:xfrm>
              <a:off x="4203360" y="3718080"/>
              <a:ext cx="476280" cy="6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22"/>
            <p:cNvSpPr/>
            <p:nvPr/>
          </p:nvSpPr>
          <p:spPr>
            <a:xfrm>
              <a:off x="4996440" y="3718080"/>
              <a:ext cx="7948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23"/>
          <p:cNvGrpSpPr/>
          <p:nvPr/>
        </p:nvGrpSpPr>
        <p:grpSpPr>
          <a:xfrm>
            <a:off x="685800" y="2540160"/>
            <a:ext cx="1905120" cy="1955880"/>
            <a:chOff x="685800" y="2540160"/>
            <a:chExt cx="1905120" cy="1955880"/>
          </a:xfrm>
        </p:grpSpPr>
        <p:sp>
          <p:nvSpPr>
            <p:cNvPr id="1060" name="Oval 24"/>
            <p:cNvSpPr/>
            <p:nvPr/>
          </p:nvSpPr>
          <p:spPr>
            <a:xfrm>
              <a:off x="685800" y="2540160"/>
              <a:ext cx="1904400" cy="1955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1" name="AutoShape 25"/>
            <p:cNvCxnSpPr/>
            <p:nvPr/>
          </p:nvCxnSpPr>
          <p:spPr>
            <a:xfrm>
              <a:off x="1638360" y="2540160"/>
              <a:ext cx="1440" cy="195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62" name="AutoShape 26"/>
            <p:cNvCxnSpPr/>
            <p:nvPr/>
          </p:nvCxnSpPr>
          <p:spPr>
            <a:xfrm>
              <a:off x="685800" y="3517920"/>
              <a:ext cx="19051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63" name="Text Box 27"/>
            <p:cNvSpPr/>
            <p:nvPr/>
          </p:nvSpPr>
          <p:spPr>
            <a:xfrm>
              <a:off x="1796040" y="2841120"/>
              <a:ext cx="47664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28"/>
            <p:cNvSpPr/>
            <p:nvPr/>
          </p:nvSpPr>
          <p:spPr>
            <a:xfrm>
              <a:off x="1002960" y="2841120"/>
              <a:ext cx="4762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29"/>
            <p:cNvSpPr/>
            <p:nvPr/>
          </p:nvSpPr>
          <p:spPr>
            <a:xfrm>
              <a:off x="1002960" y="3743280"/>
              <a:ext cx="476280" cy="6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 Box 30"/>
            <p:cNvSpPr/>
            <p:nvPr/>
          </p:nvSpPr>
          <p:spPr>
            <a:xfrm>
              <a:off x="1796040" y="3743280"/>
              <a:ext cx="7948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5"/>
          <p:cNvSpPr/>
          <p:nvPr/>
        </p:nvSpPr>
        <p:spPr>
          <a:xfrm>
            <a:off x="4140360" y="871200"/>
            <a:ext cx="47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По последним данным, в Росс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редний возраст начала самостоятельной работы в Сети - 10 лет и сего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блюдается тенденция к снижению возраста до 6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7"/>
          <p:cNvSpPr/>
          <p:nvPr/>
        </p:nvSpPr>
        <p:spPr>
          <a:xfrm>
            <a:off x="1294920" y="0"/>
            <a:ext cx="74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aramond"/>
              </a:rPr>
              <a:t>СПРАВОЧНАЯ 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8"/>
          <p:cNvSpPr/>
          <p:nvPr/>
        </p:nvSpPr>
        <p:spPr>
          <a:xfrm>
            <a:off x="179280" y="357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10" descr="1311273811"/>
          <p:cNvPicPr/>
          <p:nvPr/>
        </p:nvPicPr>
        <p:blipFill>
          <a:blip r:embed="rId1"/>
          <a:stretch/>
        </p:blipFill>
        <p:spPr>
          <a:xfrm>
            <a:off x="179280" y="692280"/>
            <a:ext cx="3892680" cy="340992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11"/>
          <p:cNvSpPr/>
          <p:nvPr/>
        </p:nvSpPr>
        <p:spPr>
          <a:xfrm>
            <a:off x="857160" y="485784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% несовершеннолетних проводят в Сети более 3 часов в день (пр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 часа в неделю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4"/>
          <p:cNvSpPr/>
          <p:nvPr/>
        </p:nvSpPr>
        <p:spPr>
          <a:xfrm>
            <a:off x="108000" y="1413000"/>
            <a:ext cx="44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пулярны следующие в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формы онлайн-развлеч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ые се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тевые иг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мотр и скачивание фильмов,  клипов, аудиофайлов, програм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 файл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электронной почты, сервисов мгновенного обмена сообщениями, ч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дение блогов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863280" y="0"/>
            <a:ext cx="74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aramond"/>
              </a:rPr>
              <a:t>СПРАВОЧНАЯ 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6" descr="1311273735"/>
          <p:cNvPicPr/>
          <p:nvPr/>
        </p:nvPicPr>
        <p:blipFill>
          <a:blip r:embed="rId1"/>
          <a:stretch/>
        </p:blipFill>
        <p:spPr>
          <a:xfrm>
            <a:off x="4521240" y="1268280"/>
            <a:ext cx="462276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5"/>
          <p:cNvSpPr/>
          <p:nvPr/>
        </p:nvSpPr>
        <p:spPr>
          <a:xfrm>
            <a:off x="591480" y="189000"/>
            <a:ext cx="80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aramond"/>
              </a:rPr>
              <a:t>НЕГАТИВНОЕ ВЛИЯНИЕ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ИНТЕРН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6"/>
          <p:cNvSpPr/>
          <p:nvPr/>
        </p:nvSpPr>
        <p:spPr>
          <a:xfrm>
            <a:off x="4191120" y="1981080"/>
            <a:ext cx="42670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ияние на физическое здоровье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ияние на психическое здоровье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йты с недопустимым содержа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нет-мошен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5"/>
          <p:cNvSpPr/>
          <p:nvPr/>
        </p:nvSpPr>
        <p:spPr>
          <a:xfrm>
            <a:off x="1712160" y="6390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СЕРЬЕЗНЫЕ КИБЕРУ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250920" y="2486880"/>
            <a:ext cx="680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пионск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шинговые ат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русы и вредоносны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шеннические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2"/>
          <p:cNvSpPr/>
          <p:nvPr/>
        </p:nvSpPr>
        <p:spPr>
          <a:xfrm>
            <a:off x="1285920" y="4857840"/>
            <a:ext cx="647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14" descr="ope_otukset"/>
          <p:cNvPicPr/>
          <p:nvPr/>
        </p:nvPicPr>
        <p:blipFill>
          <a:blip r:embed="rId1"/>
          <a:stretch/>
        </p:blipFill>
        <p:spPr>
          <a:xfrm>
            <a:off x="6935760" y="2421000"/>
            <a:ext cx="2208240" cy="2376360"/>
          </a:xfrm>
          <a:prstGeom prst="rect">
            <a:avLst/>
          </a:prstGeom>
          <a:ln w="0">
            <a:noFill/>
          </a:ln>
        </p:spPr>
      </p:pic>
      <p:sp>
        <p:nvSpPr>
          <p:cNvPr id="1003" name="Line 17"/>
          <p:cNvSpPr/>
          <p:nvPr/>
        </p:nvSpPr>
        <p:spPr>
          <a:xfrm>
            <a:off x="1332000" y="198900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0" y="229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9"/>
          <p:cNvSpPr/>
          <p:nvPr/>
        </p:nvSpPr>
        <p:spPr>
          <a:xfrm rot="3418800">
            <a:off x="382680" y="302400"/>
            <a:ext cx="671400" cy="676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0"/>
          <p:cNvSpPr/>
          <p:nvPr/>
        </p:nvSpPr>
        <p:spPr>
          <a:xfrm>
            <a:off x="684360" y="105264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15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91040" cy="227952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16"/>
          <p:cNvSpPr/>
          <p:nvPr/>
        </p:nvSpPr>
        <p:spPr>
          <a:xfrm>
            <a:off x="541080" y="33336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0"/>
          <p:cNvSpPr/>
          <p:nvPr/>
        </p:nvSpPr>
        <p:spPr>
          <a:xfrm>
            <a:off x="228600" y="2057400"/>
            <a:ext cx="236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анонимные массовые рассылки электронных пис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лектронную почту пользователя, который не давал согласие не ее по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1"/>
          <p:cNvSpPr/>
          <p:nvPr/>
        </p:nvSpPr>
        <p:spPr>
          <a:xfrm>
            <a:off x="4191120" y="17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2"/>
          <p:cNvSpPr/>
          <p:nvPr/>
        </p:nvSpPr>
        <p:spPr>
          <a:xfrm>
            <a:off x="1832040" y="1219320"/>
            <a:ext cx="718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шинг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особый вид компьютерного мошенн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получение доступа к персональным данным польз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огин и паро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Прямоугольник 1"/>
          <p:cNvSpPr/>
          <p:nvPr/>
        </p:nvSpPr>
        <p:spPr>
          <a:xfrm>
            <a:off x="547560" y="49528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мпьютерный вир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эт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ециально созданная програм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ая способна создавать свои коп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не точные, но полное совпа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ригиналом не обязательно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4"/>
          <p:cNvSpPr/>
          <p:nvPr/>
        </p:nvSpPr>
        <p:spPr>
          <a:xfrm>
            <a:off x="2590920" y="2627280"/>
            <a:ext cx="2819160" cy="20142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DDoS-атака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 – распределенная ат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отказ в обслужива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торая являет собой одну из са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спространенных и опасных сетевых ата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НТЕРНЕТ и УЧЕБ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Рисунок 1" descr=""/>
          <p:cNvPicPr/>
          <p:nvPr/>
        </p:nvPicPr>
        <p:blipFill>
          <a:blip r:embed="rId1"/>
          <a:stretch/>
        </p:blipFill>
        <p:spPr>
          <a:xfrm>
            <a:off x="457200" y="888840"/>
            <a:ext cx="2514600" cy="20242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Корпоративный блог AdLabs - новости интернет-маркетинга, статьи, аналитика"/>
          <p:cNvPicPr/>
          <p:nvPr/>
        </p:nvPicPr>
        <p:blipFill>
          <a:blip r:embed="rId2"/>
          <a:stretch/>
        </p:blipFill>
        <p:spPr>
          <a:xfrm>
            <a:off x="7543800" y="8683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17" name="Прямоугольник 2"/>
          <p:cNvSpPr/>
          <p:nvPr/>
        </p:nvSpPr>
        <p:spPr>
          <a:xfrm>
            <a:off x="3662280" y="1582560"/>
            <a:ext cx="4876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каталог цифровых образовательных материалов для школьников с навигацией по 22 000 понятиям школьной программ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ww.indigos.ru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алог электронных образовательных ресурс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http://fcior.edu.ru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диное окно доступа к образовательным ресурса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http://window.edu.ru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Рисунок 5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328140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Системы тес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ндекс – Единый государственный экзамен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http://ege.yandex.ru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оценки знаний «Инфотест»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http://infotest.by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StartExam (прежнее название – OpenTest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http://www.opentest.ru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ый портал Интернет-тестирования в сфере образования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(http://www.i-exam.ru)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Times New Roman"/>
              </a:rPr>
              <a:t>Сайты образовательно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ная физика – для любознательных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http://class-fizika.narod.ru)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кольная мате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://math-prosto.ru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матические этюды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://www.etudes.ru)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1</cp:lastModifiedBy>
  <dcterms:modified xsi:type="dcterms:W3CDTF">2014-10-27T07:21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