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2.gif" ContentType="image/gi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E6D-01CA-4787-990E-75E6F480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344-D084-436F-8F2C-E4417178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658-7ED2-4979-8045-93920E7A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BF6-F1E8-416E-876B-822E874C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FF4-1800-4772-BA91-53A20BAD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73BA-4D1C-4CEF-8C47-95F3B99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EAEA-CAA6-4BCA-ACD2-4A86B7A9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C12C-B5E5-43FC-8F67-A874F5FD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83EE-7574-44BE-9F4D-3D86B28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92D7-02CF-403F-93CA-C4FC8AEA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22BC-A4A9-43D1-BCA8-2ABD461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0F5-A5FB-4F41-AD3F-899044D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9256-FEF1-478C-8FC4-88A5266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644-E1FE-4411-B389-60AFD9C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F1B3-A61B-4416-9E74-0EB60736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42E0-924E-436A-866D-6F4EBAA3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862F-205A-4260-AD68-76AABC86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A83A-832C-41D8-91DE-9376FC1E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3268-467E-44F8-AD7A-E2FB8EE3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3820-8E7D-4F8E-9137-5BCD37E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6524-1F1C-4378-8DC2-AAD8892F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1BA8-E417-4B3F-B64C-436EA63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397-B13E-41FE-9A43-2203B11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22D98-8FF2-4F21-9E17-F5671CB3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455C-EB86-4459-A7C1-594D147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356C-22FE-45F2-A5B1-58904A0D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226D-30F0-4FD8-AF01-1F6F736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8AD2-7100-4920-925A-B1C666CE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8D79-579C-480B-81A2-44759956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24FB-CE3E-4E04-85E2-FF022D2D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BC6D-D428-4C65-BE86-A9CB1957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C604-246D-4123-B76A-0C196BC4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0E5B-0972-4600-903C-18F8DBF6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4F2-F568-4EDA-82F8-F55D79CD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FDB6-E3E6-41DE-91E6-3906F7ED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F9CB-0224-4A7D-B95D-52FF371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50C7-8A90-4EB5-AD1A-425DA8FC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BA18-CEE6-4A13-9741-EC1BF02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C4A9-BD3D-4F0D-B6A0-8C81B064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E95C-B31A-4CD4-9500-5480BB7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81BE-8535-4011-A9BA-D2B4EE93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9678-7F52-4EAD-8E89-BEA1DA2B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298B-2A9D-40A0-ADC0-9DD4361D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D64-0202-4E8A-8EF4-664FFB94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1DF-3585-47A2-974C-3C7EF5D3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959-4905-4A65-B4D1-D181970C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2AD-CD73-4761-B581-1DF750E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F8F-D304-47AD-95D6-B20BED3B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6770-EEC7-40A1-B09D-33B5636345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96E8-7A93-4074-AFEF-C237027FC98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22C-8181-4976-9F07-3860DD0698E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1C88-23F1-4374-A700-ACB09A439A9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853920" y="341280"/>
            <a:ext cx="8412480" cy="3949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G:\Без имени-1.png"/>
          <p:cNvPicPr/>
          <p:nvPr/>
        </p:nvPicPr>
        <p:blipFill>
          <a:blip r:embed="rId2"/>
          <a:stretch/>
        </p:blipFill>
        <p:spPr>
          <a:xfrm>
            <a:off x="0" y="4000680"/>
            <a:ext cx="1962000" cy="28573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4000680" y="54291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БОУ СОШ пос. Новоспасск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-логопед Серёжкина Е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4451040" y="32446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:\Users\Пользователь\Desktop\Картинки\09049c1f2c7d7c479158555645444a5d.jpeg"/>
          <p:cNvPicPr/>
          <p:nvPr/>
        </p:nvPicPr>
        <p:blipFill>
          <a:blip r:embed="rId1"/>
          <a:stretch/>
        </p:blipFill>
        <p:spPr>
          <a:xfrm>
            <a:off x="5557680" y="2317680"/>
            <a:ext cx="3586320" cy="4540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АБОЧИЙ ПЛАН РЕАЛИЗАЦИИ ПРОЕКТА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57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Особенностью проекта  является использование здоровье- сберегающих технологий в коррекции речи детей в условиях  ДОУ с логопунктом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Коррекционное развитие проводится по основным направлениям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звитие сенсорных и моторных функций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ирование кинестетической основы артикуляторных движений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звитие мимической мускулатуры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звитие интеллектуальных функций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звитие эмоционально-волевой сферы и игровой деятельности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ирование черт гармоничной и незакомплексованной лич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хема построения занятий отличалась от общепринятой следующими момен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труктуру занятий включались релаксационные, психофизические упражнения, музыкально – ритмические упражн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менялся  такой метод, как биоэнергопластика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дусматривались мимические, голосовые, дыхательные , физические и кинезеологические упражн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овались инновационных технологии- наглядное моделирование, компьютерные технологии  (Игры для Тигры), многофункциональные  упражнения Улитка,  Полянка,  Лабиринт, Ступеньки, Узо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илась пальчиковая гимнасти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ился массаж  и самомассаж лица, пальцев ру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изпаузы несли дополнительную речевую нагруз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елась работа над усвоением лексикограмматического строя 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вались задания на словотворчество, на фонематическое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дставл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дусматривались задания на коррекцию психофизических функц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ились игры на звуковой анализ и синтез сл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менялся Алфавит телодвижени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овались игры и упражнения по методике Монтессор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ились  логоритмические упражн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овались Фольклорная терапия, Сказка терапия,  Куклотерапия,    Имаготерапия и т. д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илась гимнастика для глаз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ЖИДАЕМЫЕ РЕЗУЛЬТАТЫ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ндартные,  вариативные игры и упражнения с использованием инновационных и здоровьесберегающих технологий помогут более эффективно преодолеть речевые нарушения. Улучшить соматическое состояние дет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влечение родителей для активного участия во всех мероприятиях, проводимых в детском саду по развитию речи, поможет улучшить  качество рабо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5" descr="C:\Users\Пользователь\Desktop\Картинки\fayl1.png"/>
          <p:cNvPicPr/>
          <p:nvPr/>
        </p:nvPicPr>
        <p:blipFill>
          <a:blip r:embed="rId1"/>
          <a:stretch/>
        </p:blipFill>
        <p:spPr>
          <a:xfrm>
            <a:off x="3714840" y="5286240"/>
            <a:ext cx="1633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итерии результативност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56800" y="18572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ижение процента детей с нарушениями реч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ижение  заболеваемости дет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ом оценки данных ключевых показателей является мониторинг динамики развития реч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C:\Users\Пользователь\Desktop\Картинки\fayl1.png"/>
          <p:cNvPicPr/>
          <p:nvPr/>
        </p:nvPicPr>
        <p:blipFill>
          <a:blip r:embed="rId1"/>
          <a:stretch/>
        </p:blipFill>
        <p:spPr>
          <a:xfrm>
            <a:off x="3564000" y="4981680"/>
            <a:ext cx="176220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следование речи дете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4548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1082520"/>
            <a:ext cx="822960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Результаты реализации проект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4200" y="371448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500040" y="2143080"/>
            <a:ext cx="85550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болеваемость дет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Объект 3" descr=""/>
          <p:cNvPicPr/>
          <p:nvPr/>
        </p:nvPicPr>
        <p:blipFill>
          <a:blip r:embed="rId1"/>
          <a:stretch/>
        </p:blipFill>
        <p:spPr>
          <a:xfrm>
            <a:off x="4521240" y="2154240"/>
            <a:ext cx="4576680" cy="4292640"/>
          </a:xfrm>
          <a:prstGeom prst="rect">
            <a:avLst/>
          </a:prstGeom>
          <a:ln w="0">
            <a:noFill/>
          </a:ln>
        </p:spPr>
      </p:pic>
      <p:pic>
        <p:nvPicPr>
          <p:cNvPr id="241" name="Диаграмма 4" descr=""/>
          <p:cNvPicPr/>
          <p:nvPr/>
        </p:nvPicPr>
        <p:blipFill>
          <a:blip r:embed="rId2"/>
          <a:stretch/>
        </p:blipFill>
        <p:spPr>
          <a:xfrm>
            <a:off x="0" y="2071800"/>
            <a:ext cx="46735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6204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зультаты реализации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57120" y="1934640"/>
            <a:ext cx="8329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результате целенаправленной работы по внедрению инновационных и здоровьесберегающих технологий, количество детей с нарушениями речи резко сократилось. Улучшилось соматическое состояние детей. Дети стали меньше боле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влечение родителей для активного участия в мероприятиях, проводимых в детском саду по развитию речи, также способствовало улучшению качества работы.  Кроме того  родители-участники одного из конкурсов(Растим говорунов-здоровяков)  по собственной инициативе  выпустили памятку : «Игры которые лечат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ОСНОВАНИЕ НЕОБХОДИМОСТИ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ализ реальной ситуации, сложившейся в настоящее время в системе воспитания и обучения детей дошкольного возраста, показал, что количество детей, имеющих отклонения в речевом развитии, страдают также хроническими заболевания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обходимость в интенсификации работы логопеда и повышении эффективности ее результатов, поиск новых, передовых технологий формирования совершенной речи детей стимулировало разработку данного проек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ользование инновационных и здоровьесберегающих технологий помогут достичь максимально возможных успехов в преодолении не только речевых трудностей, но и общего оздоровления детей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6" descr="C:\Users\Пользователь\Desktop\Картинки\fayl1.png"/>
          <p:cNvPicPr/>
          <p:nvPr/>
        </p:nvPicPr>
        <p:blipFill>
          <a:blip r:embed="rId1"/>
          <a:stretch/>
        </p:blipFill>
        <p:spPr>
          <a:xfrm>
            <a:off x="6929280" y="785880"/>
            <a:ext cx="1721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з ресурсов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БЮДЖЕТ ПРОЕКТА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ект не требует дополнительных вложений бюджетных средст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C:\Users\Пользователь\Desktop\Картинки\1186330404_6a.gif"/>
          <p:cNvPicPr/>
          <p:nvPr/>
        </p:nvPicPr>
        <p:blipFill>
          <a:blip r:embed="rId1"/>
          <a:stretch/>
        </p:blipFill>
        <p:spPr>
          <a:xfrm>
            <a:off x="2571840" y="228600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      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20714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лифанова Е.А., Егорова Н.Е. – логопедические упражнения в рифмах. Пособие для логопедов, воспитателей М.: «Издательство ГНОМ Д», 200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лошина Л. Организация здоровье сберегающего пространства//Дошкольное воспитание.-2004.-N1.-С.114-117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урова Н.В. – Фонематика. Как научить детей слышать и правильно произносить звуки. Методическое пособие – М.: Мозаика – Синтез, 200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фименкова Л.Н. Формирование речи у дошкольников. М., 19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гры в логопедической работе с детьми / Под ред. В.И.Селиверстова.М.,1985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Косинова Е.М. – Уроки логопеда. Игры для развития речи. М.: «Библиотека Ильи Резника», «ЭКСМО» 200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Лопухина И.С. – Логопедия – речь, ритм, движение. СПБ.: «Дельта»,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овые здоровье сберегающие технологии в образовании и воспитании детей.  С.Чубарова, Г. Козловская, В. Еремеева // Развитие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епина З.А., Буйко В.И. Уроки логопедии. Екатеринбург, 200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рновская С.А., Теплякова Л.А. Создание здоровье сберегающей образовательной среды в дошкольном образовательном учреждении// Методи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Фомичева М.Ф. воспитание у детей правильного произношения. М., 19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ЕВАЯ АУДИТОР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ти логопат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спитатели и узкие специалист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одители дете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C:\Users\Пользователь\Desktop\Картинки\b2cd3a34c627.png"/>
          <p:cNvPicPr/>
          <p:nvPr/>
        </p:nvPicPr>
        <p:blipFill>
          <a:blip r:embed="rId1"/>
          <a:stretch/>
        </p:blipFill>
        <p:spPr>
          <a:xfrm>
            <a:off x="5857920" y="3571920"/>
            <a:ext cx="32860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13880" y="1856880"/>
            <a:ext cx="7572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4" marL="501840" indent="-19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условий для развития речи детей с  использованием инновационных и здоровьесберегающих технологий  в  условиях ДОУ с логопунктом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4" marL="501840" indent="-19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C:\Users\Пользователь\Desktop\Картинки\21.png"/>
          <p:cNvPicPr/>
          <p:nvPr/>
        </p:nvPicPr>
        <p:blipFill>
          <a:blip r:embed="rId1"/>
          <a:stretch/>
        </p:blipFill>
        <p:spPr>
          <a:xfrm>
            <a:off x="3714840" y="4643280"/>
            <a:ext cx="2222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2600" y="142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42960" y="1642680"/>
            <a:ext cx="7696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высить уровень знаний педагогов ДОУ о использовании инновационных и здоровьесберегающих технологий в  развитии речи детей, и  внедрить их в этапы программных занятий и в различные режимные момент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здать условия для развития речи у детей  дошкольного возраста с использованием инновационных и здоровьесберегающих технологий в играх и специальных упражнен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влечь родителей для активного участия  во всех мероприятиях, проводимых в детском саду, по  использованию инновационных и  здоровьесберегающих технологий в развитии  речи де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Факторы, влияющие на развитие реч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244440" y="1925640"/>
            <a:ext cx="844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бочий план реализации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988640"/>
            <a:ext cx="55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роприятия с педагог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сульт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минары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ктикум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В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,где, когд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тые занят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стер-класс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мятки педагог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зентации коррек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C:\Users\Сергей Владимирович\Desktop\DSC0000282.jpg"/>
          <p:cNvPicPr/>
          <p:nvPr/>
        </p:nvPicPr>
        <p:blipFill>
          <a:blip r:embed="rId1"/>
          <a:stretch/>
        </p:blipFill>
        <p:spPr>
          <a:xfrm>
            <a:off x="4500720" y="278604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бочий план реализации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роприятия с родителя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кетирование родите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сульт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минары -практику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дагогическая гости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ктику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курс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ительские собр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мят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ни открытых двер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C:\Users\Сергей Владимирович\Desktop\DSC0000277.jpg"/>
          <p:cNvPicPr/>
          <p:nvPr/>
        </p:nvPicPr>
        <p:blipFill>
          <a:blip r:embed="rId1"/>
          <a:stretch/>
        </p:blipFill>
        <p:spPr>
          <a:xfrm>
            <a:off x="4643280" y="2786040"/>
            <a:ext cx="41277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бочий план реализации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934640"/>
            <a:ext cx="4259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та с детьм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иагностика развития речи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нятия с использованием инновационных и здоровьесберегающих технолог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ы по развитию артикуляционного аппара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ы по развитию речевого  дых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ы по развитию звукопроизношения и восприятия зву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курсы чтения стихотворени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чевые праздни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C:\Users\Сергей Владимирович\Desktop\DSC0000278.jpg"/>
          <p:cNvPicPr/>
          <p:nvPr/>
        </p:nvPicPr>
        <p:blipFill>
          <a:blip r:embed="rId1"/>
          <a:stretch/>
        </p:blipFill>
        <p:spPr>
          <a:xfrm>
            <a:off x="4714920" y="292896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2:58:28Z</dcterms:created>
  <dc:creator>Customer</dc:creator>
  <dc:description/>
  <dc:language>en-US</dc:language>
  <cp:lastModifiedBy>Сергей Владимирович</cp:lastModifiedBy>
  <dcterms:modified xsi:type="dcterms:W3CDTF">2012-05-26T18:57:40Z</dcterms:modified>
  <cp:revision>139</cp:revision>
  <dc:subject/>
  <dc:title>Матрица проекта</dc:title>
</cp:coreProperties>
</file>