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49A0-199C-47CD-8A9A-E42F0347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EFEC-7EF3-4721-B297-49DF180B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90EA-6C84-4C38-B6C7-A9434FA8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1257-07A8-4690-93D7-796D2A3D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6DE3-87ED-414E-8E00-DBEC68A2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3DE4-100C-42B7-9EE8-9307BD48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9B50-BA05-4E6A-85CC-A434D87B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E7E3-C7A6-4FE7-9037-85589B82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2FCE-32C8-4343-9CD4-A2E5F4A7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4F6B-E759-4E77-89F3-C3542964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E134-1BD6-434A-993A-E87CC7A2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9B0B-0C81-425E-AAB9-EB06FC06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76CF-332D-49D0-AD43-4312662C5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opic.lt/miru_mir/page,6,174584-kniga-vseobshhi" TargetMode="External"/><Relationship Id="rId2" Type="http://schemas.openxmlformats.org/officeDocument/2006/relationships/hyperlink" Target="http://www.topic.lt/miru_mir/page,6,174584-kniga-vseobshhi" TargetMode="External"/><Relationship Id="rId3" Type="http://schemas.openxmlformats.org/officeDocument/2006/relationships/hyperlink" Target="http://kamozin.com/photo6d40739dc5e0bad0" TargetMode="External"/><Relationship Id="rId4" Type="http://schemas.openxmlformats.org/officeDocument/2006/relationships/hyperlink" Target="http://kamozin.com/photo6d40739dc5e0bad0" TargetMode="External"/><Relationship Id="rId5" Type="http://schemas.openxmlformats.org/officeDocument/2006/relationships/hyperlink" Target="http://kamozin.com/photo6d40739dc5e0bad0" TargetMode="External"/><Relationship Id="rId6" Type="http://schemas.openxmlformats.org/officeDocument/2006/relationships/hyperlink" Target="http://kamozin.com/photo6d40739dc5e0bad0" TargetMode="External"/><Relationship Id="rId7" Type="http://schemas.openxmlformats.org/officeDocument/2006/relationships/hyperlink" Target="http://ip217-18.mmsn.ru/news/2010/02/03" TargetMode="Externa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узова Галина Николаевна – учитель начальных классов  МОУ-СОШ с. Лип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MEGAPRESSA.RU &quot; экспедицию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ды на земле больше, чем суши. И это замечательн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да не даёт нашей планете замёрзнуть. Всё лето солнце греет воду в реках, озёрах, морях, океанах. Зимой нагревшаяся вода постепенно отдаёт тепло суше, чем не отопление?  Без него на планете наступят такие жестокие морозы, что погибнет всё жив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ама жизнь на земле, по мнению учёных, зародилась в далёкие-далёкие времена в воде. С тех пор прошли многие столетия. Живые существа заселили сушу, поднялись в воздух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о связь с водой сохраняется. Сам человек наполовину состоит из воды! Неудивительно, что без неё ты сможешь прожить только несколько дн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да поит и растения, и животных, и людей. И моет тоже вода. Умываются взрослые и дети, дороги и машины, принимают душ сёла и города, поля и леса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ез воды не замесить тесто для хлеба, не приготовить бетон для стройки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умагу для книг, ткань для одежды, резину, металл, лекарства, конфеты – ничего не сделаешь без воды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 ещё вода может быть удобной дорогой. По бесчисленным рекам, по бескрайним морям и океанам день и ночь плывут корабли. Они везут тяжёлые грузы и пассажи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без воды жизнь на Земле невозможна? при ответе воспользуйтесь строками из тек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города и посёлки, как правило, стоят около реки или озе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www.topic.lt/miru_mir/page,6,174584-kniga-vseobshh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2849040"/>
            <a:ext cx="4648320" cy="21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4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kamozin.com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photo6d40739dc5e0bad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3289320"/>
            <a:ext cx="4572000" cy="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4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5840" y="2362320"/>
            <a:ext cx="34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ip217-18.mmsn.ru/news/2010/02/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человек использует во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растения и животные живут в во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Вода в природе - Вода - Картинки по окружающему миру"/>
          <p:cNvPicPr/>
          <p:nvPr/>
        </p:nvPicPr>
        <p:blipFill>
          <a:blip r:embed="rId1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Значение воды - Картинка 14410/18"/>
          <p:cNvPicPr/>
          <p:nvPr/>
        </p:nvPicPr>
        <p:blipFill>
          <a:blip r:embed="rId1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Комитет сельского хозяйства Мурманской области проводит отбор инвестиционных проектов"/>
          <p:cNvPicPr/>
          <p:nvPr/>
        </p:nvPicPr>
        <p:blipFill>
          <a:blip r:embed="rId1"/>
          <a:stretch/>
        </p:blipFill>
        <p:spPr>
          <a:xfrm>
            <a:off x="762120" y="1752480"/>
            <a:ext cx="3809880" cy="365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Сушь страшнее пистолета - 22 Апреля 2010 - Украинский Христианский Монитор"/>
          <p:cNvPicPr/>
          <p:nvPr/>
        </p:nvPicPr>
        <p:blipFill>
          <a:blip r:embed="rId2"/>
          <a:stretch/>
        </p:blipFill>
        <p:spPr>
          <a:xfrm>
            <a:off x="4724280" y="1752480"/>
            <a:ext cx="36576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РЕДА ОБ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Книга всеобщих заблуждений. Часть 6. (30 фото) &quot; Just one MIN"/>
          <p:cNvPicPr/>
          <p:nvPr/>
        </p:nvPicPr>
        <p:blipFill>
          <a:blip r:embed="rId1"/>
          <a:stretch/>
        </p:blipFill>
        <p:spPr>
          <a:xfrm>
            <a:off x="457200" y="1676520"/>
            <a:ext cx="2282760" cy="2608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Газообмен Supersadovod - о саде и огороде просто и интересно"/>
          <p:cNvPicPr/>
          <p:nvPr/>
        </p:nvPicPr>
        <p:blipFill>
          <a:blip r:embed="rId2"/>
          <a:stretch/>
        </p:blipFill>
        <p:spPr>
          <a:xfrm>
            <a:off x="2895480" y="2057400"/>
            <a:ext cx="3353040" cy="2057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Растения водоема. Рогоз. Камыш. - Картинка 7 - Обитатели водоемов - Вода - Картинки по окружающему миру"/>
          <p:cNvPicPr/>
          <p:nvPr/>
        </p:nvPicPr>
        <p:blipFill>
          <a:blip r:embed="rId3"/>
          <a:stretch/>
        </p:blipFill>
        <p:spPr>
          <a:xfrm>
            <a:off x="6553080" y="1981080"/>
            <a:ext cx="2133720" cy="2686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Прекрасные фотографии подводного мира 2010 (28 фото) - Развлекательный портал Pervik66.ru"/>
          <p:cNvPicPr/>
          <p:nvPr/>
        </p:nvPicPr>
        <p:blipFill>
          <a:blip r:embed="rId4"/>
          <a:stretch/>
        </p:blipFill>
        <p:spPr>
          <a:xfrm>
            <a:off x="609480" y="3809880"/>
            <a:ext cx="289584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мы любим животных - Блог - 08 Январь, 2010 - Страница 1 - Привет.ру"/>
          <p:cNvPicPr/>
          <p:nvPr/>
        </p:nvPicPr>
        <p:blipFill>
          <a:blip r:embed="rId5"/>
          <a:stretch/>
        </p:blipFill>
        <p:spPr>
          <a:xfrm>
            <a:off x="3352680" y="3581280"/>
            <a:ext cx="4496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ЫТОВЫЕ НУЖ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Презентация &quot;Сохраним воду вместе&quot; - скачать презентации по Экологии"/>
          <p:cNvPicPr/>
          <p:nvPr/>
        </p:nvPicPr>
        <p:blipFill>
          <a:blip r:embed="rId1"/>
          <a:stretch/>
        </p:blipFill>
        <p:spPr>
          <a:xfrm>
            <a:off x="685800" y="1828800"/>
            <a:ext cx="2952720" cy="2209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Новости Байкал-дэйли - Байкал Daily - Новости Бурятии и Улан-Удэ в реальном времени"/>
          <p:cNvPicPr/>
          <p:nvPr/>
        </p:nvPicPr>
        <p:blipFill>
          <a:blip r:embed="rId2"/>
          <a:stretch/>
        </p:blipFill>
        <p:spPr>
          <a:xfrm>
            <a:off x="1219320" y="426708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Ювілейне Бурение скважин на воду от 8 до 50 м Будівництво, ремонт Послуги Оголошення, дошка оголошень 13527 Дніпропетровський ра"/>
          <p:cNvPicPr/>
          <p:nvPr/>
        </p:nvPicPr>
        <p:blipFill>
          <a:blip r:embed="rId3"/>
          <a:stretch/>
        </p:blipFill>
        <p:spPr>
          <a:xfrm>
            <a:off x="3809880" y="1981080"/>
            <a:ext cx="44928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ЛЕКТРИЧ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Про - Изобретение Гидроэлектростанция"/>
          <p:cNvPicPr/>
          <p:nvPr/>
        </p:nvPicPr>
        <p:blipFill>
          <a:blip r:embed="rId1"/>
          <a:stretch/>
        </p:blipFill>
        <p:spPr>
          <a:xfrm>
            <a:off x="685800" y="1676520"/>
            <a:ext cx="78487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АНСПОРТ НА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Волжский Утвержден порядок лицензирования отдельных видов деятельности на водном транспорте. - БезФормата.Ru"/>
          <p:cNvPicPr/>
          <p:nvPr/>
        </p:nvPicPr>
        <p:blipFill>
          <a:blip r:embed="rId1"/>
          <a:stretch/>
        </p:blipFill>
        <p:spPr>
          <a:xfrm>
            <a:off x="228600" y="1447920"/>
            <a:ext cx="5334120" cy="4371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Водный транспорт Украины: спад грузоперевозок за 9 месяцев 2012 года на 18,3% - Мир Логистики"/>
          <p:cNvPicPr/>
          <p:nvPr/>
        </p:nvPicPr>
        <p:blipFill>
          <a:blip r:embed="rId2"/>
          <a:stretch/>
        </p:blipFill>
        <p:spPr>
          <a:xfrm>
            <a:off x="4724280" y="3429000"/>
            <a:ext cx="38102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11:16:22Z</dcterms:created>
  <dc:creator>Галина</dc:creator>
  <dc:description/>
  <dc:language>en-US</dc:language>
  <cp:lastModifiedBy>Галина</cp:lastModifiedBy>
  <dcterms:modified xsi:type="dcterms:W3CDTF">2014-10-28T15:37:5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