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ED8-E99D-48AB-A557-3B04A15D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E0A-F707-4872-A179-E790040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575-206B-4A83-A011-5C909D41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5AE-BD2E-48EF-9BBD-688B043C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4DB-15D0-4F6D-ACBE-D90EB7E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63C-8E4A-4C38-9076-8CCE5E41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9AA-75FF-48DC-B032-E118098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4DC-64C7-4777-A2E1-19B9BFC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E08-35A3-4EE8-B142-7A83C1D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790-F63B-49DC-96CC-8CE247B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023-8DBE-4250-BE54-78D3E59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A02-3C3D-4CC4-B73C-4581763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EF0E-6BAF-49B5-A771-D97D38654EB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tNfEfCcI1A"/>
          <p:cNvPicPr/>
          <p:nvPr/>
        </p:nvPicPr>
        <p:blipFill>
          <a:blip r:embed="rId1"/>
          <a:stretch/>
        </p:blipFill>
        <p:spPr>
          <a:xfrm>
            <a:off x="500040" y="214200"/>
            <a:ext cx="8406000" cy="6303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357200" y="86436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ение элемент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-терапии на уроках музы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499920" y="357120"/>
            <a:ext cx="5257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 совместном пении (в хор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, на какой-то отрезок времен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крываются границы каждой человеческой душ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Действие пения на человека еще в древности использовалось у многих народов для борьбы с самыми разнообразными недугами 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примеру, В Древнем Египте с помощью хорового пения лечили от бессонницы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Древней Греции пение как специфическое средство для исцеления некоторых видов бешенства, Аристотель и Пифагор рекомендовали пение при лечении душевных болезней и помешательств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0" name="Picture 2" descr="http://player.myshared.ru/767438/data/images/img14.png"/>
          <p:cNvPicPr/>
          <p:nvPr/>
        </p:nvPicPr>
        <p:blipFill>
          <a:blip r:embed="rId1"/>
          <a:stretch/>
        </p:blipFill>
        <p:spPr>
          <a:xfrm>
            <a:off x="357120" y="357120"/>
            <a:ext cx="2857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43160" y="856800"/>
            <a:ext cx="57578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заложена 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узы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особна влиять на физиологические процессы организма как в двигательной, так и в вегетативной системе ребён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Если музыка доставляет удовольствие, то сердечно-сосудистая система реагирует следующим образом: замедляется пульс, снижается артериальное давление, расширяются кровеносные сосуды. Если музыка неприятна, то сердцебиение учащается, поднимается давление. Яркая, ритмичная музыка вызывает у детей непроизвольное движение в такт рукой или головой. Неосознанные движения могут быть совершенно разнообразны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узыка способна пробуждать в ребёнке богатые внутренние зрительные образы, вызывать сильные чувства. А в отдельных случаях даже обонятельные ощущ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Очень важны и актуальны сегодня музыкально-коррекционные занятия в сочетании с другими видами работы на урок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е занятия способствуют развитию памяти, воображения, восприятия и ре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В целом музыка помогает ребёнку гармонично развиваться, обогащая его внутренний мир. Всё это формирует успешного и сильного челове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Picture 2" descr="http://player.myshared.ru/767438/data/images/img9.png"/>
          <p:cNvPicPr/>
          <p:nvPr/>
        </p:nvPicPr>
        <p:blipFill>
          <a:blip r:embed="rId1"/>
          <a:stretch/>
        </p:blipFill>
        <p:spPr>
          <a:xfrm>
            <a:off x="0" y="214200"/>
            <a:ext cx="3124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ш мир это зеркало, которое возвращает нам наше изображен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00720" y="1600200"/>
            <a:ext cx="4186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лыбкатерап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сь управлять своими эмоциями. Эмоции прямым образом воздействуют на ваше тело. Также они влияют на у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ваш ум, ваши мысли формируют вашу жизнь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вы радуетесь - приходят в тонус все внутренние железы, вырабатываются гормоны, которые активизируют тело, придают быстроту уму и легкость решения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моция тоски и печали делает тело тяжелым, притупляет реакции, замедляет ум. Страх парализуе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4" descr="http://player.myshared.ru/767438/data/images/img18.png"/>
          <p:cNvPicPr/>
          <p:nvPr/>
        </p:nvPicPr>
        <p:blipFill>
          <a:blip r:embed="rId1"/>
          <a:stretch/>
        </p:blipFill>
        <p:spPr>
          <a:xfrm>
            <a:off x="357120" y="1643040"/>
            <a:ext cx="378612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layer.myshared.ru/767438/data/images/img19.jpg"/>
          <p:cNvPicPr/>
          <p:nvPr/>
        </p:nvPicPr>
        <p:blipFill>
          <a:blip r:embed="rId1"/>
          <a:stretch/>
        </p:blipFill>
        <p:spPr>
          <a:xfrm>
            <a:off x="1357200" y="187200"/>
            <a:ext cx="592956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рт-терапевтические приёмы, применяемые на уроках музыки, не только сохраняют здоровье детей, но и помогают развивать творческую свободу, полёт фантазии, пробуждают процессы воображения и представления. Происходит осознание детьми самого себя, своего внутреннего мира. И неправда, что кто-то не умеет петь, или у кого-то нет слуха. Каждый ребёнок хоть немного может рисовать или лепить из пластилина. Все эти способности можно и нужно развивать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исование, особенно под музыку, помогает осмыслить и привести к гармоническому состоянию свой внутренний мир. Это один из доступных способов гармонизации личности, снятия эмоционального напряжения, не только в настоящем, но и в будущем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рт-терапи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имают использование всех видов искусств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Это метод развития и изменения сознательных и бессознательных сторон психики личности посредством разных форм и видов искусств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Формы терапии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музыкотерап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вокалотерап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фольклорная арттерап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ритмотерап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улыбкатерапия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узыкотерапи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- контролируемое использование звуков и музыки в психокоррекции человека, представляющая собой деятельность, включающую воспроизведение, фантазирование и импровизацию с помощью человеческого голоса и выбранных музыкальных инструментов или прослушивание специально подобранных музыкальных произведени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     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лушание музы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 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ь слуша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расширение переживаний и формирование  мировоззрения школьника. Внимательно слушая музыку, человек как бы расшифровывает  чувства и мысли, заложенные в музыкальное произведение.  Предлагаемые в учебных программах  произведения, как правило, являются частью «золотого фонда» мирового музыкального искусства и несут в себе положительную психотерапевтическую нагрузк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восприятии и переживании  лучших образцов классического, современного и фольклорного искусства соединяются 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стетотерапия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чение красотой) и 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ретотерап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лечение идеалами).   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ушанию на уроке уделяется довольно много времени.  Но большинство современных детей не может надолго сосредоточиться на музыкальном произведении. Следовательно, перед учителем стоит задача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бор произведения, соответствующего уровню музыкального развития класс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активизации восприятия перед слушанием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вится определённая задача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Это может быть и определение количества частей в произведении, и обозначение вступления определённой темы жестом, и сочинение мини-рассказа и т. 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928600" y="213840"/>
            <a:ext cx="5972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Verdana"/>
              </a:rPr>
              <a:t>I этап. Слушание музыки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Verdana"/>
              </a:rPr>
              <a:t>Приглашаем детей к встрече с прекрасной музыкой следующими словами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Verdana"/>
              </a:rPr>
              <a:t>"Сегодня мы отправимся в гости и познакомимся с волшебной музыкой. Музыку мы будем сначала слушать, а затем на листе бумаги красками и восковыми мелками будем изображать свои ощущения"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Verdana"/>
              </a:rPr>
              <a:t>Ставим сначала небольшое произведение (2-3 минуты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Verdana"/>
              </a:rPr>
              <a:t>Прежде чем слушать музыку, скажем о том, чтобы во время звучания произведения он старался представить какие-то картины, образы, каких-то персонажей - словом, всё то, что он увидит и почувствует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" name="Picture 2" descr="http://player.myshared.ru/379384/data/images/img4.png"/>
          <p:cNvPicPr/>
          <p:nvPr/>
        </p:nvPicPr>
        <p:blipFill>
          <a:blip r:embed="rId1"/>
          <a:stretch/>
        </p:blipFill>
        <p:spPr>
          <a:xfrm>
            <a:off x="142920" y="142920"/>
            <a:ext cx="257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214800" y="213840"/>
            <a:ext cx="592920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II этап. Изображение представленн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зыку можно слушать как с закрытыми, так и с открытыми глазами. Если дети захотят рассказать то, что они увидели во время звучания. Пусть они это сделают. Возможно, сначала они захотят нарисовать свои ощущения. Мелкие объекты и образы лучше нарисовать восковыми карандашами, а затем большой беличьей кистью прокладывать цветовые ощущения от музыки. Иногда это могут быть абстрактные очертания и образы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ое, чтобы дети научились ощущать музык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а затем передавать свои чувства на бумаге. В завершение предоставить детям возможность высказать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 того как дети всё завершили, обязательно сказать, как называется музыкальное произведение, и кто его написал. Лучше делать это в завершении занятия, чтобы слова  учителя никоем образом не повлияли на чувства и ощущения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http://player.myshared.ru/767438/data/images/img11.png"/>
          <p:cNvPicPr/>
          <p:nvPr/>
        </p:nvPicPr>
        <p:blipFill>
          <a:blip r:embed="rId1"/>
          <a:stretch/>
        </p:blipFill>
        <p:spPr>
          <a:xfrm>
            <a:off x="0" y="0"/>
            <a:ext cx="351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1070392"/>
          <p:cNvPicPr/>
          <p:nvPr/>
        </p:nvPicPr>
        <p:blipFill>
          <a:blip r:embed="rId1"/>
          <a:stretch/>
        </p:blipFill>
        <p:spPr>
          <a:xfrm>
            <a:off x="214200" y="214200"/>
            <a:ext cx="4676760" cy="350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P1070389"/>
          <p:cNvPicPr/>
          <p:nvPr/>
        </p:nvPicPr>
        <p:blipFill>
          <a:blip r:embed="rId2"/>
          <a:stretch/>
        </p:blipFill>
        <p:spPr>
          <a:xfrm rot="5619600">
            <a:off x="3376080" y="1083960"/>
            <a:ext cx="63453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окалотерап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7680" y="571680"/>
            <a:ext cx="6286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уникальная дыхательная гимнастика, в которой учитывается вс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ых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основа жизни, так как оно может усилить естественную способность к самоизлечению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чёт дыхания животом исчезают естественным путём такие болезни как гипертония, заболевания печени, почек, желудка, лёгких и многие другие психические заболевани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вестно, что только 20% производимого человеком звука направляется во внешнее пространство. Остальная часть вибраций охватывает пространство внутреннее, вызывая резонирование органов и ткан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евание, п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 формы работы, связанные с дыханием. Как известно, певческое дыхание, как и дыхание во время игры на свирели, способствует массажу внутренних органов и обогащению мозга кислородом. А также происходит улучшение кровообращения во всём тел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д распеванием дети обычно выполняют несколько упражнений по системе А.Стрельниковой.  Во время работы над исполняемыми произведениями длительность периода между вдохом и выдохом обычно регулируется при помощи фразиров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ается одновременно две задачи: исполнительская и здоровьесбер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гающа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Picture 2" descr="http://player.myshared.ru/767438/data/images/img17.png"/>
          <p:cNvPicPr/>
          <p:nvPr/>
        </p:nvPicPr>
        <p:blipFill>
          <a:blip r:embed="rId1"/>
          <a:stretch/>
        </p:blipFill>
        <p:spPr>
          <a:xfrm>
            <a:off x="214200" y="285840"/>
            <a:ext cx="27147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layer.myshared.ru/767438/data/images/img13.png"/>
          <p:cNvPicPr/>
          <p:nvPr/>
        </p:nvPicPr>
        <p:blipFill>
          <a:blip r:embed="rId1"/>
          <a:stretch/>
        </p:blipFill>
        <p:spPr>
          <a:xfrm>
            <a:off x="214200" y="1071720"/>
            <a:ext cx="2928960" cy="4257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ОКАЛОТЕРАП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14800" y="1285560"/>
            <a:ext cx="5472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С – это уникальный музыкальный инструмент, данный человеку самой Природой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чившись выражать свое состояние голосом, человек получает эффективнейшее средство для снятия внутреннего напряжения и для самовыраж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КАЛОТЕРАП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Благотворно влияет на работу почек, желез внутренней секре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Массирует гортань, щитовидную железу; 3.Влияет на работу сердц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Высоко-вокальные звуки благотворно воздействуют на повышение иммунитета человек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Пение помогает человеку развивать грамотное письмо, воздействуя на подкорку головного мозг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2:10:27Z</dcterms:created>
  <dc:creator>xxx</dc:creator>
  <dc:description/>
  <dc:language>en-US</dc:language>
  <cp:lastModifiedBy>БОУ СОШ №2</cp:lastModifiedBy>
  <dcterms:modified xsi:type="dcterms:W3CDTF">2014-04-29T06:45:56Z</dcterms:modified>
  <cp:revision>17</cp:revision>
  <dc:subject/>
  <dc:title>Слайд 1</dc:title>
</cp:coreProperties>
</file>