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3.jpeg" ContentType="image/jpeg"/>
  <Override PartName="/ppt/media/image4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575E-85D8-447A-9CFC-8E390DB4F5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F29-99BA-45CB-A92E-AFA802FCE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FD97-9B08-4805-97EA-F6CABAA37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BFBA-8861-430C-900C-009259A3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3FEA-BF81-4AD6-BE80-0FFA9CE0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8A73-753D-4843-834D-2AAD11DE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005C-61F2-430B-A3E6-0C51E94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73F7-88B2-46B3-9619-39C8B5C9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FA6E-1A0D-4D82-B4C3-0F9762D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5F3-172C-4AFF-82F5-002BCF7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7C98-F445-4A1D-BC7A-88C1B39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25C-CAC1-4E16-934E-4F61D7C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8654-AC6D-47B4-862B-9AB281B4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19B9-C325-4FCA-ACD6-A3E844D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DF2C-D48E-4346-AC90-BE361D9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F77A-B74C-44A1-A897-C562D05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F6E2-3932-42F8-A2D4-7CC72F7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5D2-A166-4F70-9692-E2EB8CA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3F3-ABBC-4EA1-A4C0-5115D8A0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7E7-C2EE-45CA-AC99-CA22E40A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8CC3-FCB1-4ED1-B9A8-2D2C00EC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5E03-6B5A-42F1-BD6A-524191A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4C92-B376-4465-8BA0-3774A05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E47D-D268-4D0C-BD69-8BE0369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150D-0066-4BB3-9D9A-78906B5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46C2-A28E-4560-BB2A-9E2C96F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6D3C-5ECF-4272-B230-AA56F82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683-729F-4C33-B78B-8202FA31C9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847-187E-4148-B840-8FF3D329B1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752120"/>
            <a:ext cx="7162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опыта работы классного руководител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9в класса МБОУ СОШ№8 г.Конаково      по профилактике неуспеваемости      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-228600" y="2057400"/>
            <a:ext cx="232884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Таблица 1" descr=""/>
          <p:cNvPicPr/>
          <p:nvPr/>
        </p:nvPicPr>
        <p:blipFill>
          <a:blip r:embed="rId1"/>
          <a:stretch/>
        </p:blipFill>
        <p:spPr>
          <a:xfrm>
            <a:off x="311040" y="1146240"/>
            <a:ext cx="8375760" cy="5327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855720" y="45828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тегория, к которой относится неуспевающий 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F:\data\articles\50\5060\506074\img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4104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34" name="Прямоугольник 2"/>
          <p:cNvSpPr/>
          <p:nvPr/>
        </p:nvSpPr>
        <p:spPr>
          <a:xfrm>
            <a:off x="0" y="30492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рганизация образовательного процесса в МБОУ СОШ №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 предупреждению неуспев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Объект 6"/>
          <p:cNvGraphicFramePr/>
          <p:nvPr/>
        </p:nvGraphicFramePr>
        <p:xfrm>
          <a:off x="2286000" y="1371600"/>
          <a:ext cx="38876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3887640" cy="5334120"/>
                  </a:xfrm>
                  <a:prstGeom prst="rect">
                    <a:avLst/>
                  </a:prstGeom>
                  <a:ln w="38160">
                    <a:solidFill>
                      <a:srgbClr val="5d5da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TextBox 4"/>
          <p:cNvSpPr/>
          <p:nvPr/>
        </p:nvSpPr>
        <p:spPr>
          <a:xfrm>
            <a:off x="257040" y="38088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ло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 учёте детей, систематически пропускающих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210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ый паспор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9в класса МБОУ СОШ №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000" y="1989000"/>
            <a:ext cx="7837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классе обучаются – 19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 них - 9 юношей, 11 деву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1 (опекаем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10 воспитываются в неполной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3 - входят в «группу рис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2 состоят на уч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 1- в КДН, 1- на внутришкольном учёте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Алгорит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работы  </a:t>
            </a:r>
            <a:r>
              <a:rPr b="1" lang="ru-RU" sz="4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лассного руководителя </a:t>
            </a:r>
            <a:br>
              <a:rPr sz="4800"/>
            </a:br>
            <a:r>
              <a:rPr b="1" lang="ru-RU" sz="4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о профилактике неуспеваемости      учащихся</a:t>
            </a: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аждый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лассный руководитель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должен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ить план работы по профилактике неуспеваемости с учащимися, которые систематически пропускают занятия, в котором должны быть обязательно включены:  индивидуальные и групповые профилактические беседы,  родительские собрания, посещения на дому, педагогические диагностики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ести дневник классного руководителя, где  фиксируется вся работа, проводимая с ребенком и его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овывать досугов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неклассная деятель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949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щение кружков и секций (как в школе, так и за ее пределам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ую деятельность в школ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кур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щение выставок, музеев, театров и т. д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ристические пох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работе детских и подростковых общественных организац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E:\DSC02464.JPG"/>
          <p:cNvPicPr/>
          <p:nvPr/>
        </p:nvPicPr>
        <p:blipFill>
          <a:blip r:embed="rId2"/>
          <a:stretch/>
        </p:blipFill>
        <p:spPr>
          <a:xfrm>
            <a:off x="0" y="28440"/>
            <a:ext cx="3581280" cy="2676600"/>
          </a:xfrm>
          <a:prstGeom prst="rect">
            <a:avLst/>
          </a:prstGeom>
          <a:ln w="38160">
            <a:solidFill>
              <a:srgbClr val="1818ff"/>
            </a:solidFill>
            <a:miter/>
          </a:ln>
        </p:spPr>
      </p:pic>
      <p:pic>
        <p:nvPicPr>
          <p:cNvPr id="148" name="Picture 3" descr="E:\DSC02488.JPG"/>
          <p:cNvPicPr/>
          <p:nvPr/>
        </p:nvPicPr>
        <p:blipFill>
          <a:blip r:embed="rId3"/>
          <a:stretch/>
        </p:blipFill>
        <p:spPr>
          <a:xfrm>
            <a:off x="3581280" y="28440"/>
            <a:ext cx="2392560" cy="2676600"/>
          </a:xfrm>
          <a:prstGeom prst="rect">
            <a:avLst/>
          </a:prstGeom>
          <a:ln w="38160">
            <a:solidFill>
              <a:srgbClr val="0000e5"/>
            </a:solidFill>
            <a:miter/>
          </a:ln>
        </p:spPr>
      </p:pic>
      <p:pic>
        <p:nvPicPr>
          <p:cNvPr id="149" name="Picture 6" descr="E:\DSCF1587.JPG"/>
          <p:cNvPicPr/>
          <p:nvPr/>
        </p:nvPicPr>
        <p:blipFill>
          <a:blip r:embed="rId4"/>
          <a:stretch/>
        </p:blipFill>
        <p:spPr>
          <a:xfrm>
            <a:off x="1940040" y="2736720"/>
            <a:ext cx="5486400" cy="4121280"/>
          </a:xfrm>
          <a:prstGeom prst="rect">
            <a:avLst/>
          </a:prstGeom>
          <a:ln w="57240">
            <a:solidFill>
              <a:srgbClr val="1818ff"/>
            </a:solidFill>
            <a:miter/>
          </a:ln>
        </p:spPr>
      </p:pic>
      <p:pic>
        <p:nvPicPr>
          <p:cNvPr id="150" name="Picture 11" descr="G:\DSCN2707.JPG"/>
          <p:cNvPicPr/>
          <p:nvPr/>
        </p:nvPicPr>
        <p:blipFill>
          <a:blip r:embed="rId5"/>
          <a:stretch/>
        </p:blipFill>
        <p:spPr>
          <a:xfrm>
            <a:off x="-13320" y="2707560"/>
            <a:ext cx="1917720" cy="1330200"/>
          </a:xfrm>
          <a:prstGeom prst="rect">
            <a:avLst/>
          </a:prstGeom>
          <a:ln w="57240">
            <a:solidFill>
              <a:srgbClr val="1818ff"/>
            </a:solidFill>
            <a:miter/>
          </a:ln>
        </p:spPr>
      </p:pic>
      <p:pic>
        <p:nvPicPr>
          <p:cNvPr id="151" name="Picture 12" descr="G:\DSCN9660.JPG"/>
          <p:cNvPicPr/>
          <p:nvPr/>
        </p:nvPicPr>
        <p:blipFill>
          <a:blip r:embed="rId6"/>
          <a:stretch/>
        </p:blipFill>
        <p:spPr>
          <a:xfrm>
            <a:off x="5973840" y="28440"/>
            <a:ext cx="3170160" cy="2679840"/>
          </a:xfrm>
          <a:prstGeom prst="rect">
            <a:avLst/>
          </a:prstGeom>
          <a:ln w="38160">
            <a:solidFill>
              <a:srgbClr val="1818ff"/>
            </a:solidFill>
            <a:miter/>
          </a:ln>
        </p:spPr>
      </p:pic>
      <p:pic>
        <p:nvPicPr>
          <p:cNvPr id="152" name="Picture 13" descr="G:\DSCN0221.JPG"/>
          <p:cNvPicPr/>
          <p:nvPr/>
        </p:nvPicPr>
        <p:blipFill>
          <a:blip r:embed="rId7"/>
          <a:stretch/>
        </p:blipFill>
        <p:spPr>
          <a:xfrm>
            <a:off x="7467480" y="2736720"/>
            <a:ext cx="1676520" cy="1301760"/>
          </a:xfrm>
          <a:prstGeom prst="rect">
            <a:avLst/>
          </a:prstGeom>
          <a:ln w="57240">
            <a:solidFill>
              <a:srgbClr val="1818ff"/>
            </a:solidFill>
            <a:miter/>
          </a:ln>
        </p:spPr>
      </p:pic>
      <p:pic>
        <p:nvPicPr>
          <p:cNvPr id="153" name="Picture 10" descr="C:\Users\Учитель\Desktop\классные дела 9в\на берегу\-432FKwhXWQ.jpg"/>
          <p:cNvPicPr/>
          <p:nvPr/>
        </p:nvPicPr>
        <p:blipFill>
          <a:blip r:embed="rId8"/>
          <a:stretch/>
        </p:blipFill>
        <p:spPr>
          <a:xfrm>
            <a:off x="0" y="4114800"/>
            <a:ext cx="1905120" cy="1428840"/>
          </a:xfrm>
          <a:prstGeom prst="rect">
            <a:avLst/>
          </a:prstGeom>
          <a:ln w="38160">
            <a:solidFill>
              <a:srgbClr val="1818ff"/>
            </a:solidFill>
            <a:miter/>
          </a:ln>
        </p:spPr>
      </p:pic>
      <p:pic>
        <p:nvPicPr>
          <p:cNvPr id="154" name="Picture 11" descr="C:\Users\Учитель\Desktop\классные дела 9в\на берегу\JPqJGuHp7u0.jpg"/>
          <p:cNvPicPr/>
          <p:nvPr/>
        </p:nvPicPr>
        <p:blipFill>
          <a:blip r:embed="rId9"/>
          <a:stretch/>
        </p:blipFill>
        <p:spPr>
          <a:xfrm>
            <a:off x="7467480" y="4114800"/>
            <a:ext cx="1676520" cy="1295280"/>
          </a:xfrm>
          <a:prstGeom prst="rect">
            <a:avLst/>
          </a:prstGeom>
          <a:ln w="57240">
            <a:solidFill>
              <a:srgbClr val="1818ff"/>
            </a:solidFill>
            <a:miter/>
          </a:ln>
        </p:spPr>
      </p:pic>
      <p:pic>
        <p:nvPicPr>
          <p:cNvPr id="155" name="Picture 12" descr="C:\Users\Учитель\Desktop\фото\DSC_8649.JPG"/>
          <p:cNvPicPr/>
          <p:nvPr/>
        </p:nvPicPr>
        <p:blipFill>
          <a:blip r:embed="rId10"/>
          <a:stretch/>
        </p:blipFill>
        <p:spPr>
          <a:xfrm>
            <a:off x="7467480" y="5486400"/>
            <a:ext cx="1676520" cy="1371600"/>
          </a:xfrm>
          <a:prstGeom prst="rect">
            <a:avLst/>
          </a:prstGeom>
          <a:ln w="57240">
            <a:solidFill>
              <a:srgbClr val="1818ff"/>
            </a:solidFill>
            <a:miter/>
          </a:ln>
        </p:spPr>
      </p:pic>
      <p:pic>
        <p:nvPicPr>
          <p:cNvPr id="156" name="Picture 13" descr="C:\Users\Учитель\Desktop\фото\DSC_8796.JPG"/>
          <p:cNvPicPr/>
          <p:nvPr/>
        </p:nvPicPr>
        <p:blipFill>
          <a:blip r:embed="rId11"/>
          <a:stretch/>
        </p:blipFill>
        <p:spPr>
          <a:xfrm>
            <a:off x="0" y="5562720"/>
            <a:ext cx="1905120" cy="1295280"/>
          </a:xfrm>
          <a:prstGeom prst="rect">
            <a:avLst/>
          </a:prstGeom>
          <a:ln w="38160">
            <a:solidFill>
              <a:srgbClr val="181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190440" y="685800"/>
            <a:ext cx="878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3f"/>
                </a:solidFill>
                <a:latin typeface="Arial"/>
              </a:rPr>
              <a:t>Индивидуальная работа классного руководителя с учеником по преодолению неуспеваемости и коррекции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77800" y="2211480"/>
          <a:ext cx="8077320" cy="4846680"/>
        </p:xfrm>
        <a:graphic>
          <a:graphicData uri="http://schemas.openxmlformats.org/drawingml/2006/table">
            <a:tbl>
              <a:tblPr/>
              <a:tblGrid>
                <a:gridCol w="1366920"/>
                <a:gridCol w="2509920"/>
                <a:gridCol w="1373040"/>
                <a:gridCol w="1131840"/>
                <a:gridCol w="1695600"/>
              </a:tblGrid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имая работа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какой цель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?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бесед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1586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ндивидуальной работы с неуспевающим учеником учителями-предмет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учреждений дополнительного образован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sp>
        <p:nvSpPr>
          <p:cNvPr id="159" name="Прямоугольник 4"/>
          <p:cNvSpPr/>
          <p:nvPr/>
        </p:nvSpPr>
        <p:spPr>
          <a:xfrm>
            <a:off x="1461960" y="1461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лан индивидуально – профилактическ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533520" y="411120"/>
            <a:ext cx="87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Индивидуальная работа классного руководителя   с родителям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752480"/>
          <a:ext cx="8115480" cy="4622760"/>
        </p:xfrm>
        <a:graphic>
          <a:graphicData uri="http://schemas.openxmlformats.org/drawingml/2006/table">
            <a:tbl>
              <a:tblPr/>
              <a:tblGrid>
                <a:gridCol w="606600"/>
                <a:gridCol w="2200320"/>
                <a:gridCol w="1895400"/>
                <a:gridCol w="1441440"/>
                <a:gridCol w="1971720"/>
              </a:tblGrid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какой цель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66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дневни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662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б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66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сем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143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ские собрания с приглашением учителей предметник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66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классны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1"/>
          <p:cNvSpPr/>
          <p:nvPr/>
        </p:nvSpPr>
        <p:spPr>
          <a:xfrm>
            <a:off x="1533600" y="241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дущие рол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ного руководите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6080" y="228600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онтролер», </a:t>
            </a:r>
            <a:r>
              <a:rPr b="1" lang="ru-RU" sz="32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обеспечивающий включение учащегося в учебно-воспитательный процес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роводник по стране знаний», </a:t>
            </a:r>
            <a:r>
              <a:rPr b="1" lang="ru-RU" sz="32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создающий условия для развития познавательного интереса и желания учиться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85800" y="2133720"/>
          <a:ext cx="8153280" cy="4591080"/>
        </p:xfrm>
        <a:graphic>
          <a:graphicData uri="http://schemas.openxmlformats.org/drawingml/2006/table">
            <a:tbl>
              <a:tblPr/>
              <a:tblGrid>
                <a:gridCol w="453960"/>
                <a:gridCol w="3737160"/>
                <a:gridCol w="1577880"/>
                <a:gridCol w="1085760"/>
                <a:gridCol w="12985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здравоохранения (школьные меди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 профил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Д, проку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со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Д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циальной защиты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2"/>
          <p:cNvSpPr/>
          <p:nvPr/>
        </p:nvSpPr>
        <p:spPr>
          <a:xfrm>
            <a:off x="838080" y="6858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Привлечение классным руководителем других специалистов для коррекции поведения и неуспеваемост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тановка на  внутришкольный учет возможн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явлению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явлению администрации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совершения несовершеннолетними деяния, за которое установлена административная ответ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совершения несовершеннолетними деяния, за которое установлена уголовная 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едоставление документов для постановки на учё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23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ление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а на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 посещения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о профилактической работе с несовершеннолет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ска оценок за текущую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Объект 1"/>
          <p:cNvGraphicFramePr/>
          <p:nvPr/>
        </p:nvGraphicFramePr>
        <p:xfrm>
          <a:off x="468360" y="1295280"/>
          <a:ext cx="3816360" cy="52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95280"/>
                    <a:ext cx="3816360" cy="5234040"/>
                  </a:xfrm>
                  <a:prstGeom prst="rect">
                    <a:avLst/>
                  </a:prstGeom>
                  <a:ln w="57240">
                    <a:solidFill>
                      <a:srgbClr val="3c3c77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Прямоугольник 2"/>
          <p:cNvSpPr/>
          <p:nvPr/>
        </p:nvSpPr>
        <p:spPr>
          <a:xfrm>
            <a:off x="4648320" y="1252440"/>
            <a:ext cx="4267080" cy="3866040"/>
          </a:xfrm>
          <a:prstGeom prst="rect">
            <a:avLst/>
          </a:prstGeom>
          <a:solidFill>
            <a:srgbClr val="d0d0e3"/>
          </a:solidFill>
          <a:ln w="38160">
            <a:solidFill>
              <a:srgbClr val="3c3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сещения на дому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Приглашени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а Совет профилактики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 КДН и ЗП  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 ОДН ОМВД  _________________________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52280" y="304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е дело учащегося, требующего индивидуального подхода в обучении и восп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1"/>
          <p:cNvGraphicFramePr/>
          <p:nvPr/>
        </p:nvGraphicFramePr>
        <p:xfrm>
          <a:off x="214200" y="914400"/>
          <a:ext cx="88534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914400"/>
                    <a:ext cx="8853480" cy="5334120"/>
                  </a:xfrm>
                  <a:prstGeom prst="rect">
                    <a:avLst/>
                  </a:prstGeom>
                  <a:ln w="38160">
                    <a:solidFill>
                      <a:srgbClr val="3c3c77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Объект 1"/>
          <p:cNvGraphicFramePr/>
          <p:nvPr/>
        </p:nvGraphicFramePr>
        <p:xfrm>
          <a:off x="2286000" y="1371600"/>
          <a:ext cx="45529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552920" cy="5334120"/>
                  </a:xfrm>
                  <a:prstGeom prst="rect">
                    <a:avLst/>
                  </a:prstGeom>
                  <a:ln w="38160">
                    <a:solidFill>
                      <a:srgbClr val="3c3c77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7" name="TextBox 1"/>
          <p:cNvSpPr/>
          <p:nvPr/>
        </p:nvSpPr>
        <p:spPr>
          <a:xfrm>
            <a:off x="2680200" y="60948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 обследования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33520" y="10666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Не думайте, что вы воспитываете ребенка только тогда, когда с ним разговариваете, или поучаете его, или приказываете ему. Вы воспитываете его в каждый момент вашей жизни. Малейшие изменения в тоне ребенок видит или чувствует, все повороты вашей мысли доходят до него невидимыми путями, вы их не замеча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Макаренко А.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8600" y="1142640"/>
            <a:ext cx="847872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нравственный наставник», </a:t>
            </a:r>
            <a:r>
              <a:rPr b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содействующий соблюдению учащимися норм и правил, разрешению возникающих конфликтов как между учащимися, так и между учащимися и  педагогами, работающими в класс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носитель культуры», </a:t>
            </a:r>
            <a:r>
              <a:rPr b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помогающий освоить культурные ценности, на основе которых организован учебно-воспитательный процесс</a:t>
            </a:r>
            <a:r>
              <a:rPr b="1" i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066680"/>
            <a:ext cx="91440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циальный педагог», </a:t>
            </a:r>
            <a:r>
              <a:rPr b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который способствует решению различных социальных проблем учащихся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старший товарищ», </a:t>
            </a:r>
            <a:r>
              <a:rPr b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который помогает включиться в различные виды деятельности, берет на себя часть заботы об учащих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Трудный»  реб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это учащийся, у которого в течение длительного времени (более 3 месяцев) наблюдается одна или несколько проблем в социально-эмоциональной, учебной, мотивационно-волевой сф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Наиболее рельефно типичные особенности трудного ребенка проявляются в подростковом возрасте"/>
          <p:cNvPicPr/>
          <p:nvPr/>
        </p:nvPicPr>
        <p:blipFill>
          <a:blip r:embed="rId1"/>
          <a:stretch/>
        </p:blipFill>
        <p:spPr>
          <a:xfrm>
            <a:off x="7543800" y="304920"/>
            <a:ext cx="1241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то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заимоотношении со сверст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заимоотношении с родител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ого рода зависим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лексные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обуч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х проявлением может бы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нарушение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(от замкнутости до агресс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эмоциональное неблагополучие (плаксивость, вспышки гнева и т. д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(совершение противоправных действ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пуск уроков и учебных дней без уважительной причины, неуспеваемость по одному или нескольким предме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нарушение общепринятых норм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а классного руководителя по выявлению «трудных» учащих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Шаг 1.  Выяснить, кто из ребят относится к «группе риска», по какой при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Шаг 2.  Выяснить, в каких условиях и семьях проживают эт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Шаг 3.  Обратиться к школьному психологу за рекомендациями по работе с такими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Шаг 4.  Составить карту 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Шаг 5.  Определить формы работы с такими учащими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79280" y="2133720"/>
            <a:ext cx="28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04800" y="304920"/>
            <a:ext cx="84312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клонение от учёбы вследств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Неуспеваемости по большинству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тставания в интеллектуаль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тсутствия познавательных инте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риентации на другие вид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шиб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Слаб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тсутствия условий для воспитания и обучения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Отсутствия контроля за учёбой со стороны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Неблагополучных отношений со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Нарушений в эмоциональн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(обидчивость, агрессивность, замкнут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213440" y="1266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sha</dc:creator>
  <dc:description/>
  <dc:language>en-US</dc:language>
  <cp:lastModifiedBy>Admin</cp:lastModifiedBy>
  <cp:lastPrinted>2014-03-13T18:25:05Z</cp:lastPrinted>
  <dcterms:modified xsi:type="dcterms:W3CDTF">2014-10-28T06:51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