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792D-3ED2-41BF-AE4B-0B4B26AC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B90-8BF0-47D0-9A64-54AD5A72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D07-757A-4862-86F8-E769A1EF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129-932C-4DA8-A4FF-D0A1BB74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5F1F-3AB7-4963-BA19-937CDC71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BC0-0C88-4D13-9A82-E1916349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720C-CFD9-4F26-BF8C-7D39B1B2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2023-066A-4AB4-9D56-E12CBA52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1A91-AD09-4357-91EC-F19CBD9E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8EF-30F0-46A5-BF23-B57A1DD5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4A7-12AC-4CA3-87DB-63506006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9D3-A449-465E-A2D1-52170F04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150C-8CEE-4654-B263-9C341AD6D4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Blackadder ITC"/>
              </a:rPr>
              <a:t>Sankt-Petersbur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3880" y="1657440"/>
            <a:ext cx="5867640" cy="440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Monotype Corsiva"/>
              </a:rPr>
              <a:t>Die Isaakskathedra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Текст 2" descr=""/>
          <p:cNvPicPr/>
          <p:nvPr/>
        </p:nvPicPr>
        <p:blipFill>
          <a:blip r:embed="rId2"/>
          <a:stretch/>
        </p:blipFill>
        <p:spPr>
          <a:xfrm>
            <a:off x="1557360" y="1600200"/>
            <a:ext cx="602784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Текст 2" descr=""/>
          <p:cNvPicPr/>
          <p:nvPr/>
        </p:nvPicPr>
        <p:blipFill>
          <a:blip r:embed="rId2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Der Newski-Prospek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Текст 2" descr=""/>
          <p:cNvPicPr/>
          <p:nvPr/>
        </p:nvPicPr>
        <p:blipFill>
          <a:blip r:embed="rId2"/>
          <a:stretch/>
        </p:blipFill>
        <p:spPr>
          <a:xfrm>
            <a:off x="1557360" y="1600200"/>
            <a:ext cx="602784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Die Admiralit</a:t>
            </a:r>
            <a:r>
              <a:rPr b="1" lang="de-DE" sz="4800" spc="-1" strike="noStrike">
                <a:solidFill>
                  <a:srgbClr val="000000"/>
                </a:solidFill>
                <a:latin typeface="Monotype Corsiva"/>
              </a:rPr>
              <a:t>ä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Текст 2" descr=""/>
          <p:cNvPicPr/>
          <p:nvPr/>
        </p:nvPicPr>
        <p:blipFill>
          <a:blip r:embed="rId2"/>
          <a:stretch/>
        </p:blipFill>
        <p:spPr>
          <a:xfrm>
            <a:off x="1557360" y="1600200"/>
            <a:ext cx="602784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Monotype Corsiva"/>
              </a:rPr>
              <a:t>Das Schloss des Grafen Strogano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Текст 2" descr=""/>
          <p:cNvPicPr/>
          <p:nvPr/>
        </p:nvPicPr>
        <p:blipFill>
          <a:blip r:embed="rId2"/>
          <a:stretch/>
        </p:blipFill>
        <p:spPr>
          <a:xfrm>
            <a:off x="762120" y="1986120"/>
            <a:ext cx="7619760" cy="357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Monotype Corsiva"/>
              </a:rPr>
              <a:t>Das Russische Museu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Текст 2" descr=""/>
          <p:cNvPicPr/>
          <p:nvPr/>
        </p:nvPicPr>
        <p:blipFill>
          <a:blip r:embed="rId2"/>
          <a:stretch/>
        </p:blipFill>
        <p:spPr>
          <a:xfrm>
            <a:off x="1405080" y="1724040"/>
            <a:ext cx="6333840" cy="4276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Monotype Corsiva"/>
              </a:rPr>
              <a:t>Die Eremitag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Текст 2" descr=""/>
          <p:cNvPicPr/>
          <p:nvPr/>
        </p:nvPicPr>
        <p:blipFill>
          <a:blip r:embed="rId2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Monotype Corsiva"/>
              </a:rPr>
              <a:t>Die Kunstkamm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Текст 2" descr=""/>
          <p:cNvPicPr/>
          <p:nvPr/>
        </p:nvPicPr>
        <p:blipFill>
          <a:blip r:embed="rId2"/>
          <a:stretch/>
        </p:blipFill>
        <p:spPr>
          <a:xfrm>
            <a:off x="1557360" y="1600200"/>
            <a:ext cx="602784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Monotype Corsiva"/>
              </a:rPr>
              <a:t>Die Peter-und-Paul-Kathedra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Текст 2" descr=""/>
          <p:cNvPicPr/>
          <p:nvPr/>
        </p:nvPicPr>
        <p:blipFill>
          <a:blip r:embed="rId2"/>
          <a:stretch/>
        </p:blipFill>
        <p:spPr>
          <a:xfrm>
            <a:off x="1523880" y="1833480"/>
            <a:ext cx="6096240" cy="4057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Monotype Corsiva"/>
              </a:rPr>
              <a:t>Die Kasaner Kathedra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Текст 2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7248600" cy="2892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0-28T18:42:4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