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8F6-F84D-4A35-A597-CC324BAE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561-3456-4153-8098-F016746D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2CD3-9955-40E3-834A-7AF572B8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1E9-8BD2-496B-AE1D-C1692313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5F1-A738-40AC-85A4-D99CF75A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B3A-6391-4E24-8EB3-CA9020CE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3C5-713F-44E4-8970-567CDDC2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FAA-CA57-47F1-835C-A10D8EB1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E964-2301-4B55-8808-E1BB2464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DE38-6041-4C61-9C05-DEAA1D33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C90-9C6C-40BF-B569-4DB1FA3A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1C9-8C38-4ABD-93C2-100BAC91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52F6-7B13-411A-8819-F278465347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1"/>
          <p:cNvSpPr/>
          <p:nvPr/>
        </p:nvSpPr>
        <p:spPr>
          <a:xfrm>
            <a:off x="380880" y="304920"/>
            <a:ext cx="838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сударственное учреждение социального обслуживания населения Тульской области «Областной социально-реабилитационный центр для несовершеннолетних «Искра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2"/>
          <p:cNvSpPr/>
          <p:nvPr/>
        </p:nvSpPr>
        <p:spPr>
          <a:xfrm>
            <a:off x="1143000" y="1066680"/>
            <a:ext cx="73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omic Sans MS"/>
              </a:rPr>
              <a:t>Собрание с педагогами и родителями с элементами трен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omic Sans MS"/>
              </a:rPr>
              <a:t>«Я спокоен или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omic Sans MS"/>
              </a:rPr>
              <a:t>Способы борьбы со стрессом»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3"/>
          <p:cNvSpPr/>
          <p:nvPr/>
        </p:nvSpPr>
        <p:spPr>
          <a:xfrm>
            <a:off x="1447920" y="5715000"/>
            <a:ext cx="655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остави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дагог-псих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Любовь Николаевна Прохор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5" descr="нг"/>
          <p:cNvPicPr/>
          <p:nvPr/>
        </p:nvPicPr>
        <p:blipFill>
          <a:blip r:embed="rId1"/>
          <a:stretch/>
        </p:blipFill>
        <p:spPr>
          <a:xfrm>
            <a:off x="3962520" y="42670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6" descr="стресс 2"/>
          <p:cNvPicPr/>
          <p:nvPr/>
        </p:nvPicPr>
        <p:blipFill>
          <a:blip r:embed="rId2"/>
          <a:stretch/>
        </p:blipFill>
        <p:spPr>
          <a:xfrm>
            <a:off x="5638680" y="358128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7" descr="стресс"/>
          <p:cNvPicPr/>
          <p:nvPr/>
        </p:nvPicPr>
        <p:blipFill>
          <a:blip r:embed="rId3"/>
          <a:stretch/>
        </p:blipFill>
        <p:spPr>
          <a:xfrm>
            <a:off x="1523880" y="36576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4"/>
          <a:stretch/>
        </p:blipFill>
        <p:spPr>
          <a:xfrm>
            <a:off x="457200" y="723960"/>
            <a:ext cx="15238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omic Sans MS"/>
              </a:rPr>
              <a:t>Ключ к тесту 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Comic Sans MS"/>
              </a:rPr>
              <a:t>«Умеете ли Вы справляться со стресс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0-3 балл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Вы умеете владеть собой и, вероятно, вполне счастл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4-7 балло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8 и более балло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чо"/>
          <p:cNvPicPr/>
          <p:nvPr/>
        </p:nvPicPr>
        <p:blipFill>
          <a:blip r:embed="rId1"/>
          <a:stretch/>
        </p:blipFill>
        <p:spPr>
          <a:xfrm>
            <a:off x="5334120" y="4800600"/>
            <a:ext cx="25430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mic Sans MS"/>
              </a:rPr>
              <a:t>Стресс – э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(англ.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stress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— напряжение)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— состояние напряжения, возникающее под влиянием сильных воздействий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мужчины"/>
          <p:cNvPicPr/>
          <p:nvPr/>
        </p:nvPicPr>
        <p:blipFill>
          <a:blip r:embed="rId1"/>
          <a:stretch/>
        </p:blipFill>
        <p:spPr>
          <a:xfrm>
            <a:off x="3352680" y="2819520"/>
            <a:ext cx="243864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дети"/>
          <p:cNvPicPr/>
          <p:nvPr/>
        </p:nvPicPr>
        <p:blipFill>
          <a:blip r:embed="rId2"/>
          <a:stretch/>
        </p:blipFill>
        <p:spPr>
          <a:xfrm>
            <a:off x="228600" y="2666880"/>
            <a:ext cx="2571840" cy="1428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мил"/>
          <p:cNvPicPr/>
          <p:nvPr/>
        </p:nvPicPr>
        <p:blipFill>
          <a:blip r:embed="rId3"/>
          <a:stretch/>
        </p:blipFill>
        <p:spPr>
          <a:xfrm>
            <a:off x="6400800" y="2590920"/>
            <a:ext cx="2286000" cy="1542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лицо"/>
          <p:cNvPicPr/>
          <p:nvPr/>
        </p:nvPicPr>
        <p:blipFill>
          <a:blip r:embed="rId4"/>
          <a:stretch/>
        </p:blipFill>
        <p:spPr>
          <a:xfrm>
            <a:off x="7010280" y="4419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усталость"/>
          <p:cNvPicPr/>
          <p:nvPr/>
        </p:nvPicPr>
        <p:blipFill>
          <a:blip r:embed="rId5"/>
          <a:stretch/>
        </p:blipFill>
        <p:spPr>
          <a:xfrm>
            <a:off x="304920" y="4191120"/>
            <a:ext cx="2009520" cy="142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семья"/>
          <p:cNvPicPr/>
          <p:nvPr/>
        </p:nvPicPr>
        <p:blipFill>
          <a:blip r:embed="rId6"/>
          <a:stretch/>
        </p:blipFill>
        <p:spPr>
          <a:xfrm>
            <a:off x="2514600" y="4572000"/>
            <a:ext cx="1943280" cy="1428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машина"/>
          <p:cNvPicPr/>
          <p:nvPr/>
        </p:nvPicPr>
        <p:blipFill>
          <a:blip r:embed="rId7"/>
          <a:stretch/>
        </p:blipFill>
        <p:spPr>
          <a:xfrm>
            <a:off x="4648320" y="4876920"/>
            <a:ext cx="21524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mic Sans MS"/>
              </a:rPr>
              <a:t>Динамика развития стресса</a:t>
            </a:r>
            <a:r>
              <a:rPr b="1" lang="ru-RU" sz="32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wsyachina.narod.ru/psychology/stress_1/dinamika.jp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mic Sans MS"/>
              </a:rPr>
              <a:t>Медитация и Аутотренин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8380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от лат. meditatio — размышление)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ип упражнений по тренировке концентрации внимания, используемый в оздоровительных целях, для выработки контроля над течением своих мыслей и эмо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876920" y="1371600"/>
            <a:ext cx="3657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&lt; греч. autos сам + англ. training тренировк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ем самовну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по"/>
          <p:cNvPicPr/>
          <p:nvPr/>
        </p:nvPicPr>
        <p:blipFill>
          <a:blip r:embed="rId1"/>
          <a:stretch/>
        </p:blipFill>
        <p:spPr>
          <a:xfrm>
            <a:off x="1219320" y="4114800"/>
            <a:ext cx="2438280" cy="2133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тро"/>
          <p:cNvPicPr/>
          <p:nvPr/>
        </p:nvPicPr>
        <p:blipFill>
          <a:blip r:embed="rId2"/>
          <a:stretch/>
        </p:blipFill>
        <p:spPr>
          <a:xfrm>
            <a:off x="5410080" y="2743200"/>
            <a:ext cx="2524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mic Sans MS"/>
              </a:rPr>
              <a:t>Релаксация – э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етод, с помощью которого можно частично или полностью избавляться от физического или психического напряж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тро"/>
          <p:cNvPicPr/>
          <p:nvPr/>
        </p:nvPicPr>
        <p:blipFill>
          <a:blip r:embed="rId1"/>
          <a:stretch/>
        </p:blipFill>
        <p:spPr>
          <a:xfrm>
            <a:off x="4952880" y="3962520"/>
            <a:ext cx="3353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Comic Sans MS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2l3"/>
          <p:cNvPicPr/>
          <p:nvPr/>
        </p:nvPicPr>
        <p:blipFill>
          <a:blip r:embed="rId1"/>
          <a:stretch/>
        </p:blipFill>
        <p:spPr>
          <a:xfrm>
            <a:off x="1219320" y="3886200"/>
            <a:ext cx="6781680" cy="1066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2l3"/>
          <p:cNvPicPr/>
          <p:nvPr/>
        </p:nvPicPr>
        <p:blipFill>
          <a:blip r:embed="rId2"/>
          <a:stretch/>
        </p:blipFill>
        <p:spPr>
          <a:xfrm rot="10800000">
            <a:off x="1143000" y="1447200"/>
            <a:ext cx="67816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2-01-01T00:53:52Z</dcterms:modified>
  <cp:revision>1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