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087-D5AA-40D5-B2C9-C91C1813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ADD-1485-4176-A741-2229BC78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3E0-C261-4669-B839-E3BE63BC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6A4-7FE2-4817-BD53-E10DB262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01F2-6F8A-487A-9721-1D548B16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4302-04E1-402A-8C7F-88D47062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F6BB-1E2D-4D36-B4D3-619D5C44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0002-B556-49D8-9077-7C6814D7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3A90-7FEB-43D7-B4DC-37052C8D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5F8C-E6E6-48E0-8C78-40C02AF8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2E53-D10E-4091-B139-B052BDB2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320-4E1A-4B65-A0C3-91073B88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8541-6218-4635-B429-CDA480EF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6252-A865-4AB3-945E-8E9CEEAA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9576-C0BE-43DC-B1F7-BD24FACC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2F3A-AEB4-4A87-84C8-6DC3EEC4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EAA9-AD87-485A-8D6B-032E278F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A7A-E069-4398-87ED-AA93906B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2B4-3BFE-445D-BC14-62FFBBDB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077-53BA-4598-95B1-495F9FA1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55B-6D1F-4513-B957-7C871E5D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602-C87C-42EE-81AA-220FD26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C9B-0979-4623-A4A5-DC53C11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01D-6A3C-4397-ABB2-9A166A7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5B34-7A03-4BEF-A84C-7477FD788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2528-24CC-41CC-B47C-2BC4325C3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 Black"/>
              </a:rPr>
              <a:t>Зайцы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68144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30560" y="307800"/>
            <a:ext cx="4681440" cy="624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18:31:58Z</dcterms:created>
  <dc:creator>Admin</dc:creator>
  <dc:description/>
  <dc:language>en-US</dc:language>
  <cp:lastModifiedBy>Admin</cp:lastModifiedBy>
  <dcterms:modified xsi:type="dcterms:W3CDTF">2014-10-28T18:57:37Z</dcterms:modified>
  <cp:revision>4</cp:revision>
  <dc:subject/>
  <dc:title>Зайцы</dc:title>
</cp:coreProperties>
</file>