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EDFD1-5FCC-41AD-9BC7-80481A294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A31B3-89CC-4F2A-89D4-12DAEEB35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6D8A5-D080-4A44-AC51-B5DCE7A75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C7018-6E0E-48E7-BE44-81EF6FF9E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05C26-FFE9-4F57-8132-65CDB3553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1D0B7-7804-4FE5-987B-974C86820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CE6E7-3682-4ABB-AF60-35E845888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B0E6C-6A82-44FC-98AE-20EEA26E7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78C89-FB9B-456F-B48E-C67988BD4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E826E-8BC9-40BF-8CC4-8B52B3749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A0C0D-5C11-430A-8E13-439855833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797F9-AF47-4633-AAD0-18349C0E9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FC518-9F11-44DC-8FD2-9EB76700A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2D56B-048D-4E33-B31F-330B6CCEE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03092-F95A-4D2B-8AC6-A3D28F3DC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BC604-B779-4289-A33D-F1C88CDF7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F3C1A-DBB9-49C9-B559-946CCB86E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1C18AC-5A09-4BB7-AFA5-B23905894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4F34C3-2F5D-429D-8F17-167AD625D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B4E6CB-2723-4E18-85B3-D8AE5E3C1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B2F8CC-F29F-4849-84EF-E31BD14B0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740730-E4ED-425E-A7DB-9F66804EB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AF2D3-67DC-4C56-A62C-B7ADAA83B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BD1423-75EB-40F4-9F53-A0663BDEB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3A2651-A0EF-4FAB-8AE1-31CB7C606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0BC217-01E9-4967-B948-B18ECB8A1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84CA3D-D6BB-4E86-BA89-C443D38EA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66488A-3588-4BB1-BDDF-ED29C6CA6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3F50A2-5FDF-496D-9569-A733211F3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842BE3-35F7-4219-8855-03634CA05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D8039-E716-46A8-8DAE-260560A0A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6427A-FD9B-4DFC-A3DF-9080033B1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42109-82A5-49A1-8BFE-191620A66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E2EB0-13EB-4820-B764-C638080FF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05C6D-83F0-47BF-940E-E3D9A1BBD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206A0-D07D-4560-924C-516F753D0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BE16175-8B27-4D9B-9203-F6A725867526}" type="slidenum">
              <a:rPr b="0" lang="ru-RU" sz="2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440" y="0"/>
            <a:ext cx="9147240" cy="6850080"/>
            <a:chOff x="1440" y="0"/>
            <a:chExt cx="9147240" cy="6850080"/>
          </a:xfrm>
        </p:grpSpPr>
        <p:sp>
          <p:nvSpPr>
            <p:cNvPr id="42" name=""/>
            <p:cNvSpPr/>
            <p:nvPr/>
          </p:nvSpPr>
          <p:spPr>
            <a:xfrm>
              <a:off x="8008920" y="4168800"/>
              <a:ext cx="1139760" cy="268128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8550360" y="6022800"/>
              <a:ext cx="598320" cy="82728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9016920" y="6689880"/>
              <a:ext cx="131760" cy="16020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" name=""/>
            <p:cNvGrpSpPr/>
            <p:nvPr/>
          </p:nvGrpSpPr>
          <p:grpSpPr>
            <a:xfrm>
              <a:off x="457200" y="0"/>
              <a:ext cx="8091360" cy="6850080"/>
              <a:chOff x="457200" y="0"/>
              <a:chExt cx="8091360" cy="6850080"/>
            </a:xfrm>
          </p:grpSpPr>
          <p:sp>
            <p:nvSpPr>
              <p:cNvPr id="46" name=""/>
              <p:cNvSpPr/>
              <p:nvPr/>
            </p:nvSpPr>
            <p:spPr>
              <a:xfrm>
                <a:off x="4427640" y="0"/>
                <a:ext cx="112680" cy="685008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4903920" y="0"/>
                <a:ext cx="274680" cy="685008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5330880" y="0"/>
                <a:ext cx="533520" cy="685008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5835600" y="0"/>
                <a:ext cx="676440" cy="685008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6264360" y="0"/>
                <a:ext cx="884160" cy="685008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40640" y="0"/>
                <a:ext cx="1093680" cy="685008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7178760" y="0"/>
                <a:ext cx="1369800" cy="685008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3808440" y="0"/>
                <a:ext cx="236520" cy="685008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3122640" y="0"/>
                <a:ext cx="474480" cy="685008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2486160" y="0"/>
                <a:ext cx="672840" cy="685008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90640" y="0"/>
                <a:ext cx="911160" cy="685008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14560" y="0"/>
                <a:ext cx="1168200" cy="685008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457200" y="0"/>
                <a:ext cx="1332000" cy="685008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" name=""/>
            <p:cNvSpPr/>
            <p:nvPr/>
          </p:nvSpPr>
          <p:spPr>
            <a:xfrm>
              <a:off x="9360" y="4605480"/>
              <a:ext cx="960480" cy="224460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9360" y="6175440"/>
              <a:ext cx="360360" cy="67464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7581960" y="0"/>
              <a:ext cx="1560600" cy="28335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002440" y="0"/>
              <a:ext cx="1140120" cy="133992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496360" y="0"/>
              <a:ext cx="646200" cy="6555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9360" y="0"/>
              <a:ext cx="1360800" cy="223524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9360" y="0"/>
              <a:ext cx="932040" cy="94932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9360" y="0"/>
              <a:ext cx="427320" cy="39852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440" y="4363920"/>
              <a:ext cx="9139320" cy="0"/>
            </a:xfrm>
            <a:prstGeom prst="line">
              <a:avLst/>
            </a:prstGeom>
            <a:ln cap="sq"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440" y="3740040"/>
              <a:ext cx="9139320" cy="0"/>
            </a:xfrm>
            <a:prstGeom prst="line">
              <a:avLst/>
            </a:prstGeom>
            <a:ln cap="sq"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440" y="4987800"/>
              <a:ext cx="9139320" cy="0"/>
            </a:xfrm>
            <a:prstGeom prst="line">
              <a:avLst/>
            </a:prstGeom>
            <a:ln cap="sq"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0" name=""/>
            <p:cNvGrpSpPr/>
            <p:nvPr/>
          </p:nvGrpSpPr>
          <p:grpSpPr>
            <a:xfrm>
              <a:off x="1440" y="622440"/>
              <a:ext cx="9139320" cy="2492280"/>
              <a:chOff x="1440" y="622440"/>
              <a:chExt cx="9139320" cy="2492280"/>
            </a:xfrm>
          </p:grpSpPr>
          <p:sp>
            <p:nvSpPr>
              <p:cNvPr id="71" name=""/>
              <p:cNvSpPr/>
              <p:nvPr/>
            </p:nvSpPr>
            <p:spPr>
              <a:xfrm>
                <a:off x="1440" y="1244160"/>
                <a:ext cx="9139320" cy="0"/>
              </a:xfrm>
              <a:prstGeom prst="line">
                <a:avLst/>
              </a:prstGeom>
              <a:ln cap="sq"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1440" y="3114720"/>
                <a:ext cx="9139320" cy="0"/>
              </a:xfrm>
              <a:prstGeom prst="line">
                <a:avLst/>
              </a:prstGeom>
              <a:ln cap="sq"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1440" y="2491200"/>
                <a:ext cx="9139320" cy="0"/>
              </a:xfrm>
              <a:prstGeom prst="line">
                <a:avLst/>
              </a:prstGeom>
              <a:ln cap="sq"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1440" y="1867680"/>
                <a:ext cx="9139320" cy="0"/>
              </a:xfrm>
              <a:prstGeom prst="line">
                <a:avLst/>
              </a:prstGeom>
              <a:ln cap="sq"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1440" y="622440"/>
                <a:ext cx="9139320" cy="0"/>
              </a:xfrm>
              <a:prstGeom prst="line">
                <a:avLst/>
              </a:prstGeom>
              <a:ln cap="sq"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" name=""/>
            <p:cNvSpPr/>
            <p:nvPr/>
          </p:nvSpPr>
          <p:spPr>
            <a:xfrm>
              <a:off x="1440" y="6235560"/>
              <a:ext cx="9139320" cy="0"/>
            </a:xfrm>
            <a:prstGeom prst="line">
              <a:avLst/>
            </a:prstGeom>
            <a:ln cap="sq"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440" y="5611680"/>
              <a:ext cx="9139320" cy="0"/>
            </a:xfrm>
            <a:prstGeom prst="line">
              <a:avLst/>
            </a:prstGeom>
            <a:ln cap="sq"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dt" idx="4"/>
          </p:nvPr>
        </p:nvSpPr>
        <p:spPr>
          <a:xfrm>
            <a:off x="457200" y="6243480"/>
            <a:ext cx="21319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000" spc="-1" strike="noStrike">
                <a:solidFill>
                  <a:srgbClr val="ffffff"/>
                </a:solidFill>
                <a:latin typeface="Verdana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  <a:ea typeface="Segoe UI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000" spc="-1" strike="noStrike">
                <a:solidFill>
                  <a:srgbClr val="ffffff"/>
                </a:solidFill>
                <a:latin typeface="Verdana"/>
                <a:ea typeface="Segoe U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  <a:ea typeface="Segoe UI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2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000" spc="-1" strike="noStrike">
                <a:solidFill>
                  <a:srgbClr val="ffffff"/>
                </a:solidFill>
                <a:latin typeface="Verdana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04C78A-EDE6-4C01-BDF0-CC1237DCAA92}" type="slidenum">
              <a:rPr b="0" lang="ru-RU" sz="1000" spc="-1" strike="noStrike">
                <a:solidFill>
                  <a:srgbClr val="ffffff"/>
                </a:solidFill>
                <a:latin typeface="Verdana"/>
                <a:ea typeface="Segoe UI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" name=""/>
          <p:cNvGrpSpPr/>
          <p:nvPr/>
        </p:nvGrpSpPr>
        <p:grpSpPr>
          <a:xfrm>
            <a:off x="0" y="0"/>
            <a:ext cx="9147240" cy="6850080"/>
            <a:chOff x="0" y="0"/>
            <a:chExt cx="9147240" cy="6850080"/>
          </a:xfrm>
        </p:grpSpPr>
        <p:sp>
          <p:nvSpPr>
            <p:cNvPr id="120" name=""/>
            <p:cNvSpPr/>
            <p:nvPr/>
          </p:nvSpPr>
          <p:spPr>
            <a:xfrm>
              <a:off x="8007480" y="4168800"/>
              <a:ext cx="1139760" cy="268128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8548560" y="6022800"/>
              <a:ext cx="598680" cy="82728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9015480" y="6689880"/>
              <a:ext cx="131760" cy="16020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3" name=""/>
            <p:cNvGrpSpPr/>
            <p:nvPr/>
          </p:nvGrpSpPr>
          <p:grpSpPr>
            <a:xfrm>
              <a:off x="455760" y="0"/>
              <a:ext cx="8091360" cy="6850080"/>
              <a:chOff x="455760" y="0"/>
              <a:chExt cx="8091360" cy="6850080"/>
            </a:xfrm>
          </p:grpSpPr>
          <p:sp>
            <p:nvSpPr>
              <p:cNvPr id="124" name=""/>
              <p:cNvSpPr/>
              <p:nvPr/>
            </p:nvSpPr>
            <p:spPr>
              <a:xfrm>
                <a:off x="4425840" y="0"/>
                <a:ext cx="112680" cy="685008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4902120" y="0"/>
                <a:ext cx="274680" cy="685008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329080" y="0"/>
                <a:ext cx="533520" cy="685008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5834160" y="0"/>
                <a:ext cx="676080" cy="685008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6262560" y="0"/>
                <a:ext cx="884520" cy="685008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6738840" y="0"/>
                <a:ext cx="1094040" cy="685008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7176960" y="0"/>
                <a:ext cx="1370160" cy="685008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0"/>
                <a:ext cx="236520" cy="685008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121200" y="0"/>
                <a:ext cx="474480" cy="685008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2484360" y="0"/>
                <a:ext cx="673200" cy="685008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1789200" y="0"/>
                <a:ext cx="911160" cy="685008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1112760" y="0"/>
                <a:ext cx="1168560" cy="685008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5760" y="0"/>
                <a:ext cx="1331640" cy="685008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7" name=""/>
            <p:cNvSpPr/>
            <p:nvPr/>
          </p:nvSpPr>
          <p:spPr>
            <a:xfrm>
              <a:off x="7920" y="4605480"/>
              <a:ext cx="960480" cy="224460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920" y="6175440"/>
              <a:ext cx="360360" cy="67464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580160" y="0"/>
              <a:ext cx="1560600" cy="28335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001000" y="0"/>
              <a:ext cx="1139760" cy="133992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494560" y="0"/>
              <a:ext cx="646200" cy="6555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0" y="0"/>
              <a:ext cx="1360440" cy="223524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920" y="0"/>
              <a:ext cx="932040" cy="94932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920" y="0"/>
              <a:ext cx="426960" cy="39852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0" y="4363920"/>
              <a:ext cx="9139320" cy="0"/>
            </a:xfrm>
            <a:prstGeom prst="line">
              <a:avLst/>
            </a:prstGeom>
            <a:ln cap="sq"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0" y="3740040"/>
              <a:ext cx="9139320" cy="0"/>
            </a:xfrm>
            <a:prstGeom prst="line">
              <a:avLst/>
            </a:prstGeom>
            <a:ln cap="sq"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0" y="4987800"/>
              <a:ext cx="9139320" cy="0"/>
            </a:xfrm>
            <a:prstGeom prst="line">
              <a:avLst/>
            </a:prstGeom>
            <a:ln cap="sq"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0" y="622440"/>
              <a:ext cx="9139320" cy="2492280"/>
              <a:chOff x="0" y="622440"/>
              <a:chExt cx="9139320" cy="2492280"/>
            </a:xfrm>
          </p:grpSpPr>
          <p:sp>
            <p:nvSpPr>
              <p:cNvPr id="149" name=""/>
              <p:cNvSpPr/>
              <p:nvPr/>
            </p:nvSpPr>
            <p:spPr>
              <a:xfrm>
                <a:off x="0" y="1244160"/>
                <a:ext cx="9139320" cy="0"/>
              </a:xfrm>
              <a:prstGeom prst="line">
                <a:avLst/>
              </a:prstGeom>
              <a:ln cap="sq"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0" y="3114720"/>
                <a:ext cx="9139320" cy="0"/>
              </a:xfrm>
              <a:prstGeom prst="line">
                <a:avLst/>
              </a:prstGeom>
              <a:ln cap="sq"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0" y="2491200"/>
                <a:ext cx="9139320" cy="0"/>
              </a:xfrm>
              <a:prstGeom prst="line">
                <a:avLst/>
              </a:prstGeom>
              <a:ln cap="sq"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0" y="1867680"/>
                <a:ext cx="9139320" cy="0"/>
              </a:xfrm>
              <a:prstGeom prst="line">
                <a:avLst/>
              </a:prstGeom>
              <a:ln cap="sq"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0" y="622440"/>
                <a:ext cx="9139320" cy="0"/>
              </a:xfrm>
              <a:prstGeom prst="line">
                <a:avLst/>
              </a:prstGeom>
              <a:ln cap="sq"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4" name=""/>
            <p:cNvSpPr/>
            <p:nvPr/>
          </p:nvSpPr>
          <p:spPr>
            <a:xfrm>
              <a:off x="0" y="6235560"/>
              <a:ext cx="9139320" cy="0"/>
            </a:xfrm>
            <a:prstGeom prst="line">
              <a:avLst/>
            </a:prstGeom>
            <a:ln cap="sq"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0" y="5611680"/>
              <a:ext cx="9139320" cy="0"/>
            </a:xfrm>
            <a:prstGeom prst="line">
              <a:avLst/>
            </a:prstGeom>
            <a:ln cap="sq"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0960" cy="17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1371600" y="3886200"/>
            <a:ext cx="63993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1000"/>
          </a:bodyPr>
          <a:p>
            <a:pPr marL="140400" indent="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140400" indent="-140400" algn="ctr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40400" indent="-140400" algn="ctr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40400" indent="-140400" algn="ctr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140400" indent="-140400" algn="ctr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140400" indent="-140400" algn="ctr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140400" indent="-140400" algn="ctr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dt" idx="7"/>
          </p:nvPr>
        </p:nvSpPr>
        <p:spPr>
          <a:xfrm>
            <a:off x="457200" y="6243480"/>
            <a:ext cx="21319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000" spc="-1" strike="noStrike">
                <a:solidFill>
                  <a:srgbClr val="ffffff"/>
                </a:solidFill>
                <a:latin typeface="Verdana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  <a:ea typeface="Segoe UI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 type="ftr" idx="8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000" spc="-1" strike="noStrike">
                <a:solidFill>
                  <a:srgbClr val="ffffff"/>
                </a:solidFill>
                <a:latin typeface="Verdana"/>
                <a:ea typeface="Segoe U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  <a:ea typeface="Segoe UI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2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000" spc="-1" strike="noStrike">
                <a:solidFill>
                  <a:srgbClr val="ffffff"/>
                </a:solidFill>
                <a:latin typeface="Verdana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26E949-8940-4423-BF13-0907F7AB661C}" type="slidenum">
              <a:rPr b="0" lang="ru-RU" sz="1000" spc="-1" strike="noStrike">
                <a:solidFill>
                  <a:srgbClr val="ffffff"/>
                </a:solidFill>
                <a:latin typeface="Verdana"/>
                <a:ea typeface="Segoe UI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57200" y="1604880"/>
            <a:ext cx="8229600" cy="39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ff9966"/>
                </a:solidFill>
                <a:latin typeface="Arial"/>
              </a:rPr>
              <a:t>Знакомимся с компьютером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944720" y="3887640"/>
            <a:ext cx="561672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66"/>
                </a:solidFill>
                <a:latin typeface="Arial"/>
              </a:rPr>
              <a:t>Выполнила преподаватель «Агротехнологического техникума г. Кораблино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66"/>
                </a:solidFill>
                <a:latin typeface="Arial"/>
              </a:rPr>
              <a:t>Цыплакова И.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66ccff"/>
                </a:solidFill>
                <a:latin typeface="Arial"/>
              </a:rPr>
              <a:t>Устройства, образующие внешнюю памя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826920" y="1557360"/>
            <a:ext cx="6769440" cy="1440000"/>
          </a:xfrm>
          <a:prstGeom prst="rect">
            <a:avLst/>
          </a:prstGeom>
          <a:solidFill>
            <a:srgbClr val="f8a6ba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9966"/>
                </a:solidFill>
                <a:latin typeface="AdverGothic"/>
              </a:rPr>
              <a:t>Внешняя памя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4000" y="3645000"/>
            <a:ext cx="1655640" cy="934920"/>
          </a:xfrm>
          <a:prstGeom prst="rect">
            <a:avLst/>
          </a:prstGeom>
          <a:solidFill>
            <a:srgbClr val="66cc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9966"/>
                </a:solidFill>
                <a:latin typeface="AdverGothic"/>
              </a:rPr>
              <a:t>НГМ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826920" y="5013360"/>
            <a:ext cx="2376720" cy="792000"/>
          </a:xfrm>
          <a:prstGeom prst="rect">
            <a:avLst/>
          </a:prstGeom>
          <a:solidFill>
            <a:srgbClr val="66cc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9966"/>
                </a:solidFill>
                <a:latin typeface="AdverGothic"/>
              </a:rPr>
              <a:t>Стриме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132000" y="3645000"/>
            <a:ext cx="1656000" cy="934920"/>
          </a:xfrm>
          <a:prstGeom prst="rect">
            <a:avLst/>
          </a:prstGeom>
          <a:solidFill>
            <a:srgbClr val="66cc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9966"/>
                </a:solidFill>
                <a:latin typeface="AdverGothic"/>
              </a:rPr>
              <a:t>НЖМ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067280" y="5734080"/>
            <a:ext cx="1081080" cy="934920"/>
          </a:xfrm>
          <a:prstGeom prst="rect">
            <a:avLst/>
          </a:prstGeom>
          <a:solidFill>
            <a:srgbClr val="333399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ff9966"/>
                </a:solidFill>
                <a:latin typeface="Antiqua-Bold"/>
              </a:rPr>
              <a:t>CD – 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572000" y="4869000"/>
            <a:ext cx="2879640" cy="576000"/>
          </a:xfrm>
          <a:prstGeom prst="rect">
            <a:avLst/>
          </a:prstGeom>
          <a:solidFill>
            <a:srgbClr val="009999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9966"/>
                </a:solidFill>
                <a:latin typeface="AdverGothic"/>
              </a:rPr>
              <a:t>CD - 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435640" y="3573360"/>
            <a:ext cx="3384360" cy="935280"/>
          </a:xfrm>
          <a:prstGeom prst="rect">
            <a:avLst/>
          </a:prstGeom>
          <a:solidFill>
            <a:srgbClr val="66cc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9966"/>
                </a:solidFill>
                <a:latin typeface="AdverGothic"/>
              </a:rPr>
              <a:t>Компак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9966"/>
                </a:solidFill>
                <a:latin typeface="AdverGothic"/>
              </a:rPr>
              <a:t> </a:t>
            </a:r>
            <a:r>
              <a:rPr b="0" lang="ru-RU" sz="3200" spc="-1" strike="noStrike">
                <a:solidFill>
                  <a:srgbClr val="ff9966"/>
                </a:solidFill>
                <a:latin typeface="AdverGothic"/>
              </a:rPr>
              <a:t>дис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6156360" y="5805360"/>
            <a:ext cx="1224000" cy="863640"/>
          </a:xfrm>
          <a:prstGeom prst="rect">
            <a:avLst/>
          </a:prstGeom>
          <a:solidFill>
            <a:srgbClr val="333399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ff9966"/>
                </a:solidFill>
                <a:latin typeface="Antiqua-Bold"/>
              </a:rPr>
              <a:t>CD – R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885080" y="5516640"/>
            <a:ext cx="1081080" cy="934920"/>
          </a:xfrm>
          <a:prstGeom prst="rect">
            <a:avLst/>
          </a:prstGeom>
          <a:solidFill>
            <a:srgbClr val="333399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ff9966"/>
                </a:solidFill>
                <a:latin typeface="Antiqua-Bold"/>
              </a:rPr>
              <a:t>DV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187280" y="2997360"/>
            <a:ext cx="433440" cy="576000"/>
          </a:xfrm>
          <a:prstGeom prst="downArrow">
            <a:avLst>
              <a:gd name="adj1" fmla="val 50000"/>
              <a:gd name="adj2" fmla="val 33223"/>
            </a:avLst>
          </a:prstGeom>
          <a:solidFill>
            <a:srgbClr val="bbe0e3"/>
          </a:solidFill>
          <a:ln cap="sq" w="936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708360" y="2997360"/>
            <a:ext cx="433440" cy="576000"/>
          </a:xfrm>
          <a:prstGeom prst="downArrow">
            <a:avLst>
              <a:gd name="adj1" fmla="val 50000"/>
              <a:gd name="adj2" fmla="val 33223"/>
            </a:avLst>
          </a:prstGeom>
          <a:solidFill>
            <a:srgbClr val="bbe0e3"/>
          </a:solidFill>
          <a:ln cap="sq" w="936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804000" y="2997360"/>
            <a:ext cx="433440" cy="502920"/>
          </a:xfrm>
          <a:prstGeom prst="downArrow">
            <a:avLst>
              <a:gd name="adj1" fmla="val 50000"/>
              <a:gd name="adj2" fmla="val 29007"/>
            </a:avLst>
          </a:prstGeom>
          <a:solidFill>
            <a:srgbClr val="bbe0e3"/>
          </a:solidFill>
          <a:ln cap="sq" w="936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195640" y="2997360"/>
            <a:ext cx="433440" cy="1871640"/>
          </a:xfrm>
          <a:prstGeom prst="downArrow">
            <a:avLst>
              <a:gd name="adj1" fmla="val 50000"/>
              <a:gd name="adj2" fmla="val 107953"/>
            </a:avLst>
          </a:prstGeom>
          <a:solidFill>
            <a:srgbClr val="bbe0e3"/>
          </a:solidFill>
          <a:ln cap="sq" w="936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804000" y="4508640"/>
            <a:ext cx="73080" cy="288720"/>
          </a:xfrm>
          <a:prstGeom prst="downArrow">
            <a:avLst>
              <a:gd name="adj1" fmla="val 50000"/>
              <a:gd name="adj2" fmla="val 98768"/>
            </a:avLst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8459640" y="4508640"/>
            <a:ext cx="216000" cy="865080"/>
          </a:xfrm>
          <a:prstGeom prst="downArrow">
            <a:avLst>
              <a:gd name="adj1" fmla="val 50000"/>
              <a:gd name="adj2" fmla="val 100125"/>
            </a:avLst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877080" y="5445000"/>
            <a:ext cx="73080" cy="289080"/>
          </a:xfrm>
          <a:prstGeom prst="downArrow">
            <a:avLst>
              <a:gd name="adj1" fmla="val 50000"/>
              <a:gd name="adj2" fmla="val 98892"/>
            </a:avLst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4788000" y="5445000"/>
            <a:ext cx="73080" cy="289080"/>
          </a:xfrm>
          <a:prstGeom prst="downArrow">
            <a:avLst>
              <a:gd name="adj1" fmla="val 50000"/>
              <a:gd name="adj2" fmla="val 98892"/>
            </a:avLst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dur="indefinite" fill="hold">
                      <p:stCondLst>
                        <p:cond delay="0"/>
                      </p:stCondLst>
                      <p:childTnLst>
                        <p:par>
                          <p:cTn id="12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66ccff"/>
                </a:solidFill>
                <a:latin typeface="Arial"/>
              </a:rPr>
              <a:t>Накопители на гибких магнитных дисках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7600" indent="-327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Гибкий диск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англ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loppy disk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), или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искета,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носитель небольшого объема информации, представляющий собой гибкий пластиковый диск в защитной оболочке. Используется для переноса данных с одного компьютера на другой и для распространения программного обеспечени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7600" indent="-327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Характеристик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7600" indent="-327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иаметр 3,5 дюйма (89 мм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7600" indent="-327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емкость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,44 Мбайт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7600" indent="-327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число    дорожек 8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7600" indent="-327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личество секторов на дорожках 18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7600" indent="-327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искета устанавливается в накопитель   на   гибких  магнитных дисках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накопителе вращается сама дискета, магнитные головки остаются неподвижными. Дискета вращается только при обращении к не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4859280" y="2084400"/>
            <a:ext cx="3673440" cy="24969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dur="indefinite" fill="hold">
                      <p:stCondLst>
                        <p:cond delay="0"/>
                      </p:stCondLst>
                      <p:childTnLst>
                        <p:par>
                          <p:cTn id="1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dur="indefinite" fill="hold">
                      <p:stCondLst>
                        <p:cond delay="indefinite"/>
                      </p:stCondLst>
                      <p:childTnLst>
                        <p:par>
                          <p:cTn id="13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dur="indefinite" fill="hold">
                      <p:stCondLst>
                        <p:cond delay="indefinite"/>
                      </p:stCondLst>
                      <p:childTnLst>
                        <p:par>
                          <p:cTn id="14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dur="indefinite" fill="hold">
                      <p:stCondLst>
                        <p:cond delay="indefinite"/>
                      </p:stCondLst>
                      <p:childTnLst>
                        <p:par>
                          <p:cTn id="1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dur="indefinite" fill="hold">
                      <p:stCondLst>
                        <p:cond delay="indefinite"/>
                      </p:stCondLst>
                      <p:childTnLst>
                        <p:par>
                          <p:cTn id="14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dur="indefinite" fill="hold">
                      <p:stCondLst>
                        <p:cond delay="indefinite"/>
                      </p:stCondLst>
                      <p:childTnLst>
                        <p:par>
                          <p:cTn id="15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dur="indefinite" fill="hold">
                      <p:stCondLst>
                        <p:cond delay="indefinite"/>
                      </p:stCondLst>
                      <p:childTnLst>
                        <p:par>
                          <p:cTn id="15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dur="indefinite" fill="hold">
                      <p:stCondLst>
                        <p:cond delay="indefinite"/>
                      </p:stCondLst>
                      <p:childTnLst>
                        <p:par>
                          <p:cTn id="16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dur="indefinite" fill="hold">
                      <p:stCondLst>
                        <p:cond delay="indefinite"/>
                      </p:stCondLst>
                      <p:childTnLst>
                        <p:par>
                          <p:cTn id="16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39280" y="0"/>
            <a:ext cx="814716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66ccff"/>
                </a:solidFill>
                <a:latin typeface="Arial"/>
              </a:rPr>
              <a:t>Накопители на жестких магнитных диска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4608360" cy="53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0840" indent="-330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Жесткий диск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— информационный склад компьюте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0840" indent="-330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копитель на жестких магнитных дисках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англ.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D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На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 Drive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ли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инчестерский накопитель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— это наиболее массовое запоминающее устройство большой емкости, в котором носителями информации являются круглые алюминиевые пластины — платтеры, обе поверхности которых покрыты слоем магнитного материала. Используется для постоянного хранения информации — программ и данны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0840" indent="-330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инчестерские    накопител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имеют очень большую емкость— от 10 до 100 Гбайт. У современных моделей скорость вращения шпинделя обычно составляет 7200 об/мин, среднее время поиска данных 9 мс, средняя скорость передачи данных до 60 Мбайт/с.  В отличие от дискеты, жесткий диск вращается непрерывн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rcRect l="3068" t="4295" r="3068" b="6442"/>
          <a:stretch/>
        </p:blipFill>
        <p:spPr>
          <a:xfrm>
            <a:off x="5091120" y="1557360"/>
            <a:ext cx="3930480" cy="46641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dur="indefinite" fill="hold">
                      <p:stCondLst>
                        <p:cond delay="0"/>
                      </p:stCondLst>
                      <p:childTnLst>
                        <p:par>
                          <p:cTn id="17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dur="indefinite" fill="hold">
                      <p:stCondLst>
                        <p:cond delay="indefinite"/>
                      </p:stCondLst>
                      <p:childTnLst>
                        <p:par>
                          <p:cTn id="17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dur="indefinite" fill="hold">
                      <p:stCondLst>
                        <p:cond delay="indefinite"/>
                      </p:stCondLst>
                      <p:childTnLst>
                        <p:par>
                          <p:cTn id="17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dur="indefinite" fill="hold">
                      <p:stCondLst>
                        <p:cond delay="indefinite"/>
                      </p:stCondLst>
                      <p:childTnLst>
                        <p:par>
                          <p:cTn id="18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dur="indefinite" fill="hold">
                      <p:stCondLst>
                        <p:cond delay="indefinite"/>
                      </p:stCondLst>
                      <p:childTnLst>
                        <p:par>
                          <p:cTn id="18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66ccff"/>
                </a:solidFill>
                <a:latin typeface="Arial"/>
              </a:rPr>
              <a:t>Накопители на компакт-дисках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осителем информации является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D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ct Dick Read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Memory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- компакт-диск, из которого можно только читать).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D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представляет собой прозрачный полимерный диск диаметром 12 см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олщиной 1,2 мм, на одну сторону которого напылен светоотражающий слой алюминия, защищенный от повреждений слоем прозрачного лака. Емкость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остигает 780 Мбайт Один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D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 информационной емкости равен почти 500 дискетам.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D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сты и удобны в работе, имеют низкую удельную стоимость хранения данных, практически не изнашиваются, не могут быть поражены вирусами, с них невозможно случайно стереть информацию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rcRect l="3021" t="4342" r="3021" b="21711"/>
          <a:stretch/>
        </p:blipFill>
        <p:spPr>
          <a:xfrm>
            <a:off x="4788000" y="1916280"/>
            <a:ext cx="3960720" cy="33843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dur="indefinite" fill="hold">
                      <p:stCondLst>
                        <p:cond delay="0"/>
                      </p:stCondLst>
                      <p:childTnLst>
                        <p:par>
                          <p:cTn id="19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dur="indefinite" fill="hold">
                      <p:stCondLst>
                        <p:cond delay="indefinite"/>
                      </p:stCondLst>
                      <p:childTnLst>
                        <p:par>
                          <p:cTn id="19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dur="indefinite" fill="hold">
                      <p:stCondLst>
                        <p:cond delay="indefinite"/>
                      </p:stCondLst>
                      <p:childTnLst>
                        <p:par>
                          <p:cTn id="20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66ccff"/>
                </a:solidFill>
                <a:latin typeface="Arial"/>
              </a:rPr>
              <a:t>Цифровые видеодиски </a:t>
            </a:r>
            <a:r>
              <a:rPr b="1" lang="en-US" sz="4400" spc="-1" strike="noStrike">
                <a:solidFill>
                  <a:srgbClr val="66ccff"/>
                </a:solidFill>
                <a:latin typeface="Arial"/>
              </a:rPr>
              <a:t>DVD</a:t>
            </a:r>
            <a:r>
              <a:rPr b="1" lang="ru-RU" sz="4400" spc="-1" strike="noStrike">
                <a:solidFill>
                  <a:srgbClr val="66ccff"/>
                </a:solidFill>
                <a:latin typeface="Arial"/>
              </a:rPr>
              <a:t>.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197000"/>
            <a:ext cx="44751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смену технологии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O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ремительно идет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технология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цифровых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идеодисков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VD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Эти диски имеют тот же размер, что обычные , но вмешают до 17 Гбайт данных, т.е. по объему заменяют 20 стандартных дисков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O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таких дисках выпускаются мультимедийные игры и интерактивные видеофильмы отличного качества, позволяющие зрителю просматривать эпизоды под разными углами камеры, выбирать различные варианты окончания картины, знакомиться с биографиями снявшихся актеров, наслаждаться великолепным  качеством зву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"/>
          <a:srcRect l="6057" t="3346" r="6057" b="10038"/>
          <a:stretch/>
        </p:blipFill>
        <p:spPr>
          <a:xfrm>
            <a:off x="4859280" y="1916280"/>
            <a:ext cx="4033800" cy="40338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dur="indefinite" fill="hold">
                      <p:stCondLst>
                        <p:cond delay="0"/>
                      </p:stCondLst>
                      <p:childTnLst>
                        <p:par>
                          <p:cTn id="20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dur="indefinite" fill="hold">
                      <p:stCondLst>
                        <p:cond delay="indefinite"/>
                      </p:stCondLst>
                      <p:childTnLst>
                        <p:par>
                          <p:cTn id="21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dur="indefinite" fill="hold">
                      <p:stCondLst>
                        <p:cond delay="indefinite"/>
                      </p:stCondLst>
                      <p:childTnLst>
                        <p:par>
                          <p:cTn id="2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66ccff"/>
                </a:solidFill>
                <a:latin typeface="Arial"/>
              </a:rPr>
              <a:t>Стример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79280" y="1125000"/>
            <a:ext cx="439272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7600" indent="-327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тример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англ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ape streamer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 - устройство для резервного копирования больших объемов информации. В качестве носителя здесь применяются кассеты с магнитной лентой емкостью  1-2  Гбайт и больше. Стримеры позволяют записать на небольшую кассету с магнитной лентой огромное количество информации. Встроенные в стример средства аппаратного сжатия позволяют автоматически уплотнять информацию перед ее записью и восстанавливать после считывания, что увеличивает объем сохраняемой информации. Недостатком стримеров является их сравнительно низкая скорость записи, поиска и считывания  информа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rcRect l="2975" t="5847" r="4462" b="17540"/>
          <a:stretch/>
        </p:blipFill>
        <p:spPr>
          <a:xfrm>
            <a:off x="4788000" y="1557360"/>
            <a:ext cx="3816360" cy="39322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dur="indefinite" fill="hold">
                      <p:stCondLst>
                        <p:cond delay="0"/>
                      </p:stCondLst>
                      <p:childTnLst>
                        <p:par>
                          <p:cTn id="2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dur="indefinite" fill="hold">
                      <p:stCondLst>
                        <p:cond delay="indefinite"/>
                      </p:stCondLst>
                      <p:childTnLst>
                        <p:par>
                          <p:cTn id="2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dur="indefinite" fill="hold">
                      <p:stCondLst>
                        <p:cond delay="indefinite"/>
                      </p:stCondLst>
                      <p:childTnLst>
                        <p:par>
                          <p:cTn id="2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Общая функциональная схема П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419640" y="1844640"/>
            <a:ext cx="2736720" cy="1368360"/>
          </a:xfrm>
          <a:prstGeom prst="rect">
            <a:avLst/>
          </a:prstGeom>
          <a:solidFill>
            <a:srgbClr val="ff66cc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9966"/>
                </a:solidFill>
                <a:latin typeface="Arial"/>
              </a:rPr>
              <a:t>Процесс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971640" y="1989000"/>
            <a:ext cx="792000" cy="1656000"/>
          </a:xfrm>
          <a:prstGeom prst="rect">
            <a:avLst/>
          </a:prstGeom>
          <a:solidFill>
            <a:srgbClr val="ff66cc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9966"/>
                </a:solidFill>
                <a:latin typeface="Arial"/>
              </a:rPr>
              <a:t>У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7093080" y="1916280"/>
            <a:ext cx="1224000" cy="1873080"/>
          </a:xfrm>
          <a:prstGeom prst="rect">
            <a:avLst/>
          </a:prstGeom>
          <a:solidFill>
            <a:srgbClr val="ff66cc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9966"/>
                </a:solidFill>
                <a:latin typeface="Arial"/>
              </a:rPr>
              <a:t>УВЫ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124000" y="4005360"/>
            <a:ext cx="4608720" cy="2087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924360" y="4221000"/>
            <a:ext cx="1295280" cy="720720"/>
          </a:xfrm>
          <a:prstGeom prst="rect">
            <a:avLst/>
          </a:prstGeom>
          <a:solidFill>
            <a:srgbClr val="ff66cc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9966"/>
                </a:solidFill>
                <a:latin typeface="Arial"/>
              </a:rPr>
              <a:t>ОЗ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211640" y="5373720"/>
            <a:ext cx="792000" cy="647640"/>
          </a:xfrm>
          <a:prstGeom prst="rect">
            <a:avLst/>
          </a:prstGeom>
          <a:solidFill>
            <a:srgbClr val="ff66cc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9966"/>
                </a:solidFill>
                <a:latin typeface="Arial"/>
              </a:rPr>
              <a:t>ВЗ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340000" y="4869000"/>
            <a:ext cx="720720" cy="647640"/>
          </a:xfrm>
          <a:prstGeom prst="rect">
            <a:avLst/>
          </a:prstGeom>
          <a:solidFill>
            <a:srgbClr val="ff66cc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9966"/>
                </a:solidFill>
                <a:latin typeface="Arial"/>
              </a:rPr>
              <a:t>ПЗ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332000" y="3645000"/>
            <a:ext cx="1440" cy="86364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332000" y="4508640"/>
            <a:ext cx="2592360" cy="144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4427640" y="3211560"/>
            <a:ext cx="1440" cy="93960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4932360" y="3211560"/>
            <a:ext cx="1440" cy="93960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356000" y="4941720"/>
            <a:ext cx="1800" cy="35892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4859280" y="4939920"/>
            <a:ext cx="1800" cy="36180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292720" y="4508640"/>
            <a:ext cx="2519280" cy="144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7812000" y="3787920"/>
            <a:ext cx="1800" cy="72216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6948360" y="5298840"/>
            <a:ext cx="576360" cy="36324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7648560" y="4889520"/>
            <a:ext cx="97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амя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dur="indefinite" fill="hold">
                      <p:stCondLst>
                        <p:cond delay="0"/>
                      </p:stCondLst>
                      <p:childTnLst>
                        <p:par>
                          <p:cTn id="1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9966"/>
                </a:solidFill>
                <a:latin typeface="Arial"/>
              </a:rPr>
              <a:t>Общая схема ЭВ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В – устройства ввода информации в ЭВМ (клавиатура, мышь, ВЗУ, сканер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ВЫВ – устройства вывода информации(дисплей, принтер, ВЗУ, графопостроитель – плоттер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ЗУ (ОП ил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M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) – оперативное запоминающее устройство (оперативная память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ЗУ – внешние запоминающие устройства(дискета, жёсткий диск, компакт – диск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ЗУ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M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 – постоянное запоминающее устройств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dur="indefinite" fill="hold">
                      <p:stCondLst>
                        <p:cond delay="0"/>
                      </p:stCondLst>
                      <p:childTnLst>
                        <p:par>
                          <p:cTn id="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dur="indefinite" fill="hold">
                      <p:stCondLst>
                        <p:cond delay="indefinite"/>
                      </p:stCondLst>
                      <p:childTnLst>
                        <p:par>
                          <p:cTn id="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dur="indefinite" fill="hold">
                      <p:stCondLst>
                        <p:cond delay="indefinite"/>
                      </p:stCondLst>
                      <p:childTnLst>
                        <p:par>
                          <p:cTn id="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fill="hold">
                      <p:stCondLst>
                        <p:cond delay="indefinite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dur="indefinite" fill="hold">
                      <p:stCondLst>
                        <p:cond delay="indefinite"/>
                      </p:stCondLst>
                      <p:childTnLst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dur="indefinite" fill="hold">
                      <p:stCondLst>
                        <p:cond delay="indefinite"/>
                      </p:stCondLst>
                      <p:childTnLst>
                        <p:par>
                          <p:cTn id="3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9966"/>
                </a:solidFill>
                <a:latin typeface="Arial"/>
              </a:rPr>
              <a:t>ВИДЫ ПАМЯ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476360" y="1916280"/>
            <a:ext cx="6408720" cy="1366560"/>
          </a:xfrm>
          <a:prstGeom prst="rect">
            <a:avLst/>
          </a:prstGeom>
          <a:solidFill>
            <a:srgbClr val="009999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f9966"/>
                </a:solidFill>
                <a:latin typeface="AdverGothic"/>
              </a:rPr>
              <a:t>Памя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826920" y="4797360"/>
            <a:ext cx="2808360" cy="1440000"/>
          </a:xfrm>
          <a:prstGeom prst="rect">
            <a:avLst/>
          </a:prstGeom>
          <a:solidFill>
            <a:srgbClr val="333399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9966"/>
                </a:solidFill>
                <a:latin typeface="AdverGothic"/>
              </a:rPr>
              <a:t>Внутрення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219640" y="4797360"/>
            <a:ext cx="2808360" cy="1440000"/>
          </a:xfrm>
          <a:prstGeom prst="rect">
            <a:avLst/>
          </a:prstGeom>
          <a:solidFill>
            <a:srgbClr val="333399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9966"/>
                </a:solidFill>
                <a:latin typeface="AdverGothic"/>
              </a:rPr>
              <a:t>Внешня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979640" y="3357720"/>
            <a:ext cx="936720" cy="1368360"/>
          </a:xfrm>
          <a:prstGeom prst="downArrow">
            <a:avLst>
              <a:gd name="adj1" fmla="val 50000"/>
              <a:gd name="adj2" fmla="val 36520"/>
            </a:avLst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156360" y="3357720"/>
            <a:ext cx="936720" cy="1295280"/>
          </a:xfrm>
          <a:prstGeom prst="downArrow">
            <a:avLst>
              <a:gd name="adj1" fmla="val 50000"/>
              <a:gd name="adj2" fmla="val 34570"/>
            </a:avLst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dur="indefinite" fill="hold">
                      <p:stCondLst>
                        <p:cond delay="0"/>
                      </p:stCondLst>
                      <p:childTnLst>
                        <p:par>
                          <p:cTn id="4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66ccff"/>
                </a:solidFill>
                <a:latin typeface="Antiqua-Bold"/>
              </a:rPr>
              <a:t>Устройства, образующие внутреннюю памя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403280" y="1773360"/>
            <a:ext cx="5400720" cy="1439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9966"/>
                </a:solidFill>
                <a:latin typeface="AdverGothic"/>
              </a:rPr>
              <a:t>Внутренняя памя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68360" y="4005360"/>
            <a:ext cx="2448000" cy="172728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9966"/>
                </a:solidFill>
                <a:latin typeface="AdverGothic"/>
              </a:rPr>
              <a:t>Оперативна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9966"/>
                </a:solidFill>
                <a:latin typeface="AdverGothic"/>
              </a:rPr>
              <a:t>памя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419640" y="4076640"/>
            <a:ext cx="2520720" cy="1657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9966"/>
                </a:solidFill>
                <a:latin typeface="AdverGothic"/>
              </a:rPr>
              <a:t>Кэш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9966"/>
                </a:solidFill>
                <a:latin typeface="AdverGothic"/>
              </a:rPr>
              <a:t>памя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372360" y="4005360"/>
            <a:ext cx="2519280" cy="172872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9966"/>
                </a:solidFill>
                <a:latin typeface="AdverGothic"/>
              </a:rPr>
              <a:t>Специаль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9966"/>
                </a:solidFill>
                <a:latin typeface="AdverGothic"/>
              </a:rPr>
              <a:t> </a:t>
            </a:r>
            <a:r>
              <a:rPr b="0" lang="ru-RU" sz="2400" spc="-1" strike="noStrike">
                <a:solidFill>
                  <a:srgbClr val="ff9966"/>
                </a:solidFill>
                <a:latin typeface="AdverGothic"/>
              </a:rPr>
              <a:t>памя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24000" y="2492280"/>
            <a:ext cx="1008000" cy="1440000"/>
          </a:xfrm>
          <a:custGeom>
            <a:avLst/>
            <a:gdLst>
              <a:gd name="textAreaLeft" fmla="*/ 135000 w 1008000"/>
              <a:gd name="textAreaRight" fmla="*/ 873000 w 1008000"/>
              <a:gd name="textAreaTop" fmla="*/ 252000 h 1440000"/>
              <a:gd name="textAreaBottom" fmla="*/ 1044000 h 144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877080" y="2492280"/>
            <a:ext cx="1366920" cy="1441440"/>
          </a:xfrm>
          <a:custGeom>
            <a:avLst/>
            <a:gdLst>
              <a:gd name="textAreaLeft" fmla="*/ 182880 w 1366920"/>
              <a:gd name="textAreaRight" fmla="*/ 1184040 w 1366920"/>
              <a:gd name="textAreaTop" fmla="*/ 252000 h 1441440"/>
              <a:gd name="textAreaBottom" fmla="*/ 1045080 h 144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427640" y="3213000"/>
            <a:ext cx="576000" cy="863640"/>
          </a:xfrm>
          <a:custGeom>
            <a:avLst/>
            <a:gdLst>
              <a:gd name="textAreaLeft" fmla="*/ 0 w 576000"/>
              <a:gd name="textAreaRight" fmla="*/ 576000 w 576000"/>
              <a:gd name="textAreaTop" fmla="*/ 0 h 863640"/>
              <a:gd name="textAreaBottom" fmla="*/ 864000 h 863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dur="indefinite" fill="hold">
                      <p:stCondLst>
                        <p:cond delay="0"/>
                      </p:stCondLst>
                      <p:childTnLst>
                        <p:par>
                          <p:cTn id="4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66ccff"/>
                </a:solidFill>
                <a:latin typeface="Antiqua-Bold"/>
              </a:rPr>
              <a:t>Оперативная памя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7600" indent="-32760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ntiqua-Bold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ntiqua-Bold"/>
              </a:rPr>
              <a:t>быстрое запоминающее устройство не очень большого объёма, непосредственно связанное с процессором и предназначенное для записи, считывания и хранения выполняемых программ и данных, обрабатываемых этими программами.  </a:t>
            </a:r>
            <a:br>
              <a:rPr sz="2400"/>
            </a:br>
            <a:r>
              <a:rPr b="0" lang="ru-RU" sz="2400" spc="-1" strike="noStrike">
                <a:solidFill>
                  <a:srgbClr val="333399"/>
                </a:solidFill>
                <a:latin typeface="Antiqua-Bold"/>
              </a:rPr>
              <a:t>Эта память используется только для временного хранения данных и программ, так как, когда машина выключается, всё, что находилось в ОЗУ, пропада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ntiqua-Bold"/>
              </a:rPr>
              <a:t>Доступ к элементам оперативной памяти прямой – это означает, что каждый байт памяти имеет свой индивидуальный адре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ntiqua-Bold"/>
              </a:rPr>
              <a:t>Объём ОЗУ обычно составляет от 32 до 512 Мбай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dur="indefinite" fill="hold">
                      <p:stCondLst>
                        <p:cond delay="0"/>
                      </p:stCondLst>
                      <p:childTnLst>
                        <p:par>
                          <p:cTn id="5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dur="indefinite" fill="hold">
                      <p:stCondLst>
                        <p:cond delay="indefinite"/>
                      </p:stCondLst>
                      <p:childTnLst>
                        <p:par>
                          <p:cTn id="5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dur="indefinite" fill="hold">
                      <p:stCondLst>
                        <p:cond delay="indefinite"/>
                      </p:stCondLst>
                      <p:childTnLst>
                        <p:par>
                          <p:cTn id="6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dur="indefinite" fill="hold">
                      <p:stCondLst>
                        <p:cond delay="indefinite"/>
                      </p:stCondLst>
                      <p:childTnLst>
                        <p:par>
                          <p:cTn id="6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66ccff"/>
                </a:solidFill>
                <a:latin typeface="Arial"/>
              </a:rPr>
              <a:t>Кэш - памя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верхоперативная память – очень быстрое ЗУ небольшого объёма, которое используется при обмене данными между микропроцессором и оперативной памятью для компенсации разницы в скорости обработки информации процессором и несколько менее быстродействующей оперативной память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66ccff"/>
                </a:solidFill>
                <a:latin typeface="Arial"/>
              </a:rPr>
              <a:t>Кэш – памятью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управляет специальное устройство – контроллёр, который анализируя выполняемую программу, пытается предвидеть, какие данные и команды, вероятнее всего, понадобятся в ближайшее время процессору, и подкачивает их в </a:t>
            </a:r>
            <a:r>
              <a:rPr b="0" lang="ru-RU" sz="2000" spc="-1" strike="noStrike">
                <a:solidFill>
                  <a:srgbClr val="66ccff"/>
                </a:solidFill>
                <a:latin typeface="Arial"/>
              </a:rPr>
              <a:t>кэш – память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временные микропроцессоры имеют встроенную </a:t>
            </a:r>
            <a:r>
              <a:rPr b="0" lang="ru-RU" sz="2000" spc="-1" strike="noStrike">
                <a:solidFill>
                  <a:srgbClr val="66ccff"/>
                </a:solidFill>
                <a:latin typeface="Arial"/>
              </a:rPr>
              <a:t>кэш –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66ccff"/>
                </a:solidFill>
                <a:latin typeface="Arial"/>
              </a:rPr>
              <a:t>память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так называемый </a:t>
            </a:r>
            <a:r>
              <a:rPr b="0" lang="ru-RU" sz="2000" spc="-1" strike="noStrike">
                <a:solidFill>
                  <a:srgbClr val="66ccff"/>
                </a:solidFill>
                <a:latin typeface="Arial"/>
              </a:rPr>
              <a:t>кэш первого уровн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емкостью 8,16 или 32 Кбайт. Кроме того, на системной плате компьютера может быть установлен </a:t>
            </a:r>
            <a:r>
              <a:rPr b="0" lang="ru-RU" sz="2000" spc="-1" strike="noStrike">
                <a:solidFill>
                  <a:srgbClr val="66ccff"/>
                </a:solidFill>
                <a:latin typeface="Arial"/>
              </a:rPr>
              <a:t>кэш второго уровн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емкостью 256, 512 Кбайт и выш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dur="indefinite" fill="hold">
                      <p:stCondLst>
                        <p:cond delay="0"/>
                      </p:stCondLst>
                      <p:childTnLst>
                        <p:par>
                          <p:cTn id="7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dur="indefinite" fill="hold">
                      <p:stCondLst>
                        <p:cond delay="indefinite"/>
                      </p:stCondLst>
                      <p:childTnLst>
                        <p:par>
                          <p:cTn id="7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dur="indefinite" fill="hold">
                      <p:stCondLst>
                        <p:cond delay="indefinite"/>
                      </p:stCondLst>
                      <p:childTnLst>
                        <p:par>
                          <p:cTn id="8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dur="indefinite" fill="hold">
                      <p:stCondLst>
                        <p:cond delay="indefinite"/>
                      </p:stCondLst>
                      <p:childTnLst>
                        <p:par>
                          <p:cTn id="8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66ccff"/>
                </a:solidFill>
                <a:latin typeface="Arial"/>
              </a:rPr>
              <a:t>Специальная памя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 устройства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66ccff"/>
                </a:solidFill>
                <a:latin typeface="Arial"/>
              </a:rPr>
              <a:t>Специальной памяти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носятся </a:t>
            </a:r>
            <a:r>
              <a:rPr b="0" lang="ru-RU" sz="2400" spc="-1" strike="noStrike">
                <a:solidFill>
                  <a:srgbClr val="009999"/>
                </a:solidFill>
                <a:latin typeface="Arial"/>
              </a:rPr>
              <a:t>ПЗУ(постоянная память 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ROM</a:t>
            </a:r>
            <a:r>
              <a:rPr b="0" lang="ru-RU" sz="2400" spc="-1" strike="noStrike">
                <a:solidFill>
                  <a:srgbClr val="009999"/>
                </a:solidFill>
                <a:latin typeface="Arial"/>
              </a:rPr>
              <a:t>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репрограммируемая постоянная память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ash Memory)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амят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MOS RAM –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разновидность ПЗУ, видеопамя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9999"/>
                </a:solidFill>
                <a:latin typeface="Arial"/>
              </a:rPr>
              <a:t>ПЗУ(постоянная память 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ROM</a:t>
            </a:r>
            <a:r>
              <a:rPr b="0" lang="ru-RU" sz="2400" spc="-1" strike="noStrike">
                <a:solidFill>
                  <a:srgbClr val="009999"/>
                </a:solidFill>
                <a:latin typeface="Arial"/>
              </a:rPr>
              <a:t>)-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амять только для чт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dur="indefinite" fill="hold">
                      <p:stCondLst>
                        <p:cond delay="0"/>
                      </p:stCondLst>
                      <p:childTnLst>
                        <p:par>
                          <p:cTn id="9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dur="indefinite" fill="hold">
                      <p:stCondLst>
                        <p:cond delay="indefinite"/>
                      </p:stCondLst>
                      <p:childTnLst>
                        <p:par>
                          <p:cTn id="9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dur="indefinite" fill="hold">
                      <p:stCondLst>
                        <p:cond delay="indefinite"/>
                      </p:stCondLst>
                      <p:childTnLst>
                        <p:par>
                          <p:cTn id="9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dur="indefinite" fill="hold">
                      <p:stCondLst>
                        <p:cond delay="indefinite"/>
                      </p:stCondLst>
                      <p:childTnLst>
                        <p:par>
                          <p:cTn id="10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остоянная память (ПЗУ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9999"/>
                </a:solidFill>
                <a:latin typeface="Arial"/>
              </a:rPr>
              <a:t>ПЗУ(постоянная память 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ROM</a:t>
            </a:r>
            <a:r>
              <a:rPr b="0" lang="ru-RU" sz="2400" spc="-1" strike="noStrike">
                <a:solidFill>
                  <a:srgbClr val="009999"/>
                </a:solidFill>
                <a:latin typeface="Arial"/>
              </a:rPr>
              <a:t>)-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амять только для чт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нергонезависимая память, используется для хранения данных, которые никогда не потребуют измен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ПЗУ записывают программу управления дисплеем, клавиатурой, принтером, внешней памятью, программы запуска и остановки компьютера, тестирования устройст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dur="indefinite" fill="hold">
                      <p:stCondLst>
                        <p:cond delay="0"/>
                      </p:stCondLst>
                      <p:childTnLst>
                        <p:par>
                          <p:cTn id="10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dur="indefinite" fill="hold">
                      <p:stCondLst>
                        <p:cond delay="indefinite"/>
                      </p:stCondLst>
                      <p:childTnLst>
                        <p:par>
                          <p:cTn id="1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dur="indefinite" fill="hold">
                      <p:stCondLst>
                        <p:cond delay="indefinite"/>
                      </p:stCondLst>
                      <p:childTnLst>
                        <p:par>
                          <p:cTn id="1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dur="indefinite" fill="hold">
                      <p:stCondLst>
                        <p:cond delay="indefinite"/>
                      </p:stCondLst>
                      <p:childTnLst>
                        <p:par>
                          <p:cTn id="1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2T07:11:22Z</dcterms:created>
  <dc:creator>OEM User</dc:creator>
  <dc:description/>
  <dc:language>en-US</dc:language>
  <cp:lastModifiedBy>OEM User</cp:lastModifiedBy>
  <dcterms:modified xsi:type="dcterms:W3CDTF">2009-12-18T07:27:07Z</dcterms:modified>
  <cp:revision>17</cp:revision>
  <dc:subject/>
  <dc:title>Знакомимся с компьютером</dc:title>
</cp:coreProperties>
</file>