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40B9-CB7A-4DD4-8848-0BD918F274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21A-8129-4291-A062-B73F41520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DCB-9CC1-4BB6-8BE1-BDCED41A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C1D-5776-4C6C-AF87-29785E3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EF9-DA5C-4686-95CA-E50C5034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D75-CB40-4777-B81C-D568C896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319D-1D3E-4D50-88A6-34F70C14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6A9A-B4A0-4A6A-9801-7D57B698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4643-6F7E-4C86-9163-F03C968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915A-CADE-4410-8930-26DD5DDF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8C54-E3F9-41AC-8136-6F8A1A5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5F6-3A5B-410F-AEBD-CAAE2BE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0E3-3945-4A3B-8AD0-1D0D487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9D0-003D-4D46-AF63-9B959874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5F4-81B7-4D54-9903-B38FD73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4FC-2F06-4D23-BD7B-54BF804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EEC8-AD4A-4E6A-8100-752DCE99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4E92-31CB-4A95-97E4-A1C8C052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2AB-1692-4A15-B2D1-7CEC9138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937-8653-4921-B1D0-1006A7AD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A0D-599B-4018-9BC7-0E4D907C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5D0-CFDB-428D-8C4E-D03409D9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A93-C6BE-43EB-9BC7-C77E76F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1BA-A3CE-43BD-90B6-37EF2A0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AA7-3B96-47F3-BEB3-FCE3993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A3D-38ED-4628-980A-F032742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39A-68E0-4992-94B2-D60EE19B1817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52B-E561-4880-AD10-350BED89C65F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</a:rPr>
              <a:t>ПОЙДИ ТУДА, НЕ ЗНАЮ КУДА; ПРИНЕСИ ТО, НЕ ЗНАЮ ЧТО…</a:t>
            </a:r>
            <a:br>
              <a:rPr sz="3600"/>
            </a:b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3786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усская народная сказ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aksakov's father"/>
          <p:cNvPicPr/>
          <p:nvPr/>
        </p:nvPicPr>
        <p:blipFill>
          <a:blip r:embed="rId1"/>
          <a:srcRect l="0" t="2268" r="5890" b="13648"/>
          <a:stretch/>
        </p:blipFill>
        <p:spPr>
          <a:xfrm>
            <a:off x="1403280" y="189000"/>
            <a:ext cx="5761080" cy="5327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560" y="5533920"/>
            <a:ext cx="9001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Тимофей Степанович Аксаков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с сыновьями Сергеем(слева) и Никола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843280" y="836640"/>
            <a:ext cx="3887640" cy="5616720"/>
          </a:xfrm>
          <a:prstGeom prst="rect">
            <a:avLst/>
          </a:prstGeom>
          <a:solidFill>
            <a:srgbClr val="eff3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Ключниц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Пелаге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aksakov"/>
          <p:cNvPicPr/>
          <p:nvPr/>
        </p:nvPicPr>
        <p:blipFill>
          <a:blip r:embed="rId1"/>
          <a:srcRect l="0" t="0" r="0" b="12240"/>
          <a:stretch/>
        </p:blipFill>
        <p:spPr>
          <a:xfrm>
            <a:off x="4067280" y="2276640"/>
            <a:ext cx="125568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other"/>
          <p:cNvPicPr/>
          <p:nvPr/>
        </p:nvPicPr>
        <p:blipFill>
          <a:blip r:embed="rId2"/>
          <a:srcRect l="0" t="0" r="0" b="11619"/>
          <a:stretch/>
        </p:blipFill>
        <p:spPr>
          <a:xfrm>
            <a:off x="324000" y="2421000"/>
            <a:ext cx="1306440" cy="165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aksakov's father"/>
          <p:cNvPicPr/>
          <p:nvPr/>
        </p:nvPicPr>
        <p:blipFill>
          <a:blip r:embed="rId3"/>
          <a:srcRect l="0" t="0" r="0" b="14770"/>
          <a:stretch/>
        </p:blipFill>
        <p:spPr>
          <a:xfrm>
            <a:off x="7451640" y="2421000"/>
            <a:ext cx="1692360" cy="1655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3851280" y="5057640"/>
            <a:ext cx="1368360" cy="1800360"/>
          </a:xfrm>
          <a:prstGeom prst="rect">
            <a:avLst/>
          </a:prstGeom>
          <a:solidFill>
            <a:srgbClr val="eff3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лючниц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лаге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18" descr="2"/>
          <p:cNvPicPr/>
          <p:nvPr/>
        </p:nvPicPr>
        <p:blipFill>
          <a:blip r:embed="rId4"/>
          <a:srcRect l="2381" t="7961" r="2381" b="10079"/>
          <a:stretch/>
        </p:blipFill>
        <p:spPr>
          <a:xfrm>
            <a:off x="3059280" y="189000"/>
            <a:ext cx="3025440" cy="1558800"/>
          </a:xfrm>
          <a:prstGeom prst="rect">
            <a:avLst/>
          </a:prstGeom>
          <a:ln w="0">
            <a:noFill/>
          </a:ln>
        </p:spPr>
      </p:pic>
      <p:sp>
        <p:nvSpPr>
          <p:cNvPr id="116" name="Line 27"/>
          <p:cNvSpPr/>
          <p:nvPr/>
        </p:nvSpPr>
        <p:spPr>
          <a:xfrm flipV="1">
            <a:off x="450072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464328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1692360" y="3429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Line 30"/>
          <p:cNvSpPr/>
          <p:nvPr/>
        </p:nvSpPr>
        <p:spPr>
          <a:xfrm flipH="1">
            <a:off x="5364000" y="3357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2124000" y="2997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юбовь к чтению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5724360" y="299736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к природ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716360" y="450864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к сказк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5003640" y="184464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к родному кр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0920" y="836640"/>
            <a:ext cx="518652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Какой цветочек имел в виду автор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000228863"/>
          <p:cNvPicPr/>
          <p:nvPr/>
        </p:nvPicPr>
        <p:blipFill>
          <a:blip r:embed="rId1"/>
          <a:stretch/>
        </p:blipFill>
        <p:spPr>
          <a:xfrm>
            <a:off x="0" y="189000"/>
            <a:ext cx="4834080" cy="645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84720" y="476280"/>
            <a:ext cx="540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Сергей Аксак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onstantia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«Аленький цветочек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0"/>
          <p:cNvSpPr/>
          <p:nvPr/>
        </p:nvSpPr>
        <p:spPr>
          <a:xfrm>
            <a:off x="236520" y="50004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Пригорок муравчат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637920" y="14288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Яства сахар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564840" y="221472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Опочивать лег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25960" y="300024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Челядь дворов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101240" y="378612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Парч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1027800" y="45720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. Тува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41360" y="528624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. Паче зеницы о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060560" y="60008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8. Сажен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018680" y="50004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Старая русская мера длины (2 м 13 см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5313600" y="12859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Спать лег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4347000" y="192888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Шёлковая ткань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шитая золотистыми нитям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5084280" y="300024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Стол с зеркало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294160" y="36432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Еда, кушань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3672000" y="442908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. Бугорок, поросший мягкой сочной трав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5153760" y="514368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. Слуги, дворов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5062320" y="600084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8. Беречь пуще глаз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43" name="Прямая со стрелкой 27"/>
          <p:cNvCxnSpPr>
            <a:stCxn id="127" idx="3"/>
          </p:cNvCxnSpPr>
          <p:nvPr/>
        </p:nvCxnSpPr>
        <p:spPr>
          <a:xfrm>
            <a:off x="3366720" y="684360"/>
            <a:ext cx="848520" cy="3674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28"/>
          <p:cNvCxnSpPr>
            <a:endCxn id="139" idx="1"/>
          </p:cNvCxnSpPr>
          <p:nvPr/>
        </p:nvCxnSpPr>
        <p:spPr>
          <a:xfrm>
            <a:off x="2928960" y="1643040"/>
            <a:ext cx="2358000" cy="2185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30"/>
          <p:cNvCxnSpPr>
            <a:endCxn id="136" idx="1"/>
          </p:cNvCxnSpPr>
          <p:nvPr/>
        </p:nvCxnSpPr>
        <p:spPr>
          <a:xfrm flipV="1">
            <a:off x="3000240" y="1469520"/>
            <a:ext cx="2286720" cy="959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32"/>
          <p:cNvCxnSpPr>
            <a:endCxn id="141" idx="1"/>
          </p:cNvCxnSpPr>
          <p:nvPr/>
        </p:nvCxnSpPr>
        <p:spPr>
          <a:xfrm>
            <a:off x="2928960" y="3184200"/>
            <a:ext cx="2215440" cy="2143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34"/>
          <p:cNvCxnSpPr>
            <a:stCxn id="131" idx="3"/>
          </p:cNvCxnSpPr>
          <p:nvPr/>
        </p:nvCxnSpPr>
        <p:spPr>
          <a:xfrm flipV="1">
            <a:off x="2309760" y="2428560"/>
            <a:ext cx="2262960" cy="1542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Прямая со стрелкой 37"/>
          <p:cNvCxnSpPr>
            <a:endCxn id="138" idx="1"/>
          </p:cNvCxnSpPr>
          <p:nvPr/>
        </p:nvCxnSpPr>
        <p:spPr>
          <a:xfrm flipV="1">
            <a:off x="2428920" y="3183840"/>
            <a:ext cx="2643840" cy="1602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Прямая со стрелкой 39"/>
          <p:cNvCxnSpPr>
            <a:endCxn id="142" idx="1"/>
          </p:cNvCxnSpPr>
          <p:nvPr/>
        </p:nvCxnSpPr>
        <p:spPr>
          <a:xfrm>
            <a:off x="2928600" y="5500800"/>
            <a:ext cx="2143800" cy="68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Прямая со стрелкой 41"/>
          <p:cNvCxnSpPr/>
          <p:nvPr/>
        </p:nvCxnSpPr>
        <p:spPr>
          <a:xfrm flipV="1">
            <a:off x="2357280" y="785160"/>
            <a:ext cx="1858320" cy="535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7480" y="274680"/>
            <a:ext cx="407196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Найдите в тексте сказки зачин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Есть ли в сказке троекратный повтор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383000" cy="321480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428760" y="3714840"/>
            <a:ext cx="814392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3.Есть ли в сказке препятствия для выполнения желаний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4.Как черты русской народной сказки проявляются в речи героев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чебная задача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1. Познакомиться с биографией С.Т.Аксаков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2. Начать читать произведение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3. Проанализировать прочитанно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Составить план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Пересказать произвед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 Дать характеристику героя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7. Определить жанровые особенности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. Определить идею произ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Домашнее задание: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тр. 195-216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(прочитать, придумать историю появления чудовища)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0" t="5631" r="0" b="0"/>
          <a:stretch/>
        </p:blipFill>
        <p:spPr>
          <a:xfrm>
            <a:off x="1857240" y="3000240"/>
            <a:ext cx="507204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14360"/>
            <a:ext cx="311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не было тяжело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озадачен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85840" y="142920"/>
            <a:ext cx="2143080" cy="225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гиперакт"/>
          <p:cNvPicPr/>
          <p:nvPr/>
        </p:nvPicPr>
        <p:blipFill>
          <a:blip r:embed="rId2"/>
          <a:stretch/>
        </p:blipFill>
        <p:spPr>
          <a:xfrm>
            <a:off x="3357720" y="500040"/>
            <a:ext cx="2433600" cy="164304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3357720" y="2286000"/>
            <a:ext cx="25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omic Sans MS"/>
              </a:rPr>
              <a:t>Мне было легко…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4" descr="вопросы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6770520" y="214200"/>
            <a:ext cx="165924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5857920" y="2286000"/>
            <a:ext cx="311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Я не понял…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5" descr="ученик"/>
          <p:cNvPicPr/>
          <p:nvPr/>
        </p:nvPicPr>
        <p:blipFill>
          <a:blip r:embed="rId4"/>
          <a:srcRect l="0" t="0" r="0" b="6252"/>
          <a:stretch/>
        </p:blipFill>
        <p:spPr>
          <a:xfrm>
            <a:off x="571680" y="335772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164" name="Заголовок 1"/>
          <p:cNvSpPr/>
          <p:nvPr/>
        </p:nvSpPr>
        <p:spPr>
          <a:xfrm>
            <a:off x="142920" y="5572080"/>
            <a:ext cx="25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omic Sans MS"/>
              </a:rPr>
              <a:t>Сегодня я узнал …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7" descr="худ"/>
          <p:cNvPicPr/>
          <p:nvPr/>
        </p:nvPicPr>
        <p:blipFill>
          <a:blip r:embed="rId5"/>
          <a:srcRect l="0" t="0" r="0" b="5712"/>
          <a:stretch/>
        </p:blipFill>
        <p:spPr>
          <a:xfrm>
            <a:off x="3500280" y="3286080"/>
            <a:ext cx="1874880" cy="2357640"/>
          </a:xfrm>
          <a:prstGeom prst="rect">
            <a:avLst/>
          </a:prstGeom>
          <a:ln w="0">
            <a:noFill/>
          </a:ln>
        </p:spPr>
      </p:pic>
      <p:sp>
        <p:nvSpPr>
          <p:cNvPr id="166" name="Заголовок 1"/>
          <p:cNvSpPr/>
          <p:nvPr/>
        </p:nvSpPr>
        <p:spPr>
          <a:xfrm>
            <a:off x="2786040" y="5572080"/>
            <a:ext cx="311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f6228"/>
                </a:solidFill>
                <a:latin typeface="Comic Sans MS"/>
              </a:rPr>
              <a:t>Завтра мне нужно…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8" descr="плачет"/>
          <p:cNvPicPr/>
          <p:nvPr/>
        </p:nvPicPr>
        <p:blipFill>
          <a:blip r:embed="rId6"/>
          <a:srcRect l="6877" t="0" r="10653" b="5259"/>
          <a:stretch/>
        </p:blipFill>
        <p:spPr>
          <a:xfrm>
            <a:off x="6643800" y="321480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Заголовок 1"/>
          <p:cNvSpPr/>
          <p:nvPr/>
        </p:nvSpPr>
        <p:spPr>
          <a:xfrm>
            <a:off x="5857920" y="5500800"/>
            <a:ext cx="311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У меня не получилось…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</a:rPr>
              <a:t>ПОЙДИ ТУДА, НЕ ЗНАЮ КУДА; ПРИНЕСИ ТО, НЕ ЗНАЮ ЧТО…</a:t>
            </a:r>
            <a:br>
              <a:rPr sz="3600"/>
            </a:b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5880" y="32860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усская народная сказ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Текст 2"/>
          <p:cNvSpPr/>
          <p:nvPr/>
        </p:nvSpPr>
        <p:spPr>
          <a:xfrm>
            <a:off x="357120" y="4143240"/>
            <a:ext cx="77724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onstantia"/>
              </a:rPr>
              <a:t>Можем ли мы позволить себе так действовать на уроке?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чебная задач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ознакомиться с биографией С.Т.Аксако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Прочитать произвед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Проанализировать текс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Составить план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Пересказать произвед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Дать характеристику геро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.Определить жанровые особенности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.Определить идею произ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чебная задача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1.Познакомиться с биографией С.Т.Аксаков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2.Начать читать произведение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3.Проанализировать прочитанно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Составить план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Пересказать произвед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Дать характеристику героя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7.Определить жанровые особенности произ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.Определить идею произ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Характерные черты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сказк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.Волшебств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Мораль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.Троекратный повтор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.Зачи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.Рифма, рит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6.Волшебные геро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7.Олицетворени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8.Волшебные предмет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9.Деление на строф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0.Научные терми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Характерные черты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сказки.</a:t>
            </a:r>
            <a:br>
              <a:rPr sz="3200"/>
            </a:br>
            <a:r>
              <a:rPr b="1" lang="ru-RU" sz="3200" spc="-1" strike="noStrike">
                <a:solidFill>
                  <a:srgbClr val="da1809"/>
                </a:solidFill>
                <a:latin typeface="Constantia"/>
              </a:rPr>
              <a:t>1.Волшебств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Мораль.</a:t>
            </a:r>
            <a:br>
              <a:rPr sz="3200"/>
            </a:br>
            <a:r>
              <a:rPr b="1" lang="ru-RU" sz="3200" spc="-1" strike="noStrike">
                <a:solidFill>
                  <a:srgbClr val="da1809"/>
                </a:solidFill>
                <a:latin typeface="Constantia"/>
              </a:rPr>
              <a:t>3.Троекратный повтор.</a:t>
            </a:r>
            <a:br>
              <a:rPr sz="3200"/>
            </a:br>
            <a:r>
              <a:rPr b="1" lang="ru-RU" sz="3200" spc="-1" strike="noStrike">
                <a:solidFill>
                  <a:srgbClr val="da1809"/>
                </a:solidFill>
                <a:latin typeface="Constantia"/>
              </a:rPr>
              <a:t>4.Зачи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.Рифма, ритм.</a:t>
            </a:r>
            <a:br>
              <a:rPr sz="3200"/>
            </a:br>
            <a:r>
              <a:rPr b="1" lang="ru-RU" sz="3200" spc="-1" strike="noStrike">
                <a:solidFill>
                  <a:srgbClr val="da1809"/>
                </a:solidFill>
                <a:latin typeface="Constantia"/>
              </a:rPr>
              <a:t>6.Волшебные геро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7.Олицетворение.</a:t>
            </a:r>
            <a:br>
              <a:rPr sz="3200"/>
            </a:br>
            <a:r>
              <a:rPr b="1" lang="ru-RU" sz="3200" spc="-1" strike="noStrike">
                <a:solidFill>
                  <a:srgbClr val="da1809"/>
                </a:solidFill>
                <a:latin typeface="Constantia"/>
              </a:rPr>
              <a:t>8.Волшебные предмет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9.Деление на строф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0.Научные терми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85880" y="214200"/>
            <a:ext cx="364356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ергей Тимофеевич Аксак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14960" y="1714320"/>
            <a:ext cx="39290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Родилс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0 сентябр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(1 октября по н.с.)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1791 года в г.Уф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E:\Аленький цветочек\Рисунки\092af0d7e914944e6945704981c854ce.jpg"/>
          <p:cNvPicPr/>
          <p:nvPr/>
        </p:nvPicPr>
        <p:blipFill>
          <a:blip r:embed="rId1"/>
          <a:stretch/>
        </p:blipFill>
        <p:spPr>
          <a:xfrm>
            <a:off x="214200" y="142920"/>
            <a:ext cx="49737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ger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Герб семьи Аксаковых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859280" y="1125360"/>
            <a:ext cx="428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Марь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Николаевн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Аксаков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(Зубова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17" descr="0_2191e_1217a68d_XL"/>
          <p:cNvPicPr/>
          <p:nvPr/>
        </p:nvPicPr>
        <p:blipFill>
          <a:blip r:embed="rId1"/>
          <a:stretch/>
        </p:blipFill>
        <p:spPr>
          <a:xfrm>
            <a:off x="395280" y="692280"/>
            <a:ext cx="4784760" cy="58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31:39Z</dcterms:created>
  <dc:creator>aсук</dc:creator>
  <dc:description/>
  <dc:language>en-US</dc:language>
  <cp:lastModifiedBy>Нина</cp:lastModifiedBy>
  <dcterms:modified xsi:type="dcterms:W3CDTF">2014-10-29T09:52:39Z</dcterms:modified>
  <cp:revision>73</cp:revision>
  <dc:subject/>
  <dc:title>Слайд 1</dc:title>
</cp:coreProperties>
</file>