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0AA-113A-498B-932E-893B41B1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460-C330-46C6-AD87-8C3B0115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F08-9484-4DFB-AAB6-2EE489D4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2F6-4650-44AF-88E6-2FA70269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2FA-A55A-478A-BCDB-2EA1043A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5F0-720A-4009-8F77-D50AF81E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0FF-6105-4C01-B3C4-80462A1A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E75-DE58-471B-8F97-7C353199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710-845E-4F54-AD97-B442DEF0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18C-1DC1-4E7C-89AE-270B44C6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EA5-E5E6-4E92-9FEF-D6AAC11D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4CA-46D5-4718-9FA5-869DC848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27F7-DFB1-4621-9674-4CF67F43F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8360" y="2349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ОБРАЗОВАТЕЛЬНАЯ   ПРОГРАМ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педагога – организа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Морочковской  Аллы Виктор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Некоз Владимира Николаев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униципальное бюджетное образовательное учреждение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дополнительного образования детей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ДДТ «Созвезд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640" y="4653000"/>
            <a:ext cx="784872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Детям адресуем радос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ЖИДАЕМЫЕ  РЕЗУЛЬТАТ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Организацион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организация полноценного досуга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величение занятости детей в свободное врем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лучшение психологической комфортности в едином образовательном пространстве через повышение доверия, уважения, раскрытия позитивных черт личности всех субъектов воспитательной сист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внедрение эффективных форм организации отдыха,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оздоровления и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занятости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реализация программы, поощрение и стимулирование деятельности воспитан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величение количества детей, охвачены организованными формами отдыха и занят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крепление связей между разновозрастными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группами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равнительные данные по мероприятиям  МБОУДОД  ДДТ «Созвездие»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 период с 2009 по 2014 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Диаграмма 3" descr=""/>
          <p:cNvPicPr/>
          <p:nvPr/>
        </p:nvPicPr>
        <p:blipFill>
          <a:blip r:embed="rId1"/>
          <a:stretch/>
        </p:blipFill>
        <p:spPr>
          <a:xfrm>
            <a:off x="244440" y="2273400"/>
            <a:ext cx="82231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УЧАСТИЕ ОУ ОКРУГА В МЕРОПРИЯТИЯХ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ДТ «СОЗВЕЗД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Диаграмма 5" descr=""/>
          <p:cNvPicPr/>
          <p:nvPr/>
        </p:nvPicPr>
        <p:blipFill>
          <a:blip r:embed="rId1"/>
          <a:stretch/>
        </p:blipFill>
        <p:spPr>
          <a:xfrm>
            <a:off x="0" y="0"/>
            <a:ext cx="2992320" cy="4370400"/>
          </a:xfrm>
          <a:prstGeom prst="rect">
            <a:avLst/>
          </a:prstGeom>
          <a:ln w="0">
            <a:noFill/>
          </a:ln>
        </p:spPr>
      </p:pic>
      <p:pic>
        <p:nvPicPr>
          <p:cNvPr id="69" name="Диаграмма 6" descr=""/>
          <p:cNvPicPr/>
          <p:nvPr/>
        </p:nvPicPr>
        <p:blipFill>
          <a:blip r:embed="rId2"/>
          <a:stretch/>
        </p:blipFill>
        <p:spPr>
          <a:xfrm>
            <a:off x="0" y="0"/>
            <a:ext cx="5877000" cy="4280040"/>
          </a:xfrm>
          <a:prstGeom prst="rect">
            <a:avLst/>
          </a:prstGeom>
          <a:ln w="0">
            <a:noFill/>
          </a:ln>
        </p:spPr>
      </p:pic>
      <p:pic>
        <p:nvPicPr>
          <p:cNvPr id="70" name="Диаграмма 7" descr=""/>
          <p:cNvPicPr/>
          <p:nvPr/>
        </p:nvPicPr>
        <p:blipFill>
          <a:blip r:embed="rId3"/>
          <a:stretch/>
        </p:blipFill>
        <p:spPr>
          <a:xfrm>
            <a:off x="0" y="0"/>
            <a:ext cx="8753400" cy="4432320"/>
          </a:xfrm>
          <a:prstGeom prst="rect">
            <a:avLst/>
          </a:prstGeom>
          <a:ln w="0">
            <a:noFill/>
          </a:ln>
        </p:spPr>
      </p:pic>
      <p:pic>
        <p:nvPicPr>
          <p:cNvPr id="71" name="Диаграмма 8" descr=""/>
          <p:cNvPicPr/>
          <p:nvPr/>
        </p:nvPicPr>
        <p:blipFill>
          <a:blip r:embed="rId4"/>
          <a:stretch/>
        </p:blipFill>
        <p:spPr>
          <a:xfrm>
            <a:off x="0" y="0"/>
            <a:ext cx="4309920" cy="6608880"/>
          </a:xfrm>
          <a:prstGeom prst="rect">
            <a:avLst/>
          </a:prstGeom>
          <a:ln w="0">
            <a:noFill/>
          </a:ln>
        </p:spPr>
      </p:pic>
      <p:pic>
        <p:nvPicPr>
          <p:cNvPr id="72" name="Диаграмма 9" descr=""/>
          <p:cNvPicPr/>
          <p:nvPr/>
        </p:nvPicPr>
        <p:blipFill>
          <a:blip r:embed="rId5"/>
          <a:stretch/>
        </p:blipFill>
        <p:spPr>
          <a:xfrm>
            <a:off x="0" y="0"/>
            <a:ext cx="774864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Группа 54"/>
          <p:cNvGrpSpPr/>
          <p:nvPr/>
        </p:nvGrpSpPr>
        <p:grpSpPr>
          <a:xfrm>
            <a:off x="90360" y="43200"/>
            <a:ext cx="9053640" cy="7033680"/>
            <a:chOff x="90360" y="43200"/>
            <a:chExt cx="9053640" cy="7033680"/>
          </a:xfrm>
        </p:grpSpPr>
        <p:sp>
          <p:nvSpPr>
            <p:cNvPr id="74" name="Овал 6"/>
            <p:cNvSpPr/>
            <p:nvPr/>
          </p:nvSpPr>
          <p:spPr>
            <a:xfrm>
              <a:off x="90360" y="2938680"/>
              <a:ext cx="3421080" cy="172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Овал 8"/>
            <p:cNvSpPr/>
            <p:nvPr/>
          </p:nvSpPr>
          <p:spPr>
            <a:xfrm rot="993000">
              <a:off x="1848960" y="2017440"/>
              <a:ext cx="2517840" cy="458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Овал 9"/>
            <p:cNvSpPr/>
            <p:nvPr/>
          </p:nvSpPr>
          <p:spPr>
            <a:xfrm rot="2008800">
              <a:off x="618480" y="995040"/>
              <a:ext cx="3686040" cy="1884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Monotype Corsiva"/>
                </a:rPr>
                <a:t>Клуб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Monotype Corsiva"/>
                </a:rPr>
                <a:t>по мест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Monotype Corsiva"/>
                </a:rPr>
                <a:t>житель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Овал 12"/>
            <p:cNvSpPr/>
            <p:nvPr/>
          </p:nvSpPr>
          <p:spPr>
            <a:xfrm rot="5647800">
              <a:off x="3724200" y="2635200"/>
              <a:ext cx="2006640" cy="57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Овал 13"/>
            <p:cNvSpPr/>
            <p:nvPr/>
          </p:nvSpPr>
          <p:spPr>
            <a:xfrm rot="8711400">
              <a:off x="5417280" y="836280"/>
              <a:ext cx="3360600" cy="185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Овал 14"/>
            <p:cNvSpPr/>
            <p:nvPr/>
          </p:nvSpPr>
          <p:spPr>
            <a:xfrm>
              <a:off x="4906800" y="3865680"/>
              <a:ext cx="2519280" cy="458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Овал 15"/>
            <p:cNvSpPr/>
            <p:nvPr/>
          </p:nvSpPr>
          <p:spPr>
            <a:xfrm>
              <a:off x="5796000" y="2793960"/>
              <a:ext cx="3348000" cy="1765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Monotype Corsiva"/>
                </a:rPr>
                <a:t>Департамен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Monotype Corsiva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Овал 18"/>
            <p:cNvSpPr/>
            <p:nvPr/>
          </p:nvSpPr>
          <p:spPr>
            <a:xfrm rot="1938600">
              <a:off x="4774680" y="4591080"/>
              <a:ext cx="3781440" cy="1598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Овал 21"/>
            <p:cNvSpPr/>
            <p:nvPr/>
          </p:nvSpPr>
          <p:spPr>
            <a:xfrm rot="19466400">
              <a:off x="1394640" y="4449960"/>
              <a:ext cx="3508560" cy="1706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Овал 24"/>
            <p:cNvSpPr/>
            <p:nvPr/>
          </p:nvSpPr>
          <p:spPr>
            <a:xfrm>
              <a:off x="2627280" y="2068560"/>
              <a:ext cx="3713040" cy="244944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505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5050"/>
                  </a:solidFill>
                  <a:latin typeface="Monotype Corsiva"/>
                </a:rPr>
                <a:t>- Конкурсы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505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5050"/>
                  </a:solidFill>
                  <a:latin typeface="Monotype Corsiva"/>
                </a:rPr>
                <a:t>- Фестивали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505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5050"/>
                  </a:solidFill>
                  <a:latin typeface="Monotype Corsiva"/>
                </a:rPr>
                <a:t>Творческие встреч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505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5050"/>
                  </a:solidFill>
                  <a:latin typeface="Monotype Corsiva"/>
                </a:rPr>
                <a:t>Концерт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505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5050"/>
                  </a:solidFill>
                  <a:latin typeface="Monotype Corsiva"/>
                </a:rPr>
                <a:t>Театрализованные 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505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5050"/>
                  </a:solidFill>
                  <a:latin typeface="Monotype Corsiva"/>
                </a:rPr>
                <a:t> </a:t>
              </a:r>
              <a:r>
                <a:rPr b="1" lang="ru-RU" sz="1800" spc="-1" strike="noStrike">
                  <a:solidFill>
                    <a:srgbClr val="ff5050"/>
                  </a:solidFill>
                  <a:latin typeface="Monotype Corsiva"/>
                </a:rPr>
                <a:t>Спартакиа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505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5050"/>
                  </a:solidFill>
                  <a:latin typeface="Monotype Corsiva"/>
                </a:rPr>
                <a:t>Слет, школа акти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505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5050"/>
                  </a:solidFill>
                  <a:latin typeface="Monotype Corsiva"/>
                </a:rPr>
                <a:t>Выставки и др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Прямоугольник 152"/>
          <p:cNvSpPr/>
          <p:nvPr/>
        </p:nvSpPr>
        <p:spPr>
          <a:xfrm>
            <a:off x="428760" y="3460680"/>
            <a:ext cx="252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Monotype Corsiva"/>
              </a:rPr>
              <a:t>Территориальные цент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Monotype Corsiva"/>
              </a:rPr>
              <a:t>Центры реабили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53"/>
          <p:cNvSpPr/>
          <p:nvPr/>
        </p:nvSpPr>
        <p:spPr>
          <a:xfrm rot="18999000">
            <a:off x="1275480" y="4970160"/>
            <a:ext cx="331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Monotype Corsiva"/>
              </a:rPr>
              <a:t>Развлекательно - досуговые  учрежд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Monotype Corsiva"/>
              </a:rPr>
              <a:t>парки,  кинотеа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ИСТЕМА ВЗАИМОДЕЙ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55"/>
          <p:cNvSpPr/>
          <p:nvPr/>
        </p:nvSpPr>
        <p:spPr>
          <a:xfrm rot="19866000">
            <a:off x="4626720" y="1292400"/>
            <a:ext cx="48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о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56"/>
          <p:cNvSpPr/>
          <p:nvPr/>
        </p:nvSpPr>
        <p:spPr>
          <a:xfrm rot="2360400">
            <a:off x="4858560" y="5205600"/>
            <a:ext cx="37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Администрация округ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ЕДАГОГИЧЕСКОЕ   КРЕ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2349000"/>
            <a:ext cx="8229600" cy="29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Каждый день,  как праздник прожить – детям радость, улыбку дари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Окружить заботой, вниманием в дополнительном образовании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000160" y="642960"/>
            <a:ext cx="522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ЦЕЛЬ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Создание условий для   приобретения ребенком и подростком    социально  значимого опыта, направленного  на определение перспектив собственного развития, организация досуга детей, через включение их в деятельность учр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000080" y="164304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адачи программы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268280"/>
            <a:ext cx="914400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Заполнить   активно-деятельным,  эмоционально  и  психологически комфортным содержанием свободное врем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Социальная адаптация (воспитание  культуры,   жизненного  и профессионального  определения,  формирование    жизненной   правовой позици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Пропаганда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Приобщение к традициям национальной культуры, общечеловеческим ценностям, народным праздникам и знаменательным датам российского календа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Творческий рост каждого ребенка, через удовлетворение  личностных потребностей в сфере художественного творчества, познание различных сфер эстетической деятельности, включение в различные виды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Актуальность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1267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заложена в следующих ее качества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Monotype Corsiva"/>
              </a:rPr>
              <a:t>социальная полезность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У детей формируются навыки содержательного досуга, здорового образа жизни, бытовой самоорганизации, коммуникативные навыки. Содержание  образовательной программы   дает ребенку возможность социального и допрофессионального самоопреде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Monotype Corsiva"/>
              </a:rPr>
              <a:t>многообразие направлений деятельности</a:t>
            </a:r>
            <a:r>
              <a:rPr b="0" i="1" lang="ru-RU" sz="2000" spc="-1" strike="noStrike">
                <a:solidFill>
                  <a:srgbClr val="002060"/>
                </a:solidFill>
                <a:latin typeface="Monotype Corsiva"/>
              </a:rPr>
              <a:t>.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Образовательная программа «Праздник каждый день» предлагает весь спектр видов деятельности детского сообщества, как индивидуальных, так и коллективных. Каждый воспитанник получает возможность неоднократно испытать ситуацию успеха, повысить свой стату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Monotype Corsiva"/>
              </a:rPr>
              <a:t>свободный выбор вида деятельности</a:t>
            </a:r>
            <a:r>
              <a:rPr b="0" i="1" lang="ru-RU" sz="2000" spc="-1" strike="noStrike">
                <a:solidFill>
                  <a:srgbClr val="002060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Профиль деятельности выбирается ребенком самостоятельно, в соответствии с его интересами, природными склонностями и способност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Monotype Corsiva"/>
              </a:rPr>
              <a:t>обновление «предлагаемых обстоятельств».</a:t>
            </a:r>
            <a:r>
              <a:rPr b="0" i="1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Форма организации воспитательной среды  позволяет ребенку на время мероприятия начать «жизнь с белого лист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ерспективы программ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овысить статус и интерес участия школ в мероприятиях Дома детского творч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родолжить объединение творческих  интересов педагогов и детей, на основе патриотических идей и эстетических направл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овышать творческий уровень учащихся школ, повышать квалификацию их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- разработать перспективу работы, методические материалы, предло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- целенаправленная коррекция организаторами и педагогами деятельности детей и подрост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85840" y="1214280"/>
            <a:ext cx="87152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держание  программы определяется следующими основными принцип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Принцип личностно-ориентированного под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Принцип актив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Принцип эмоционального благополуч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Принцип реалистичности представл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Принцип вариатив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ФОРМЫ РАБО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игровые, деловые игры, КТД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мастер-классы, семина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тренинг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экскур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раздники (календарные, тематическ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конкурсы, фестивал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мероприятия (концертные программы, игровые программы, развлекательные программы, познавательные программ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ДЕРЖАНИЕ ДЕЯТЕЛЬНОСТИ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троится на основе пяти функциональных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духовно-физическое оздоровл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развитие эстетической культуры лич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нравственно-патриотическое, гражданское воспит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социализация лич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отдых, досуг, развле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ЖИДАЕМЫЕ  РЕЗУЛЬТАТ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05264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Методическ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творческий рост коллективов-участ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знакомство, обмен опытом в процессе совмест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налаживание взаимосвязи и различных форм сотрудничества между коллективами ОУ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овышение квалификации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руководителей коллективов.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личностное развитие учащихся, духовное и физическое оздоровл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олучение умений и навыков индивидуальной и коллективной творческой деятельности, самоуправления, социальной активности и творч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знакомство воспитанников с культурно-историческими ценностями своего народа через наиболее значимые даты и праздники календар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адаптация детей к жизни в обществе; развитие самосто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мение и стремление работать в коллективе; формирование умений и навыков организации взаимоотношений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с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взрослыми и сверст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рименение полученных знаний и умений.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User</dc:creator>
  <dc:description/>
  <dc:language>en-US</dc:language>
  <cp:lastModifiedBy>пользователь</cp:lastModifiedBy>
  <dcterms:modified xsi:type="dcterms:W3CDTF">2014-10-29T17:17:19Z</dcterms:modified>
  <cp:revision>46</cp:revision>
  <dc:subject/>
  <dc:title>Слайд 1</dc:title>
</cp:coreProperties>
</file>