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B89-DCA1-4E34-9BDC-64B6A6D5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798-20B5-466A-8E0C-9BC72D5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55C-4DF1-4FBD-AD0F-04245CC5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DF2-BC4B-489A-8B00-C49370C2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81D-574B-4F3E-B5A0-4B9063BA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9C9-6794-44B5-AC6D-2717634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C160-85F8-4A27-90D7-8754D8A0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F474-73D8-4A41-AFE9-E2336EF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09C9-61F0-4D6B-986D-817A2A0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E4D7-E175-4552-8CB4-843B1DB3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36D0-91E3-48DC-AB5F-F1F0D48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0FD-F29F-4042-B9B6-36B89D4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376A-70ED-485C-B24F-B15F46B4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B2CD-E3E3-44B7-82B6-11684443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B7AB-23F5-4224-8863-3EE8381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3D09-F4DE-4508-8E24-6C50AFD7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C414-CD24-414F-A27F-9A6E25D7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020-6CF1-4646-93F5-C00CC12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378-0FC5-4B7E-B4F2-198D157C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668-135B-4D45-8FCE-95040C9B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C95-80B1-49D3-B3DB-A3011D8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9F8-F756-4C91-9FCE-7232B69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C09-B58B-46C0-880C-16494C4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C46-9F91-4CED-98A8-844B5D7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B118-8646-40DF-A03F-74CC342E0C2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CB5A-6D01-4BB9-B21C-55E9BAC66CB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692280"/>
            <a:ext cx="7667640" cy="19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aramond"/>
              </a:rPr>
              <a:t>История одной любви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0920" y="3860640"/>
            <a:ext cx="727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ван Тургенев и Полина Виард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246640" cy="695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47640" y="371520"/>
            <a:ext cx="4795920" cy="6486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7900920" cy="568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076720" y="47628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ина Виардо в роли Дездемоны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63151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164200" cy="6905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807320" cy="6237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4-10-29T19:53:03Z</dcterms:modified>
  <cp:revision>3</cp:revision>
  <dc:subject/>
  <dc:title>PowerPoint Presentation</dc:title>
</cp:coreProperties>
</file>