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6.jpeg" ContentType="image/jpeg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Georgia"/>
              </a:rPr>
              <a:t>Click to move the slide</a:t>
            </a: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BE9A-9D03-4651-9765-19D53396F2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9092-EB0E-44F2-B5BB-FBE3388867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743E-F0E8-4E47-BDC0-5B4946BF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9144-5F0B-4821-A679-28406219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2F62-304C-424A-B4CC-D499E873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1B74-A393-4044-91E3-CDF91B71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44BE-F01B-4092-9805-8BF82398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FCAE-1499-4855-A0AC-176854C3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7E2B-8A04-4667-942E-11794497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C20A-322F-4E09-AEA2-CDA06D0A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4E4F-CB34-4347-BADF-DCD3689C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BE88-CD7E-4D65-892B-D32465B4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3CFF-1639-4019-8506-60724AC9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ED46-73D6-4AE4-A950-E05AA43D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E7DB-277D-4A75-A788-3A8A1D23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58F9-8AA4-4201-A13C-F40BA9B2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9892-57D8-47C4-9FEB-795F6B63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ECD7-CF2A-485F-B936-394CFDAD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441A-EE7C-4C0D-9DFE-155D75E9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EA1D3-3E78-4967-9F21-B13A8345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C1AC89-0B4E-4E05-87A1-C4BE5E85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72DA7-2998-439D-8E5F-99719C12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70B36F-E1EE-4AE0-B9BF-462B177A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B622A-5D60-49A3-8897-90E7904B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D788-62D5-4AB5-8DE7-66119B06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FD3E2-0EF6-4FB8-BEF0-1EBA57EF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BB272-32CA-4AAC-83AD-14339001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E17CC7-078B-4CC9-BF0F-AFF352D6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DFA44-A435-400F-8D46-1D4404E2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D7AE9-4081-4189-85DE-9BEC8219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343A8F-553B-4531-AF5F-54F15279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361B1C-3282-4CD4-ADDE-C11745ED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0CCBE-ABDF-4317-9CB7-52D383BF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9685B-896D-4251-BE03-007E78C1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17BCE-CB88-446C-B1DF-E25D2DA9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9BF-CED0-4958-BF1A-E4DFD394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71ABA-E159-477F-98AE-525709C1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64E99-1ACF-4F2E-B7CC-D29ABFBF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7687A-A2D1-4A71-8F54-0B89DA1E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EBAEC-E581-4FCA-BF7D-84355C22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26D5D-9C6D-4500-8FC6-520A2034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8847B-D17C-497F-B7FD-52B0ABF1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1820F-287E-437C-B2C9-C300A16D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76501-A0A6-46E7-BA5D-F28B5A0C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53F15-3923-4C04-9288-5B1BDA12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F711B9-A122-492E-90E3-67D57514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684-1592-4AB1-B2C7-B61417E8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9AC179-021C-4D3F-8621-6B41A60C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883ADB-BCAC-40B6-8698-FECBDD63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D691B3-FDB3-437B-AA94-2BEBF1F4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63A6A6-958A-4569-A73B-3B6DFA91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313589-0AC0-411A-8C07-7E838E96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0C5A87-780C-4D8D-9C76-DBA3E780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186303-4685-4F60-B47D-A8337DC1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8A4B45-53BE-445D-B3C0-B27189C8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089C8-B0AD-4D8A-A59F-9DE71583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470021-3700-478E-AA4B-94474A20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78CD-F1A1-43B3-8663-03AB15BC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C84F74-4503-4EC4-8C52-634C2FB6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130330-42C5-4447-A03C-A3D7E35A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CFA324-45B1-47EA-AAF2-E8B187B2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41AC0F-7FE9-456A-A5D8-42650569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E19FF1-CF49-4BC8-9127-5407AD0E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C4F56C-BAD3-4F46-94DB-405B66F6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D66122-27F1-4994-BA2E-3C8FF8CE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030291-9834-4692-BD86-1CED2037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FF181-6DA8-48F8-B96A-8617D264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6A01EC-FAB8-482E-B0BA-2FFB9CE2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355A-43D8-46DA-8122-628BDD1D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CCE700-705C-4EDB-923B-8E4622CE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4BA1E0-9352-46B8-96FF-95067C9F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12C98D-A955-48D3-9892-E422FD6D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AFA4EF-007D-4772-9CFA-09A4F051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74E5EF-712C-4949-8E09-0C372A84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553536-523F-451C-8AEF-010C6615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0BBE9C-71B0-49C8-823B-476CBE93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CC1101-464B-4419-8FEA-180F8CBF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976631-B017-4BE6-8C3E-21FAE8E4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B97459-1BBF-469F-8E17-16116392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8B48-CCDA-4CBD-BCA4-1342A4BE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BA07A7-C31A-408E-AF4B-48F38FC3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F9A079-45D0-480F-85D3-EB08AE7E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17EC4D-12EA-4588-A854-0EC5922E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15639B-2F2A-4D9B-B8C8-3FCF26FC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5AEEA9-FDB8-4218-9999-2D5A9232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B880-244E-4B24-98FA-DE81B429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Georgia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D740-5E10-446C-AC55-6467CF3E840C}" type="slidenum">
              <a:rPr b="1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Georgia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E375-2E29-4F4B-BE0B-1CBD67942277}" type="slidenum">
              <a:rPr b="1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Georgia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688C-25B9-4E2C-B046-D327AFE27AF3}" type="slidenum">
              <a:rPr b="1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Georgia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1637-83B3-459B-B4D0-71E50D76514B}" type="slidenum">
              <a:rPr b="1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Georgia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B78C-8913-4351-AAF7-A03B62424A7F}" type="slidenum">
              <a:rPr b="1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Georgia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5F0C-A7C2-4408-95ED-A4F0C31A2D53}" type="slidenum">
              <a:rPr b="1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Georgia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9C5F-1E37-4301-8535-3B0762551EE1}" type="slidenum">
              <a:rPr b="1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2f2f2"/>
                </a:solidFill>
                <a:latin typeface="Georgia"/>
              </a:rPr>
              <a:t>ОРГАНИЗАЦИЯ ПРОЕКТНОЙ ДЕЯТЕЛЬНОСТИ ДОШКОЛЬНИКОВ В ГРУППЕ ДЕТСКОГО САДА</a:t>
            </a:r>
            <a:br>
              <a:rPr sz="2700"/>
            </a:br>
            <a:endParaRPr b="0" lang="en-US" sz="27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884240" y="1916280"/>
            <a:ext cx="65325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ffffff"/>
                </a:solidFill>
                <a:latin typeface="Georgia"/>
              </a:rPr>
              <a:t>История школьных принадлежностей</a:t>
            </a:r>
            <a:endParaRPr b="0" lang="en-US" sz="4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Georgia"/>
              </a:rPr>
              <a:t>                              </a:t>
            </a:r>
            <a:r>
              <a:rPr b="1" i="1" lang="ru-RU" sz="3000" spc="-1" strike="noStrike">
                <a:solidFill>
                  <a:srgbClr val="ffffff"/>
                </a:solidFill>
                <a:latin typeface="Georgia"/>
              </a:rPr>
              <a:t>Кириченко Н.В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0" name="Рисунок 3" descr="detia-569.gif"/>
          <p:cNvPicPr/>
          <p:nvPr/>
        </p:nvPicPr>
        <p:blipFill>
          <a:blip r:embed="rId2"/>
          <a:stretch/>
        </p:blipFill>
        <p:spPr>
          <a:xfrm>
            <a:off x="2484360" y="3645000"/>
            <a:ext cx="187164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1"/>
          <p:cNvSpPr/>
          <p:nvPr/>
        </p:nvSpPr>
        <p:spPr>
          <a:xfrm>
            <a:off x="826920" y="620640"/>
            <a:ext cx="63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формирование интереса к школь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4"/>
          <p:cNvSpPr/>
          <p:nvPr/>
        </p:nvSpPr>
        <p:spPr>
          <a:xfrm>
            <a:off x="755640" y="2565360"/>
            <a:ext cx="784872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  <a:ea typeface="Times New Roman"/>
              </a:rPr>
              <a:t>Задачи проек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способствовать развитию познавательной актив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ознакомить с  историей и назначением школьных принадлеж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формировать навыки учеб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развивать творческое воображение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Рисунок 7" descr="мишка.gif"/>
          <p:cNvPicPr/>
          <p:nvPr/>
        </p:nvPicPr>
        <p:blipFill>
          <a:blip r:embed="rId2"/>
          <a:stretch/>
        </p:blipFill>
        <p:spPr>
          <a:xfrm>
            <a:off x="5076720" y="2997360"/>
            <a:ext cx="3699000" cy="369864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1554120" y="620640"/>
            <a:ext cx="47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Мотивационный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эта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6"/>
          <p:cNvSpPr/>
          <p:nvPr/>
        </p:nvSpPr>
        <p:spPr>
          <a:xfrm>
            <a:off x="1116000" y="1197000"/>
            <a:ext cx="70041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Сюрпризный момент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 «Встреча с Медведе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Интеллектуальный тренинг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«Прав ли Мишка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ыявление знаний детей о школьных принадлежнос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Что мы зна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Что хотим узн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Что нам сделать, чтобы узн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 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Экскурсия в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Отгадывание зага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1"/>
          <p:cNvSpPr/>
          <p:nvPr/>
        </p:nvSpPr>
        <p:spPr>
          <a:xfrm>
            <a:off x="684360" y="115920"/>
            <a:ext cx="8135640" cy="77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То я в клетку, то в линейку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Написать по ним, сумей-ка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Это — лёгкая загадка: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Каждый знает, я —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Тетрадь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.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       Не куст, а с листочками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       Не рубашка, а сшита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       Не человек, а рассказыв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Книга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Новый дом несу в руке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Дверца дома на замк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Тут жильцы бумажные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се ужасно важные.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тгадай, что за вещица, -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           Острый клювик, а не птица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Этим клювиком она сеет-сеет семена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Не на поле, не на грядке -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На листах твоей тетрадки.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Ручка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3" descr="тетрадь.bmp"/>
          <p:cNvPicPr/>
          <p:nvPr/>
        </p:nvPicPr>
        <p:blipFill>
          <a:blip r:embed="rId2"/>
          <a:stretch/>
        </p:blipFill>
        <p:spPr>
          <a:xfrm>
            <a:off x="5940360" y="73080"/>
            <a:ext cx="2160720" cy="141120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4" descr="книга.bmp"/>
          <p:cNvPicPr/>
          <p:nvPr/>
        </p:nvPicPr>
        <p:blipFill>
          <a:blip r:embed="rId3"/>
          <a:stretch/>
        </p:blipFill>
        <p:spPr>
          <a:xfrm>
            <a:off x="1835280" y="1628640"/>
            <a:ext cx="1728720" cy="123984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5" descr="портфель.jpeg"/>
          <p:cNvPicPr/>
          <p:nvPr/>
        </p:nvPicPr>
        <p:blipFill>
          <a:blip r:embed="rId4"/>
          <a:stretch/>
        </p:blipFill>
        <p:spPr>
          <a:xfrm>
            <a:off x="6012000" y="3068640"/>
            <a:ext cx="2065320" cy="144000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6" descr="ручка.bmp"/>
          <p:cNvPicPr/>
          <p:nvPr/>
        </p:nvPicPr>
        <p:blipFill>
          <a:blip r:embed="rId5"/>
          <a:stretch/>
        </p:blipFill>
        <p:spPr>
          <a:xfrm>
            <a:off x="1692360" y="5084640"/>
            <a:ext cx="18716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рямоугольник 1"/>
          <p:cNvSpPr/>
          <p:nvPr/>
        </p:nvSpPr>
        <p:spPr>
          <a:xfrm>
            <a:off x="684360" y="1305000"/>
            <a:ext cx="763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Создание мини – музея «Скоро в школ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Придумывание историй и сказок, связанных со школьными принадлежност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Выступления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«История руч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«На чём писали?»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Эксперимен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2"/>
          <p:cNvSpPr/>
          <p:nvPr/>
        </p:nvSpPr>
        <p:spPr>
          <a:xfrm>
            <a:off x="864000" y="476280"/>
            <a:ext cx="69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Проблемно-деятельностный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эта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1"/>
          <p:cNvSpPr/>
          <p:nvPr/>
        </p:nvSpPr>
        <p:spPr>
          <a:xfrm>
            <a:off x="539640" y="765000"/>
            <a:ext cx="77043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Объединение детей в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для подбора коллекции школьных предм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для поиска информации о школьных принадлежнос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придумывание сказок и составление рассказов о школьных принадлежност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составление коллаж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Детская студ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Оформление материалов для электронной кни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Поиск информации.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Презент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Детская лаборатория.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Пишем палочкой, гусиным пером, чернильной ручкой, молоком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250920" y="1125360"/>
            <a:ext cx="8497800" cy="54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«Собери портфел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Лото «Скоро в школ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Нарисуй отгадки, сделай коллаж, подари Миш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Д/и «Поточи карандаши» (развитие мелкой мотори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Используя ножницы и бумагу вырезать любые предметы из школьных принадлежностей и приклеить на картоне в виде портф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Д/и «Быстрый ластик» ребенок должен как можно быстрее  удалить ластиком ненужные детали карандашного рису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Детям предлагаются обводки школьных принадле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Сюжетно – ролевая игра «Маша – учени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формление экспозиции мини - муз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Иллюстрирование придуманных историй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250920" y="4035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  <a:ea typeface="Times New Roman"/>
              </a:rPr>
              <a:t>Самостоятельная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  <a:ea typeface="Times New Roman"/>
              </a:rPr>
              <a:t>деятельность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  <a:ea typeface="Times New Roman"/>
              </a:rPr>
              <a:t>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684360" y="1484280"/>
            <a:ext cx="676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Просмотр созданной электронной книг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«История школьных принадлежност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Рефлекс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Что узна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Что больше вс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понравилось, запомнилос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2"/>
          <p:cNvSpPr/>
          <p:nvPr/>
        </p:nvSpPr>
        <p:spPr>
          <a:xfrm>
            <a:off x="2087640" y="90792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Творческий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эта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Рисунок 3" descr="маша и медведь.gif"/>
          <p:cNvPicPr/>
          <p:nvPr/>
        </p:nvPicPr>
        <p:blipFill>
          <a:blip r:embed="rId2"/>
          <a:stretch/>
        </p:blipFill>
        <p:spPr>
          <a:xfrm>
            <a:off x="4572000" y="2565360"/>
            <a:ext cx="4076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"/>
          <p:cNvSpPr/>
          <p:nvPr/>
        </p:nvSpPr>
        <p:spPr>
          <a:xfrm>
            <a:off x="1620720" y="192240"/>
            <a:ext cx="574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  <a:ea typeface="Times New Roman"/>
              </a:rPr>
              <a:t>Интег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  <a:ea typeface="Times New Roman"/>
              </a:rPr>
              <a:t>образовательных областей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Схема 2" descr=""/>
          <p:cNvPicPr/>
          <p:nvPr/>
        </p:nvPicPr>
        <p:blipFill>
          <a:blip r:embed="rId2"/>
          <a:stretch/>
        </p:blipFill>
        <p:spPr>
          <a:xfrm>
            <a:off x="523800" y="1109520"/>
            <a:ext cx="7791480" cy="54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2T16:15:21Z</dcterms:created>
  <dc:creator>фрося</dc:creator>
  <dc:description/>
  <dc:language>en-US</dc:language>
  <cp:lastModifiedBy>алексей кириченко</cp:lastModifiedBy>
  <dcterms:modified xsi:type="dcterms:W3CDTF">2014-10-29T18:30:03Z</dcterms:modified>
  <cp:revision>19</cp:revision>
  <dc:subject/>
  <dc:title>Организация проектной деятельности дошкольников в группе детского сада </dc:title>
</cp:coreProperties>
</file>