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F4D-7030-4C4D-8293-0A4ADA1B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937-FEAD-4AA1-8DBC-C8860912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207-DFEB-4870-97FD-BA1A86A2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62D-018E-41B4-8698-5C6F9DA5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D060-11D7-435D-8D2B-98BA8C2F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37CD-B8B3-421F-AE92-F8EA5D3E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1F88-F0D2-45A5-B6E4-4F34A987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0FB8-DE13-43C2-ABB0-21D5D2DB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E1C6-53B0-4D33-8FCF-54AF903D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BD04-8660-46CF-924B-EE931623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396A-0941-4996-9941-50889A41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31D-E536-44BF-9D62-3F6E8BF7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0167-87B8-43EC-B90A-434EB12B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17AE-93F8-452A-BDA1-5DF213EB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C367-5D74-4D01-9F4D-3366C57A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A8F7-3D8E-45CC-835B-61BCC647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31D4-CC7E-440C-8F3F-5D32F9F9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004-FE83-441F-885D-598AC532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CB9-2CF2-4252-ACA7-328BA681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7E2-9819-45D6-A0F4-3FE3C015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688-0C90-4E83-AC2A-6C0EE735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ED0-FA2A-4CFE-9353-9A0F6B6C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8E3-9554-4515-B351-A6813FFB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23A-ACAB-4111-9B41-283C37A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3316-D44F-4DEE-A4D3-B4F4FB5EC8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3206-D6BD-497D-A5CF-A5413008C6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3708360" y="765000"/>
            <a:ext cx="7128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ЗАПРЕЩАЮЩИЕ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ЗНАКИ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ДОРОЖНОГО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ДВИЖЕНИЯ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70279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Скругленный прямоугольник 6"/>
          <p:cNvSpPr/>
          <p:nvPr/>
        </p:nvSpPr>
        <p:spPr>
          <a:xfrm>
            <a:off x="3635280" y="6477120"/>
            <a:ext cx="160992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3-4 клас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рожные зна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Знаки мы дорож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Запомнить всем положено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Кто из нас что говори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Здесь направо поворо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А здесь совсем наоборо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Чтоб машины не спешил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Шел спокойно пешеход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Помогать мы им решил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И дежурим круглый го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Будьте очень осторожны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Уважайте каждый знак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Ведь без знаков на дорог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Вам не обойтись ника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16" descr=""/>
          <p:cNvPicPr/>
          <p:nvPr/>
        </p:nvPicPr>
        <p:blipFill>
          <a:blip r:embed="rId1"/>
          <a:srcRect l="0" t="5080" r="16037" b="0"/>
          <a:stretch/>
        </p:blipFill>
        <p:spPr>
          <a:xfrm>
            <a:off x="3924360" y="1413000"/>
            <a:ext cx="1511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"/>
          <p:cNvPicPr/>
          <p:nvPr/>
        </p:nvPicPr>
        <p:blipFill>
          <a:blip r:embed="rId2"/>
          <a:srcRect l="0" t="4962" r="4506" b="0"/>
          <a:stretch/>
        </p:blipFill>
        <p:spPr>
          <a:xfrm>
            <a:off x="7380360" y="4941720"/>
            <a:ext cx="1512720" cy="1400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"/>
          <p:cNvPicPr/>
          <p:nvPr/>
        </p:nvPicPr>
        <p:blipFill>
          <a:blip r:embed="rId3"/>
          <a:srcRect l="12394" t="3313" r="9137" b="0"/>
          <a:stretch/>
        </p:blipFill>
        <p:spPr>
          <a:xfrm>
            <a:off x="5724360" y="2781360"/>
            <a:ext cx="1366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гад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</a:rPr>
              <a:t>Он укажет поворо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</a:rPr>
              <a:t>И подземный переход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</a:rPr>
              <a:t>Без него нельзя никак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</a:rPr>
              <a:t>Это друг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WordArt 9"/>
          <p:cNvSpPr txBox="1"/>
          <p:nvPr/>
        </p:nvSpPr>
        <p:spPr>
          <a:xfrm>
            <a:off x="1332000" y="4292640"/>
            <a:ext cx="648000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рожный зна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прещающие зна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imes New Roman"/>
              </a:rPr>
              <a:t>«Въезд запрещен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imes New Roman"/>
              </a:rPr>
              <a:t>«Движение запрещено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imes New Roman"/>
              </a:rPr>
              <a:t>«Остановка запрещен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imes New Roman"/>
              </a:rPr>
              <a:t>«Движение пешеходов запрещено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rcRect l="15785" t="11386" r="0" b="0"/>
          <a:stretch/>
        </p:blipFill>
        <p:spPr>
          <a:xfrm>
            <a:off x="971640" y="1197000"/>
            <a:ext cx="1368360" cy="132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2"/>
          <a:srcRect l="9939" t="6111" r="0" b="0"/>
          <a:stretch/>
        </p:blipFill>
        <p:spPr>
          <a:xfrm>
            <a:off x="2916360" y="2565360"/>
            <a:ext cx="1439640" cy="1354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"/>
          <p:cNvPicPr/>
          <p:nvPr/>
        </p:nvPicPr>
        <p:blipFill>
          <a:blip r:embed="rId3"/>
          <a:srcRect l="17461" t="0" r="11997" b="34958"/>
          <a:stretch/>
        </p:blipFill>
        <p:spPr>
          <a:xfrm>
            <a:off x="971640" y="4365720"/>
            <a:ext cx="1439640" cy="1374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"/>
          <p:cNvPicPr/>
          <p:nvPr/>
        </p:nvPicPr>
        <p:blipFill>
          <a:blip r:embed="rId4"/>
          <a:stretch/>
        </p:blipFill>
        <p:spPr>
          <a:xfrm>
            <a:off x="3059280" y="5489640"/>
            <a:ext cx="129348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71636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972560" cy="572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Литература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Интернет ресурсы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1.</a:t>
            </a:r>
            <a:r>
              <a:rPr b="1" lang="en-US" sz="1400" spc="-1" strike="noStrike">
                <a:solidFill>
                  <a:srgbClr val="feec94"/>
                </a:solidFill>
                <a:latin typeface="Times New Roman"/>
              </a:rPr>
              <a:t>http://images.yandex.ru/yandsearch?text=%D0%B4%D0%BE%D1%80%D0%BE%D0%B6%D0%BD%D1%8B%D0%B5%20%D0%B7%D0%BD%D0%B0%D0%BA%D0%B8&amp;pos=3&amp;rpt=simage&amp;img_url=http%3A%2F%2Fwww.uchavto.ru%2Ffiles%2FSouelo%2FZDD.jpg</a:t>
            </a: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en-US" sz="1400" spc="-1" strike="noStrike">
                <a:solidFill>
                  <a:srgbClr val="feec94"/>
                </a:solidFill>
                <a:latin typeface="Times New Roman"/>
              </a:rPr>
              <a:t>http://images.rambler.ru/cl?rex=5E2D13C0A0E90A35&amp;block=serp&amp;st=1358594980&amp;id=img_27&amp;rnd=0.6222029311513281&amp;key=WL4Bu-WI7s00TO0v-CbW4ojs0WaxqKEvXJQJElgfuWda29oUME4479oYTstlYCbeWXL2EMrWSNoyaEBSuj5xk-HxM8QM-as_SD4tYTTU6ZM</a:t>
            </a: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feec94"/>
                </a:solidFill>
                <a:latin typeface="Times New Roman"/>
              </a:rPr>
              <a:t>CCDcKBdPWxJfwZv8acEd3R4-PV67vwfKrfzOoZgHHEUGgAp-BOeCbRGUMcLRJAnngEAXlM_DH2BHbk3T6tGPY-4hN5xvTlPA5G2QoBAj2FaA6ejwv7-ixjERpcQ9K1xE07RO2sSce4UGfF0WuFb5D</a:t>
            </a: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eec94"/>
                </a:solidFill>
                <a:latin typeface="Times New Roman"/>
              </a:rPr>
              <a:t>&amp;_URL=http%3A%2F%2Fursa-tm.ru%2Fforum%2Findex.php%3F%2Ftopic%2F2247-%25d0%25b3%25d0%25be%25d1%2581%25d1%2582%25d0%25b8%25d0%25bd%25d0%25b0%25d1%258f-94%2Fpage__st__300&amp;yid=1358594980087562-1612137183228140344343733-6-042-XML</a:t>
            </a: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3.</a:t>
            </a:r>
            <a:r>
              <a:rPr b="1" lang="en-US" sz="1400" spc="-1" strike="noStrike">
                <a:solidFill>
                  <a:srgbClr val="feec94"/>
                </a:solidFill>
                <a:latin typeface="Times New Roman"/>
              </a:rPr>
              <a:t>http://images.rambler.ru/cl?rex=5E2D13C0A0E90A35&amp;block=serp&amp;st=1358594980&amp;id=img_36&amp;rnd=0.9443499434047357&amp;key=iyuN38JbZyUE_9NsUFOWtZTIdFSKTein6f3FE-31O5uDijtWEyCEvDgA1ctzhAfThiUNY4mrBINt7YoHq2XP4ytbrqjl1_kgiFYpZhaAZ4YdruuphhTPJiZ3YqbS2t4wIKAl8RfSx8Geb1nFPLIVRWqxHOosQ5TYWuvOL7ioyhM=&amp;_URL=http%3A%2F%2Fdetsad-kitty.ru%2Fart%2F46-dorozhnye-znaki.html&amp;yid=1358594980087562-1612137183228140344343733-6-042-XML</a:t>
            </a: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   </a:t>
            </a:r>
            <a:br>
              <a:rPr sz="1400"/>
            </a:br>
            <a:br>
              <a:rPr sz="1800"/>
            </a:b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8:44:01Z</dcterms:created>
  <dc:creator>123</dc:creator>
  <dc:description/>
  <dc:language>en-US</dc:language>
  <cp:lastModifiedBy>Sveta</cp:lastModifiedBy>
  <dcterms:modified xsi:type="dcterms:W3CDTF">2013-11-08T15:32:26Z</dcterms:modified>
  <cp:revision>28</cp:revision>
  <dc:subject/>
  <dc:title>Слайд 1</dc:title>
</cp:coreProperties>
</file>