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D78-C807-4606-BA5D-0CDF7A69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0E8-B387-484E-89E9-F375B13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274-5BFA-41C7-B623-A18F67B6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400-8FE9-49F7-8E05-2E92B722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F08-E38C-4929-87E7-7DA8C79B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70A-D0CF-49F2-A9E6-37DACA0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0D8-7C82-4015-B840-102910F3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1DF-E824-47BC-ACE2-2AF1C652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ABF-D0F6-4C10-AED7-635C3D8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C13-4FDE-4BFA-B68C-631E7C4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010-2D3E-4CD7-B167-3C23508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B81-EBAD-4B7F-BBCF-96E1A9E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ABE3-046C-4D0F-BAB0-0D6AF517CD09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озвенел звонок весёлы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Мы начать урок готов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удем слушать, рассуждать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 друг другу помога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977840"/>
            <a:ext cx="40384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aaa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тюле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н</a:t>
            </a:r>
            <a:r>
              <a:rPr b="0" lang="ru-RU" sz="4000" spc="-1" strike="noStrike" u="sng">
                <a:solidFill>
                  <a:srgbClr val="33cc33"/>
                </a:solidFill>
                <a:uFillTx/>
                <a:latin typeface="Constantia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aaa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жа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л</a:t>
            </a:r>
            <a:r>
              <a:rPr b="0" lang="ru-RU" sz="4000" spc="-1" strike="noStrike" u="sng">
                <a:solidFill>
                  <a:srgbClr val="33cc33"/>
                </a:solidFill>
                <a:uFillTx/>
                <a:latin typeface="Constantia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aaa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ле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н</a:t>
            </a:r>
            <a:r>
              <a:rPr b="0" lang="ru-RU" sz="4000" spc="-1" strike="noStrike" u="sng">
                <a:solidFill>
                  <a:srgbClr val="33cc33"/>
                </a:solidFill>
                <a:uFillTx/>
                <a:latin typeface="Constantia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aaa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тюле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н</a:t>
            </a:r>
            <a:r>
              <a:rPr b="0" lang="ru-RU" sz="4000" spc="-1" strike="noStrike" u="sng">
                <a:solidFill>
                  <a:srgbClr val="33cc33"/>
                </a:solidFill>
                <a:uFillTx/>
                <a:latin typeface="Constantia"/>
              </a:rPr>
              <a:t>ь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aaa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рилежа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н</a:t>
            </a:r>
            <a:r>
              <a:rPr b="0" lang="ru-RU" sz="4000" spc="-1" strike="noStrike" u="sng">
                <a:solidFill>
                  <a:srgbClr val="33cc33"/>
                </a:solidFill>
                <a:uFillTx/>
                <a:latin typeface="Constantia"/>
              </a:rPr>
              <a:t>ь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aaa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одража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н</a:t>
            </a:r>
            <a:r>
              <a:rPr b="0" lang="ru-RU" sz="4000" spc="-1" strike="noStrike" u="sng">
                <a:solidFill>
                  <a:srgbClr val="33cc33"/>
                </a:solidFill>
                <a:uFillTx/>
                <a:latin typeface="Constantia"/>
              </a:rPr>
              <a:t>ь</a:t>
            </a:r>
            <a:r>
              <a:rPr b="0" lang="ru-RU" sz="4000" spc="-1" strike="noStrike" u="sng">
                <a:solidFill>
                  <a:srgbClr val="ff33cc"/>
                </a:solidFill>
                <a:uFillTx/>
                <a:latin typeface="Constantia"/>
              </a:rPr>
              <a:t>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1332000" y="404640"/>
            <a:ext cx="576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Кто мой сосед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cc33"/>
                </a:solidFill>
                <a:latin typeface="Calibri"/>
              </a:rPr>
              <a:t>Помогите инопланетянам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3" name="Picture 11" descr="10"/>
          <p:cNvPicPr/>
          <p:nvPr/>
        </p:nvPicPr>
        <p:blipFill>
          <a:blip r:embed="rId1"/>
          <a:stretch/>
        </p:blipFill>
        <p:spPr>
          <a:xfrm>
            <a:off x="5796000" y="1916280"/>
            <a:ext cx="2968560" cy="2376360"/>
          </a:xfrm>
          <a:prstGeom prst="rect">
            <a:avLst/>
          </a:prstGeom>
          <a:ln w="0">
            <a:noFill/>
          </a:ln>
        </p:spPr>
      </p:pic>
      <p:sp>
        <p:nvSpPr>
          <p:cNvPr id="74" name="WordArt 16"/>
          <p:cNvSpPr txBox="1"/>
          <p:nvPr/>
        </p:nvSpPr>
        <p:spPr>
          <a:xfrm>
            <a:off x="324000" y="5661000"/>
            <a:ext cx="733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17"/>
          <p:cNvSpPr txBox="1"/>
          <p:nvPr/>
        </p:nvSpPr>
        <p:spPr>
          <a:xfrm>
            <a:off x="250920" y="4508640"/>
            <a:ext cx="733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1332000" y="5013360"/>
            <a:ext cx="676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9"/>
          <p:cNvSpPr txBox="1"/>
          <p:nvPr/>
        </p:nvSpPr>
        <p:spPr>
          <a:xfrm>
            <a:off x="2268360" y="4437000"/>
            <a:ext cx="6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20"/>
          <p:cNvSpPr txBox="1"/>
          <p:nvPr/>
        </p:nvSpPr>
        <p:spPr>
          <a:xfrm>
            <a:off x="2268360" y="5877000"/>
            <a:ext cx="600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21"/>
          <p:cNvSpPr txBox="1"/>
          <p:nvPr/>
        </p:nvSpPr>
        <p:spPr>
          <a:xfrm>
            <a:off x="3203640" y="53737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12" descr="C:\Users\Женя и Аня\Desktop\20.gif"/>
          <p:cNvPicPr/>
          <p:nvPr/>
        </p:nvPicPr>
        <p:blipFill>
          <a:blip r:embed="rId2"/>
          <a:stretch/>
        </p:blipFill>
        <p:spPr>
          <a:xfrm>
            <a:off x="6084720" y="4437000"/>
            <a:ext cx="2664000" cy="201132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2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2808360" cy="29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6203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2 задание – найди  неверное слово.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ffff"/>
                </a:solidFill>
                <a:uFillTx/>
                <a:latin typeface="Constantia"/>
              </a:rPr>
              <a:t>ДЛЯ ДЕВОЧЕК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Счастье</a:t>
            </a: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осенью</a:t>
            </a: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 редьк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ffff"/>
                </a:solidFill>
                <a:uFillTx/>
                <a:latin typeface="Constantia"/>
              </a:rPr>
              <a:t>ДЛЯ МАЛЬЧИКОВ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Здоровье</a:t>
            </a: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 колья</a:t>
            </a: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 баньк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c00000"/>
                </a:solidFill>
                <a:latin typeface="Constantia"/>
              </a:rPr>
              <a:t>Р е д ь к а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990000"/>
                </a:solidFill>
                <a:latin typeface="Constantia"/>
              </a:rPr>
              <a:t>Б а н ь к а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Picture 6" descr="C:\Users\Женя и Аня\Desktop\31.gif"/>
          <p:cNvPicPr/>
          <p:nvPr/>
        </p:nvPicPr>
        <p:blipFill>
          <a:blip r:embed="rId1"/>
          <a:stretch/>
        </p:blipFill>
        <p:spPr>
          <a:xfrm>
            <a:off x="5364000" y="1484280"/>
            <a:ext cx="33354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8480" y="620640"/>
            <a:ext cx="535284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33720"/>
            <a:ext cx="40384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1 задание – исправьте ошибк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Для дев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ратя ели варен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Для мальчи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Лет силный дож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719360"/>
            <a:ext cx="44956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" name="Picture 6" descr="C:\Users\Женя и Аня\Desktop\14.gif"/>
          <p:cNvPicPr/>
          <p:nvPr/>
        </p:nvPicPr>
        <p:blipFill>
          <a:blip r:embed="rId1"/>
          <a:stretch/>
        </p:blipFill>
        <p:spPr>
          <a:xfrm>
            <a:off x="5170320" y="1268280"/>
            <a:ext cx="374508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Times New Roman"/>
              </a:rPr>
              <a:t>Выпиши слоги с разделительным Ь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ЬЯ, БЬЮ, ЛЬН, ЛЬЮ, РЬК, НЬК, ВЬЯ, ОНЬ, ЕДЬ, ВЬИ, ЖЬЁ, ЛЬ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99cc"/>
                </a:solidFill>
                <a:latin typeface="Calibri"/>
              </a:rPr>
              <a:t>Итог урока</a:t>
            </a:r>
            <a:endParaRPr b="0" lang="en-US" sz="49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ему вы научились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ие буквы обозначают мягкость согласных звуков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ие две роли выполняет при написании  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то он показывает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ля чего мы изучали тему «Разделительный ь»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3" name="Объект 2" descr=""/>
          <p:cNvPicPr/>
          <p:nvPr/>
        </p:nvPicPr>
        <p:blipFill>
          <a:blip r:embed="rId1"/>
          <a:stretch/>
        </p:blipFill>
        <p:spPr>
          <a:xfrm>
            <a:off x="6372360" y="3933720"/>
            <a:ext cx="19447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50920" y="214200"/>
          <a:ext cx="7804080" cy="5619960"/>
        </p:xfrm>
        <a:graphic>
          <a:graphicData uri="http://schemas.openxmlformats.org/drawingml/2006/table">
            <a:tbl>
              <a:tblPr/>
              <a:tblGrid>
                <a:gridCol w="779400"/>
                <a:gridCol w="781200"/>
                <a:gridCol w="780840"/>
                <a:gridCol w="781200"/>
                <a:gridCol w="779400"/>
                <a:gridCol w="779400"/>
                <a:gridCol w="781200"/>
                <a:gridCol w="780840"/>
                <a:gridCol w="781200"/>
                <a:gridCol w="779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Ё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Ж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З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Ф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Ц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Ш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Щ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Ъ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Э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935000"/>
          <a:ext cx="4038480" cy="2011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а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48320" y="1935000"/>
          <a:ext cx="4038480" cy="2011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д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9640" y="4146480"/>
          <a:ext cx="3961080" cy="211140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м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43280" y="4146480"/>
          <a:ext cx="4032360" cy="216216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?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413000"/>
          <a:ext cx="4038480" cy="2592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а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1484280"/>
          <a:ext cx="4038480" cy="2521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д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8360" y="4146480"/>
          <a:ext cx="4032360" cy="211140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м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16360" y="4146480"/>
          <a:ext cx="3888000" cy="21621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00"/>
                          </a:solidFill>
                          <a:latin typeface="Constantia"/>
                        </a:rPr>
                        <a:t>ь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732280"/>
            <a:ext cx="8229600" cy="9363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Что вы знаете о мягком знаке?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4000" y="259920"/>
            <a:ext cx="540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 волшебник. Захочу –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явлюсь и превращ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л, которым пишут в школ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мель, опасную на мор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волшебник – отгадай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ше руку поднима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ягкий голос, мягкий шаг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буква - … (мягкий знак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2700360" cy="280836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2" descr=""/>
          <p:cNvPicPr/>
          <p:nvPr/>
        </p:nvPicPr>
        <p:blipFill>
          <a:blip r:embed="rId2"/>
          <a:stretch/>
        </p:blipFill>
        <p:spPr>
          <a:xfrm>
            <a:off x="466560" y="3498840"/>
            <a:ext cx="280692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ЕКРЕТЫ    МЯГКОГО ЗНАК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nstantia"/>
              </a:rPr>
              <a:t>Ь обозначает мягкость согласных звуков на письме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nstantia"/>
              </a:rPr>
              <a:t>Мягкий знак звука не обозначает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nstantia"/>
              </a:rPr>
              <a:t>Буква Ь – показатель мягкости согласных на конце и в середине слова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0010-010-Razdelitelnyj-mjagkij-znak"/>
          <p:cNvPicPr/>
          <p:nvPr/>
        </p:nvPicPr>
        <p:blipFill>
          <a:blip r:embed="rId1"/>
          <a:stretch/>
        </p:blipFill>
        <p:spPr>
          <a:xfrm>
            <a:off x="824040" y="704880"/>
            <a:ext cx="749592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перо – Пьеро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оля – коль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солю – солью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суди – судь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полёт - польёт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219280" y="691920"/>
            <a:ext cx="346716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ый день лежит тюлень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лежать ему не лен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ль, тюленье прилежань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пример для подражань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Picture 8" descr="tyuleni_morskie_kotiki_foto_42"/>
          <p:cNvPicPr/>
          <p:nvPr/>
        </p:nvPicPr>
        <p:blipFill>
          <a:blip r:embed="rId1"/>
          <a:stretch/>
        </p:blipFill>
        <p:spPr>
          <a:xfrm>
            <a:off x="324000" y="1484280"/>
            <a:ext cx="46796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51:44Z</dcterms:created>
  <dc:creator>Admin</dc:creator>
  <dc:description/>
  <dc:language>en-US</dc:language>
  <cp:lastModifiedBy>Наталья</cp:lastModifiedBy>
  <dcterms:modified xsi:type="dcterms:W3CDTF">2014-10-29T17:18:33Z</dcterms:modified>
  <cp:revision>107</cp:revision>
  <dc:subject/>
  <dc:title>Разделительный мягкий зна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