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063-F5D3-4108-B969-EB28B358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769-550B-41A2-BAF8-6BC68E3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7F9-FC97-45EB-A3BD-85207468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631-4D6F-46EA-9D1D-5A85D985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F4A-12BB-40AC-A5EF-BBF27ACC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FE0-A2DB-49A7-B095-D3D60A2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BAE-59C0-4734-8171-126736B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4D9-DEA2-48F2-AFDE-48FAEDB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18A-D18F-45A2-A3A7-EBFFEFB2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9A1-B8BE-483B-8179-767D9A8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F52-8D3B-4CC1-8165-8824A9C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5D2-2A4C-4F8D-A36C-F1F26D8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C46-5F83-4FDC-A1C1-1871F6A9B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8991720" cy="6743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04920" y="457200"/>
            <a:ext cx="85341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 ц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ставление о свойствах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вык счета в пределах 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Продолжить формировать ум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оспроизводить последовательность чисел от 0 до 9 в прямо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ном порядке, начиная с любого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ть цифры от 1 до 9 и цифру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равнивать числа без опоры на нагляд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вать выражения с опорой на нагляд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ть выражения и простые задачи по рисункам и схем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09600" y="990720"/>
            <a:ext cx="81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  2  3  4  5  6  7  8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56120" y="2590920"/>
            <a:ext cx="822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0,1,2,…,4,…,…,7,…,…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52520" y="4114800"/>
            <a:ext cx="58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,4,6,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,6,…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963800" y="36360"/>
            <a:ext cx="64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ный счёт до 9 и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 отрезками числового ряда(от 2 до 8; от9 до 0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 последующее, предыдущие числа, соседей чис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, справа, число между назва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59360" y="220968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 числа  пропущенные в ря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57560" y="373392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 ряд на одно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0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41400"/>
            <a:ext cx="9101160" cy="681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900436884[1]"/>
          <p:cNvPicPr/>
          <p:nvPr/>
        </p:nvPicPr>
        <p:blipFill>
          <a:blip r:embed="rId2"/>
          <a:stretch/>
        </p:blipFill>
        <p:spPr>
          <a:xfrm>
            <a:off x="9144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MC900436884[1]"/>
          <p:cNvPicPr/>
          <p:nvPr/>
        </p:nvPicPr>
        <p:blipFill>
          <a:blip r:embed="rId3"/>
          <a:stretch/>
        </p:blipFill>
        <p:spPr>
          <a:xfrm>
            <a:off x="54864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MC900436884[1]"/>
          <p:cNvPicPr/>
          <p:nvPr/>
        </p:nvPicPr>
        <p:blipFill>
          <a:blip r:embed="rId4"/>
          <a:stretch/>
        </p:blipFill>
        <p:spPr>
          <a:xfrm>
            <a:off x="6400800" y="54864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MC900436884[1]"/>
          <p:cNvPicPr/>
          <p:nvPr/>
        </p:nvPicPr>
        <p:blipFill>
          <a:blip r:embed="rId5"/>
          <a:stretch/>
        </p:blipFill>
        <p:spPr>
          <a:xfrm>
            <a:off x="72388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MC900436884[1]"/>
          <p:cNvPicPr/>
          <p:nvPr/>
        </p:nvPicPr>
        <p:blipFill>
          <a:blip r:embed="rId6"/>
          <a:stretch/>
        </p:blipFill>
        <p:spPr>
          <a:xfrm>
            <a:off x="8077320" y="5486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MC900436884[1]"/>
          <p:cNvPicPr/>
          <p:nvPr/>
        </p:nvPicPr>
        <p:blipFill>
          <a:blip r:embed="rId7"/>
          <a:stretch/>
        </p:blipFill>
        <p:spPr>
          <a:xfrm>
            <a:off x="-1522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MC900436884[1]"/>
          <p:cNvPicPr/>
          <p:nvPr/>
        </p:nvPicPr>
        <p:blipFill>
          <a:blip r:embed="rId8"/>
          <a:stretch/>
        </p:blipFill>
        <p:spPr>
          <a:xfrm>
            <a:off x="1905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" descr="MC900436884[1]"/>
          <p:cNvPicPr/>
          <p:nvPr/>
        </p:nvPicPr>
        <p:blipFill>
          <a:blip r:embed="rId9"/>
          <a:stretch/>
        </p:blipFill>
        <p:spPr>
          <a:xfrm>
            <a:off x="28195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MC900436884[1]"/>
          <p:cNvPicPr/>
          <p:nvPr/>
        </p:nvPicPr>
        <p:blipFill>
          <a:blip r:embed="rId10"/>
          <a:stretch/>
        </p:blipFill>
        <p:spPr>
          <a:xfrm>
            <a:off x="38862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5" descr="MC900436884[1]"/>
          <p:cNvPicPr/>
          <p:nvPr/>
        </p:nvPicPr>
        <p:blipFill>
          <a:blip r:embed="rId11"/>
          <a:stretch/>
        </p:blipFill>
        <p:spPr>
          <a:xfrm>
            <a:off x="46483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6"/>
          <p:cNvSpPr/>
          <p:nvPr/>
        </p:nvSpPr>
        <p:spPr>
          <a:xfrm>
            <a:off x="290520" y="572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1357560" y="567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250056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49128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2936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510732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2"/>
          <p:cNvSpPr/>
          <p:nvPr/>
        </p:nvSpPr>
        <p:spPr>
          <a:xfrm>
            <a:off x="6082200" y="583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6920280" y="560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4"/>
          <p:cNvSpPr/>
          <p:nvPr/>
        </p:nvSpPr>
        <p:spPr>
          <a:xfrm>
            <a:off x="7758360" y="567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5"/>
          <p:cNvSpPr/>
          <p:nvPr/>
        </p:nvSpPr>
        <p:spPr>
          <a:xfrm>
            <a:off x="8596800" y="560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523880" y="21337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685800" y="83808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3200400" y="220968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1981080" y="11430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0"/>
          <p:cNvSpPr/>
          <p:nvPr/>
        </p:nvSpPr>
        <p:spPr>
          <a:xfrm>
            <a:off x="762120" y="35053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1"/>
          <p:cNvSpPr/>
          <p:nvPr/>
        </p:nvSpPr>
        <p:spPr>
          <a:xfrm>
            <a:off x="5943600" y="83808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2"/>
          <p:cNvSpPr/>
          <p:nvPr/>
        </p:nvSpPr>
        <p:spPr>
          <a:xfrm>
            <a:off x="4876920" y="20574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3"/>
          <p:cNvSpPr/>
          <p:nvPr/>
        </p:nvSpPr>
        <p:spPr>
          <a:xfrm>
            <a:off x="3276720" y="106668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4"/>
          <p:cNvSpPr/>
          <p:nvPr/>
        </p:nvSpPr>
        <p:spPr>
          <a:xfrm>
            <a:off x="2743200" y="35053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+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4191120" y="32004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4724280" y="7621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162920" y="20574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8"/>
          <p:cNvSpPr/>
          <p:nvPr/>
        </p:nvSpPr>
        <p:spPr>
          <a:xfrm>
            <a:off x="7391520" y="4572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1"/>
          <p:cNvSpPr/>
          <p:nvPr/>
        </p:nvSpPr>
        <p:spPr>
          <a:xfrm>
            <a:off x="5791320" y="30481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2"/>
          <p:cNvSpPr/>
          <p:nvPr/>
        </p:nvSpPr>
        <p:spPr>
          <a:xfrm>
            <a:off x="533520" y="20574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3"/>
          <p:cNvSpPr/>
          <p:nvPr/>
        </p:nvSpPr>
        <p:spPr>
          <a:xfrm>
            <a:off x="1905120" y="43434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4"/>
          <p:cNvSpPr/>
          <p:nvPr/>
        </p:nvSpPr>
        <p:spPr>
          <a:xfrm>
            <a:off x="7238880" y="304812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5"/>
          <p:cNvSpPr/>
          <p:nvPr/>
        </p:nvSpPr>
        <p:spPr>
          <a:xfrm>
            <a:off x="7010280" y="3886200"/>
            <a:ext cx="91440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9"/>
          <p:cNvSpPr/>
          <p:nvPr/>
        </p:nvSpPr>
        <p:spPr>
          <a:xfrm>
            <a:off x="1814040" y="3636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я и Петя сдули пушинки с одуван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какого одуванчика отлетела каждая пуши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4293E-006 C -0.00122 0.0081 -0.00313 0.01596 -0.00938 0.01897 C -0.01511 0.02984 -0.01198 0.02614 -0.01771 0.03146 C -0.01962 0.03863 -0.02431 0.04488 -0.0283 0.0502 C -0.03004 0.05876 -0.03299 0.06431 -0.03768 0.07055 C -0.03976 0.08096 -0.04653 0.09184 -0.05174 0.10039 C -0.05469 0.1115 -0.05834 0.12283 -0.06233 0.13324 C -0.06528 0.14111 -0.06563 0.14967 -0.06945 0.15684 C -0.07153 0.17257 -0.07362 0.18806 -0.07535 0.20379 C -0.07448 0.23248 -0.07362 0.26001 -0.07066 0.28846 C -0.0698 0.30835 -0.06928 0.32616 -0.06476 0.3449 C -0.06268 0.36618 -0.06077 0.38145 -0.06007 0.40458 C -0.06077 0.44899 -0.06129 0.49341 -0.06233 0.53782 C -0.06233 0.53967 -0.06615 0.54731 -0.06233 0.54869 C -0.05625 0.55101 -0.04983 0.54985 -0.04358 0.55031 C -0.0323 0.55263 -0.02205 0.55748 -0.01059 0.55933 C 0.01927 0.57992 0.06423 0.57437 0.09409 0.57506 C 0.09809 0.57599 0.1026 0.57506 0.1059 0.5783 C 0.10746 0.57992 0.10781 0.58293 0.10937 0.58455 C 0.11336 0.58848 0.11822 0.59033 0.12239 0.59403 C 0.13072 0.60143 0.14166 0.61161 0.15173 0.61439 C 0.15659 0.61855 0.1618 0.62225 0.16701 0.62526 C 0.16822 0.62595 0.1776 0.62757 0.1776 0.63151 E">
                                      <p:cBhvr>
                                        <p:cTn id="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3493 C -0.05886 0.04048 -0.06372 0.04974 -0.0691 0.05691 C -0.07049 0.05876 -0.08229 0.06246 -0.08664 0.06616 C -0.0875 0.06778 -0.08802 0.06963 -0.08907 0.07102 C -0.09115 0.07356 -0.09601 0.07726 -0.09601 0.07726 C -0.09896 0.08281 -0.10122 0.08883 -0.10434 0.09438 C -0.10573 0.09993 -0.1066 0.10363 -0.10903 0.10849 C -0.11111 0.11705 -0.11476 0.12584 -0.11841 0.1337 C -0.12205 0.16609 -0.11997 0.14296 -0.11841 0.2105 C -0.11771 0.23826 -0.12101 0.24659 -0.11372 0.26533 C -0.11337 0.26787 -0.11337 0.27088 -0.1125 0.27319 C -0.11094 0.27736 -0.10764 0.28013 -0.10556 0.28406 C -0.09879 0.29655 -0.10295 0.29401 -0.09601 0.29655 C -0.08802 0.30743 -0.08924 0.30789 -0.07969 0.31067 C -0.07118 0.31645 -0.0625 0.32015 -0.05365 0.32478 C -0.04393 0.33819 -0.0342 0.34051 -0.02309 0.34999 C -0.0158 0.35624 -0.00365 0.37266 0.00503 0.37659 C 0.00885 0.37821 0.01319 0.38029 0.01684 0.38284 C 0.02482 0.38839 0.03142 0.39487 0.04045 0.39695 C 0.04253 0.39903 0.04531 0.39949 0.04739 0.40157 C 0.05017 0.40435 0.04965 0.40736 0.05104 0.41106 C 0.05399 0.41892 0.05711 0.42494 0.06267 0.4298 C 0.06545 0.43535 0.06736 0.43882 0.07222 0.4409 C 0.07552 0.44784 0.08316 0.45038 0.08854 0.45501 C 0.09253 0.45848 0.09635 0.46218 0.10034 0.46588 C 0.10416 0.46935 0.11041 0.47097 0.11458 0.47375 C 0.12135 0.47814 0.12708 0.48392 0.13455 0.48624 C 0.14236 0.49364 0.15156 0.50197 0.16041 0.50659 C 0.17413 0.51376 0.16527 0.50613 0.17569 0.51307 C 0.18802 0.5214 0.20086 0.52811 0.21336 0.53643 C 0.21805 0.53967 0.22361 0.53921 0.22864 0.54129 C 0.24705 0.54939 0.22534 0.53967 0.23802 0.54731 C 0.2493 0.55448 0.26354 0.56072 0.27569 0.56304 C 0.28507 0.56951 0.29479 0.57298 0.30503 0.57553 C 0.30573 0.5827 0.30555 0.59357 0.30972 0.59889 E">
                                      <p:cBhvr>
                                        <p:cTn id="10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1.99167E-006 C -0.046 0.00671 -0.04618 0.01365 -0.04687 0.02035 C -0.04757 0.0266 -0.05312 0.03308 -0.0552 0.03909 C -0.05677 0.04326 -0.05816 0.04765 -0.05989 0.05181 C -0.06128 0.05505 -0.06458 0.06107 -0.06458 0.0613 C -0.0658 0.06916 -0.06805 0.07333 -0.07152 0.08004 C -0.07343 0.08374 -0.07743 0.09091 -0.07743 0.09114 C -0.07934 0.09808 -0.08194 0.10363 -0.08333 0.11126 C -0.08281 0.11705 -0.08316 0.12352 -0.08107 0.12861 C -0.08003 0.13093 -0.07847 0.13254 -0.07743 0.13486 C -0.07361 0.14365 -0.07118 0.15336 -0.06684 0.16146 C -0.06319 0.17765 -0.05642 0.20842 -0.04566 0.2179 C -0.04149 0.22554 -0.03611 0.23271 -0.03038 0.23826 C -0.02743 0.24497 -0.02586 0.24821 -0.02343 0.25538 C -0.02118 0.26232 -0.02257 0.26671 -0.01753 0.27111 C -0.01475 0.27805 -0.00625 0.29331 -0.00104 0.29771 C 0.00452 0.30904 0.01198 0.31783 0.01789 0.32917 C 0.01893 0.33796 0.0198 0.34814 0.02361 0.35577 C 0.03247 0.37335 0.02483 0.35415 0.03195 0.3715 C 0.03455 0.37774 0.04011 0.39024 0.04011 0.39047 C 0.04184 0.39949 0.04549 0.40805 0.04844 0.41684 C 0.04983 0.421 0.05434 0.42794 0.05434 0.42817 C 0.05504 0.43118 0.05556 0.43442 0.0566 0.43743 C 0.05782 0.44066 0.06129 0.44668 0.06129 0.44691 C 0.06337 0.45732 0.0658 0.46518 0.06962 0.4749 C 0.07084 0.4904 0.06962 0.48369 0.07309 0.49688 C 0.07344 0.49826 0.07431 0.5015 0.07431 0.50173 C 0.07761 0.52741 0.07657 0.55332 0.07657 0.57969 E">
                                      <p:cBhvr>
                                        <p:cTn id="14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9.25283E-009 C 0.01458 0.00671 0.00364 -9.25283000219324E-009 0.00225 0.04858 C 0.0019 0.05992 0.00381 0.08536 -0.00244 0.09716 C -0.00469 0.12122 -0.0007 0.09762 -0.00834 0.11451 C -0.01129 0.12099 -0.01094 0.12839 -0.01407 0.13486 C -0.01633 0.1462 -0.0231 0.16586 -0.02952 0.17396 C -0.03056 0.18043 -0.03143 0.18437 -0.03421 0.18969 C -0.03664 0.20056 -0.03299 0.18807 -0.0389 0.19755 C -0.03959 0.19871 -0.03959 0.20079 -0.04011 0.20218 C -0.04219 0.20773 -0.04462 0.21143 -0.04827 0.2149 C -0.05001 0.21814 -0.05244 0.22068 -0.05417 0.22415 C -0.05556 0.22693 -0.05521 0.23086 -0.05643 0.23364 C -0.06042 0.24312 -0.05973 0.24173 -0.06476 0.24613 C -0.06546 0.24775 -0.06598 0.24937 -0.06702 0.25076 C -0.06806 0.25214 -0.0698 0.25261 -0.07067 0.25399 C -0.07622 0.26302 -0.06928 0.25862 -0.07657 0.26186 C -0.08386 0.2769 -0.07223 0.25469 -0.08351 0.26972 C -0.0948 0.28476 -0.07813 0.26926 -0.08942 0.27898 C -0.09289 0.28615 -0.09567 0.29193 -0.10001 0.29795 C -0.10296 0.31321 -0.09879 0.29448 -0.10469 0.31044 C -0.11129 0.32825 -0.10053 0.3065 -0.10834 0.32131 C -0.11077 0.33264 -0.11372 0.34167 -0.1165 0.35277 C -0.11702 0.35485 -0.11702 0.35716 -0.11771 0.35901 C -0.11893 0.36248 -0.1224 0.3685 -0.1224 0.3685 C -0.12518 0.38654 -0.12153 0.40759 -0.12952 0.42332 C -0.13074 0.43072 -0.13247 0.4335 -0.13646 0.43905 C -0.14011 0.46172 -0.14254 0.48439 -0.14827 0.50637 C -0.14914 0.51701 -0.15053 0.52626 -0.15296 0.53621 C -0.15383 0.54939 -0.15469 0.55703 -0.15765 0.56905 C -0.15869 0.58085 -0.15973 0.59381 -0.16233 0.60514 C -0.16181 0.6093 -0.16164 0.61509 -0.16008 0.61925 C -0.15938 0.62087 -0.15869 0.62249 -0.15765 0.62388 C -0.1566 0.62526 -0.15417 0.62712 -0.15417 0.62712 E">
                                      <p:cBhvr>
                                        <p:cTn id="1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223E-006 C 0.00695 0.01851 0.00261 0.0044 0.00122 0.04719 C -0.00121 0.1226 -0.00156 0.15221 -0.01284 0.21791 C -0.01892 0.25353 -0.02031 0.2762 -0.03871 0.30581 C -0.04496 0.3382 -0.06996 0.37012 -0.08472 0.39672 C -0.08732 0.40135 -0.09236 0.40227 -0.09531 0.4062 C -0.12708 0.44854 -0.10277 0.42587 -0.12118 0.44206 C -0.12274 0.44877 -0.12378 0.45594 -0.12586 0.46241 C -0.13142 0.48023 -0.14722 0.4874 -0.15764 0.4985 C -0.171 0.51284 -0.15833 0.50451 -0.17048 0.51122 C -0.18281 0.52718 -0.16857 0.51122 -0.19045 0.52371 C -0.19357 0.52556 -0.19566 0.5295 -0.19878 0.53158 C -0.20694 0.5369 -0.21354 0.54453 -0.22222 0.5487 C -0.23489 0.56558 -0.26718 0.56512 -0.28229 0.56605 C -0.28889 0.56651 -0.29566 0.56697 -0.30225 0.56743 C -0.31215 0.5709 -0.3217 0.57322 -0.33055 0.58016 C -0.33871 0.58663 -0.34392 0.59334 -0.35295 0.59727 C -0.35659 0.60074 -0.35868 0.60491 -0.36232 0.60838 C -0.36892 0.62203 -0.36232 0.64007 -0.36232 0.65534 E">
                                      <p:cBhvr>
                                        <p:cTn id="22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8904E-006 C 0.00694 0.02753 -0.00209 0.05644 -0.00938 0.08166 C -0.01059 0.0923 -0.01077 0.099 -0.01771 0.10502 C -0.0224 0.11358 -0.02639 0.12237 -0.03178 0.13023 C -0.03438 0.13393 -0.04011 0.14111 -0.04011 0.14111 C -0.04271 0.1499 -0.04584 0.15452 -0.05174 0.16007 C -0.05556 0.16817 -0.05782 0.17511 -0.06355 0.18043 C -0.06441 0.18205 -0.06494 0.1839 -0.06598 0.18506 C -0.06702 0.18598 -0.06875 0.18529 -0.06945 0.18668 C -0.07084 0.18922 -0.0698 0.19408 -0.07188 0.19593 C -0.08039 0.20379 -0.08803 0.21328 -0.09653 0.22114 C -0.10018 0.23109 -0.10313 0.24057 -0.10834 0.24936 C -0.1132 0.26625 -0.1099 0.28429 -0.11424 0.30095 C -0.11511 0.32454 -0.1158 0.34074 -0.1283 0.35739 C -0.13178 0.36711 -0.13803 0.38284 -0.14358 0.39047 C -0.1441 0.3988 -0.14601 0.40851 -0.14601 0.41707 E">
                                      <p:cBhvr>
                                        <p:cTn id="26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1499E-006 C -0.00382 0.01712 0.00278 0.02915 0.00712 0.04395 C 0.00834 0.06709 0.01181 0.09762 0.02014 0.11913 C 0.02118 0.12908 0.0224 0.13903 0.02361 0.14897 C 0.02431 0.15429 0.02604 0.16447 0.02604 0.1647 C 0.02674 0.18251 0.02674 0.19154 0.03073 0.2068 C 0.03125 0.22577 0.03143 0.24081 0.0342 0.25862 C 0.03455 0.27389 0.03299 0.30442 0.03768 0.32293 C 0.03837 0.33981 0.03768 0.36086 0.04236 0.37775 C 0.0441 0.38423 0.04653 0.39001 0.04827 0.39649 C 0.04948 0.40528 0.04879 0.40875 0.05417 0.41384 C 0.05625 0.41846 0.05955 0.42957 0.06476 0.42957 E">
                                      <p:cBhvr>
                                        <p:cTn id="30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72612E-007 C -0.0066 0.00602 -0.00972 0.01596 -0.01528 0.0236 C -0.01719 0.03077 -0.02066 0.0354 -0.02465 0.04072 C -0.0283 0.05552 -0.03958 0.06362 -0.04705 0.07518 C -0.05521 0.08767 -0.06372 0.09623 -0.07292 0.10664 C -0.07847 0.11289 -0.08316 0.12029 -0.0882 0.127 C -0.0908 0.13047 -0.10122 0.13833 -0.10469 0.14111 C -0.11719 0.15129 -0.13004 0.16123 -0.14462 0.1647 C -0.16146 0.18066 -0.18333 0.17951 -0.20243 0.18807 C -0.20695 0.19223 -0.21233 0.1957 -0.21771 0.19755 C -0.22101 0.20195 -0.22326 0.20796 -0.22708 0.21166 C -0.23056 0.21513 -0.23889 0.21953 -0.23889 0.21953 C -0.24167 0.22508 -0.24601 0.23202 -0.24826 0.23826 C -0.24913 0.24081 -0.24913 0.24405 -0.25052 0.24613 C -0.25139 0.24752 -0.25295 0.24728 -0.25417 0.24775 C -0.25833 0.25954 -0.25399 0.24914 -0.26007 0.25862 C -0.26337 0.26371 -0.2651 0.27042 -0.26823 0.27597 C -0.26858 0.27759 -0.26892 0.27921 -0.26945 0.2806 C -0.27014 0.28221 -0.27118 0.2836 -0.2717 0.28522 C -0.27622 0.29887 -0.27135 0.291 -0.2776 0.29933 C -0.28056 0.3109 -0.28333 0.322 -0.2882 0.33241 C -0.28976 0.34004 -0.29201 0.34768 -0.29531 0.35416 C -0.29705 0.36086 -0.29774 0.3641 -0.30122 0.36989 C -0.30278 0.37636 -0.30538 0.38307 -0.30816 0.38885 C -0.30608 0.40412 -0.3092 0.38978 -0.30347 0.40134 C -0.30052 0.40736 -0.30174 0.40898 -0.29653 0.41384 C -0.29514 0.41893 -0.29531 0.41684 -0.29531 0.42008 E">
                                      <p:cBhvr>
                                        <p:cTn id="34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2422E-006 C 0.00226 0.01434 -0.00191 0.031 -0.00469 0.04534 C -0.00573 0.06107 -0.00625 0.07055 -0.01059 0.08466 C -0.01285 0.10525 -0.01788 0.1263 -0.02587 0.14411 C -0.03316 0.16008 -0.02604 0.13879 -0.03177 0.1536 C -0.03941 0.17303 -0.04288 0.195 -0.05295 0.21305 C -0.05851 0.22276 -0.06562 0.22947 -0.0717 0.23826 C -0.07431 0.24196 -0.07726 0.24543 -0.08003 0.24913 C -0.0816 0.25122 -0.08472 0.25538 -0.08472 0.25538 C -0.08681 0.26348 -0.08472 0.25862 -0.09184 0.26486 C -0.10156 0.27319 -0.10868 0.28221 -0.11996 0.28522 C -0.12969 0.29285 -0.14062 0.30164 -0.15174 0.30396 C -0.15608 0.3072 -0.16094 0.30928 -0.16476 0.31344 C -0.17986 0.33033 -0.16927 0.32593 -0.18125 0.32917 C -0.18958 0.33611 -0.19757 0.34166 -0.20712 0.3449 C -0.21528 0.3523 -0.21163 0.3493 -0.21771 0.35415 C -0.22101 0.36132 -0.22483 0.36757 -0.2283 0.37451 C -0.23038 0.3789 -0.23524 0.38723 -0.23524 0.38723 C -0.23663 0.40088 -0.23767 0.40713 -0.23767 0.4217 E">
                                      <p:cBhvr>
                                        <p:cTn id="3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5.29262E-006 C 0.00642 0.00647 0.01058 0.01572 0.01753 0.02174 C 0.02135 0.02868 0.02378 0.03585 0.02812 0.04232 C 0.03385 0.05065 0.0394 0.05805 0.04461 0.06731 C 0.04739 0.07772 0.04947 0.08211 0.05173 0.09391 C 0.05138 0.11588 0.05156 0.13786 0.05052 0.15983 C 0.05034 0.164 0.04739 0.16701 0.04583 0.17071 C 0.04027 0.18389 0.03072 0.19314 0.02118 0.20055 C 0.01753 0.20749 0.00972 0.21096 0.00347 0.21304 C -0.00591 0.22183 -0.01632 0.22992 -0.02709 0.23501 C -0.03369 0.24149 -0.0415 0.24427 -0.04827 0.25074 C -0.04914 0.25236 -0.04966 0.25398 -0.0507 0.25537 C -0.05174 0.25676 -0.0533 0.25722 -0.05417 0.25861 C -0.05504 0.26023 -0.05573 0.26624 -0.05643 0.26786 C -0.05903 0.27364 -0.0599 0.27388 -0.06355 0.27735 C -0.0665 0.28868 -0.06928 0.29863 -0.07882 0.30233 C -0.08264 0.3058 -0.08473 0.30719 -0.08942 0.30719 E">
                                      <p:cBhvr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0967E-006 C 0.00486 0.01342 0.01007 0.02383 0.01632 0.03585 C 0.01805 0.03932 0.01944 0.04349 0.02118 0.04696 C 0.02378 0.05182 0.02934 0.06107 0.02934 0.06107 C 0.0309 0.07125 0.03455 0.08328 0.04115 0.08929 C 0.04236 0.09392 0.0434 0.09877 0.04462 0.1034 C 0.04496 0.10502 0.04583 0.10803 0.04583 0.10803 C 0.04635 0.12167 0.05052 0.15082 0.0434 0.16447 C 0.03993 0.17904 0.04149 0.19061 0.03281 0.20217 C 0.03177 0.20634 0.03055 0.21027 0.03055 0.21467 E">
                                      <p:cBhvr>
                                        <p:cTn id="46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03 C 0.10295 0.00462 0.07656 3.17835000000072E-006 0.11094 0.00786 C 0.11684 0.01064 0.12257 0.01364 0.12847 0.01573 C 0.13299 0.01943 0.13611 0.02058 0.14149 0.02197 C 0.14635 0.02845 0.14844 0.02822 0.15556 0.02984 C 0.16736 0.04002 0.14861 0.02313 0.16267 0.03909 C 0.1651 0.04187 0.1684 0.04256 0.17083 0.04534 C 0.18299 0.05921 0.16875 0.04418 0.17917 0.05806 C 0.18299 0.06315 0.18785 0.06754 0.19201 0.07217 C 0.19844 0.07934 0.19913 0.0872 0.20729 0.09091 C 0.21441 0.09993 0.22344 0.1071 0.23212 0.11288 C 0.23559 0.11913 0.23733 0.12144 0.24271 0.12375 C 0.2467 0.12745 0.24948 0.12861 0.25434 0.13 C 0.25799 0.13717 0.26372 0.13856 0.26858 0.14411 C 0.27726 0.15452 0.27969 0.15729 0.2908 0.16447 C 0.2934 0.16794 0.2967 0.17025 0.29913 0.17395 C 0.30191 0.17811 0.3026 0.18505 0.30608 0.18806 C 0.31146 0.19292 0.31458 0.19824 0.31788 0.20541 C 0.32188 0.22553 0.32153 0.24566 0.32153 0.26648 E">
                                      <p:cBhvr>
                                        <p:cTn id="50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52857E-007 C -0.01944 0.01689 0.01302 -0.01203 -0.0059 0.00787 C -0.0092 0.01134 -0.01858 0.01249 -0.0224 0.01411 C -0.04062 0.02244 -0.06111 0.0229 -0.08003 0.02337 C -0.11337 0.02406 -0.1467 0.02452 -0.18003 0.02499 C -0.19288 0.02684 -0.20156 0.02869 -0.21528 0.02984 C -0.22292 0.03123 -0.23021 0.03354 -0.23767 0.03609 C -0.2401 0.0428 -0.24271 0.04395 -0.24705 0.04858 C -0.24965 0.05136 -0.25538 0.05645 -0.25538 0.05645 C -0.25816 0.062 -0.2599 0.06524 -0.26476 0.06732 C -0.27014 0.07819 -0.27205 0.09531 -0.27535 0.10803 C -0.27812 0.11844 -0.28368 0.12908 -0.28698 0.13949 C -0.29028 0.1499 -0.29045 0.16147 -0.29531 0.17072 C -0.27795 0.17673 -0.26024 0.17627 -0.24236 0.1772 C -0.20781 0.19107 -0.16059 0.17905 -0.13299 0.17858 C -0.12448 0.17534 -0.13403 0.1802 -0.12708 0.17234 C -0.12656 0.17164 -0.12049 0.16956 -0.11996 0.16933 C -0.11771 0.16031 -0.11371 0.15869 -0.10937 0.15198 C -0.09722 0.13301 -0.08958 0.12862 -0.0717 0.12376 C -0.04687 0.12492 -0.02222 0.12584 0.00243 0.12839 C 0.01267 0.13186 0.02274 0.13463 0.03177 0.1425 C 0.03368 0.15013 0.03629 0.15545 0.04115 0.15985 C 0.04254 0.16702 0.04566 0.17211 0.04826 0.17858 E">
                                      <p:cBhvr>
                                        <p:cTn id="54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10317E-006 C -0.00035 0.05691 -0.00052 0.11405 -0.00121 0.17095 C -0.00139 0.18645 -0.00538 0.20264 0.00347 0.2149 C 0.02431 0.21097 0.0158 0.2119 0.02813 0.20704 C 0.03316 0.20218 0.03611 0.19547 0.04115 0.19131 C 0.04479 0.18367 0.04983 0.17581 0.05278 0.16771 C 0.0533 0.16632 0.0533 0.16447 0.05399 0.16309 C 0.05972 0.15221 0.0559 0.16447 0.0599 0.1536 C 0.06215 0.14759 0.06406 0.14204 0.06702 0.13648 C 0.07101 0.12052 0.075 0.10641 0.08229 0.09253 C 0.08351 0.08004 0.0849 0.07287 0.09045 0.06269 C 0.09479 0.05483 0.09306 0.06107 0.09757 0.05483 C 0.10295 0.04743 0.09896 0.04905 0.10573 0.04234 C 0.1125 0.03563 0.10834 0.04303 0.11406 0.03609 C 0.12552 0.02244 0.11667 0.03008 0.12465 0.0236 C 0.12778 0.02406 0.13108 0.02383 0.13403 0.02522 C 0.13733 0.02684 0.13941 0.03146 0.14219 0.03447 C 0.14757 0.04049 0.15261 0.04673 0.15764 0.05344 C 0.16077 0.0576 0.16268 0.06316 0.1658 0.06755 C 0.16754 0.07403 0.16997 0.08074 0.17292 0.08629 C 0.17691 0.10364 0.17552 0.09623 0.17292 0.13325 C 0.1724 0.14134 0.16511 0.14713 0.16233 0.1536 C 0.15486 0.17095 0.14618 0.18899 0.1375 0.20542 C 0.13472 0.21698 0.13594 0.21166 0.13403 0.22115 C 0.13281 0.2644 0.1434 0.26348 0.13056 0.26348 E">
                                      <p:cBhvr>
                                        <p:cTn id="5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3472E-006 C -0.0125 0.04765 -0.00034 -0.000459999999999988 -0.00243 0.1411 C -0.00278 0.16562 -0.01128 0.17696 -0.01649 0.19755 C -0.0151 0.20703 -0.01284 0.21721 -0.00937 0.22577 C -0.00798 0.22901 -0.00469 0.23502 -0.00469 0.23502 C -0.00208 0.24543 0.00382 0.25977 0.01181 0.26324 C 0.01493 0.26764 0.01754 0.27388 0.02118 0.27735 C 0.03004 0.28591 0.0415 0.28707 0.05174 0.29146 C 0.0599 0.29979 0.06754 0.30095 0.07761 0.30257 C 0.0849 0.30557 0.09011 0.30812 0.09653 0.31344 C 0.09775 0.31552 0.09827 0.31876 0.1 0.31968 C 0.104 0.322 0.10851 0.32177 0.11285 0.32292 C 0.12413 0.32593 0.1342 0.33079 0.14584 0.33218 C 0.15295 0.33819 0.1599 0.34374 0.16823 0.34629 C 0.17275 0.35623 0.16788 0.3486 0.18108 0.35276 C 0.18247 0.35323 0.18351 0.35485 0.18472 0.35577 C 0.19393 0.36178 0.20191 0.37081 0.21181 0.37451 C 0.21406 0.37659 0.2165 0.37867 0.21875 0.38075 C 0.21997 0.38191 0.2224 0.38399 0.2224 0.38399 C 0.22448 0.39348 0.22674 0.40042 0.23299 0.40597 C 0.23507 0.41152 0.2375 0.41638 0.23993 0.4217 C 0.24028 0.43373 0.23924 0.46611 0.24584 0.47953 C 0.24618 0.49688 0.24653 0.51399 0.24705 0.53134 C 0.24809 0.5635 0.24115 0.56373 0.25295 0.55956 C 0.24705 0.55378 0.24375 0.5517 0.23646 0.55008 C 0.22847 0.54314 0.23802 0.55077 0.2224 0.54383 C 0.21875 0.54222 0.21545 0.53921 0.21181 0.53759 C 0.20677 0.53528 0.20052 0.53481 0.19531 0.53296 C 0.18768 0.5251 0.18195 0.52579 0.1717 0.52348 C 0.15747 0.51677 0.14983 0.51492 0.13299 0.51261 C 0.12431 0.5096 0.11563 0.50867 0.10712 0.50474 C 0.07639 0.5059 0.06354 0.50405 0.03889 0.51399 C 0.03299 0.51931 0.03021 0.52417 0.02466 0.52972 C 0.02188 0.53574 0.01945 0.53481 0.0165 0.54083 C 0.01493 0.54383 0.01181 0.55008 0.01181 0.55008 C 0.01025 0.5598 0.0099 0.56859 0.00591 0.57691 C 0.00556 0.582 0.00469 0.59241 0.00469 0.59241 E">
                                      <p:cBhvr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2672E-006 C -0.00174 0.0303 0.00069 0.0148 -0.00712 0.02961 C -0.00885 0.0377 -0.00694 0.034 -0.01528 0.03747 C -0.02691 0.04233 -0.03958 0.03863 -0.05174 0.03909 C -0.06024 0.04302 -0.05174 0.03955 -0.06944 0.04233 C -0.07899 0.04395 -0.08802 0.04858 -0.09757 0.04996 C -0.10903 0.0539 -0.10382 0.05228 -0.11302 0.05482 C -0.1191 0.05875 -0.12552 0.05991 -0.13177 0.06269 C -0.13958 0.06616 -0.14722 0.07055 -0.15521 0.07356 C -0.16111 0.07587 -0.16701 0.0761 -0.17292 0.07818 C -0.17708 0.0798 -0.18073 0.08281 -0.18472 0.08466 C -0.19253 0.09299 -0.20365 0.09669 -0.21302 0.10178 C -0.21476 0.1027 -0.21597 0.10525 -0.21771 0.10641 C -0.22153 0.10895 -0.22934 0.11288 -0.22934 0.11288 C -0.2349 0.12352 -0.24549 0.12214 -0.25295 0.13 C -0.25799 0.13532 -0.26076 0.14064 -0.26701 0.14249 C -0.27396 0.14735 -0.27951 0.15082 -0.28698 0.15359 C -0.28941 0.15452 -0.2941 0.1566 -0.2941 0.1566 C -0.30226 0.16424 -0.31302 0.16701 -0.3224 0.17071 C -0.32622 0.17603 -0.32847 0.17696 -0.33299 0.1802 C -0.33663 0.18297 -0.3401 0.18644 -0.34358 0.18968 C -0.34462 0.19061 -0.34601 0.19037 -0.34705 0.19107 C -0.35156 0.19361 -0.35573 0.19755 -0.36007 0.20055 C -0.36302 0.2068 -0.37187 0.21836 -0.37639 0.22253 C -0.37934 0.22831 -0.38247 0.22785 -0.38594 0.2334 C -0.38715 0.23525 -0.38924 0.24127 -0.39062 0.24288 C -0.39271 0.24543 -0.39757 0.24913 -0.39757 0.24913 C -0.40399 0.26139 -0.39566 0.24659 -0.40347 0.257 C -0.40799 0.26301 -0.41024 0.27157 -0.41302 0.27897 E">
                                      <p:cBhvr>
                                        <p:cTn id="6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06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93" name="Oval 19"/>
          <p:cNvSpPr/>
          <p:nvPr/>
        </p:nvSpPr>
        <p:spPr>
          <a:xfrm>
            <a:off x="1600200" y="2514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1371600" y="2514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762120" y="1752480"/>
            <a:ext cx="1218960" cy="1219320"/>
            <a:chOff x="762120" y="1752480"/>
            <a:chExt cx="1218960" cy="1219320"/>
          </a:xfrm>
        </p:grpSpPr>
        <p:sp>
          <p:nvSpPr>
            <p:cNvPr id="96" name="Oval 17"/>
            <p:cNvSpPr/>
            <p:nvPr/>
          </p:nvSpPr>
          <p:spPr>
            <a:xfrm>
              <a:off x="1752480" y="213336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6"/>
            <p:cNvSpPr/>
            <p:nvPr/>
          </p:nvSpPr>
          <p:spPr>
            <a:xfrm>
              <a:off x="1752480" y="236196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1600200" y="259056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1447920" y="27432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1219320" y="27432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5"/>
            <p:cNvSpPr/>
            <p:nvPr/>
          </p:nvSpPr>
          <p:spPr>
            <a:xfrm>
              <a:off x="838080" y="25146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990720" y="26668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762120" y="2286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762120" y="2057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914400" y="1828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1143000" y="1752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1371600" y="1752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600200" y="190476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4"/>
            <p:cNvSpPr/>
            <p:nvPr/>
          </p:nvSpPr>
          <p:spPr>
            <a:xfrm>
              <a:off x="914400" y="1904760"/>
              <a:ext cx="914400" cy="914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2438280" y="1828800"/>
            <a:ext cx="1218960" cy="1219320"/>
            <a:chOff x="2438280" y="1828800"/>
            <a:chExt cx="1218960" cy="1219320"/>
          </a:xfrm>
        </p:grpSpPr>
        <p:sp>
          <p:nvSpPr>
            <p:cNvPr id="111" name="Oval 22"/>
            <p:cNvSpPr/>
            <p:nvPr/>
          </p:nvSpPr>
          <p:spPr>
            <a:xfrm>
              <a:off x="3428640" y="22096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3428640" y="2438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3276360" y="2666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3124080" y="28195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>
              <a:off x="2895480" y="28195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>
              <a:off x="2514240" y="2590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2666880" y="2743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>
              <a:off x="2438280" y="23623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2438280" y="21337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>
              <a:off x="2590560" y="190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>
              <a:off x="2819160" y="1828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>
              <a:off x="3047760" y="1828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>
              <a:off x="3276360" y="19810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2590560" y="1981080"/>
              <a:ext cx="914400" cy="914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6"/>
          <p:cNvGrpSpPr/>
          <p:nvPr/>
        </p:nvGrpSpPr>
        <p:grpSpPr>
          <a:xfrm>
            <a:off x="3962520" y="2362320"/>
            <a:ext cx="1218960" cy="1218600"/>
            <a:chOff x="3962520" y="2362320"/>
            <a:chExt cx="1218960" cy="1218600"/>
          </a:xfrm>
        </p:grpSpPr>
        <p:sp>
          <p:nvSpPr>
            <p:cNvPr id="126" name="Oval 37"/>
            <p:cNvSpPr/>
            <p:nvPr/>
          </p:nvSpPr>
          <p:spPr>
            <a:xfrm>
              <a:off x="4952880" y="274284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>
              <a:off x="4952880" y="297144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>
              <a:off x="4800600" y="320004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>
              <a:off x="4648320" y="33526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1"/>
            <p:cNvSpPr/>
            <p:nvPr/>
          </p:nvSpPr>
          <p:spPr>
            <a:xfrm>
              <a:off x="4419720" y="33526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>
              <a:off x="4038480" y="31240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>
              <a:off x="4191120" y="327636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>
              <a:off x="3962520" y="28954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>
              <a:off x="3962520" y="26668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>
              <a:off x="4114800" y="243828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7"/>
            <p:cNvSpPr/>
            <p:nvPr/>
          </p:nvSpPr>
          <p:spPr>
            <a:xfrm>
              <a:off x="4343400" y="236232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8"/>
            <p:cNvSpPr/>
            <p:nvPr/>
          </p:nvSpPr>
          <p:spPr>
            <a:xfrm>
              <a:off x="4572000" y="236232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9"/>
            <p:cNvSpPr/>
            <p:nvPr/>
          </p:nvSpPr>
          <p:spPr>
            <a:xfrm>
              <a:off x="4800600" y="2514240"/>
              <a:ext cx="228600" cy="228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>
              <a:off x="4114800" y="2514240"/>
              <a:ext cx="914400" cy="914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Oval 52"/>
          <p:cNvSpPr/>
          <p:nvPr/>
        </p:nvSpPr>
        <p:spPr>
          <a:xfrm>
            <a:off x="6553080" y="220968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3"/>
          <p:cNvSpPr/>
          <p:nvPr/>
        </p:nvSpPr>
        <p:spPr>
          <a:xfrm>
            <a:off x="6553080" y="243828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4"/>
          <p:cNvSpPr/>
          <p:nvPr/>
        </p:nvSpPr>
        <p:spPr>
          <a:xfrm>
            <a:off x="6400800" y="266688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5"/>
          <p:cNvSpPr/>
          <p:nvPr/>
        </p:nvSpPr>
        <p:spPr>
          <a:xfrm>
            <a:off x="6248520" y="28195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6"/>
          <p:cNvSpPr/>
          <p:nvPr/>
        </p:nvSpPr>
        <p:spPr>
          <a:xfrm>
            <a:off x="6019920" y="28195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5638680" y="25909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5791320" y="274320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9"/>
          <p:cNvSpPr/>
          <p:nvPr/>
        </p:nvSpPr>
        <p:spPr>
          <a:xfrm>
            <a:off x="5562720" y="23623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0"/>
          <p:cNvSpPr/>
          <p:nvPr/>
        </p:nvSpPr>
        <p:spPr>
          <a:xfrm>
            <a:off x="5562720" y="21337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1"/>
          <p:cNvSpPr/>
          <p:nvPr/>
        </p:nvSpPr>
        <p:spPr>
          <a:xfrm>
            <a:off x="5715000" y="190512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2"/>
          <p:cNvSpPr/>
          <p:nvPr/>
        </p:nvSpPr>
        <p:spPr>
          <a:xfrm>
            <a:off x="5943600" y="182880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3"/>
          <p:cNvSpPr/>
          <p:nvPr/>
        </p:nvSpPr>
        <p:spPr>
          <a:xfrm>
            <a:off x="6172200" y="182880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"/>
          <p:cNvSpPr/>
          <p:nvPr/>
        </p:nvSpPr>
        <p:spPr>
          <a:xfrm>
            <a:off x="6400800" y="1981080"/>
            <a:ext cx="228600" cy="2286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5"/>
          <p:cNvSpPr/>
          <p:nvPr/>
        </p:nvSpPr>
        <p:spPr>
          <a:xfrm>
            <a:off x="5715000" y="198108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7"/>
          <p:cNvSpPr/>
          <p:nvPr/>
        </p:nvSpPr>
        <p:spPr>
          <a:xfrm>
            <a:off x="8305920" y="2133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8"/>
          <p:cNvSpPr/>
          <p:nvPr/>
        </p:nvSpPr>
        <p:spPr>
          <a:xfrm>
            <a:off x="8305920" y="2362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9"/>
          <p:cNvSpPr/>
          <p:nvPr/>
        </p:nvSpPr>
        <p:spPr>
          <a:xfrm>
            <a:off x="8153280" y="2590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0"/>
          <p:cNvSpPr/>
          <p:nvPr/>
        </p:nvSpPr>
        <p:spPr>
          <a:xfrm>
            <a:off x="8001000" y="2743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1"/>
          <p:cNvSpPr/>
          <p:nvPr/>
        </p:nvSpPr>
        <p:spPr>
          <a:xfrm>
            <a:off x="7772400" y="2743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2"/>
          <p:cNvSpPr/>
          <p:nvPr/>
        </p:nvSpPr>
        <p:spPr>
          <a:xfrm>
            <a:off x="7391520" y="2514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3"/>
          <p:cNvSpPr/>
          <p:nvPr/>
        </p:nvSpPr>
        <p:spPr>
          <a:xfrm>
            <a:off x="754380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4"/>
          <p:cNvSpPr/>
          <p:nvPr/>
        </p:nvSpPr>
        <p:spPr>
          <a:xfrm>
            <a:off x="7315200" y="2286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5"/>
          <p:cNvSpPr/>
          <p:nvPr/>
        </p:nvSpPr>
        <p:spPr>
          <a:xfrm>
            <a:off x="7315200" y="2057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6"/>
          <p:cNvSpPr/>
          <p:nvPr/>
        </p:nvSpPr>
        <p:spPr>
          <a:xfrm>
            <a:off x="7467480" y="1828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7"/>
          <p:cNvSpPr/>
          <p:nvPr/>
        </p:nvSpPr>
        <p:spPr>
          <a:xfrm>
            <a:off x="7696080" y="1752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8"/>
          <p:cNvSpPr/>
          <p:nvPr/>
        </p:nvSpPr>
        <p:spPr>
          <a:xfrm>
            <a:off x="7924680" y="1752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9"/>
          <p:cNvSpPr/>
          <p:nvPr/>
        </p:nvSpPr>
        <p:spPr>
          <a:xfrm>
            <a:off x="8153280" y="1905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0"/>
          <p:cNvSpPr/>
          <p:nvPr/>
        </p:nvSpPr>
        <p:spPr>
          <a:xfrm>
            <a:off x="7467480" y="190512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5"/>
          <p:cNvSpPr/>
          <p:nvPr/>
        </p:nvSpPr>
        <p:spPr>
          <a:xfrm rot="2550000">
            <a:off x="1523520" y="4038480"/>
            <a:ext cx="30492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4"/>
          <p:cNvGrpSpPr/>
          <p:nvPr/>
        </p:nvGrpSpPr>
        <p:grpSpPr>
          <a:xfrm>
            <a:off x="7081920" y="2878560"/>
            <a:ext cx="1766520" cy="2736720"/>
            <a:chOff x="7081920" y="2878560"/>
            <a:chExt cx="1766520" cy="2736720"/>
          </a:xfrm>
        </p:grpSpPr>
        <p:sp>
          <p:nvSpPr>
            <p:cNvPr id="170" name="Line 81"/>
            <p:cNvSpPr/>
            <p:nvPr/>
          </p:nvSpPr>
          <p:spPr>
            <a:xfrm>
              <a:off x="7924680" y="297180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2"/>
            <p:cNvSpPr/>
            <p:nvPr/>
          </p:nvSpPr>
          <p:spPr>
            <a:xfrm rot="2118000">
              <a:off x="8000640" y="2895480"/>
              <a:ext cx="228600" cy="533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3"/>
            <p:cNvSpPr/>
            <p:nvPr/>
          </p:nvSpPr>
          <p:spPr>
            <a:xfrm rot="2118000">
              <a:off x="8043480" y="3213000"/>
              <a:ext cx="228600" cy="68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4"/>
            <p:cNvSpPr/>
            <p:nvPr/>
          </p:nvSpPr>
          <p:spPr>
            <a:xfrm rot="2118000">
              <a:off x="8076600" y="3581280"/>
              <a:ext cx="3049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6"/>
            <p:cNvSpPr/>
            <p:nvPr/>
          </p:nvSpPr>
          <p:spPr>
            <a:xfrm rot="2922000">
              <a:off x="8136000" y="4597200"/>
              <a:ext cx="381240" cy="1054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7"/>
            <p:cNvSpPr/>
            <p:nvPr/>
          </p:nvSpPr>
          <p:spPr>
            <a:xfrm rot="2118000">
              <a:off x="7390800" y="3047760"/>
              <a:ext cx="53352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8"/>
            <p:cNvSpPr/>
            <p:nvPr/>
          </p:nvSpPr>
          <p:spPr>
            <a:xfrm rot="2118000">
              <a:off x="7238520" y="3429000"/>
              <a:ext cx="685800" cy="241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9"/>
            <p:cNvSpPr/>
            <p:nvPr/>
          </p:nvSpPr>
          <p:spPr>
            <a:xfrm rot="2118000">
              <a:off x="7086240" y="3886200"/>
              <a:ext cx="936360" cy="31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0"/>
            <p:cNvSpPr/>
            <p:nvPr/>
          </p:nvSpPr>
          <p:spPr>
            <a:xfrm rot="2118000">
              <a:off x="7086600" y="4419360"/>
              <a:ext cx="914400" cy="304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1"/>
            <p:cNvSpPr/>
            <p:nvPr/>
          </p:nvSpPr>
          <p:spPr>
            <a:xfrm rot="2118000">
              <a:off x="7086240" y="5028840"/>
              <a:ext cx="914400" cy="304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93"/>
          <p:cNvSpPr/>
          <p:nvPr/>
        </p:nvSpPr>
        <p:spPr>
          <a:xfrm>
            <a:off x="1143000" y="220968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6"/>
          <p:cNvSpPr/>
          <p:nvPr/>
        </p:nvSpPr>
        <p:spPr>
          <a:xfrm>
            <a:off x="3124080" y="30481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7"/>
          <p:cNvSpPr/>
          <p:nvPr/>
        </p:nvSpPr>
        <p:spPr>
          <a:xfrm rot="2118000">
            <a:off x="3200040" y="2971800"/>
            <a:ext cx="22860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8"/>
          <p:cNvSpPr/>
          <p:nvPr/>
        </p:nvSpPr>
        <p:spPr>
          <a:xfrm rot="2118000">
            <a:off x="3242880" y="3289320"/>
            <a:ext cx="2286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9"/>
          <p:cNvSpPr/>
          <p:nvPr/>
        </p:nvSpPr>
        <p:spPr>
          <a:xfrm rot="2118000">
            <a:off x="3276360" y="3657240"/>
            <a:ext cx="30456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1"/>
          <p:cNvSpPr/>
          <p:nvPr/>
        </p:nvSpPr>
        <p:spPr>
          <a:xfrm rot="2118000">
            <a:off x="2590560" y="3124080"/>
            <a:ext cx="533160" cy="228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2"/>
          <p:cNvSpPr/>
          <p:nvPr/>
        </p:nvSpPr>
        <p:spPr>
          <a:xfrm rot="2118000">
            <a:off x="2437920" y="3505320"/>
            <a:ext cx="685800" cy="241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3"/>
          <p:cNvSpPr/>
          <p:nvPr/>
        </p:nvSpPr>
        <p:spPr>
          <a:xfrm rot="2118000">
            <a:off x="2285640" y="3962520"/>
            <a:ext cx="936720" cy="31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4"/>
          <p:cNvSpPr/>
          <p:nvPr/>
        </p:nvSpPr>
        <p:spPr>
          <a:xfrm rot="2118000">
            <a:off x="2285640" y="449532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6"/>
          <p:cNvGrpSpPr/>
          <p:nvPr/>
        </p:nvGrpSpPr>
        <p:grpSpPr>
          <a:xfrm>
            <a:off x="452520" y="2878560"/>
            <a:ext cx="1766520" cy="2736720"/>
            <a:chOff x="452520" y="2878560"/>
            <a:chExt cx="1766520" cy="2736720"/>
          </a:xfrm>
        </p:grpSpPr>
        <p:sp>
          <p:nvSpPr>
            <p:cNvPr id="190" name="Line 107"/>
            <p:cNvSpPr/>
            <p:nvPr/>
          </p:nvSpPr>
          <p:spPr>
            <a:xfrm>
              <a:off x="1295280" y="297180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08"/>
            <p:cNvSpPr/>
            <p:nvPr/>
          </p:nvSpPr>
          <p:spPr>
            <a:xfrm rot="2118000">
              <a:off x="1371240" y="2895480"/>
              <a:ext cx="228600" cy="533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9"/>
            <p:cNvSpPr/>
            <p:nvPr/>
          </p:nvSpPr>
          <p:spPr>
            <a:xfrm rot="2118000">
              <a:off x="1414080" y="3213000"/>
              <a:ext cx="228600" cy="68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0"/>
            <p:cNvSpPr/>
            <p:nvPr/>
          </p:nvSpPr>
          <p:spPr>
            <a:xfrm rot="2118000">
              <a:off x="1447200" y="3581280"/>
              <a:ext cx="3049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1"/>
            <p:cNvSpPr/>
            <p:nvPr/>
          </p:nvSpPr>
          <p:spPr>
            <a:xfrm rot="2922000">
              <a:off x="1506600" y="4597200"/>
              <a:ext cx="381240" cy="1054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2"/>
            <p:cNvSpPr/>
            <p:nvPr/>
          </p:nvSpPr>
          <p:spPr>
            <a:xfrm rot="2118000">
              <a:off x="761400" y="3047760"/>
              <a:ext cx="53352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3"/>
            <p:cNvSpPr/>
            <p:nvPr/>
          </p:nvSpPr>
          <p:spPr>
            <a:xfrm rot="2118000">
              <a:off x="609120" y="3429000"/>
              <a:ext cx="685800" cy="241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4"/>
            <p:cNvSpPr/>
            <p:nvPr/>
          </p:nvSpPr>
          <p:spPr>
            <a:xfrm rot="2118000">
              <a:off x="456840" y="3886200"/>
              <a:ext cx="936360" cy="31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5"/>
            <p:cNvSpPr/>
            <p:nvPr/>
          </p:nvSpPr>
          <p:spPr>
            <a:xfrm rot="2118000">
              <a:off x="457200" y="4419360"/>
              <a:ext cx="914400" cy="304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6"/>
            <p:cNvSpPr/>
            <p:nvPr/>
          </p:nvSpPr>
          <p:spPr>
            <a:xfrm rot="2118000">
              <a:off x="456840" y="5028840"/>
              <a:ext cx="914400" cy="304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Oval 117"/>
          <p:cNvSpPr/>
          <p:nvPr/>
        </p:nvSpPr>
        <p:spPr>
          <a:xfrm rot="2550000">
            <a:off x="3352320" y="4114440"/>
            <a:ext cx="30492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9"/>
          <p:cNvSpPr/>
          <p:nvPr/>
        </p:nvSpPr>
        <p:spPr>
          <a:xfrm>
            <a:off x="4648320" y="3505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1"/>
          <p:cNvSpPr/>
          <p:nvPr/>
        </p:nvSpPr>
        <p:spPr>
          <a:xfrm rot="2118000">
            <a:off x="4760640" y="3540240"/>
            <a:ext cx="304560" cy="838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2"/>
          <p:cNvSpPr/>
          <p:nvPr/>
        </p:nvSpPr>
        <p:spPr>
          <a:xfrm rot="2118000">
            <a:off x="4800240" y="4114800"/>
            <a:ext cx="3049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3"/>
          <p:cNvSpPr/>
          <p:nvPr/>
        </p:nvSpPr>
        <p:spPr>
          <a:xfrm rot="2922000">
            <a:off x="4859280" y="4749480"/>
            <a:ext cx="380880" cy="1054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6"/>
          <p:cNvSpPr/>
          <p:nvPr/>
        </p:nvSpPr>
        <p:spPr>
          <a:xfrm rot="2118000">
            <a:off x="3809520" y="4038480"/>
            <a:ext cx="936720" cy="31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 rot="2118000">
            <a:off x="3809520" y="457164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28"/>
          <p:cNvSpPr/>
          <p:nvPr/>
        </p:nvSpPr>
        <p:spPr>
          <a:xfrm rot="2118000">
            <a:off x="3809520" y="518112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0"/>
          <p:cNvSpPr/>
          <p:nvPr/>
        </p:nvSpPr>
        <p:spPr>
          <a:xfrm>
            <a:off x="6248520" y="30481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1"/>
          <p:cNvSpPr/>
          <p:nvPr/>
        </p:nvSpPr>
        <p:spPr>
          <a:xfrm rot="2118000">
            <a:off x="6324120" y="3200400"/>
            <a:ext cx="22860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2"/>
          <p:cNvSpPr/>
          <p:nvPr/>
        </p:nvSpPr>
        <p:spPr>
          <a:xfrm rot="2118000">
            <a:off x="6324120" y="3657600"/>
            <a:ext cx="2286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3"/>
          <p:cNvSpPr/>
          <p:nvPr/>
        </p:nvSpPr>
        <p:spPr>
          <a:xfrm rot="2118000">
            <a:off x="6400440" y="4038480"/>
            <a:ext cx="3049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4"/>
          <p:cNvSpPr/>
          <p:nvPr/>
        </p:nvSpPr>
        <p:spPr>
          <a:xfrm rot="2922000">
            <a:off x="6459480" y="4673160"/>
            <a:ext cx="380880" cy="1054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35"/>
          <p:cNvSpPr/>
          <p:nvPr/>
        </p:nvSpPr>
        <p:spPr>
          <a:xfrm rot="2118000">
            <a:off x="5714640" y="3504960"/>
            <a:ext cx="533520" cy="228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7"/>
          <p:cNvSpPr/>
          <p:nvPr/>
        </p:nvSpPr>
        <p:spPr>
          <a:xfrm rot="2118000">
            <a:off x="5409720" y="3962520"/>
            <a:ext cx="936720" cy="31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8"/>
          <p:cNvSpPr/>
          <p:nvPr/>
        </p:nvSpPr>
        <p:spPr>
          <a:xfrm rot="2118000">
            <a:off x="5409720" y="449532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9"/>
          <p:cNvSpPr/>
          <p:nvPr/>
        </p:nvSpPr>
        <p:spPr>
          <a:xfrm rot="2118000">
            <a:off x="5410080" y="5105160"/>
            <a:ext cx="91440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0"/>
          <p:cNvSpPr/>
          <p:nvPr/>
        </p:nvSpPr>
        <p:spPr>
          <a:xfrm rot="2550000">
            <a:off x="8152920" y="3962160"/>
            <a:ext cx="30492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1"/>
          <p:cNvSpPr/>
          <p:nvPr/>
        </p:nvSpPr>
        <p:spPr>
          <a:xfrm>
            <a:off x="434520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2"/>
          <p:cNvSpPr/>
          <p:nvPr/>
        </p:nvSpPr>
        <p:spPr>
          <a:xfrm>
            <a:off x="28976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5"/>
          <p:cNvSpPr/>
          <p:nvPr/>
        </p:nvSpPr>
        <p:spPr>
          <a:xfrm>
            <a:off x="768240" y="50292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6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7"/>
          <p:cNvSpPr/>
          <p:nvPr/>
        </p:nvSpPr>
        <p:spPr>
          <a:xfrm>
            <a:off x="7639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8"/>
          <p:cNvSpPr/>
          <p:nvPr/>
        </p:nvSpPr>
        <p:spPr>
          <a:xfrm>
            <a:off x="762120" y="38862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9"/>
          <p:cNvSpPr/>
          <p:nvPr/>
        </p:nvSpPr>
        <p:spPr>
          <a:xfrm>
            <a:off x="13734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0"/>
          <p:cNvSpPr/>
          <p:nvPr/>
        </p:nvSpPr>
        <p:spPr>
          <a:xfrm>
            <a:off x="9162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2"/>
          <p:cNvSpPr/>
          <p:nvPr/>
        </p:nvSpPr>
        <p:spPr>
          <a:xfrm>
            <a:off x="2590920" y="4495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3"/>
          <p:cNvSpPr/>
          <p:nvPr/>
        </p:nvSpPr>
        <p:spPr>
          <a:xfrm>
            <a:off x="4038480" y="510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4"/>
          <p:cNvSpPr/>
          <p:nvPr/>
        </p:nvSpPr>
        <p:spPr>
          <a:xfrm>
            <a:off x="4038480" y="510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5"/>
          <p:cNvSpPr/>
          <p:nvPr/>
        </p:nvSpPr>
        <p:spPr>
          <a:xfrm>
            <a:off x="244044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6"/>
          <p:cNvSpPr/>
          <p:nvPr/>
        </p:nvSpPr>
        <p:spPr>
          <a:xfrm>
            <a:off x="4114800" y="3962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7"/>
          <p:cNvSpPr/>
          <p:nvPr/>
        </p:nvSpPr>
        <p:spPr>
          <a:xfrm>
            <a:off x="3130560" y="3429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8"/>
          <p:cNvSpPr/>
          <p:nvPr/>
        </p:nvSpPr>
        <p:spPr>
          <a:xfrm>
            <a:off x="5791320" y="3429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9"/>
          <p:cNvSpPr/>
          <p:nvPr/>
        </p:nvSpPr>
        <p:spPr>
          <a:xfrm>
            <a:off x="6400800" y="50292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2"/>
          <p:cNvSpPr/>
          <p:nvPr/>
        </p:nvSpPr>
        <p:spPr>
          <a:xfrm>
            <a:off x="75456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3"/>
          <p:cNvSpPr/>
          <p:nvPr/>
        </p:nvSpPr>
        <p:spPr>
          <a:xfrm>
            <a:off x="81554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4"/>
          <p:cNvSpPr/>
          <p:nvPr/>
        </p:nvSpPr>
        <p:spPr>
          <a:xfrm>
            <a:off x="8402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5"/>
          <p:cNvSpPr/>
          <p:nvPr/>
        </p:nvSpPr>
        <p:spPr>
          <a:xfrm>
            <a:off x="13734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6"/>
          <p:cNvSpPr/>
          <p:nvPr/>
        </p:nvSpPr>
        <p:spPr>
          <a:xfrm>
            <a:off x="144972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8"/>
          <p:cNvSpPr/>
          <p:nvPr/>
        </p:nvSpPr>
        <p:spPr>
          <a:xfrm>
            <a:off x="1586160" y="430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7"/>
          <p:cNvSpPr/>
          <p:nvPr/>
        </p:nvSpPr>
        <p:spPr>
          <a:xfrm>
            <a:off x="792684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8"/>
          <p:cNvSpPr/>
          <p:nvPr/>
        </p:nvSpPr>
        <p:spPr>
          <a:xfrm>
            <a:off x="74696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9"/>
          <p:cNvSpPr/>
          <p:nvPr/>
        </p:nvSpPr>
        <p:spPr>
          <a:xfrm>
            <a:off x="7393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0"/>
          <p:cNvSpPr/>
          <p:nvPr/>
        </p:nvSpPr>
        <p:spPr>
          <a:xfrm>
            <a:off x="745380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1"/>
          <p:cNvSpPr/>
          <p:nvPr/>
        </p:nvSpPr>
        <p:spPr>
          <a:xfrm>
            <a:off x="73933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2"/>
          <p:cNvSpPr/>
          <p:nvPr/>
        </p:nvSpPr>
        <p:spPr>
          <a:xfrm>
            <a:off x="806328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03"/>
          <p:cNvSpPr/>
          <p:nvPr/>
        </p:nvSpPr>
        <p:spPr>
          <a:xfrm>
            <a:off x="813960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5"/>
          <p:cNvSpPr/>
          <p:nvPr/>
        </p:nvSpPr>
        <p:spPr>
          <a:xfrm>
            <a:off x="1662120" y="417600"/>
            <a:ext cx="66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ветках спрятались суммы. Какие слагаемые потеря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6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PH02805J"/>
          <p:cNvPicPr/>
          <p:nvPr/>
        </p:nvPicPr>
        <p:blipFill>
          <a:blip r:embed="rId2"/>
          <a:stretch/>
        </p:blipFill>
        <p:spPr>
          <a:xfrm>
            <a:off x="2286000" y="228600"/>
            <a:ext cx="2514600" cy="194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PH02805J"/>
          <p:cNvPicPr/>
          <p:nvPr/>
        </p:nvPicPr>
        <p:blipFill>
          <a:blip r:embed="rId3"/>
          <a:stretch/>
        </p:blipFill>
        <p:spPr>
          <a:xfrm>
            <a:off x="0" y="152280"/>
            <a:ext cx="2590920" cy="2005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PH02805J"/>
          <p:cNvPicPr/>
          <p:nvPr/>
        </p:nvPicPr>
        <p:blipFill>
          <a:blip r:embed="rId4"/>
          <a:srcRect l="38465" t="62945" r="48723" b="0"/>
          <a:stretch/>
        </p:blipFill>
        <p:spPr>
          <a:xfrm rot="1077600">
            <a:off x="2895480" y="1447920"/>
            <a:ext cx="381240" cy="852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7"/>
          <p:cNvSpPr/>
          <p:nvPr/>
        </p:nvSpPr>
        <p:spPr>
          <a:xfrm>
            <a:off x="748440" y="1944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048120" y="190512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057400" y="20574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4701240" y="838080"/>
            <a:ext cx="1855800" cy="1389240"/>
            <a:chOff x="4701240" y="838080"/>
            <a:chExt cx="1855800" cy="1389240"/>
          </a:xfrm>
        </p:grpSpPr>
        <p:pic>
          <p:nvPicPr>
            <p:cNvPr id="256" name="Picture 11" descr="MC900334880[1]"/>
            <p:cNvPicPr/>
            <p:nvPr/>
          </p:nvPicPr>
          <p:blipFill>
            <a:blip r:embed="rId5"/>
            <a:stretch/>
          </p:blipFill>
          <p:spPr>
            <a:xfrm>
              <a:off x="5482800" y="838080"/>
              <a:ext cx="80100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6" descr="MC900334880[1]"/>
            <p:cNvPicPr/>
            <p:nvPr/>
          </p:nvPicPr>
          <p:blipFill>
            <a:blip r:embed="rId6"/>
            <a:stretch/>
          </p:blipFill>
          <p:spPr>
            <a:xfrm>
              <a:off x="5579280" y="96732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7" descr="MC900334880[1]"/>
            <p:cNvPicPr/>
            <p:nvPr/>
          </p:nvPicPr>
          <p:blipFill>
            <a:blip r:embed="rId7"/>
            <a:stretch/>
          </p:blipFill>
          <p:spPr>
            <a:xfrm rot="579000">
              <a:off x="5675400" y="109656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" descr="MC900334880[1]"/>
            <p:cNvPicPr/>
            <p:nvPr/>
          </p:nvPicPr>
          <p:blipFill>
            <a:blip r:embed="rId8"/>
            <a:stretch/>
          </p:blipFill>
          <p:spPr>
            <a:xfrm rot="18509400">
              <a:off x="4796640" y="1187640"/>
              <a:ext cx="1074960" cy="76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Picture 22" descr="MC900334880[1]"/>
          <p:cNvPicPr/>
          <p:nvPr/>
        </p:nvPicPr>
        <p:blipFill>
          <a:blip r:embed="rId9"/>
          <a:stretch/>
        </p:blipFill>
        <p:spPr>
          <a:xfrm rot="1068000">
            <a:off x="3276360" y="4952880"/>
            <a:ext cx="1001520" cy="901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4" descr="MC900334880[1]"/>
          <p:cNvPicPr/>
          <p:nvPr/>
        </p:nvPicPr>
        <p:blipFill>
          <a:blip r:embed="rId10"/>
          <a:stretch/>
        </p:blipFill>
        <p:spPr>
          <a:xfrm rot="1581600">
            <a:off x="3276360" y="4724280"/>
            <a:ext cx="772920" cy="695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MC900334880[1]"/>
          <p:cNvPicPr/>
          <p:nvPr/>
        </p:nvPicPr>
        <p:blipFill>
          <a:blip r:embed="rId11"/>
          <a:stretch/>
        </p:blipFill>
        <p:spPr>
          <a:xfrm rot="19163400">
            <a:off x="196560" y="4537080"/>
            <a:ext cx="947520" cy="954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6"/>
          <p:cNvSpPr/>
          <p:nvPr/>
        </p:nvSpPr>
        <p:spPr>
          <a:xfrm>
            <a:off x="990720" y="594360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3354840" y="5943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2516760" y="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 число перьев на рисунках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9"/>
          <p:cNvGrpSpPr/>
          <p:nvPr/>
        </p:nvGrpSpPr>
        <p:grpSpPr>
          <a:xfrm>
            <a:off x="5622480" y="4495680"/>
            <a:ext cx="1443600" cy="1000080"/>
            <a:chOff x="5622480" y="4495680"/>
            <a:chExt cx="1443600" cy="1000080"/>
          </a:xfrm>
        </p:grpSpPr>
        <p:pic>
          <p:nvPicPr>
            <p:cNvPr id="267" name="Picture 30" descr="MC900334880[1]"/>
            <p:cNvPicPr/>
            <p:nvPr/>
          </p:nvPicPr>
          <p:blipFill>
            <a:blip r:embed="rId12"/>
            <a:stretch/>
          </p:blipFill>
          <p:spPr>
            <a:xfrm>
              <a:off x="6215040" y="4495680"/>
              <a:ext cx="6408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31" descr="MC900334880[1]"/>
            <p:cNvPicPr/>
            <p:nvPr/>
          </p:nvPicPr>
          <p:blipFill>
            <a:blip r:embed="rId13"/>
            <a:stretch/>
          </p:blipFill>
          <p:spPr>
            <a:xfrm>
              <a:off x="6292440" y="4586760"/>
              <a:ext cx="64080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2" descr="MC900334880[1]"/>
            <p:cNvPicPr/>
            <p:nvPr/>
          </p:nvPicPr>
          <p:blipFill>
            <a:blip r:embed="rId14"/>
            <a:stretch/>
          </p:blipFill>
          <p:spPr>
            <a:xfrm rot="579000">
              <a:off x="6369120" y="4677480"/>
              <a:ext cx="64080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3" descr="MC900334880[1]"/>
            <p:cNvPicPr/>
            <p:nvPr/>
          </p:nvPicPr>
          <p:blipFill>
            <a:blip r:embed="rId15"/>
            <a:stretch/>
          </p:blipFill>
          <p:spPr>
            <a:xfrm rot="18509400">
              <a:off x="5718240" y="4704840"/>
              <a:ext cx="756000" cy="61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Rectangle 34"/>
          <p:cNvSpPr/>
          <p:nvPr/>
        </p:nvSpPr>
        <p:spPr>
          <a:xfrm>
            <a:off x="2286000" y="6019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6" descr="MC900334880[1]"/>
          <p:cNvPicPr/>
          <p:nvPr/>
        </p:nvPicPr>
        <p:blipFill>
          <a:blip r:embed="rId16"/>
          <a:stretch/>
        </p:blipFill>
        <p:spPr>
          <a:xfrm rot="19163400">
            <a:off x="8298000" y="4617720"/>
            <a:ext cx="720720" cy="725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7" descr="MC900334880[1]"/>
          <p:cNvPicPr/>
          <p:nvPr/>
        </p:nvPicPr>
        <p:blipFill>
          <a:blip r:embed="rId17"/>
          <a:stretch/>
        </p:blipFill>
        <p:spPr>
          <a:xfrm rot="18138600">
            <a:off x="7949520" y="437436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8" descr="MC900334880[1]"/>
          <p:cNvPicPr/>
          <p:nvPr/>
        </p:nvPicPr>
        <p:blipFill>
          <a:blip r:embed="rId18"/>
          <a:stretch/>
        </p:blipFill>
        <p:spPr>
          <a:xfrm rot="2388000">
            <a:off x="7496280" y="5005440"/>
            <a:ext cx="720720" cy="725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9"/>
          <p:cNvSpPr/>
          <p:nvPr/>
        </p:nvSpPr>
        <p:spPr>
          <a:xfrm>
            <a:off x="5945760" y="5638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7926840" y="5638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7086600" y="5638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2" descr="MC900334880[1]"/>
          <p:cNvPicPr/>
          <p:nvPr/>
        </p:nvPicPr>
        <p:blipFill>
          <a:blip r:embed="rId19"/>
          <a:stretch/>
        </p:blipFill>
        <p:spPr>
          <a:xfrm rot="17953200">
            <a:off x="4574880" y="1139400"/>
            <a:ext cx="947880" cy="95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3" descr="MC900334880[1]"/>
          <p:cNvPicPr/>
          <p:nvPr/>
        </p:nvPicPr>
        <p:blipFill>
          <a:blip r:embed="rId20"/>
          <a:stretch/>
        </p:blipFill>
        <p:spPr>
          <a:xfrm rot="2061000">
            <a:off x="5562360" y="1219320"/>
            <a:ext cx="947520" cy="954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4"/>
          <p:cNvSpPr/>
          <p:nvPr/>
        </p:nvSpPr>
        <p:spPr>
          <a:xfrm>
            <a:off x="4938840" y="23223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357840" y="4191120"/>
            <a:ext cx="1855800" cy="1389240"/>
            <a:chOff x="357840" y="4191120"/>
            <a:chExt cx="1855800" cy="1389240"/>
          </a:xfrm>
        </p:grpSpPr>
        <p:pic>
          <p:nvPicPr>
            <p:cNvPr id="282" name="Picture 46" descr="MC900334880[1]"/>
            <p:cNvPicPr/>
            <p:nvPr/>
          </p:nvPicPr>
          <p:blipFill>
            <a:blip r:embed="rId21"/>
            <a:stretch/>
          </p:blipFill>
          <p:spPr>
            <a:xfrm>
              <a:off x="1139400" y="4191120"/>
              <a:ext cx="80100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7" descr="MC900334880[1]"/>
            <p:cNvPicPr/>
            <p:nvPr/>
          </p:nvPicPr>
          <p:blipFill>
            <a:blip r:embed="rId22"/>
            <a:stretch/>
          </p:blipFill>
          <p:spPr>
            <a:xfrm>
              <a:off x="1235880" y="432036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MC900334880[1]"/>
            <p:cNvPicPr/>
            <p:nvPr/>
          </p:nvPicPr>
          <p:blipFill>
            <a:blip r:embed="rId23"/>
            <a:stretch/>
          </p:blipFill>
          <p:spPr>
            <a:xfrm rot="579000">
              <a:off x="1332000" y="444960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9" descr="MC900334880[1]"/>
            <p:cNvPicPr/>
            <p:nvPr/>
          </p:nvPicPr>
          <p:blipFill>
            <a:blip r:embed="rId24"/>
            <a:stretch/>
          </p:blipFill>
          <p:spPr>
            <a:xfrm rot="18509400">
              <a:off x="453240" y="4540680"/>
              <a:ext cx="1074960" cy="76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51"/>
          <p:cNvGrpSpPr/>
          <p:nvPr/>
        </p:nvGrpSpPr>
        <p:grpSpPr>
          <a:xfrm>
            <a:off x="6911280" y="914400"/>
            <a:ext cx="1855440" cy="1389240"/>
            <a:chOff x="6911280" y="914400"/>
            <a:chExt cx="1855440" cy="1389240"/>
          </a:xfrm>
        </p:grpSpPr>
        <p:pic>
          <p:nvPicPr>
            <p:cNvPr id="287" name="Picture 52" descr="MC900334880[1]"/>
            <p:cNvPicPr/>
            <p:nvPr/>
          </p:nvPicPr>
          <p:blipFill>
            <a:blip r:embed="rId25"/>
            <a:stretch/>
          </p:blipFill>
          <p:spPr>
            <a:xfrm>
              <a:off x="7692840" y="914400"/>
              <a:ext cx="80100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3" descr="MC900334880[1]"/>
            <p:cNvPicPr/>
            <p:nvPr/>
          </p:nvPicPr>
          <p:blipFill>
            <a:blip r:embed="rId26"/>
            <a:stretch/>
          </p:blipFill>
          <p:spPr>
            <a:xfrm>
              <a:off x="7789320" y="104364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4" descr="MC900334880[1]"/>
            <p:cNvPicPr/>
            <p:nvPr/>
          </p:nvPicPr>
          <p:blipFill>
            <a:blip r:embed="rId27"/>
            <a:stretch/>
          </p:blipFill>
          <p:spPr>
            <a:xfrm rot="579000">
              <a:off x="7885080" y="1172880"/>
              <a:ext cx="80100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5" descr="MC900334880[1]"/>
            <p:cNvPicPr/>
            <p:nvPr/>
          </p:nvPicPr>
          <p:blipFill>
            <a:blip r:embed="rId28"/>
            <a:stretch/>
          </p:blipFill>
          <p:spPr>
            <a:xfrm rot="18509400">
              <a:off x="7006680" y="1263960"/>
              <a:ext cx="1074960" cy="76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57" descr="MC900334880[1]"/>
          <p:cNvPicPr/>
          <p:nvPr/>
        </p:nvPicPr>
        <p:blipFill>
          <a:blip r:embed="rId29"/>
          <a:stretch/>
        </p:blipFill>
        <p:spPr>
          <a:xfrm rot="1751400">
            <a:off x="8077320" y="1371600"/>
            <a:ext cx="801720" cy="1023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MC900334880[1]"/>
          <p:cNvPicPr/>
          <p:nvPr/>
        </p:nvPicPr>
        <p:blipFill>
          <a:blip r:embed="rId30"/>
          <a:stretch/>
        </p:blipFill>
        <p:spPr>
          <a:xfrm rot="18472800">
            <a:off x="7045200" y="1260000"/>
            <a:ext cx="801720" cy="1023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1" descr="MC900334880[1]"/>
          <p:cNvPicPr/>
          <p:nvPr/>
        </p:nvPicPr>
        <p:blipFill>
          <a:blip r:embed="rId31"/>
          <a:stretch/>
        </p:blipFill>
        <p:spPr>
          <a:xfrm rot="16669800">
            <a:off x="7013160" y="1596240"/>
            <a:ext cx="947880" cy="95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62"/>
          <p:cNvSpPr/>
          <p:nvPr/>
        </p:nvSpPr>
        <p:spPr>
          <a:xfrm>
            <a:off x="8079120" y="22860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3"/>
          <p:cNvSpPr/>
          <p:nvPr/>
        </p:nvSpPr>
        <p:spPr>
          <a:xfrm>
            <a:off x="685800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5" descr="MC900334880[1]"/>
          <p:cNvPicPr/>
          <p:nvPr/>
        </p:nvPicPr>
        <p:blipFill>
          <a:blip r:embed="rId32"/>
          <a:stretch/>
        </p:blipFill>
        <p:spPr>
          <a:xfrm rot="19163400">
            <a:off x="2971440" y="4114440"/>
            <a:ext cx="9478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2"/>
          <p:cNvSpPr/>
          <p:nvPr/>
        </p:nvSpPr>
        <p:spPr>
          <a:xfrm>
            <a:off x="6400800" y="4952880"/>
            <a:ext cx="2286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553080" y="3200400"/>
            <a:ext cx="2286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6324480" y="106668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878360" y="7650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7241040" y="1219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126"/>
          <p:cNvPicPr/>
          <p:nvPr/>
        </p:nvPicPr>
        <p:blipFill>
          <a:blip r:embed="rId1"/>
          <a:stretch/>
        </p:blipFill>
        <p:spPr>
          <a:xfrm>
            <a:off x="380880" y="914400"/>
            <a:ext cx="951120" cy="1695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126"/>
          <p:cNvPicPr/>
          <p:nvPr/>
        </p:nvPicPr>
        <p:blipFill>
          <a:blip r:embed="rId2"/>
          <a:stretch/>
        </p:blipFill>
        <p:spPr>
          <a:xfrm>
            <a:off x="1066680" y="685800"/>
            <a:ext cx="951120" cy="1695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126"/>
          <p:cNvPicPr/>
          <p:nvPr/>
        </p:nvPicPr>
        <p:blipFill>
          <a:blip r:embed="rId3"/>
          <a:stretch/>
        </p:blipFill>
        <p:spPr>
          <a:xfrm>
            <a:off x="1981080" y="685800"/>
            <a:ext cx="951120" cy="1695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126"/>
          <p:cNvPicPr/>
          <p:nvPr/>
        </p:nvPicPr>
        <p:blipFill>
          <a:blip r:embed="rId4"/>
          <a:stretch/>
        </p:blipFill>
        <p:spPr>
          <a:xfrm>
            <a:off x="2590920" y="762120"/>
            <a:ext cx="950760" cy="1695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126"/>
          <p:cNvPicPr/>
          <p:nvPr/>
        </p:nvPicPr>
        <p:blipFill>
          <a:blip r:embed="rId5"/>
          <a:stretch/>
        </p:blipFill>
        <p:spPr>
          <a:xfrm>
            <a:off x="3429000" y="762120"/>
            <a:ext cx="950760" cy="1695240"/>
          </a:xfrm>
          <a:prstGeom prst="rect">
            <a:avLst/>
          </a:prstGeom>
          <a:ln w="0">
            <a:noFill/>
          </a:ln>
        </p:spPr>
      </p:pic>
      <p:sp>
        <p:nvSpPr>
          <p:cNvPr id="308" name="Line 15"/>
          <p:cNvSpPr/>
          <p:nvPr/>
        </p:nvSpPr>
        <p:spPr>
          <a:xfrm>
            <a:off x="4952880" y="3962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5183280" y="335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7317000" y="3581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9" descr="J0079113"/>
          <p:cNvPicPr/>
          <p:nvPr/>
        </p:nvPicPr>
        <p:blipFill>
          <a:blip r:embed="rId6"/>
          <a:stretch/>
        </p:blipFill>
        <p:spPr>
          <a:xfrm>
            <a:off x="3780000" y="3200400"/>
            <a:ext cx="1000080" cy="1103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0" descr="J0079113"/>
          <p:cNvPicPr/>
          <p:nvPr/>
        </p:nvPicPr>
        <p:blipFill>
          <a:blip r:embed="rId7"/>
          <a:stretch/>
        </p:blipFill>
        <p:spPr>
          <a:xfrm>
            <a:off x="2743200" y="3200400"/>
            <a:ext cx="1000080" cy="1103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1" descr="J0079113"/>
          <p:cNvPicPr/>
          <p:nvPr/>
        </p:nvPicPr>
        <p:blipFill>
          <a:blip r:embed="rId8"/>
          <a:stretch/>
        </p:blipFill>
        <p:spPr>
          <a:xfrm>
            <a:off x="1523880" y="3124080"/>
            <a:ext cx="1000080" cy="1103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2" descr="J0079113"/>
          <p:cNvPicPr/>
          <p:nvPr/>
        </p:nvPicPr>
        <p:blipFill>
          <a:blip r:embed="rId9"/>
          <a:stretch/>
        </p:blipFill>
        <p:spPr>
          <a:xfrm>
            <a:off x="457200" y="3200400"/>
            <a:ext cx="1000080" cy="1103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3" descr="J0079113"/>
          <p:cNvPicPr/>
          <p:nvPr/>
        </p:nvPicPr>
        <p:blipFill>
          <a:blip r:embed="rId10"/>
          <a:srcRect l="-6968" t="0" r="23173" b="36741"/>
          <a:stretch/>
        </p:blipFill>
        <p:spPr>
          <a:xfrm>
            <a:off x="2895480" y="266688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4" descr="FD01100_"/>
          <p:cNvPicPr/>
          <p:nvPr/>
        </p:nvPicPr>
        <p:blipFill>
          <a:blip r:embed="rId11"/>
          <a:stretch/>
        </p:blipFill>
        <p:spPr>
          <a:xfrm>
            <a:off x="0" y="4876920"/>
            <a:ext cx="1447920" cy="1017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FD01100_"/>
          <p:cNvPicPr/>
          <p:nvPr/>
        </p:nvPicPr>
        <p:blipFill>
          <a:blip r:embed="rId12"/>
          <a:stretch/>
        </p:blipFill>
        <p:spPr>
          <a:xfrm>
            <a:off x="2743200" y="4876920"/>
            <a:ext cx="1778040" cy="1249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FD01100_"/>
          <p:cNvPicPr/>
          <p:nvPr/>
        </p:nvPicPr>
        <p:blipFill>
          <a:blip r:embed="rId13"/>
          <a:stretch/>
        </p:blipFill>
        <p:spPr>
          <a:xfrm>
            <a:off x="838080" y="5840280"/>
            <a:ext cx="1447920" cy="1017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FD01100_"/>
          <p:cNvPicPr/>
          <p:nvPr/>
        </p:nvPicPr>
        <p:blipFill>
          <a:blip r:embed="rId14"/>
          <a:stretch/>
        </p:blipFill>
        <p:spPr>
          <a:xfrm>
            <a:off x="1295280" y="4876920"/>
            <a:ext cx="1447920" cy="1017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8" descr="FD01100_"/>
          <p:cNvPicPr/>
          <p:nvPr/>
        </p:nvPicPr>
        <p:blipFill>
          <a:blip r:embed="rId15"/>
          <a:srcRect l="21053" t="44931" r="42105" b="-27275"/>
          <a:stretch/>
        </p:blipFill>
        <p:spPr>
          <a:xfrm rot="2727600">
            <a:off x="2468520" y="5670360"/>
            <a:ext cx="533520" cy="838080"/>
          </a:xfrm>
          <a:prstGeom prst="rect">
            <a:avLst/>
          </a:prstGeom>
          <a:ln w="0">
            <a:noFill/>
          </a:ln>
        </p:spPr>
      </p:pic>
      <p:sp>
        <p:nvSpPr>
          <p:cNvPr id="321" name="Line 29"/>
          <p:cNvSpPr/>
          <p:nvPr/>
        </p:nvSpPr>
        <p:spPr>
          <a:xfrm>
            <a:off x="4495680" y="56386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5243400" y="491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7012440" y="52578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763560" y="15228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рассказы можно составить по рисунка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выражения.Задай вопрос и найди значение каждого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4"/>
          <p:cNvSpPr/>
          <p:nvPr/>
        </p:nvSpPr>
        <p:spPr>
          <a:xfrm>
            <a:off x="11430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2362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4"/>
          <p:cNvGrpSpPr/>
          <p:nvPr/>
        </p:nvGrpSpPr>
        <p:grpSpPr>
          <a:xfrm>
            <a:off x="1143000" y="3429000"/>
            <a:ext cx="1219320" cy="152280"/>
            <a:chOff x="1143000" y="3429000"/>
            <a:chExt cx="1219320" cy="152280"/>
          </a:xfrm>
        </p:grpSpPr>
        <p:sp>
          <p:nvSpPr>
            <p:cNvPr id="328" name="Line 5"/>
            <p:cNvSpPr/>
            <p:nvPr/>
          </p:nvSpPr>
          <p:spPr>
            <a:xfrm>
              <a:off x="1143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1905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>
              <a:off x="2209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2057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6"/>
            <p:cNvGrpSpPr/>
            <p:nvPr/>
          </p:nvGrpSpPr>
          <p:grpSpPr>
            <a:xfrm>
              <a:off x="1143000" y="3429000"/>
              <a:ext cx="1219320" cy="152280"/>
              <a:chOff x="1143000" y="3429000"/>
              <a:chExt cx="1219320" cy="152280"/>
            </a:xfrm>
          </p:grpSpPr>
          <p:sp>
            <p:nvSpPr>
              <p:cNvPr id="333" name="Line 6"/>
              <p:cNvSpPr/>
              <p:nvPr/>
            </p:nvSpPr>
            <p:spPr>
              <a:xfrm>
                <a:off x="129528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"/>
              <p:cNvSpPr/>
              <p:nvPr/>
            </p:nvSpPr>
            <p:spPr>
              <a:xfrm>
                <a:off x="144792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8"/>
              <p:cNvSpPr/>
              <p:nvPr/>
            </p:nvSpPr>
            <p:spPr>
              <a:xfrm>
                <a:off x="160020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9"/>
              <p:cNvSpPr/>
              <p:nvPr/>
            </p:nvSpPr>
            <p:spPr>
              <a:xfrm>
                <a:off x="175248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4"/>
              <p:cNvSpPr/>
              <p:nvPr/>
            </p:nvSpPr>
            <p:spPr>
              <a:xfrm>
                <a:off x="1143000" y="3505320"/>
                <a:ext cx="4572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5"/>
              <p:cNvSpPr/>
              <p:nvPr/>
            </p:nvSpPr>
            <p:spPr>
              <a:xfrm>
                <a:off x="1600200" y="3505320"/>
                <a:ext cx="76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Line 18"/>
          <p:cNvSpPr/>
          <p:nvPr/>
        </p:nvSpPr>
        <p:spPr>
          <a:xfrm>
            <a:off x="3505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3657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3809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3352680" y="35053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962520" y="3505320"/>
            <a:ext cx="304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6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267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8"/>
          <p:cNvSpPr/>
          <p:nvPr/>
        </p:nvSpPr>
        <p:spPr>
          <a:xfrm>
            <a:off x="64008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9"/>
          <p:cNvSpPr/>
          <p:nvPr/>
        </p:nvSpPr>
        <p:spPr>
          <a:xfrm>
            <a:off x="71629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0"/>
          <p:cNvSpPr/>
          <p:nvPr/>
        </p:nvSpPr>
        <p:spPr>
          <a:xfrm>
            <a:off x="74674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1"/>
          <p:cNvSpPr/>
          <p:nvPr/>
        </p:nvSpPr>
        <p:spPr>
          <a:xfrm>
            <a:off x="7315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6553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705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5"/>
          <p:cNvSpPr/>
          <p:nvPr/>
        </p:nvSpPr>
        <p:spPr>
          <a:xfrm>
            <a:off x="6858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6"/>
          <p:cNvSpPr/>
          <p:nvPr/>
        </p:nvSpPr>
        <p:spPr>
          <a:xfrm>
            <a:off x="70102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7"/>
          <p:cNvSpPr/>
          <p:nvPr/>
        </p:nvSpPr>
        <p:spPr>
          <a:xfrm>
            <a:off x="6400800" y="34290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8"/>
          <p:cNvSpPr/>
          <p:nvPr/>
        </p:nvSpPr>
        <p:spPr>
          <a:xfrm>
            <a:off x="7010280" y="3429000"/>
            <a:ext cx="6098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12974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204336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15861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341496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3"/>
          <p:cNvSpPr/>
          <p:nvPr/>
        </p:nvSpPr>
        <p:spPr>
          <a:xfrm>
            <a:off x="38880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64356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5"/>
          <p:cNvSpPr/>
          <p:nvPr/>
        </p:nvSpPr>
        <p:spPr>
          <a:xfrm>
            <a:off x="16020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6"/>
          <p:cNvSpPr/>
          <p:nvPr/>
        </p:nvSpPr>
        <p:spPr>
          <a:xfrm>
            <a:off x="76201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6615360" y="338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8"/>
          <p:cNvSpPr/>
          <p:nvPr/>
        </p:nvSpPr>
        <p:spPr>
          <a:xfrm>
            <a:off x="685980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0"/>
          <p:cNvSpPr/>
          <p:nvPr/>
        </p:nvSpPr>
        <p:spPr>
          <a:xfrm>
            <a:off x="7148880" y="338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1"/>
          <p:cNvSpPr/>
          <p:nvPr/>
        </p:nvSpPr>
        <p:spPr>
          <a:xfrm>
            <a:off x="976320" y="4379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+4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2"/>
          <p:cNvSpPr/>
          <p:nvPr/>
        </p:nvSpPr>
        <p:spPr>
          <a:xfrm>
            <a:off x="3643920" y="4227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-4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3"/>
          <p:cNvSpPr/>
          <p:nvPr/>
        </p:nvSpPr>
        <p:spPr>
          <a:xfrm>
            <a:off x="6539400" y="4303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-4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4"/>
          <p:cNvSpPr/>
          <p:nvPr/>
        </p:nvSpPr>
        <p:spPr>
          <a:xfrm>
            <a:off x="1507680" y="72216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неизвестные числа. Расскажи, что о нём не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число надо найти.Запиши выражение и найди его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Users\Наталья\Desktop\imgpreview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 урока: Что интересного, нового узнал на уро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научилс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4-10-29T15:08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