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2AC9-296A-4BDB-9714-F0CEF6C8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DE54-D56B-41B5-A088-8C3D91CA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52A0-F6F2-4775-97FD-E6AE3912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BF3C-D3BF-4873-B2F9-AFD8D0CF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760D-F4DC-4A05-927B-80F74DC8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402-462A-418E-BF93-A4997878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9268-6280-428F-8B80-71DFC0B4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2EC-A418-461A-9F81-DA99908C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6416-4CF2-4263-A917-DC919BA6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493B-010B-4F2D-B50B-BF85B4E3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7C22-D3A5-46E8-B405-199E9852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FA4C-C9A9-4D06-BD56-7523D95A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BA0B-0959-4860-9427-357FFDA652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очки для уст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тавь бу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…терок, ст..лы , л…сок , л…довый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…сна , н…чной ,п…левой ,пл…сать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…вляться ,х…лмист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тавь бу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…ки ,бере… ,боро…ка ,вере…ка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…ка ,ука…ка ,про…ьба,утю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тавь бу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е… ,варе…ка, голу…ка ,ни…кий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ши…ка ,сапо…ки ,подви…, голо….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произносимые соглас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…ний, грус…ный, извес…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ез…ный, ус…ный ,со….нце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ра….ству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зударная глас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…винка ,м…стечко ,нак…рмить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…лодой, з…лотой ,к…т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…леный ,з…мляника ,сп…ртив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6:04:28Z</dcterms:created>
  <dc:creator>Вильдан</dc:creator>
  <dc:description/>
  <dc:language>en-US</dc:language>
  <cp:lastModifiedBy>дом</cp:lastModifiedBy>
  <dcterms:modified xsi:type="dcterms:W3CDTF">2014-10-29T15:33:31Z</dcterms:modified>
  <cp:revision>3</cp:revision>
  <dc:subject/>
  <dc:title>Слайд 1</dc:title>
</cp:coreProperties>
</file>