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A1E-FB9F-42F9-BF5B-38D687EF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4D3-BDC4-4EC0-B467-CB3F455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B11-F142-4E6A-9784-21AFE367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AE8-81D1-42B7-99A3-5C58EE90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E63-1285-43A5-A1DC-8D6BD84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CB3-8C20-4D65-98FA-578B185F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72C-9A7B-4714-8E06-6F13A5E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98B-68DA-4DCA-8E31-EDA59B47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558-730B-43C4-B5AE-57F4D10E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F2F-9F38-4CC7-AEB5-182D8AB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EB0-9663-4263-9D45-77953CA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384-12AC-4A49-9F30-E985714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565-5871-462C-A809-11771DF8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3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4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5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6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7" Type="http://schemas.openxmlformats.org/officeDocument/2006/relationships/hyperlink" Target="http://ultraslim.besaba.com/?diet=ultraslim&amp;poxudenie=&#1060;&#1088;&#1091;&#1082;&#1090;&#1099;%20&#1080;%20&#1086;&#1074;&#1086;&#1097;&#1080;%20&#1089;&#1090;&#1072;&#1090;&#1100;&#1080;" TargetMode="External"/><Relationship Id="rId8" Type="http://schemas.openxmlformats.org/officeDocument/2006/relationships/hyperlink" Target="http://zakazfruktov.ru/product/108" TargetMode="External"/><Relationship Id="rId9" Type="http://schemas.openxmlformats.org/officeDocument/2006/relationships/hyperlink" Target="http://zakazfruktov.ru/product/108" TargetMode="External"/><Relationship Id="rId10" Type="http://schemas.openxmlformats.org/officeDocument/2006/relationships/hyperlink" Target="http://zakazfruktov.ru/product/108" TargetMode="External"/><Relationship Id="rId11" Type="http://schemas.openxmlformats.org/officeDocument/2006/relationships/hyperlink" Target="http://zakazfruktov.ru/product/108" TargetMode="External"/><Relationship Id="rId12" Type="http://schemas.openxmlformats.org/officeDocument/2006/relationships/hyperlink" Target="http://zakazfruktov.ru/product/108" TargetMode="External"/><Relationship Id="rId13" Type="http://schemas.openxmlformats.org/officeDocument/2006/relationships/hyperlink" Target="http://zakazfruktov.ru/product/108" TargetMode="External"/><Relationship Id="rId14" Type="http://schemas.openxmlformats.org/officeDocument/2006/relationships/hyperlink" Target="http://nayra.ru/eto-interesno/vkusnye-vtorye-blyuda-iz-poleznyx-ovoshhej-gribov-i-bobovyx/" TargetMode="External"/><Relationship Id="rId15" Type="http://schemas.openxmlformats.org/officeDocument/2006/relationships/hyperlink" Target="http://nayra.ru/eto-interesno/vkusnye-vtorye-blyuda-iz-poleznyx-ovoshhej-gribov-i-bobovyx/" TargetMode="External"/><Relationship Id="rId16" Type="http://schemas.openxmlformats.org/officeDocument/2006/relationships/hyperlink" Target="http://nayra.ru/eto-interesno/vkusnye-vtorye-blyuda-iz-poleznyx-ovoshhej-gribov-i-bobovyx/" TargetMode="External"/><Relationship Id="rId17" Type="http://schemas.openxmlformats.org/officeDocument/2006/relationships/hyperlink" Target="http://nayra.ru/eto-interesno/vkusnye-vtorye-blyuda-iz-poleznyx-ovoshhej-gribov-i-bobovyx/" TargetMode="External"/><Relationship Id="rId18" Type="http://schemas.openxmlformats.org/officeDocument/2006/relationships/hyperlink" Target="http://nayra.ru/eto-interesno/vkusnye-vtorye-blyuda-iz-poleznyx-ovoshhej-gribov-i-bobovyx/" TargetMode="External"/><Relationship Id="rId19" Type="http://schemas.openxmlformats.org/officeDocument/2006/relationships/hyperlink" Target="http://nayra.ru/eto-interesno/vkusnye-vtorye-blyuda-iz-poleznyx-ovoshhej-gribov-i-bobovyx/" TargetMode="External"/><Relationship Id="rId20" Type="http://schemas.openxmlformats.org/officeDocument/2006/relationships/hyperlink" Target="http://nayra.ru/eto-interesno/vkusnye-vtorye-blyuda-iz-poleznyx-ovoshhej-gribov-i-bobovyx/" TargetMode="External"/><Relationship Id="rId21" Type="http://schemas.openxmlformats.org/officeDocument/2006/relationships/hyperlink" Target="http://nayra.ru/eto-interesno/vkusnye-vtorye-blyuda-iz-poleznyx-ovoshhej-gribov-i-bobovyx/" TargetMode="External"/><Relationship Id="rId22" Type="http://schemas.openxmlformats.org/officeDocument/2006/relationships/hyperlink" Target="http://diasneakinec.mywapblog.com/4-15.xhtml" TargetMode="External"/><Relationship Id="rId23" Type="http://schemas.openxmlformats.org/officeDocument/2006/relationships/hyperlink" Target="http://diasneakinec.mywapblog.com/4-15.xhtml" TargetMode="External"/><Relationship Id="rId24" Type="http://schemas.openxmlformats.org/officeDocument/2006/relationships/hyperlink" Target="http://diasneakinec.mywapblog.com/4-15.xhtml" TargetMode="External"/><Relationship Id="rId25" Type="http://schemas.openxmlformats.org/officeDocument/2006/relationships/hyperlink" Target="http://diasneakinec.mywapblog.com/4-15.xhtml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0666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оварные слова на тему: «Огород» 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152280"/>
            <a:ext cx="84582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b055b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b055b"/>
                </a:solidFill>
                <a:latin typeface="Arial"/>
              </a:rPr>
              <a:t>МБОУ «Новоаганская ОСШ №2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4648320" y="5105520"/>
            <a:ext cx="4267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55b"/>
                </a:solidFill>
                <a:latin typeface="Arial"/>
              </a:rPr>
              <a:t>Выполнила: Мурсалимова Надежда Ивановна, учитель начальны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&quot;OOO&quot; - контакты, товары, услуги, цены"/>
          <p:cNvPicPr/>
          <p:nvPr/>
        </p:nvPicPr>
        <p:blipFill>
          <a:blip r:embed="rId2"/>
          <a:stretch/>
        </p:blipFill>
        <p:spPr>
          <a:xfrm>
            <a:off x="4038480" y="2438280"/>
            <a:ext cx="4038840" cy="287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3809880" cy="300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Проходной балл 2014 Проходной балл Поступаем вместе!"/>
          <p:cNvPicPr/>
          <p:nvPr/>
        </p:nvPicPr>
        <p:blipFill>
          <a:blip r:embed="rId4"/>
          <a:stretch/>
        </p:blipFill>
        <p:spPr>
          <a:xfrm>
            <a:off x="457200" y="1752480"/>
            <a:ext cx="1447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ок под овощами, обычно вблизи от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Школа в деревне Стрельская Информационный портал &quot;Опаринская сорока&quot;"/>
          <p:cNvPicPr/>
          <p:nvPr/>
        </p:nvPicPr>
        <p:blipFill>
          <a:blip r:embed="rId2"/>
          <a:stretch/>
        </p:blipFill>
        <p:spPr>
          <a:xfrm>
            <a:off x="228600" y="13716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Дом в деревне Ожигово, Наро-Фоминский район, Московская область, Киевское шоссе."/>
          <p:cNvPicPr/>
          <p:nvPr/>
        </p:nvPicPr>
        <p:blipFill>
          <a:blip r:embed="rId3"/>
          <a:stretch/>
        </p:blipFill>
        <p:spPr>
          <a:xfrm>
            <a:off x="5257800" y="1295280"/>
            <a:ext cx="3581280" cy="239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2438280" y="350532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4956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е слов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живание, 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ить,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ник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ница,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ничий,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ничать.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ни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ь себя.</a:t>
            </a:r>
            <a:br>
              <a:rPr sz="4000"/>
            </a:br>
            <a:br>
              <a:rPr sz="4000"/>
            </a:b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Спиши, вставляя пропущенные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3526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5053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5790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438280"/>
            <a:ext cx="81536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в..щи, п..трушка, ..гуре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.м..дор, к..пуста, ..г..ро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.ртофель, г..рох, м..рков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Картинка овощей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ltraslim.besaba.com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et=ultraslim&amp;poxudenie=Фрукты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и овощи с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Огурцы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zakazfruktov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roduct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1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рох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nayra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to-interesno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vkusnye-vtorye-blyuda-iz-poleznyx-ovoshh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пуста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diasneakinec.mywapblog.com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4-15.x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Картофель http://alfaday.net/clipart/png-psd-on-transparent-background/274329-fotostok-ovoschi-kartof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Морковьhttp://www.agroru.com/doska/ovoschi-optom-72786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омидор http://allday2.com/index.php?newsid=6019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городhttp://www.dom-nara.ru/dom_ogigov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рушка http://sergeybelousko.com/vitamin-c-askorbinovaya-kislot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57200" y="30492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57200" y="762120"/>
            <a:ext cx="7086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ородные плоды и зел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отребляемые в п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Фрукты и овощи статьи - Диетические рецепты для похудения"/>
          <p:cNvPicPr/>
          <p:nvPr/>
        </p:nvPicPr>
        <p:blipFill>
          <a:blip r:embed="rId2"/>
          <a:stretch/>
        </p:blipFill>
        <p:spPr>
          <a:xfrm>
            <a:off x="152280" y="22860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715000" y="13716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в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971800" y="2514600"/>
            <a:ext cx="6172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Без спорта нет силы, а б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в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щей –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Ов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щи не только вкусны, но и полез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окон, без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на горница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Огурцы Zakaz Fruktov интернет магазин свежих фруктов"/>
          <p:cNvPicPr/>
          <p:nvPr/>
        </p:nvPicPr>
        <p:blipFill>
          <a:blip r:embed="rId2"/>
          <a:stretch/>
        </p:blipFill>
        <p:spPr>
          <a:xfrm>
            <a:off x="152280" y="26668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715000" y="13716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у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971800" y="2514600"/>
            <a:ext cx="6172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2004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носное значение слова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Как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гурчик – о здоровом, румяно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нокорен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гурчик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гуречный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гуре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971800" y="83808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авянистое полевое и огородное растение из семейства бобовых, с круглыми семе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Вкусные вторые блюда из полезных овощей, грибов и бобов"/>
          <p:cNvPicPr/>
          <p:nvPr/>
        </p:nvPicPr>
        <p:blipFill>
          <a:blip r:embed="rId2"/>
          <a:stretch/>
        </p:blipFill>
        <p:spPr>
          <a:xfrm>
            <a:off x="228600" y="182880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8600" y="76212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9718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е слов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шек, г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шина, г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шинка, г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х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4495680"/>
            <a:ext cx="9448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ереносное значения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Шут г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ховый – пустой бала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Как об стенку г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х – ничего не действует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о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городный овощ, растущий обычно коч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пуста оптом - Продам - Казань"/>
          <p:cNvPicPr/>
          <p:nvPr/>
        </p:nvPicPr>
        <p:blipFill>
          <a:blip r:embed="rId2"/>
          <a:stretch/>
        </p:blipFill>
        <p:spPr>
          <a:xfrm>
            <a:off x="914400" y="1676520"/>
            <a:ext cx="2514600" cy="2387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048120" y="1676520"/>
            <a:ext cx="2971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а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у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505320"/>
            <a:ext cx="670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е слов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очка, 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ка, 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ница (бабочка), 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486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словиц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у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юбит воду да хорошую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ощ, растение со съедоб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убнями, богатыми крахм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Фото клипарт - Овощи, картофель &quot; Выпускные фотокниги, детские портреты, свадебные фотоальбомы, фотопланшеты, растровый, векторн"/>
          <p:cNvPicPr/>
          <p:nvPr/>
        </p:nvPicPr>
        <p:blipFill>
          <a:blip r:embed="rId2"/>
          <a:stretch/>
        </p:blipFill>
        <p:spPr>
          <a:xfrm>
            <a:off x="4876920" y="1981080"/>
            <a:ext cx="3657600" cy="245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419112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е слов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тофелина, 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тофели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тофелесажалка, 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тофелечис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38080" y="2362320"/>
            <a:ext cx="396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а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родное растение, овощ со съедоб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дковатым оранжевым утолщ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Овощи оптом"/>
          <p:cNvPicPr/>
          <p:nvPr/>
        </p:nvPicPr>
        <p:blipFill>
          <a:blip r:embed="rId2"/>
          <a:stretch/>
        </p:blipFill>
        <p:spPr>
          <a:xfrm>
            <a:off x="4724280" y="1905120"/>
            <a:ext cx="3353040" cy="2501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762120" y="2438280"/>
            <a:ext cx="3962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к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434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419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ую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ков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йчишки тащ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о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ков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уть-чуть отку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 захотелось ещё отку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…уже нечего было тащ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ородное растение с крупными крас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дами, которые употребляют в п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Обои овощи в фото для фона рабочего стола &quot; ALLDAY - народный сайт о дизайне"/>
          <p:cNvPicPr/>
          <p:nvPr/>
        </p:nvPicPr>
        <p:blipFill>
          <a:blip r:embed="rId2"/>
          <a:stretch/>
        </p:blipFill>
        <p:spPr>
          <a:xfrm>
            <a:off x="304920" y="2286000"/>
            <a:ext cx="312408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276720" y="220968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и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д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124080"/>
            <a:ext cx="6248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пришло из италья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помидоро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оло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б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8381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е слов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рчик,  п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рный,       п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рка,   п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р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Отгадайте, 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5790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зелѐная кок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ьдереева сосе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оносая стар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ем мы тебя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Витамин C (аскорбиновая кислота) Sergiy Belousko Professional bodybuilder"/>
          <p:cNvPicPr/>
          <p:nvPr/>
        </p:nvPicPr>
        <p:blipFill>
          <a:blip r:embed="rId2"/>
          <a:stretch/>
        </p:blipFill>
        <p:spPr>
          <a:xfrm>
            <a:off x="838080" y="312408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343400" y="419112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е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тр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TE</cp:lastModifiedBy>
  <dcterms:modified xsi:type="dcterms:W3CDTF">2014-10-29T10:22:16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