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A0B-ABBD-4B6E-88A1-F7394A2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4E7-256B-4193-ABC0-198B648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3D7-AAA7-4BA2-BB7A-3D4820E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55E-8150-4CE5-848E-B56ED5D5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695-947E-4720-AFF6-4CF54EF8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004A-B888-4939-B2E6-A76F802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48B5-C586-4616-A789-EC8110A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9FE-C7FA-453D-929D-BDCC065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1095-89CA-411D-B8AC-A482FD75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7D6-3274-4361-BD0B-E0D56C45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983-1031-4867-9BD7-17F4B9C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374-8D79-4FAA-945B-E61BE8B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B3BF-4863-46CE-B03E-82CD03B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4104-B23B-427A-A3F7-AFD9F8B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381-3536-465A-96CF-46E8A64B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43FC-BBF0-42A9-9025-A64BF293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A2D-A1AF-480E-8C41-C2EDE39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945-660C-458D-B72E-4B94DC7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E00-9E9A-4D56-8C94-EEFB8EB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67A-8E2C-40DE-B1CB-91F9B850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612-F34F-4CDB-9CE2-0A32738F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F4-80C8-4444-9C6C-8993B1C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828-E55D-4135-AFE9-E5CD5B3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EF1-2DB8-462D-B390-C544B9A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0B7-93E3-4451-9AC7-FE87013348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A06-CF4B-4DC4-A2B6-9FE8A1D1079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2800"/>
            </a:br>
            <a:br>
              <a:rPr sz="2800"/>
            </a:br>
            <a:r>
              <a:rPr b="1" lang="ru-RU" sz="4800" spc="-1" strike="noStrike">
                <a:solidFill>
                  <a:srgbClr val="cc3300"/>
                </a:solidFill>
                <a:latin typeface="Tahoma"/>
              </a:rPr>
              <a:t>Служба документационного обеспечения управления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подаватель ГБОУ СПО «ТППК» Е.Н.Жил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ЗАДАЧА: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Совершенствование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форм и методов работы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с документ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ФУНК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работка и переработка нормативных и методических документов организации по делопроизводству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оведение работ по унификации документов, разработка и внедрение табеля и альбома форм документов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етодическое руководство и контроль за соблюдением установленных правил работы с документами в структурных подразделениях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вышение квалификации работников организации и их консультирование по вопросам документирования и организации работы с документами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работка и внедрение новых форм и методов работы с документами, совершенствование документооборота организации, автоматизирование делопроизводств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 rot="16200000">
            <a:off x="5583240" y="2200320"/>
            <a:ext cx="2322720" cy="2332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Должностной и численный </a:t>
            </a:r>
            <a:br>
              <a:rPr sz="2400"/>
            </a:b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состав службы Д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79280" y="1824480"/>
            <a:ext cx="8540640" cy="4086720"/>
            <a:chOff x="179280" y="1824480"/>
            <a:chExt cx="8540640" cy="4086720"/>
          </a:xfrm>
        </p:grpSpPr>
        <p:cxnSp>
          <p:nvCxnSpPr>
            <p:cNvPr id="467" name="_s18513"/>
            <p:cNvCxnSpPr>
              <a:stCxn id="468" idx="1"/>
              <a:endCxn id="469" idx="2"/>
            </p:cNvCxnSpPr>
            <p:nvPr/>
          </p:nvCxnSpPr>
          <p:spPr>
            <a:xfrm rot="10800000">
              <a:off x="7489080" y="4997160"/>
              <a:ext cx="175320" cy="32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0" name="_s18511"/>
            <p:cNvCxnSpPr>
              <a:stCxn id="469" idx="1"/>
              <a:endCxn id="471" idx="2"/>
            </p:cNvCxnSpPr>
            <p:nvPr/>
          </p:nvCxnSpPr>
          <p:spPr>
            <a:xfrm rot="10800000">
              <a:off x="6664680" y="4498200"/>
              <a:ext cx="177840" cy="31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2" name="_s18509"/>
            <p:cNvCxnSpPr>
              <a:stCxn id="471" idx="1"/>
              <a:endCxn id="473" idx="2"/>
            </p:cNvCxnSpPr>
            <p:nvPr/>
          </p:nvCxnSpPr>
          <p:spPr>
            <a:xfrm rot="10800000">
              <a:off x="5961240" y="3961080"/>
              <a:ext cx="177840" cy="33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4" name="_s18507"/>
            <p:cNvCxnSpPr>
              <a:stCxn id="473" idx="1"/>
              <a:endCxn id="475" idx="2"/>
            </p:cNvCxnSpPr>
            <p:nvPr/>
          </p:nvCxnSpPr>
          <p:spPr>
            <a:xfrm rot="10800000">
              <a:off x="5257800" y="3468240"/>
              <a:ext cx="178200" cy="31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6" name="_s18505"/>
            <p:cNvCxnSpPr>
              <a:stCxn id="475" idx="1"/>
              <a:endCxn id="477" idx="2"/>
            </p:cNvCxnSpPr>
            <p:nvPr/>
          </p:nvCxnSpPr>
          <p:spPr>
            <a:xfrm rot="10800000">
              <a:off x="4554720" y="2983320"/>
              <a:ext cx="177840" cy="31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8" name="_s18503"/>
            <p:cNvCxnSpPr>
              <a:stCxn id="477" idx="0"/>
              <a:endCxn id="479" idx="2"/>
            </p:cNvCxnSpPr>
            <p:nvPr/>
          </p:nvCxnSpPr>
          <p:spPr>
            <a:xfrm flipH="1" flipV="1" rot="5400000">
              <a:off x="5396400" y="1656360"/>
              <a:ext cx="137520" cy="1820520"/>
            </a:xfrm>
            <a:prstGeom prst="bentConnector3">
              <a:avLst>
                <a:gd name="adj1" fmla="val 498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0" name="_s18501"/>
            <p:cNvCxnSpPr>
              <a:stCxn id="481" idx="1"/>
              <a:endCxn id="482" idx="2"/>
            </p:cNvCxnSpPr>
            <p:nvPr/>
          </p:nvCxnSpPr>
          <p:spPr>
            <a:xfrm rot="10800000">
              <a:off x="5989320" y="5504040"/>
              <a:ext cx="176760" cy="27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3" name="_s18499"/>
            <p:cNvCxnSpPr>
              <a:stCxn id="482" idx="1"/>
              <a:endCxn id="484" idx="2"/>
            </p:cNvCxnSpPr>
            <p:nvPr/>
          </p:nvCxnSpPr>
          <p:spPr>
            <a:xfrm rot="10800000">
              <a:off x="5286240" y="4997160"/>
              <a:ext cx="176760" cy="32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5" name="_s18497"/>
            <p:cNvCxnSpPr>
              <a:stCxn id="484" idx="1"/>
              <a:endCxn id="486" idx="2"/>
            </p:cNvCxnSpPr>
            <p:nvPr/>
          </p:nvCxnSpPr>
          <p:spPr>
            <a:xfrm rot="10800000">
              <a:off x="4462920" y="4498200"/>
              <a:ext cx="175680" cy="31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7" name="_s18495"/>
            <p:cNvCxnSpPr>
              <a:stCxn id="486" idx="1"/>
              <a:endCxn id="488" idx="2"/>
            </p:cNvCxnSpPr>
            <p:nvPr/>
          </p:nvCxnSpPr>
          <p:spPr>
            <a:xfrm rot="10800000">
              <a:off x="3759840" y="3961080"/>
              <a:ext cx="175320" cy="33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9" name="_s18493"/>
            <p:cNvCxnSpPr>
              <a:stCxn id="488" idx="1"/>
              <a:endCxn id="490" idx="2"/>
            </p:cNvCxnSpPr>
            <p:nvPr/>
          </p:nvCxnSpPr>
          <p:spPr>
            <a:xfrm rot="10800000">
              <a:off x="3056400" y="3468240"/>
              <a:ext cx="175680" cy="31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1" name="_s18491"/>
            <p:cNvCxnSpPr>
              <a:stCxn id="490" idx="1"/>
              <a:endCxn id="492" idx="2"/>
            </p:cNvCxnSpPr>
            <p:nvPr/>
          </p:nvCxnSpPr>
          <p:spPr>
            <a:xfrm rot="10800000">
              <a:off x="2352960" y="2983320"/>
              <a:ext cx="175680" cy="31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3" name="_s18489"/>
            <p:cNvCxnSpPr>
              <a:stCxn id="492" idx="0"/>
              <a:endCxn id="494" idx="2"/>
            </p:cNvCxnSpPr>
            <p:nvPr/>
          </p:nvCxnSpPr>
          <p:spPr>
            <a:xfrm flipH="1" flipV="1" rot="5400000">
              <a:off x="3370320" y="1480680"/>
              <a:ext cx="137520" cy="2171880"/>
            </a:xfrm>
            <a:prstGeom prst="bentConnector3">
              <a:avLst>
                <a:gd name="adj1" fmla="val 498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5" name="_s18487"/>
            <p:cNvCxnSpPr>
              <a:stCxn id="496" idx="1"/>
              <a:endCxn id="497" idx="2"/>
            </p:cNvCxnSpPr>
            <p:nvPr/>
          </p:nvCxnSpPr>
          <p:spPr>
            <a:xfrm rot="10800000">
              <a:off x="2816640" y="4498200"/>
              <a:ext cx="175320" cy="31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8" name="_s18485"/>
            <p:cNvCxnSpPr>
              <a:stCxn id="497" idx="1"/>
              <a:endCxn id="499" idx="2"/>
            </p:cNvCxnSpPr>
            <p:nvPr/>
          </p:nvCxnSpPr>
          <p:spPr>
            <a:xfrm rot="10800000">
              <a:off x="2113200" y="3961080"/>
              <a:ext cx="175680" cy="33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0" name="_s18483"/>
            <p:cNvCxnSpPr>
              <a:stCxn id="499" idx="1"/>
              <a:endCxn id="501" idx="2"/>
            </p:cNvCxnSpPr>
            <p:nvPr/>
          </p:nvCxnSpPr>
          <p:spPr>
            <a:xfrm rot="10800000">
              <a:off x="1409760" y="3468240"/>
              <a:ext cx="175680" cy="31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2" name="_s18481"/>
            <p:cNvCxnSpPr>
              <a:stCxn id="501" idx="1"/>
              <a:endCxn id="503" idx="2"/>
            </p:cNvCxnSpPr>
            <p:nvPr/>
          </p:nvCxnSpPr>
          <p:spPr>
            <a:xfrm rot="10800000">
              <a:off x="706680" y="2983320"/>
              <a:ext cx="175320" cy="31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4" name="_s18479"/>
            <p:cNvCxnSpPr>
              <a:stCxn id="503" idx="0"/>
              <a:endCxn id="505" idx="2"/>
            </p:cNvCxnSpPr>
            <p:nvPr/>
          </p:nvCxnSpPr>
          <p:spPr>
            <a:xfrm flipH="1" flipV="1" rot="5400000">
              <a:off x="1401480" y="1803240"/>
              <a:ext cx="137520" cy="1526760"/>
            </a:xfrm>
            <a:prstGeom prst="bentConnector3">
              <a:avLst>
                <a:gd name="adj1" fmla="val 498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6" name="_s18476"/>
            <p:cNvCxnSpPr>
              <a:stCxn id="479" idx="0"/>
              <a:endCxn id="507" idx="2"/>
            </p:cNvCxnSpPr>
            <p:nvPr/>
          </p:nvCxnSpPr>
          <p:spPr>
            <a:xfrm flipV="1" rot="16200000">
              <a:off x="5344200" y="1198800"/>
              <a:ext cx="136440" cy="192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8" name="_s18475"/>
            <p:cNvCxnSpPr>
              <a:stCxn id="494" idx="0"/>
              <a:endCxn id="507" idx="2"/>
            </p:cNvCxnSpPr>
            <p:nvPr/>
          </p:nvCxnSpPr>
          <p:spPr>
            <a:xfrm flipV="1" rot="16200000">
              <a:off x="4419000" y="2124000"/>
              <a:ext cx="136440" cy="7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9" name="_s18474"/>
            <p:cNvCxnSpPr>
              <a:stCxn id="505" idx="0"/>
              <a:endCxn id="507" idx="2"/>
            </p:cNvCxnSpPr>
            <p:nvPr/>
          </p:nvCxnSpPr>
          <p:spPr>
            <a:xfrm flipH="1" flipV="1" rot="5400000">
              <a:off x="3273840" y="1053360"/>
              <a:ext cx="136440" cy="2216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7" name="_s18470"/>
            <p:cNvSpPr/>
            <p:nvPr/>
          </p:nvSpPr>
          <p:spPr>
            <a:xfrm>
              <a:off x="3921840" y="1824480"/>
              <a:ext cx="1054080" cy="26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Tahoma"/>
                </a:rPr>
                <a:t>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18471"/>
            <p:cNvSpPr/>
            <p:nvPr/>
          </p:nvSpPr>
          <p:spPr>
            <a:xfrm>
              <a:off x="1396080" y="2230200"/>
              <a:ext cx="1674000" cy="268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ahoma"/>
                </a:rPr>
                <a:t>Руков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18472"/>
            <p:cNvSpPr/>
            <p:nvPr/>
          </p:nvSpPr>
          <p:spPr>
            <a:xfrm>
              <a:off x="3687120" y="2230200"/>
              <a:ext cx="1674360" cy="268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ahoma"/>
                </a:rPr>
                <a:t>Специали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18473"/>
            <p:cNvSpPr/>
            <p:nvPr/>
          </p:nvSpPr>
          <p:spPr>
            <a:xfrm>
              <a:off x="5537520" y="2230200"/>
              <a:ext cx="1674360" cy="2682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3300"/>
                  </a:solidFill>
                  <a:latin typeface="Tahoma"/>
                </a:rPr>
                <a:t>Технические испол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18478"/>
            <p:cNvSpPr/>
            <p:nvPr/>
          </p:nvSpPr>
          <p:spPr>
            <a:xfrm>
              <a:off x="179280" y="2634480"/>
              <a:ext cx="1055160" cy="349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Зав. службо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делопроизвод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18480"/>
            <p:cNvSpPr/>
            <p:nvPr/>
          </p:nvSpPr>
          <p:spPr>
            <a:xfrm>
              <a:off x="882360" y="3120120"/>
              <a:ext cx="1055520" cy="348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Зав. протокольным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отдел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18482"/>
            <p:cNvSpPr/>
            <p:nvPr/>
          </p:nvSpPr>
          <p:spPr>
            <a:xfrm>
              <a:off x="1585800" y="3605040"/>
              <a:ext cx="1055520" cy="354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Начальни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секретариа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18484"/>
            <p:cNvSpPr/>
            <p:nvPr/>
          </p:nvSpPr>
          <p:spPr>
            <a:xfrm>
              <a:off x="2289240" y="4096080"/>
              <a:ext cx="1055160" cy="402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760" rIns="3276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Зав. архив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18486"/>
            <p:cNvSpPr/>
            <p:nvPr/>
          </p:nvSpPr>
          <p:spPr>
            <a:xfrm>
              <a:off x="2992320" y="4635000"/>
              <a:ext cx="1294200" cy="361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Зав. отделом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подготовки документ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_s18488"/>
            <p:cNvSpPr/>
            <p:nvPr/>
          </p:nvSpPr>
          <p:spPr>
            <a:xfrm>
              <a:off x="1825200" y="2634480"/>
              <a:ext cx="1055520" cy="3495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ahoma"/>
                </a:rPr>
                <a:t>Документове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18490"/>
            <p:cNvSpPr/>
            <p:nvPr/>
          </p:nvSpPr>
          <p:spPr>
            <a:xfrm>
              <a:off x="2528640" y="3120120"/>
              <a:ext cx="1055520" cy="348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Помощни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руководите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_s18492"/>
            <p:cNvSpPr/>
            <p:nvPr/>
          </p:nvSpPr>
          <p:spPr>
            <a:xfrm>
              <a:off x="3232080" y="3605040"/>
              <a:ext cx="1055160" cy="354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Референ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_s18494"/>
            <p:cNvSpPr/>
            <p:nvPr/>
          </p:nvSpPr>
          <p:spPr>
            <a:xfrm>
              <a:off x="3935160" y="4096080"/>
              <a:ext cx="1055520" cy="402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Архивис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18496"/>
            <p:cNvSpPr/>
            <p:nvPr/>
          </p:nvSpPr>
          <p:spPr>
            <a:xfrm>
              <a:off x="4638600" y="4635000"/>
              <a:ext cx="1293840" cy="3614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Инспекто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18498"/>
            <p:cNvSpPr/>
            <p:nvPr/>
          </p:nvSpPr>
          <p:spPr>
            <a:xfrm>
              <a:off x="5461560" y="5132880"/>
              <a:ext cx="1055520" cy="3711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Секретар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руководите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18500"/>
            <p:cNvSpPr/>
            <p:nvPr/>
          </p:nvSpPr>
          <p:spPr>
            <a:xfrm>
              <a:off x="6165000" y="5640120"/>
              <a:ext cx="1056600" cy="2710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Корректо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18502"/>
            <p:cNvSpPr/>
            <p:nvPr/>
          </p:nvSpPr>
          <p:spPr>
            <a:xfrm>
              <a:off x="4028040" y="2634480"/>
              <a:ext cx="1055520" cy="34956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920" rIns="7092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Экспедито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18504"/>
            <p:cNvSpPr/>
            <p:nvPr/>
          </p:nvSpPr>
          <p:spPr>
            <a:xfrm>
              <a:off x="4731480" y="3120120"/>
              <a:ext cx="1055160" cy="34848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920" rIns="7092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Делопроизводите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18506"/>
            <p:cNvSpPr/>
            <p:nvPr/>
          </p:nvSpPr>
          <p:spPr>
            <a:xfrm>
              <a:off x="5434560" y="3605040"/>
              <a:ext cx="1055520" cy="35496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920" rIns="7092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Машинист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Стенографист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_s18508"/>
            <p:cNvSpPr/>
            <p:nvPr/>
          </p:nvSpPr>
          <p:spPr>
            <a:xfrm>
              <a:off x="6138000" y="4096080"/>
              <a:ext cx="1055520" cy="40248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920" rIns="7092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Техническ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секрета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_s18510"/>
            <p:cNvSpPr/>
            <p:nvPr/>
          </p:nvSpPr>
          <p:spPr>
            <a:xfrm>
              <a:off x="6841440" y="4635000"/>
              <a:ext cx="1293840" cy="3614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Курь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_s18512"/>
            <p:cNvSpPr/>
            <p:nvPr/>
          </p:nvSpPr>
          <p:spPr>
            <a:xfrm>
              <a:off x="7664400" y="5132880"/>
              <a:ext cx="1055520" cy="37116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ahoma"/>
                </a:rPr>
                <a:t>Операто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ahoma"/>
                </a:rPr>
                <a:t>орг.техни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Требования к изучению 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Tahoma"/>
              </a:rPr>
              <a:t>знать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состав основных нормативных документов, регламентирующих организацию работы службы документационного обеспечения управления (ДОУ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типовые структуры и должностной состав службы ДО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Tahoma"/>
              </a:rPr>
              <a:t>уметь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составлять примерные образцы должностных инструк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48320" y="2428920"/>
            <a:ext cx="4194000" cy="28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Tahoma"/>
              </a:rPr>
              <a:t>Базовое понятие тем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Служба ДОУ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специальная служба, действующая на правах самостоятельного структурного подразделения, подчиненного непосредственно руководителю орган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265640" cy="367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01680" y="2349720"/>
            <a:ext cx="8539920" cy="3700440"/>
            <a:chOff x="301680" y="2349720"/>
            <a:chExt cx="8539920" cy="3700440"/>
          </a:xfrm>
        </p:grpSpPr>
        <p:cxnSp>
          <p:nvCxnSpPr>
            <p:cNvPr id="392" name="_s11281"/>
            <p:cNvCxnSpPr>
              <a:stCxn id="393" idx="0"/>
              <a:endCxn id="394" idx="2"/>
            </p:cNvCxnSpPr>
            <p:nvPr/>
          </p:nvCxnSpPr>
          <p:spPr>
            <a:xfrm flipV="1" rot="16200000">
              <a:off x="6117480" y="1310400"/>
              <a:ext cx="229320" cy="332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5" name="_s11278"/>
            <p:cNvCxnSpPr>
              <a:stCxn id="396" idx="0"/>
              <a:endCxn id="394" idx="2"/>
            </p:cNvCxnSpPr>
            <p:nvPr/>
          </p:nvCxnSpPr>
          <p:spPr>
            <a:xfrm flipV="1" rot="16200000">
              <a:off x="5010120" y="2417760"/>
              <a:ext cx="229320" cy="110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7" name="_s11277"/>
            <p:cNvCxnSpPr>
              <a:stCxn id="398" idx="0"/>
              <a:endCxn id="394" idx="2"/>
            </p:cNvCxnSpPr>
            <p:nvPr/>
          </p:nvCxnSpPr>
          <p:spPr>
            <a:xfrm flipH="1" flipV="1" rot="5400000">
              <a:off x="3903480" y="2418120"/>
              <a:ext cx="229320" cy="1107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9" name="_s11276"/>
            <p:cNvCxnSpPr>
              <a:stCxn id="400" idx="0"/>
              <a:endCxn id="394" idx="2"/>
            </p:cNvCxnSpPr>
            <p:nvPr/>
          </p:nvCxnSpPr>
          <p:spPr>
            <a:xfrm flipH="1" flipV="1" rot="5400000">
              <a:off x="2796120" y="1310760"/>
              <a:ext cx="229320" cy="3321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4" name="_s11272"/>
            <p:cNvSpPr/>
            <p:nvPr/>
          </p:nvSpPr>
          <p:spPr>
            <a:xfrm>
              <a:off x="1320840" y="2349720"/>
              <a:ext cx="6501960" cy="507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Организационные формы службы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1273"/>
            <p:cNvSpPr/>
            <p:nvPr/>
          </p:nvSpPr>
          <p:spPr>
            <a:xfrm>
              <a:off x="301680" y="3086280"/>
              <a:ext cx="1897560" cy="7110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Управл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дел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11274"/>
            <p:cNvSpPr/>
            <p:nvPr/>
          </p:nvSpPr>
          <p:spPr>
            <a:xfrm>
              <a:off x="2515680" y="3086280"/>
              <a:ext cx="1897560" cy="7110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анцеля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11275"/>
            <p:cNvSpPr/>
            <p:nvPr/>
          </p:nvSpPr>
          <p:spPr>
            <a:xfrm>
              <a:off x="4730040" y="3086280"/>
              <a:ext cx="1897560" cy="7110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бщий отд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11280"/>
            <p:cNvSpPr/>
            <p:nvPr/>
          </p:nvSpPr>
          <p:spPr>
            <a:xfrm>
              <a:off x="6944040" y="3086280"/>
              <a:ext cx="1897560" cy="7110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екретар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404360" y="4005360"/>
              <a:ext cx="2158560" cy="204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01680" y="1471680"/>
            <a:ext cx="8540280" cy="4411800"/>
            <a:chOff x="301680" y="1471680"/>
            <a:chExt cx="8540280" cy="4411800"/>
          </a:xfrm>
        </p:grpSpPr>
        <p:cxnSp>
          <p:nvCxnSpPr>
            <p:cNvPr id="403" name="_s13367"/>
            <p:cNvCxnSpPr>
              <a:stCxn id="404" idx="1"/>
              <a:endCxn id="405" idx="2"/>
            </p:cNvCxnSpPr>
            <p:nvPr/>
          </p:nvCxnSpPr>
          <p:spPr>
            <a:xfrm rot="10800000">
              <a:off x="4467960" y="5086080"/>
              <a:ext cx="83160" cy="49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6" name="_s13365"/>
            <p:cNvCxnSpPr>
              <a:stCxn id="405" idx="1"/>
              <a:endCxn id="407" idx="2"/>
            </p:cNvCxnSpPr>
            <p:nvPr/>
          </p:nvCxnSpPr>
          <p:spPr>
            <a:xfrm rot="10800000">
              <a:off x="3923640" y="4422960"/>
              <a:ext cx="81360" cy="42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8" name="_s13363"/>
            <p:cNvCxnSpPr>
              <a:stCxn id="407" idx="1"/>
              <a:endCxn id="409" idx="2"/>
            </p:cNvCxnSpPr>
            <p:nvPr/>
          </p:nvCxnSpPr>
          <p:spPr>
            <a:xfrm rot="10800000">
              <a:off x="3243960" y="3415680"/>
              <a:ext cx="83520" cy="60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0" name="_s13358"/>
            <p:cNvCxnSpPr>
              <a:stCxn id="409" idx="0"/>
              <a:endCxn id="411" idx="2"/>
            </p:cNvCxnSpPr>
            <p:nvPr/>
          </p:nvCxnSpPr>
          <p:spPr>
            <a:xfrm flipH="1" flipV="1" rot="5400000">
              <a:off x="3770640" y="2319120"/>
              <a:ext cx="193320" cy="1245600"/>
            </a:xfrm>
            <a:prstGeom prst="bentConnector3">
              <a:avLst>
                <a:gd name="adj1" fmla="val 494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2" name="_s13356"/>
            <p:cNvCxnSpPr>
              <a:stCxn id="413" idx="1"/>
              <a:endCxn id="414" idx="2"/>
            </p:cNvCxnSpPr>
            <p:nvPr/>
          </p:nvCxnSpPr>
          <p:spPr>
            <a:xfrm rot="10800000">
              <a:off x="1956600" y="5086080"/>
              <a:ext cx="83160" cy="49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5" name="_s13354"/>
            <p:cNvCxnSpPr>
              <a:stCxn id="414" idx="1"/>
              <a:endCxn id="416" idx="2"/>
            </p:cNvCxnSpPr>
            <p:nvPr/>
          </p:nvCxnSpPr>
          <p:spPr>
            <a:xfrm rot="10800000">
              <a:off x="1412280" y="4422960"/>
              <a:ext cx="81360" cy="42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7" name="_s13352"/>
            <p:cNvCxnSpPr>
              <a:stCxn id="416" idx="1"/>
              <a:endCxn id="418" idx="2"/>
            </p:cNvCxnSpPr>
            <p:nvPr/>
          </p:nvCxnSpPr>
          <p:spPr>
            <a:xfrm rot="10800000">
              <a:off x="732960" y="3415680"/>
              <a:ext cx="83160" cy="60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13350"/>
            <p:cNvCxnSpPr>
              <a:stCxn id="418" idx="0"/>
              <a:endCxn id="420" idx="2"/>
            </p:cNvCxnSpPr>
            <p:nvPr/>
          </p:nvCxnSpPr>
          <p:spPr>
            <a:xfrm flipH="1" flipV="1" rot="5400000">
              <a:off x="1258200" y="2320200"/>
              <a:ext cx="193320" cy="1243080"/>
            </a:xfrm>
            <a:prstGeom prst="bentConnector3">
              <a:avLst>
                <a:gd name="adj1" fmla="val 494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1" name="_s13332"/>
            <p:cNvCxnSpPr>
              <a:stCxn id="422" idx="0"/>
              <a:endCxn id="423" idx="2"/>
            </p:cNvCxnSpPr>
            <p:nvPr/>
          </p:nvCxnSpPr>
          <p:spPr>
            <a:xfrm flipV="1" rot="16200000">
              <a:off x="6317280" y="467280"/>
              <a:ext cx="193320" cy="3684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13330"/>
            <p:cNvCxnSpPr>
              <a:stCxn id="425" idx="0"/>
              <a:endCxn id="423" idx="2"/>
            </p:cNvCxnSpPr>
            <p:nvPr/>
          </p:nvCxnSpPr>
          <p:spPr>
            <a:xfrm flipV="1" rot="16200000">
              <a:off x="5690160" y="1095120"/>
              <a:ext cx="193320" cy="242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3328"/>
            <p:cNvCxnSpPr>
              <a:stCxn id="427" idx="0"/>
              <a:endCxn id="423" idx="2"/>
            </p:cNvCxnSpPr>
            <p:nvPr/>
          </p:nvCxnSpPr>
          <p:spPr>
            <a:xfrm flipV="1" rot="16200000">
              <a:off x="5061600" y="1722960"/>
              <a:ext cx="193320" cy="117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8" name="_s13324"/>
            <p:cNvCxnSpPr>
              <a:stCxn id="411" idx="0"/>
              <a:endCxn id="423" idx="2"/>
            </p:cNvCxnSpPr>
            <p:nvPr/>
          </p:nvCxnSpPr>
          <p:spPr>
            <a:xfrm flipH="1" flipV="1" rot="5400000">
              <a:off x="4434120" y="2268000"/>
              <a:ext cx="193320" cy="8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9" name="_s13323"/>
            <p:cNvCxnSpPr>
              <a:stCxn id="430" idx="0"/>
              <a:endCxn id="423" idx="2"/>
            </p:cNvCxnSpPr>
            <p:nvPr/>
          </p:nvCxnSpPr>
          <p:spPr>
            <a:xfrm flipH="1" flipV="1" rot="5400000">
              <a:off x="3805560" y="1639440"/>
              <a:ext cx="193320" cy="134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_s13322"/>
            <p:cNvCxnSpPr>
              <a:stCxn id="420" idx="0"/>
              <a:endCxn id="423" idx="2"/>
            </p:cNvCxnSpPr>
            <p:nvPr/>
          </p:nvCxnSpPr>
          <p:spPr>
            <a:xfrm flipH="1" flipV="1" rot="5400000">
              <a:off x="3177360" y="1011240"/>
              <a:ext cx="193320" cy="259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3" name="_s13318"/>
            <p:cNvSpPr/>
            <p:nvPr/>
          </p:nvSpPr>
          <p:spPr>
            <a:xfrm>
              <a:off x="2018520" y="1471680"/>
              <a:ext cx="5106600" cy="741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Управление дел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создается в министерствах и ведомствах как структура, в котор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ыполняется работа с документами, и как орган контроля и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Делопроизводства в центральном аппарате и в отрас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3319"/>
            <p:cNvSpPr/>
            <p:nvPr/>
          </p:nvSpPr>
          <p:spPr>
            <a:xfrm>
              <a:off x="138960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Секретариа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3320"/>
            <p:cNvSpPr/>
            <p:nvPr/>
          </p:nvSpPr>
          <p:spPr>
            <a:xfrm>
              <a:off x="264528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Отдел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рационализа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ДО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13321"/>
            <p:cNvSpPr/>
            <p:nvPr/>
          </p:nvSpPr>
          <p:spPr>
            <a:xfrm>
              <a:off x="390132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Канцеляр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3327"/>
            <p:cNvSpPr/>
            <p:nvPr/>
          </p:nvSpPr>
          <p:spPr>
            <a:xfrm>
              <a:off x="515700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Отдел писе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3329"/>
            <p:cNvSpPr/>
            <p:nvPr/>
          </p:nvSpPr>
          <p:spPr>
            <a:xfrm>
              <a:off x="641304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Центральный архи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организа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3331"/>
            <p:cNvSpPr/>
            <p:nvPr/>
          </p:nvSpPr>
          <p:spPr>
            <a:xfrm>
              <a:off x="7668720" y="2406600"/>
              <a:ext cx="1173240" cy="439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Инспекц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3349"/>
            <p:cNvSpPr/>
            <p:nvPr/>
          </p:nvSpPr>
          <p:spPr>
            <a:xfrm>
              <a:off x="301680" y="3038760"/>
              <a:ext cx="863280" cy="3776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Приемна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3351"/>
            <p:cNvSpPr/>
            <p:nvPr/>
          </p:nvSpPr>
          <p:spPr>
            <a:xfrm>
              <a:off x="815400" y="3609360"/>
              <a:ext cx="1192320" cy="8154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Секретариа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руководителя 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секретариа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заместителе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13353"/>
            <p:cNvSpPr/>
            <p:nvPr/>
          </p:nvSpPr>
          <p:spPr>
            <a:xfrm>
              <a:off x="1493640" y="4618080"/>
              <a:ext cx="927000" cy="46872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160" rIns="2916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Секретариа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коллег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13355"/>
            <p:cNvSpPr/>
            <p:nvPr/>
          </p:nvSpPr>
          <p:spPr>
            <a:xfrm>
              <a:off x="2039760" y="5279760"/>
              <a:ext cx="1611360" cy="60372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Протокольно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бюр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_s13357"/>
            <p:cNvSpPr/>
            <p:nvPr/>
          </p:nvSpPr>
          <p:spPr>
            <a:xfrm>
              <a:off x="2813400" y="3038760"/>
              <a:ext cx="863280" cy="3776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Экспедиц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_s13361"/>
            <p:cNvSpPr/>
            <p:nvPr/>
          </p:nvSpPr>
          <p:spPr>
            <a:xfrm>
              <a:off x="3327120" y="3609360"/>
              <a:ext cx="1191960" cy="81540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Бюро перепис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13364"/>
            <p:cNvSpPr/>
            <p:nvPr/>
          </p:nvSpPr>
          <p:spPr>
            <a:xfrm>
              <a:off x="4005720" y="4618080"/>
              <a:ext cx="927000" cy="46872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Бюро учет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и регистра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документов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13366"/>
            <p:cNvSpPr/>
            <p:nvPr/>
          </p:nvSpPr>
          <p:spPr>
            <a:xfrm>
              <a:off x="4551480" y="5279760"/>
              <a:ext cx="1611720" cy="60372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Компьютерный цент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обработки и размноже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текстов документ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6300720" y="3357720"/>
              <a:ext cx="2158560" cy="172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250920" y="1903320"/>
            <a:ext cx="8540640" cy="3685680"/>
            <a:chOff x="250920" y="1903320"/>
            <a:chExt cx="8540640" cy="3685680"/>
          </a:xfrm>
        </p:grpSpPr>
        <p:cxnSp>
          <p:nvCxnSpPr>
            <p:cNvPr id="434" name="_s15386"/>
            <p:cNvCxnSpPr>
              <a:stCxn id="435" idx="0"/>
              <a:endCxn id="436" idx="2"/>
            </p:cNvCxnSpPr>
            <p:nvPr/>
          </p:nvCxnSpPr>
          <p:spPr>
            <a:xfrm flipV="1">
              <a:off x="6673320" y="3322080"/>
              <a:ext cx="10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_s15384"/>
            <p:cNvCxnSpPr>
              <a:stCxn id="438" idx="0"/>
              <a:endCxn id="439" idx="2"/>
            </p:cNvCxnSpPr>
            <p:nvPr/>
          </p:nvCxnSpPr>
          <p:spPr>
            <a:xfrm flipV="1" rot="16200000">
              <a:off x="6201000" y="957240"/>
              <a:ext cx="228960" cy="35866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15382"/>
            <p:cNvCxnSpPr>
              <a:stCxn id="436" idx="0"/>
              <a:endCxn id="439" idx="2"/>
            </p:cNvCxnSpPr>
            <p:nvPr/>
          </p:nvCxnSpPr>
          <p:spPr>
            <a:xfrm flipV="1" rot="16200000">
              <a:off x="5483520" y="1674720"/>
              <a:ext cx="228960" cy="21517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1" name="_s15378"/>
            <p:cNvCxnSpPr>
              <a:stCxn id="442" idx="0"/>
              <a:endCxn id="439" idx="2"/>
            </p:cNvCxnSpPr>
            <p:nvPr/>
          </p:nvCxnSpPr>
          <p:spPr>
            <a:xfrm flipV="1" rot="16200000">
              <a:off x="4766040" y="2392200"/>
              <a:ext cx="228960" cy="7164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3" name="_s15372"/>
            <p:cNvCxnSpPr>
              <a:stCxn id="444" idx="0"/>
              <a:endCxn id="439" idx="2"/>
            </p:cNvCxnSpPr>
            <p:nvPr/>
          </p:nvCxnSpPr>
          <p:spPr>
            <a:xfrm flipH="1" flipV="1" rot="5400000">
              <a:off x="4048560" y="2391120"/>
              <a:ext cx="228960" cy="719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5" name="_s15371"/>
            <p:cNvCxnSpPr>
              <a:stCxn id="446" idx="0"/>
              <a:endCxn id="439" idx="2"/>
            </p:cNvCxnSpPr>
            <p:nvPr/>
          </p:nvCxnSpPr>
          <p:spPr>
            <a:xfrm flipH="1" flipV="1" rot="5400000">
              <a:off x="3330720" y="1673280"/>
              <a:ext cx="228960" cy="21546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5370"/>
            <p:cNvCxnSpPr>
              <a:stCxn id="448" idx="0"/>
              <a:endCxn id="439" idx="2"/>
            </p:cNvCxnSpPr>
            <p:nvPr/>
          </p:nvCxnSpPr>
          <p:spPr>
            <a:xfrm flipH="1" flipV="1" rot="5400000">
              <a:off x="2613600" y="955800"/>
              <a:ext cx="228960" cy="3589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9" name="_s15366"/>
            <p:cNvSpPr/>
            <p:nvPr/>
          </p:nvSpPr>
          <p:spPr>
            <a:xfrm>
              <a:off x="1593360" y="1903320"/>
              <a:ext cx="5856120" cy="732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Канцеляр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создается на предприятиях,  в научно-исследовательских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оектно-конструкторских организациях, высших учебных заве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15367"/>
            <p:cNvSpPr/>
            <p:nvPr/>
          </p:nvSpPr>
          <p:spPr>
            <a:xfrm>
              <a:off x="25092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ahoma"/>
                </a:rPr>
                <a:t>Экспедиц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15368"/>
            <p:cNvSpPr/>
            <p:nvPr/>
          </p:nvSpPr>
          <p:spPr>
            <a:xfrm>
              <a:off x="168588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ahoma"/>
                </a:rPr>
                <a:t>Подразделение по учету 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ahoma"/>
                </a:rPr>
                <a:t>Регистрации документ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15369"/>
            <p:cNvSpPr/>
            <p:nvPr/>
          </p:nvSpPr>
          <p:spPr>
            <a:xfrm>
              <a:off x="312120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Групп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троля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15377"/>
            <p:cNvSpPr/>
            <p:nvPr/>
          </p:nvSpPr>
          <p:spPr>
            <a:xfrm>
              <a:off x="455616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Группа писе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(обращений граждан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5381"/>
            <p:cNvSpPr/>
            <p:nvPr/>
          </p:nvSpPr>
          <p:spPr>
            <a:xfrm>
              <a:off x="599148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Группа подготов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документ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5383"/>
            <p:cNvSpPr/>
            <p:nvPr/>
          </p:nvSpPr>
          <p:spPr>
            <a:xfrm>
              <a:off x="7426800" y="2865240"/>
              <a:ext cx="136476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Архи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организ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5385"/>
            <p:cNvSpPr/>
            <p:nvPr/>
          </p:nvSpPr>
          <p:spPr>
            <a:xfrm>
              <a:off x="5702760" y="3551040"/>
              <a:ext cx="1941480" cy="456840"/>
            </a:xfrm>
            <a:prstGeom prst="roundRect">
              <a:avLst>
                <a:gd name="adj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пировально-множительно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бюр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1332000" y="3860640"/>
              <a:ext cx="2448000" cy="172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Основные задачи 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службы ДО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2276640"/>
            <a:ext cx="3240000" cy="1368360"/>
          </a:xfrm>
          <a:prstGeom prst="rect">
            <a:avLst/>
          </a:prstGeom>
          <a:solidFill>
            <a:srgbClr val="e1e1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есп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кум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правлен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860640"/>
            <a:ext cx="3384360" cy="1152720"/>
          </a:xfrm>
          <a:prstGeom prst="rect">
            <a:avLst/>
          </a:prstGeom>
          <a:solidFill>
            <a:srgbClr val="e1e1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рганизация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 доку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35640" y="2205000"/>
            <a:ext cx="3097080" cy="1368360"/>
          </a:xfrm>
          <a:prstGeom prst="rect">
            <a:avLst/>
          </a:prstGeom>
          <a:solidFill>
            <a:srgbClr val="e1e1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вершенств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орм и методов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 доку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67280" y="213372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360 h 852480"/>
              <a:gd name="textAreaBottom" fmla="*/ 8532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2487600" cy="218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ЗАДАЧА: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Обеспечение документирования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управленческ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ФУН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работка бланков документов и обеспечение их изготовле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ение изготовления документов, стенографирования, копирования и тиражирования документ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нтроль за качеством подготовки и оформления документов, а также за соблюдением установленной процедуры согласования и удостоверения документ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121360" y="2114640"/>
            <a:ext cx="3246480" cy="346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ЗАДАЧА: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Организация работы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         с документ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08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ahoma"/>
              </a:rPr>
              <a:t>ФУНК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становление единого порядка прохождения документов (документооборота организации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работка поступающих и отправляемых докумен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гистрация и учет поступающих, отправляемых и внутренних докумен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аботка и ведение информационно-поисковых систем, организация информационно-справочной работы по документам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варительное рассмотрение докумен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троль за исполнением докумен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истематизация документов, подготовка номенклатуры дел, обеспечение хранения и использования докумен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ка и передача дел в архив организации, организация работы архива организации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еспечение защиты документной информации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ганизация работы с обращениям граждан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097680" y="5313240"/>
            <a:ext cx="3046320" cy="154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6:01:51Z</dcterms:created>
  <dc:creator>user</dc:creator>
  <dc:description/>
  <dc:language>en-US</dc:language>
  <cp:lastModifiedBy>User</cp:lastModifiedBy>
  <dcterms:modified xsi:type="dcterms:W3CDTF">2014-10-29T09:28:12Z</dcterms:modified>
  <cp:revision>20</cp:revision>
  <dc:subject/>
  <dc:title>    Тема 2.1 Служба документационного обеспечения управления, ее структура, функции, должностной состав  </dc:title>
</cp:coreProperties>
</file>