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47280" y="115920"/>
            <a:ext cx="72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7280" y="115920"/>
            <a:ext cx="72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47280" y="115920"/>
            <a:ext cx="72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47280" y="115920"/>
            <a:ext cx="72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47280" y="115920"/>
            <a:ext cx="72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47280" y="115920"/>
            <a:ext cx="72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47280" y="115920"/>
            <a:ext cx="72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47280" y="115920"/>
            <a:ext cx="72010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47280" y="115920"/>
            <a:ext cx="72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47280" y="115920"/>
            <a:ext cx="72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47280" y="115920"/>
            <a:ext cx="72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7280" y="115920"/>
            <a:ext cx="72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7280" y="115920"/>
            <a:ext cx="72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7280" y="115920"/>
            <a:ext cx="72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47280" y="115920"/>
            <a:ext cx="72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47280" y="115920"/>
            <a:ext cx="72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47280" y="115920"/>
            <a:ext cx="72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7280" y="115920"/>
            <a:ext cx="72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547280" y="115920"/>
            <a:ext cx="72010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7280" y="115920"/>
            <a:ext cx="72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7280" y="115920"/>
            <a:ext cx="72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7280" y="115920"/>
            <a:ext cx="72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K:\ProPowerPoint\География 2\Geografiya-2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7280" y="115920"/>
            <a:ext cx="7201080" cy="792000"/>
          </a:xfrm>
          <a:prstGeom prst="rect">
            <a:avLst/>
          </a:prstGeom>
          <a:solidFill>
            <a:srgbClr val="4f81bd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K:\ProPowerPoint\География 2\Geografiya-2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K:\ProPowerPoint\География 2\Geografiya-2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47280" y="115920"/>
            <a:ext cx="7201080" cy="792000"/>
          </a:xfrm>
          <a:prstGeom prst="rect">
            <a:avLst/>
          </a:prstGeom>
          <a:solidFill>
            <a:srgbClr val="4f81bd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geo.metodist.ru/" TargetMode="External"/><Relationship Id="rId2" Type="http://schemas.openxmlformats.org/officeDocument/2006/relationships/hyperlink" Target="http://www.fgosvo.ru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343640" cy="269388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Тема: Изменение методики тестового контроля знаний учащихся в условиях перехода на ФГОС.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-360" y="5129280"/>
            <a:ext cx="57387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Исполнитель : Л.Л. Подмарева учитель географии, МОУ «Средняя школа №32 г.Саранс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2014-2015 учебный го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3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зультаты образования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  это ключевое понятие с точки зрения требований ФГОС.  В  новых условиях особое значение приобретает  их 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нтроль и оценка:    виды,  содержание, а главное – цели и задач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353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едагогической теории и практике различают 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ходной, текущий, тематический и итоговый контрол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35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ttp://ntdtv.ru/sites/default/files/imagecache/gallery_big/51915682.jpg"/>
          <p:cNvPicPr/>
          <p:nvPr/>
        </p:nvPicPr>
        <p:blipFill>
          <a:blip r:embed="rId1"/>
          <a:stretch/>
        </p:blipFill>
        <p:spPr>
          <a:xfrm>
            <a:off x="6248520" y="0"/>
            <a:ext cx="289548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280" y="115920"/>
            <a:ext cx="7201080" cy="792000"/>
          </a:xfrm>
          <a:prstGeom prst="rect">
            <a:avLst/>
          </a:prstGeom>
          <a:solidFill>
            <a:srgbClr val="4f81bd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Виды контрольных работ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Стрелка вниз 10"/>
          <p:cNvSpPr/>
          <p:nvPr/>
        </p:nvSpPr>
        <p:spPr>
          <a:xfrm>
            <a:off x="6732720" y="1052640"/>
            <a:ext cx="484200" cy="834840"/>
          </a:xfrm>
          <a:prstGeom prst="downArrow">
            <a:avLst>
              <a:gd name="adj1" fmla="val 50000"/>
              <a:gd name="adj2" fmla="val 5007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Стрелка вниз 11"/>
          <p:cNvSpPr/>
          <p:nvPr/>
        </p:nvSpPr>
        <p:spPr>
          <a:xfrm>
            <a:off x="1908000" y="1125360"/>
            <a:ext cx="484200" cy="83376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13"/>
          <p:cNvSpPr/>
          <p:nvPr/>
        </p:nvSpPr>
        <p:spPr>
          <a:xfrm>
            <a:off x="468360" y="1989000"/>
            <a:ext cx="3382920" cy="1944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Теоретическ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14"/>
          <p:cNvSpPr/>
          <p:nvPr/>
        </p:nvSpPr>
        <p:spPr>
          <a:xfrm>
            <a:off x="3059280" y="4365720"/>
            <a:ext cx="3384360" cy="1942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Комплекс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15"/>
          <p:cNvSpPr/>
          <p:nvPr/>
        </p:nvSpPr>
        <p:spPr>
          <a:xfrm>
            <a:off x="5364000" y="1989000"/>
            <a:ext cx="3384720" cy="1944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Практическ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Стрелка вниз 16"/>
          <p:cNvSpPr/>
          <p:nvPr/>
        </p:nvSpPr>
        <p:spPr>
          <a:xfrm>
            <a:off x="4427640" y="3284640"/>
            <a:ext cx="485640" cy="936360"/>
          </a:xfrm>
          <a:prstGeom prst="downArrow">
            <a:avLst>
              <a:gd name="adj1" fmla="val 50000"/>
              <a:gd name="adj2" fmla="val 499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7280" y="0"/>
            <a:ext cx="7596360" cy="1341360"/>
          </a:xfrm>
          <a:prstGeom prst="rect">
            <a:avLst/>
          </a:prstGeom>
          <a:solidFill>
            <a:srgbClr val="4f81bd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Особые требования предъявляются  к качеству тестов, которые должны отвечать    целям и задачам каждого вида контроля. </a:t>
            </a:r>
            <a:br>
              <a:rPr sz="2200"/>
            </a:br>
            <a:endParaRPr b="1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alibri"/>
              </a:rPr>
              <a:t>Алгоритм  действи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формулировать цел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торую преследует данны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д провер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ить конкретные предметные и метапредметные знания и умения, усвоение которых проверяет данная рабо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писать задания, проверяющие данные предметные знания и умения. Проверка метапредметных умений должна осуществляться  на предметном  материа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http://3.bp.blogspot.com/-pAFnG1eoaWs/USuhTE8wSpI/AAAAAAAAAD0/TXgBT25zSBI/s1600/boy_mit_globe_XS.jpg"/>
          <p:cNvPicPr/>
          <p:nvPr/>
        </p:nvPicPr>
        <p:blipFill>
          <a:blip r:embed="rId1"/>
          <a:stretch/>
        </p:blipFill>
        <p:spPr>
          <a:xfrm>
            <a:off x="5940360" y="1341360"/>
            <a:ext cx="320364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47280" y="0"/>
            <a:ext cx="7201080" cy="1341360"/>
          </a:xfrm>
          <a:prstGeom prst="rect">
            <a:avLst/>
          </a:prstGeom>
          <a:solidFill>
            <a:srgbClr val="4f81bd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Calibri"/>
              </a:rPr>
              <a:t>Например:</a:t>
            </a:r>
            <a:br>
              <a:rPr sz="2400"/>
            </a:b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Calibri"/>
              </a:rPr>
              <a:t>1.Вопросы на установление соответствия, выявления причинно- следственных связей: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24360" y="1341360"/>
            <a:ext cx="496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Calibri"/>
              </a:rPr>
              <a:t>1.Установите соответствие между особенностью географического положения России и ее следствие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Calibri"/>
              </a:rPr>
              <a:t>Особен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отяженность с запада на восток более чем на 9000 к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отяженность с севера на юг примерно на 4000 к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Большая часть территории расположена в умеренных широт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Calibri"/>
              </a:rPr>
              <a:t>Следств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)  Территория России расположена в четырех климатических поясах: от арктического до субтропическ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Б) Разница в поясном времени на территории России достигает 8 ч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) Континентальность климата возрастает на вост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395280" y="1364760"/>
            <a:ext cx="3816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Calibri"/>
              </a:rPr>
              <a:t>Проверяемые уме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Calibri"/>
              </a:rPr>
              <a:t>Предметные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владение понятийным аппаратом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Умение выделять существенные признаки географических понят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Calibri"/>
              </a:rPr>
              <a:t>Метапредметные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Calibri"/>
              </a:rPr>
              <a:t>: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умение анализировать, устанавливать причинно-следственные связи, систематизировать, классифициров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Анализировать связи соподчинения и зависимости между компонентами объекта. Классифицировать в соответствии с выбранными признак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7280" y="115920"/>
            <a:ext cx="7201080" cy="1009440"/>
          </a:xfrm>
          <a:prstGeom prst="rect">
            <a:avLst/>
          </a:prstGeom>
          <a:solidFill>
            <a:srgbClr val="4f81bd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Calibri"/>
              </a:rPr>
              <a:t>2. Вопросы на определение географического объекта по заданному описанию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203640" y="1341360"/>
            <a:ext cx="5689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Calibri"/>
              </a:rPr>
              <a:t>Задание: </a:t>
            </a:r>
            <a:r>
              <a:rPr b="0" i="1" lang="ru-RU" sz="2000" spc="-1" strike="noStrike">
                <a:solidFill>
                  <a:srgbClr val="0070c0"/>
                </a:solidFill>
                <a:latin typeface="Calibri"/>
              </a:rPr>
              <a:t>По описанию определите два  региона  России, находящихся в европейской части страны и впишите их наз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0253f"/>
                </a:solidFill>
                <a:latin typeface="Calibri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 Одной из отраслей специализации этого экономического  района является гидроэнергетика. АПК также имеет важное значение. Машиностроение представлено выпуском автомобилей, троллейбусов, самолетов. На юге района открыто крупное газоконденсатное месторожд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…………………………………………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2. Этот экономический район занимает первое место в стране по численности населения. Имеет мощную научную базу. Отрасль специализации – точное и наукоемкое машиностроение, химическая и текстильная промышленность. Беден природными ресурс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179280" y="1783800"/>
            <a:ext cx="3097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оверяемые ум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едметные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ение по отличительным признакам определять географические объек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Метапредметны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ение анализировать и выделять главно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3" descr="http://rus.4post.com.ua/photo/11/b/1210929964.jpg"/>
          <p:cNvPicPr/>
          <p:nvPr/>
        </p:nvPicPr>
        <p:blipFill>
          <a:blip r:embed="rId1"/>
          <a:stretch/>
        </p:blipFill>
        <p:spPr>
          <a:xfrm>
            <a:off x="0" y="4437000"/>
            <a:ext cx="31431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7280" y="115920"/>
            <a:ext cx="7201080" cy="936720"/>
          </a:xfrm>
          <a:prstGeom prst="rect">
            <a:avLst/>
          </a:prstGeom>
          <a:solidFill>
            <a:srgbClr val="4f81bd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ffff00"/>
                </a:solidFill>
                <a:uFillTx/>
                <a:latin typeface="Calibri"/>
              </a:rPr>
              <a:t>3.Задания на умения анализировать графические источники.</a:t>
            </a:r>
            <a:endParaRPr b="1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00720" y="1557360"/>
            <a:ext cx="4186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70c0"/>
                </a:solidFill>
                <a:latin typeface="Calibri"/>
              </a:rPr>
              <a:t>По заданным вопросам, объяснить условия  образования ветра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а) Какое давление над сушей и над морем днем? Почему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б) В каком направлении перемещается ветер и почему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в) Как вы ощущаете это движение воздуха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395280" y="1494000"/>
            <a:ext cx="324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оверяемые умения: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едметные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лизировать связи соподчинения и зависимости между компонентами объек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Метапредметные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итать и анализировать графические источни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Рисунок 1" descr=""/>
          <p:cNvPicPr/>
          <p:nvPr/>
        </p:nvPicPr>
        <p:blipFill>
          <a:blip r:embed="rId1"/>
          <a:stretch/>
        </p:blipFill>
        <p:spPr>
          <a:xfrm>
            <a:off x="324000" y="3933720"/>
            <a:ext cx="3392280" cy="2532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7280" y="115920"/>
            <a:ext cx="7201080" cy="936720"/>
          </a:xfrm>
          <a:prstGeom prst="rect">
            <a:avLst/>
          </a:prstGeom>
          <a:solidFill>
            <a:srgbClr val="4f81bd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Calibri"/>
              </a:rPr>
              <a:t>4.Задания на умения выявлять признаки сходства и признаки различия.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140000" y="1267920"/>
            <a:ext cx="4546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70c0"/>
                </a:solidFill>
                <a:latin typeface="Calibri"/>
              </a:rPr>
              <a:t>Подумайте, по какому признаку (страна проживания, вероисповедание, языковая семья или группа) можно объединить названные народы, и найдите одно исключение из правила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А) Якуты; Б) Чуваши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В) Тувинцы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; Г) Алтайцы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Д) Шорцы; Е) Гагаузы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Ж) Тофалары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755640" y="1655280"/>
            <a:ext cx="2736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оверяемые           умения: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едметны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делять главное, существенные признаки понятий. Анализировать связи соподчинения и зависимости между компонентами объек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Метапредметны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ладеть навыками анализа и синтеза учебного материа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7280" y="115920"/>
            <a:ext cx="7201080" cy="792000"/>
          </a:xfrm>
          <a:prstGeom prst="rect">
            <a:avLst/>
          </a:prstGeom>
          <a:solidFill>
            <a:srgbClr val="4f81bd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Calibri"/>
              </a:rPr>
              <a:t>5. Вопросы на классификацию понятий по заданным признакам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51280" y="1412640"/>
            <a:ext cx="4968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Calibri"/>
              </a:rPr>
              <a:t>5.Выберите объекты (явления, понятия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70c0"/>
                </a:solidFill>
                <a:uFillTx/>
                <a:latin typeface="Calibri"/>
              </a:rPr>
              <a:t>Которые встречаются и в Антарктиде, и в Австралии</a:t>
            </a:r>
            <a:r>
              <a:rPr b="0" i="1" lang="ru-RU" sz="2000" spc="-1" strike="noStrike">
                <a:solidFill>
                  <a:srgbClr val="0070c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Calibri"/>
              </a:rPr>
              <a:t>Которые не встречаются ни там, ни там, объясните выявленную закономерность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А) Оазисы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;  Б) Вечная мерзлота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В) Каменный уголь;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 Г) Области альпийской складчатости;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Д) Области мезозойской складчатости;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 Е) Области палеозойской складчатости;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Ж) Пассаты;  З) Полярная ночь;        </a:t>
            </a: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И) Мхи;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 К) Мангры;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Л) Пресмыкающиеся; 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М) Тигры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;                                   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Н) Государственные границ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1"/>
          <p:cNvSpPr/>
          <p:nvPr/>
        </p:nvSpPr>
        <p:spPr>
          <a:xfrm>
            <a:off x="250920" y="1918080"/>
            <a:ext cx="3384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Calibri"/>
              </a:rPr>
              <a:t>Проверяемые умения: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Calibri"/>
              </a:rPr>
              <a:t>Предметные: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ассифицировать информацию  по заданным признакам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Выделять главное, существенные признаки понятий. Анализировать связи соподчинения и зависимости между компонентами объек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Calibri"/>
              </a:rPr>
              <a:t>Метапредметные: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Владеть навыками анализа и синтеза учебного материала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Аналитическая деятель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343640" cy="1297080"/>
          </a:xfrm>
          <a:prstGeom prst="rect">
            <a:avLst/>
          </a:prstGeom>
          <a:solidFill>
            <a:srgbClr val="4f81bd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Calibri"/>
              </a:rPr>
              <a:t>6. Вопросы на определение географического объекта по представленным признакам. Вопрос на определение образа материка .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50920" y="1557360"/>
            <a:ext cx="5041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Calibri"/>
              </a:rPr>
              <a:t>Найдите ошибки в сравнительной характеристике материков Австралии и Антарктид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1. Оба материка целиком находятся в южном полушар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2. Это наименьшее по площади матери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3. Это наиболее изолированные от других матери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4. В основе обоих материков лежат древние платформы, но и в Австралии и в Антарктиде есть области альпийской складчатости и действующие вулканы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5. Это наиболее сухие (по годовым осадкам) матери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Calibri"/>
              </a:rPr>
              <a:t>Выделите признаки определ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1"/>
          <p:cNvSpPr/>
          <p:nvPr/>
        </p:nvSpPr>
        <p:spPr>
          <a:xfrm>
            <a:off x="250920" y="1784160"/>
            <a:ext cx="356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оверяемые умения: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едметные: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водить примеры характерных отличий материков как природных комплекс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Метапредметные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ение анализировать характерные особенности природных объектов и явл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47280" y="115920"/>
            <a:ext cx="7201080" cy="936720"/>
          </a:xfrm>
          <a:prstGeom prst="rect">
            <a:avLst/>
          </a:prstGeom>
          <a:solidFill>
            <a:srgbClr val="4f81bd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Calibri"/>
              </a:rPr>
              <a:t>7. Вопросы на умение анализировать  объект по заданному описанию.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3640" y="1341360"/>
            <a:ext cx="532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76040" algn="just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Calibri"/>
              </a:rPr>
              <a:t>По заданному описанию, назовите горную систему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: это субширотно вытянутые высокие горы (отдельные вершины поднимаются выше 4 км) с острыми пиками и гребнями, в этой части света самые молодые по возрасту складчатости; западные и северные склоны получают до 1000 мм осадков в год, восточные и южные склоны – менее 200 мм; преобладают горно – коричневые почвы; на влажных склонах хорошо выражена высотная поясность: заросли кустарников и невысоких деревьев (фисташка, мирт, олеандр и др.) вверх сменяются лесами из каменного и пробкового дуба, выше – лесной пояс из кедра с тисом и падубом, заросли можжевельника, в высокогорье – колючие подушковидные кустарники и местами горные луг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6040" algn="just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Ответ: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70c0"/>
                </a:solidFill>
                <a:latin typeface="Calibri"/>
              </a:rPr>
              <a:t>Атла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6040" algn="just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611280" y="1836720"/>
            <a:ext cx="26654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оверяемые умения: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едметные: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ть определять признаки различных географических объектов по заданному описанию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Метапредметные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литическое чтение — изучение содержания текста с целью его глубокого осмысления, сопровождающееся выделением главные, существенные признаки понят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13336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Verdana"/>
              </a:rPr>
              <a:t>Мы слишком часто даем детям ответы, которые надо выучить, а не ставим </a:t>
            </a: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п</a:t>
            </a:r>
            <a:r>
              <a:rPr b="1" i="1" lang="ru-RU" sz="3200" spc="-1" strike="noStrike">
                <a:solidFill>
                  <a:srgbClr val="0070c0"/>
                </a:solidFill>
                <a:latin typeface="Verdana"/>
              </a:rPr>
              <a:t>еред</a:t>
            </a: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70c0"/>
                </a:solidFill>
                <a:latin typeface="Verdana"/>
              </a:rPr>
              <a:t>ними проблемы, которые надо решить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Verdana"/>
              </a:rPr>
              <a:t>Роджер Левин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заключение хочется сказать, что формирование универсальных учебных действий возможно на уроках географии при использовании различных современных педагогических технологий, при условии готовности учителя к сотрудничеству с учащимися  и другими учителями предметни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47280" y="115920"/>
            <a:ext cx="7201080" cy="792000"/>
          </a:xfrm>
          <a:prstGeom prst="rect">
            <a:avLst/>
          </a:prstGeom>
          <a:solidFill>
            <a:srgbClr val="4f81bd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Список литературы: 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geo.metodist.ru/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айт Методической лаборатории географии. Московский институт открытого образов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</a:rPr>
              <a:t>http://xn--80abucjiibhv9a.xn--p1ai/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сайт Министерства образования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fgosvo.ru/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сайт Координационного совета учебно – методических объединений и научно – методических советов высшей школ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ушина И. В. «Методика обучения географии  в общеобразовательных учреждениях». Дрофа, 2007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неурочная деятельность школьников. Методический конструктор: пособие для учителя / Д.В. Григорьев, П.В. Степанов. – М.: Просвещение, 201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ализ современного урока. – М, 200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узеев, В.В. Проектирование и анализ урока / В.В.Гузеев // Директор школы. – 2005. – № 7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аврентьев, В.В. Типы, формы и структурные элементы современного урока в адаптивной школе (в условиях внешней дифференциации учебно-воспитательного процесса) / В.В.Лаврентьев // Завуч для администрации школ. – 2005. – № 1. – С. 96 – 10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K:\ProPowerPoint\География 2\Geografiya-2_Print.jpg"/>
          <p:cNvPicPr/>
          <p:nvPr/>
        </p:nvPicPr>
        <p:blipFill>
          <a:blip r:embed="rId1"/>
          <a:stretch/>
        </p:blipFill>
        <p:spPr>
          <a:xfrm>
            <a:off x="0" y="-17640"/>
            <a:ext cx="9166320" cy="6875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95280" y="115560"/>
            <a:ext cx="6948360" cy="2017800"/>
          </a:xfrm>
          <a:prstGeom prst="rect">
            <a:avLst/>
          </a:prstGeom>
          <a:solidFill>
            <a:srgbClr val="4f81bd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омочь  ученику в овладении  соответствующими умениями и навыками, полная реализация  его возможностей – ключевая задача школьного образования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63640" y="2565360"/>
            <a:ext cx="7129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Calibri"/>
              </a:rPr>
              <a:t>   </a:t>
            </a:r>
            <a:r>
              <a:rPr b="0" lang="ru-RU" sz="2600" spc="-1" strike="noStrike">
                <a:solidFill>
                  <a:srgbClr val="0d0d0d"/>
                </a:solidFill>
                <a:latin typeface="Calibri"/>
              </a:rPr>
              <a:t>Это означает отказ от ориентации на освоение учащимися суммы знаний как основного результата школьного образования и нацеленность на формирование  универсальных (метапредметных) общеучебных умений и навыков, общественно-значимого ценностного отношения к знаниям,</a:t>
            </a:r>
            <a:r>
              <a:rPr b="0" lang="en-US" sz="26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d0d0d"/>
                </a:solidFill>
                <a:latin typeface="Calibri"/>
              </a:rPr>
              <a:t>развитие познавательных и творческих способностей и интерес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176040">
              <a:spcBef>
                <a:spcPts val="64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://www.mnogokinig.info/images/upload/children_in_school.jpg"/>
          <p:cNvPicPr/>
          <p:nvPr/>
        </p:nvPicPr>
        <p:blipFill>
          <a:blip r:embed="rId2"/>
          <a:srcRect l="9348" t="0" r="7691" b="0"/>
          <a:stretch/>
        </p:blipFill>
        <p:spPr>
          <a:xfrm>
            <a:off x="0" y="0"/>
            <a:ext cx="22780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bigideas.ru/userfiles/1(2).jpg"/>
          <p:cNvPicPr/>
          <p:nvPr/>
        </p:nvPicPr>
        <p:blipFill>
          <a:blip r:embed="rId1"/>
          <a:srcRect l="11874" t="0" r="0" b="0"/>
          <a:stretch/>
        </p:blipFill>
        <p:spPr>
          <a:xfrm>
            <a:off x="6948360" y="5013360"/>
            <a:ext cx="2195640" cy="1660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7280" y="0"/>
            <a:ext cx="7272360" cy="1125360"/>
          </a:xfrm>
          <a:prstGeom prst="rect">
            <a:avLst/>
          </a:prstGeom>
          <a:solidFill>
            <a:srgbClr val="4f81bd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Одной главных особенностей стандарта является нацеленность на результат.</a:t>
            </a:r>
            <a:br>
              <a:rPr sz="2500"/>
            </a:b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современных условиях школьного образования необходимо научить учащихся  оптимальной совокупности навыков учебной работы, которые обеспечивают формирование у них способностей к </a:t>
            </a:r>
            <a:r>
              <a:rPr b="0" lang="ru-RU" sz="2700" spc="-1" strike="noStrike">
                <a:solidFill>
                  <a:srgbClr val="0070c0"/>
                </a:solidFill>
                <a:latin typeface="Calibri"/>
              </a:rPr>
              <a:t>самостоятельному усвоению новых знаний и умений, умению организовать этот процесс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 это значит учащихся необходимо  научить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70c0"/>
                </a:solidFill>
                <a:latin typeface="Calibri"/>
              </a:rPr>
              <a:t>•    </a:t>
            </a:r>
            <a:r>
              <a:rPr b="0" lang="ru-RU" sz="2700" spc="-1" strike="noStrike">
                <a:solidFill>
                  <a:srgbClr val="0070c0"/>
                </a:solidFill>
                <a:latin typeface="Calibri"/>
              </a:rPr>
              <a:t>основам  организации  собственной  учебной  деятельност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70c0"/>
                </a:solidFill>
                <a:latin typeface="Calibri"/>
              </a:rPr>
              <a:t>•    </a:t>
            </a:r>
            <a:r>
              <a:rPr b="0" lang="ru-RU" sz="2700" spc="-1" strike="noStrike">
                <a:solidFill>
                  <a:srgbClr val="0070c0"/>
                </a:solidFill>
                <a:latin typeface="Calibri"/>
              </a:rPr>
              <a:t>способам  поиска, переработки и представления информаци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70c0"/>
                </a:solidFill>
                <a:latin typeface="Calibri"/>
              </a:rPr>
              <a:t>•    </a:t>
            </a:r>
            <a:r>
              <a:rPr b="0" lang="ru-RU" sz="2700" spc="-1" strike="noStrike">
                <a:solidFill>
                  <a:srgbClr val="0070c0"/>
                </a:solidFill>
                <a:latin typeface="Calibri"/>
              </a:rPr>
              <a:t>приемам и методам умственного труда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70c0"/>
                </a:solidFill>
                <a:latin typeface="Calibri"/>
              </a:rPr>
              <a:t>•    </a:t>
            </a:r>
            <a:r>
              <a:rPr b="0" lang="ru-RU" sz="2700" spc="-1" strike="noStrike">
                <a:solidFill>
                  <a:srgbClr val="0070c0"/>
                </a:solidFill>
                <a:latin typeface="Calibri"/>
              </a:rPr>
              <a:t>основам  коммуникативных умени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79280" y="259920"/>
            <a:ext cx="5832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Calibri"/>
              </a:rPr>
              <a:t>         </a:t>
            </a:r>
            <a:r>
              <a:rPr b="1" lang="ru-RU" sz="3000" spc="-1" strike="noStrike">
                <a:solidFill>
                  <a:srgbClr val="7030a0"/>
                </a:solidFill>
                <a:latin typeface="Calibri"/>
              </a:rPr>
              <a:t>Важнейшей задачей </a:t>
            </a:r>
            <a:r>
              <a:rPr b="0" lang="ru-RU" sz="3000" spc="-1" strike="noStrike">
                <a:solidFill>
                  <a:srgbClr val="7030a0"/>
                </a:solidFill>
                <a:latin typeface="Calibri"/>
              </a:rPr>
              <a:t>современной географии является </a:t>
            </a:r>
            <a:r>
              <a:rPr b="1" lang="ru-RU" sz="3000" spc="-1" strike="noStrike">
                <a:solidFill>
                  <a:srgbClr val="7030a0"/>
                </a:solidFill>
                <a:latin typeface="Calibri"/>
              </a:rPr>
              <a:t>формирование совокупности универсальных учебных действий</a:t>
            </a:r>
            <a:r>
              <a:rPr b="0" lang="ru-RU" sz="3000" spc="-1" strike="noStrike">
                <a:solidFill>
                  <a:srgbClr val="7030a0"/>
                </a:solidFill>
                <a:latin typeface="Calibri"/>
              </a:rPr>
              <a:t>, обеспечивающих компетенцию «научить учиться», а не только овладение обучающимися конкретными географическими знаниями и навыками в рамках предмет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alibri"/>
              </a:rPr>
              <a:t>УУД — это обобщенные действия, порождающие широкую ориентацию обучающихся в различных предметных областях познания и мотивацию к обучению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75.servimg.com/u/f75/18/11/26/68/school12.jpg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280" y="115920"/>
            <a:ext cx="7201080" cy="792000"/>
          </a:xfrm>
          <a:prstGeom prst="rect">
            <a:avLst/>
          </a:prstGeom>
          <a:solidFill>
            <a:srgbClr val="4f81bd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Учебные действия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539640" y="2349360"/>
            <a:ext cx="3311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мения работать  с  географическими  картами  и моделями Земл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мения  ориентироваться  на      мест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мения давать географические характеристики территории и отдельных географических объектов (процессов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мения выявлять  географические особенности размещения  объектов, явлений,   процесс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788000" y="2492280"/>
            <a:ext cx="3960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Личност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Регулятив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Познавате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Коммуникатив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Текст 2"/>
          <p:cNvSpPr/>
          <p:nvPr/>
        </p:nvSpPr>
        <p:spPr>
          <a:xfrm>
            <a:off x="611280" y="1557360"/>
            <a:ext cx="374472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едметные, географические ум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Текст 3"/>
          <p:cNvSpPr/>
          <p:nvPr/>
        </p:nvSpPr>
        <p:spPr>
          <a:xfrm>
            <a:off x="4788000" y="1413000"/>
            <a:ext cx="3456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Универсальные учебные действ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utro2.ru/uploads/posts/2012-11/1353060972_all_about_school_school_uniform_assessment_of_knowledge_and_prodlenka_for_pupils.jpg"/>
          <p:cNvPicPr/>
          <p:nvPr/>
        </p:nvPicPr>
        <p:blipFill>
          <a:blip r:embed="rId1"/>
          <a:stretch/>
        </p:blipFill>
        <p:spPr>
          <a:xfrm>
            <a:off x="5219640" y="4508640"/>
            <a:ext cx="275580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7667640" cy="1268280"/>
          </a:xfrm>
          <a:prstGeom prst="rect">
            <a:avLst/>
          </a:prstGeom>
          <a:solidFill>
            <a:srgbClr val="4f81bd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В стандарте выделены три группы результатов: личностные, метапредметные, предметные. </a:t>
            </a:r>
            <a:endParaRPr b="1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ичностные результаты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ключают готовность и способность учащихся к саморазвитию и личностному самоопределен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тапредметные результат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– новое понятие (суть - общеучебные умения),  означающе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ы деятельност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военные обучающими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www.pressfoto.ru/stock-image/607140/%D1%83%D1%80%D0%BE%D0%BA-%D0%B3%D0%B5%D0%BE%D0%B3%D1%80%D0%B0%D1%84%D0%B8%D0%B8.jpg"/>
          <p:cNvPicPr/>
          <p:nvPr/>
        </p:nvPicPr>
        <p:blipFill>
          <a:blip r:embed="rId1"/>
          <a:stretch/>
        </p:blipFill>
        <p:spPr>
          <a:xfrm>
            <a:off x="6084720" y="4557600"/>
            <a:ext cx="30592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осознание роли и места географической науки в системе научных дисциплин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освоение системы комплексных социально-ориентированных знаний о Земле как планете люде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осознание главных особенностей и проблем взаимодействия природы и общества на современном этапе его развити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овладение основами картографической грамотност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формирование умения вести наблюдения за объектам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формирование умения применять географические знания в повседневной жизни для объяснения и оценки разнообразных явлений и процессов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3"/>
          <p:cNvSpPr/>
          <p:nvPr/>
        </p:nvSpPr>
        <p:spPr>
          <a:xfrm>
            <a:off x="2058480" y="0"/>
            <a:ext cx="591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едметные результаты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аким образом, в условиях резкого увеличения объема знаний требуется смена педагогических приоритетов  - 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аучить учащихся учитьс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т.е.  необходимо  научить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сновам  организации  собственной  учебной  деятельност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пособам  поиска, переработки и представления информаци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емам и методам умственного труд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сновам  коммуникативных умен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http://newvesti.info/wp-content/uploads/2013/02/995ff50f79931d42019f6c4090e9f0f722.jpg"/>
          <p:cNvPicPr/>
          <p:nvPr/>
        </p:nvPicPr>
        <p:blipFill>
          <a:blip r:embed="rId1"/>
          <a:stretch/>
        </p:blipFill>
        <p:spPr>
          <a:xfrm>
            <a:off x="6718320" y="0"/>
            <a:ext cx="242568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7T19:12:07Z</dcterms:created>
  <dc:creator>Admin</dc:creator>
  <dc:description>http://propowerpoint.ru - Бесплатные шаблоны для презентаций. Полезные советы и уроки  PowerPoint .</dc:description>
  <dc:language>en-US</dc:language>
  <cp:lastModifiedBy>Admin</cp:lastModifiedBy>
  <dcterms:modified xsi:type="dcterms:W3CDTF">2014-10-29T12:30:18Z</dcterms:modified>
  <cp:revision>21</cp:revision>
  <dc:subject/>
  <dc:title>Тема: Изменение методики тестового контроля знаний учащихся в условиях перехода на ФГОС.</dc:title>
</cp:coreProperties>
</file>