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1E9-68F6-40E9-B5AA-5E391C23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11F-FD13-4740-ABA9-BD517E4A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E71-7E15-4940-8A06-540285B9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736-9245-4520-AE93-9FB2840A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147-3427-4E4B-A787-31A280F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9E6-3BB7-45C9-A8E9-A267C1A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D34-DFDB-4D18-86C9-B17D6390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849-1175-49C0-B24C-6214EF3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0D6-EDFA-42B2-A583-14CFED01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6F1-9E91-4421-AD5C-0E797C1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335-9FB3-4B5E-B973-90B09A9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B9D-F319-418D-92FE-86C2601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99FE-1E83-44EB-9B0B-F20AFD91E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071360"/>
            <a:ext cx="744372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2 КЛАСС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Щербакова Наталья Георгиев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151 с углубленным изучением отдельных предме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Екатерин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9640" y="62064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rial Black"/>
              </a:rPr>
              <a:t>Перед корнем есть пристав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rial Black"/>
              </a:rPr>
              <a:t>Слитно пишется 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rial Black"/>
              </a:rPr>
              <a:t>И при помощи приста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rial Black"/>
              </a:rPr>
              <a:t>Образуются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836720" y="3139920"/>
            <a:ext cx="47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 р о б е ж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706920" y="2924280"/>
            <a:ext cx="18000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083280" y="3429000"/>
            <a:ext cx="5047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"/>
          <p:cNvGrpSpPr/>
          <p:nvPr/>
        </p:nvGrpSpPr>
        <p:grpSpPr>
          <a:xfrm>
            <a:off x="5580000" y="2997000"/>
            <a:ext cx="432000" cy="431640"/>
            <a:chOff x="5580000" y="2997000"/>
            <a:chExt cx="432000" cy="431640"/>
          </a:xfrm>
        </p:grpSpPr>
        <p:sp>
          <p:nvSpPr>
            <p:cNvPr id="79" name="Line 8"/>
            <p:cNvSpPr/>
            <p:nvPr/>
          </p:nvSpPr>
          <p:spPr>
            <a:xfrm flipV="1">
              <a:off x="5580000" y="2997000"/>
              <a:ext cx="21600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 flipV="1">
              <a:off x="5796000" y="2997000"/>
              <a:ext cx="21600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1"/>
          <p:cNvSpPr/>
          <p:nvPr/>
        </p:nvSpPr>
        <p:spPr>
          <a:xfrm>
            <a:off x="1908000" y="3355920"/>
            <a:ext cx="17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635280" y="3355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0920" y="4581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Bookman Old Style"/>
              </a:rPr>
              <a:t>Приставка 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– это часть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которая стоит перед корн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и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47680" y="333360"/>
            <a:ext cx="5848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Часть слова без оконч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азывается   </a:t>
            </a:r>
            <a:r>
              <a:rPr b="1" i="1" lang="ru-RU" sz="3600" spc="-1" strike="noStrike" u="sng">
                <a:solidFill>
                  <a:srgbClr val="336600"/>
                </a:solidFill>
                <a:uFillTx/>
                <a:latin typeface="Arial"/>
              </a:rPr>
              <a:t>осн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28292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12720" y="2060640"/>
            <a:ext cx="47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 р о б е ж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211640" y="1916280"/>
            <a:ext cx="1871640" cy="841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659640" y="2276640"/>
            <a:ext cx="50328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6154560" y="1916280"/>
            <a:ext cx="431640" cy="504720"/>
            <a:chOff x="6154560" y="1916280"/>
            <a:chExt cx="431640" cy="504720"/>
          </a:xfrm>
        </p:grpSpPr>
        <p:sp>
          <p:nvSpPr>
            <p:cNvPr id="90" name="Line 9"/>
            <p:cNvSpPr/>
            <p:nvPr/>
          </p:nvSpPr>
          <p:spPr>
            <a:xfrm flipV="1">
              <a:off x="6154560" y="1916280"/>
              <a:ext cx="216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6370560" y="1916280"/>
              <a:ext cx="21564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11"/>
          <p:cNvSpPr/>
          <p:nvPr/>
        </p:nvSpPr>
        <p:spPr>
          <a:xfrm>
            <a:off x="2411280" y="23479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4138560" y="2347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2411280" y="2707920"/>
            <a:ext cx="4174920" cy="216000"/>
            <a:chOff x="2411280" y="2707920"/>
            <a:chExt cx="4174920" cy="216000"/>
          </a:xfrm>
        </p:grpSpPr>
        <p:sp>
          <p:nvSpPr>
            <p:cNvPr id="95" name="Line 13"/>
            <p:cNvSpPr/>
            <p:nvPr/>
          </p:nvSpPr>
          <p:spPr>
            <a:xfrm>
              <a:off x="2411280" y="2923920"/>
              <a:ext cx="417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 flipV="1">
              <a:off x="2411280" y="27079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15"/>
          <p:cNvSpPr/>
          <p:nvPr/>
        </p:nvSpPr>
        <p:spPr>
          <a:xfrm flipV="1">
            <a:off x="6586560" y="26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97964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12040" y="3933720"/>
            <a:ext cx="48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лгоритм разбора слова по соста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612080" y="4581360"/>
            <a:ext cx="714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и форму слова, выдели оконч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ери родственные слова, выдели кор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корнем и окончанием – суффи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корнем – при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 часть слова без окончания, выдели ос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76720" y="404640"/>
            <a:ext cx="39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Выполни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42920" y="1197000"/>
            <a:ext cx="79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итайте. Вставьте подходящие по смыслу однокоренные  слова с корнем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нег- (-снеж-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шите. Однокоренны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разберите по сост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85840" y="314316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коро зима.  Замелькают в воздухе первые _______ .  Тёплым одеялом ук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ет  ________ землю.   _________  метели заметут лесные тропы.  А детям - ра - дость.  Будут лепить ________ , строить креп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277080" y="54936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 flipH="1">
            <a:off x="1188360" y="162864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 зима.  Замелькают в воздухе перв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нежи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Теплым одеялом укро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землю.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не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ели заметут лесные тропы.  А детям радость.  Будут лепи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негов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роить креп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500720" y="2276640"/>
            <a:ext cx="287280" cy="28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916360" y="2133720"/>
            <a:ext cx="865080" cy="48096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3851280" y="2060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211640" y="2060640"/>
            <a:ext cx="289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843280" y="263700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2843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4500720" y="25650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2627280" y="2637000"/>
            <a:ext cx="914400" cy="77148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564000" y="2781360"/>
            <a:ext cx="216000" cy="28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627280" y="3141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2627280" y="299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V="1">
            <a:off x="3564000" y="299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5435640" y="2565360"/>
            <a:ext cx="1152360" cy="7700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6804000" y="2708280"/>
            <a:ext cx="57636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V="1">
            <a:off x="6588000" y="2565000"/>
            <a:ext cx="716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 flipV="1">
            <a:off x="6659280" y="25653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5508720" y="31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 flipV="1">
            <a:off x="5508720" y="299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 flipV="1">
            <a:off x="6804000" y="306828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1258920" y="4076640"/>
            <a:ext cx="1009440" cy="77148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203640" y="4221000"/>
            <a:ext cx="21600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2268360" y="4076640"/>
            <a:ext cx="574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2843280" y="4076640"/>
            <a:ext cx="433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1258920" y="458136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 flipV="1">
            <a:off x="1258920" y="4508640"/>
            <a:ext cx="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3"/>
          <p:cNvSpPr/>
          <p:nvPr/>
        </p:nvSpPr>
        <p:spPr>
          <a:xfrm flipV="1">
            <a:off x="3132000" y="4508640"/>
            <a:ext cx="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7"/>
          <p:cNvSpPr txBox="1"/>
          <p:nvPr/>
        </p:nvSpPr>
        <p:spPr>
          <a:xfrm>
            <a:off x="1763640" y="2852640"/>
            <a:ext cx="590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остав  слова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1143000" y="285840"/>
            <a:ext cx="568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Слово делится на ч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Ах, какое это счаст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ожет каждый грамо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Делать слово из час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395280" y="3573360"/>
            <a:ext cx="7921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 Black"/>
              </a:rPr>
              <a:t>Корен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Arial Black"/>
              </a:rPr>
              <a:t>это общая часть родственных</a:t>
            </a:r>
            <a:r>
              <a:rPr b="0" i="1" lang="ru-RU" sz="40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Arial Black"/>
              </a:rPr>
              <a:t>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2987640" y="5445000"/>
            <a:ext cx="2305080" cy="1413000"/>
          </a:xfrm>
          <a:prstGeom prst="pie">
            <a:avLst/>
          </a:prstGeom>
          <a:solidFill>
            <a:srgbClr val="000000"/>
          </a:solidFill>
          <a:ln w="9360">
            <a:solidFill>
              <a:srgbClr val="0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1116000" y="5661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п р о б е ж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57120" y="40464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Bookman Old Style"/>
              </a:rPr>
              <a:t>Найди лишнее слово, запи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Bookman Old Style"/>
              </a:rPr>
              <a:t>только родственные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Bookman Old Style"/>
              </a:rPr>
              <a:t>выдели ко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0040" y="27860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Борьба, борец, воевать, бор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00040" y="37893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чить, изучать, зубрить, уче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0040" y="45720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орога, подорожник, путь, придорож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43120" y="9288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3300"/>
                </a:solidFill>
                <a:uFillTx/>
                <a:latin typeface="Bookman Old Style"/>
              </a:rPr>
              <a:t>Проверь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71640" y="270828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Борьба, борец, бор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28800" y="3789360"/>
            <a:ext cx="69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чить, изучать, уче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28800" y="471492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орога, подорожник, придорож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58920" y="4762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Monotype Corsiva"/>
              </a:rPr>
              <a:t>Окончание </a:t>
            </a:r>
            <a:r>
              <a:rPr b="1" i="1" lang="ru-RU" sz="3600" spc="-1" strike="noStrike">
                <a:solidFill>
                  <a:srgbClr val="800080"/>
                </a:solidFill>
                <a:latin typeface="Monotype Corsiva"/>
              </a:rPr>
              <a:t>– это изменяемая часть слова, которая служит для связи слов в предло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637360" y="2637000"/>
            <a:ext cx="44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S Reference Sans Serif"/>
              </a:rPr>
              <a:t>п р о б е ж к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732720" y="2852640"/>
            <a:ext cx="504720" cy="50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211640" y="2421000"/>
            <a:ext cx="19224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85840" y="4653000"/>
            <a:ext cx="850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Измени форму слов, выдели окончание:</a:t>
            </a: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S Reference Sans Serif"/>
              </a:rPr>
              <a:t>лес, вет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26420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1052640"/>
            <a:ext cx="79614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йди лишнее слово, дока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ука, руки, руке, ручной, рукой, ру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илой, пила, пиле, пилка, пилы, пи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714680" y="4786200"/>
            <a:ext cx="511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258920" y="1125360"/>
            <a:ext cx="76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99"/>
                </a:solidFill>
                <a:uFillTx/>
                <a:latin typeface="Blackoak Std"/>
              </a:rPr>
              <a:t>Суффикс</a:t>
            </a: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Blackoak Std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Blackoak Std"/>
              </a:rPr>
              <a:t>– это часть слова, которая стоит после корня перед окончанием и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412720" y="4508640"/>
            <a:ext cx="49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 р о б е ж к 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284720" y="4365720"/>
            <a:ext cx="1727280" cy="9126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659640" y="4797360"/>
            <a:ext cx="5047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6084360" y="4365360"/>
            <a:ext cx="503640" cy="360720"/>
            <a:chOff x="6084360" y="4365360"/>
            <a:chExt cx="503640" cy="360720"/>
          </a:xfrm>
        </p:grpSpPr>
        <p:sp>
          <p:nvSpPr>
            <p:cNvPr id="68" name="Line 8"/>
            <p:cNvSpPr/>
            <p:nvPr/>
          </p:nvSpPr>
          <p:spPr>
            <a:xfrm flipV="1">
              <a:off x="6084720" y="43653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6300720" y="4365720"/>
              <a:ext cx="287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 flipH="1">
              <a:off x="6084360" y="4581360"/>
              <a:ext cx="7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00000" y="260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 Black"/>
              </a:rPr>
              <a:t>Образуй новые слова при помощи суффи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59920" y="1857240"/>
            <a:ext cx="666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оска,  цветок,  город, бел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ашина, 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0040" y="45007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Bell Gothic Std Light"/>
              </a:rPr>
              <a:t>Определи  часть речи  полученн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34:15Z</dcterms:created>
  <dc:creator>Portable</dc:creator>
  <dc:description/>
  <dc:language>en-US</dc:language>
  <cp:lastModifiedBy>Your User Name</cp:lastModifiedBy>
  <dcterms:modified xsi:type="dcterms:W3CDTF">2014-10-23T08:06:17Z</dcterms:modified>
  <cp:revision>19</cp:revision>
  <dc:subject/>
  <dc:title>Слайд 1</dc:title>
</cp:coreProperties>
</file>