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295-52C6-41E9-8C2A-AC8C6DC0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9D1-1720-4697-97D4-9C89992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B75-D6A9-4442-A89A-D0E24420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199-7A18-4478-8B67-94CCF0AF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BCC2-0DCE-4DC6-BE47-09F910E7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2103-1ACE-49AE-8E65-04D689CA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CBD8-1E67-4158-B8A4-5E33C579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E635-4873-48F4-9888-3EB00DDD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763B-A632-40A0-89B6-2E17CC2E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EB31-6530-4985-B689-CB8A529E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6C13-39C2-4363-BDA7-9A211DC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F21-A82D-4687-A588-07D1EB59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E72E-3DAE-41D3-8E00-31D9D91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8300-C9EE-42F0-BBC7-EC5DD320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C2AC-7863-4DAE-8C51-FBE759C3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876F-12BA-46E7-8A9B-61EDF895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E7CC-43E4-43D6-A8AF-2D5EA8D2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E7C-3685-42FE-A417-B25BA82F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E7F-B185-4666-A8C1-AE1744D5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D26-7922-4BAD-A9F9-0F9AD56D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96E-1DC3-4F95-8579-AF4DD52B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A8D-18A6-408F-A8B4-3E19A55D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2DE-7EA0-4736-A831-385378E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6B4-FEE8-4FB9-90AA-8B6B223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E17C-4BF9-46DA-9BEA-7DDA8FFFE0D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E203-BC70-436E-8BC1-68B0DC889D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3.xml"/><Relationship Id="rId4" Type="http://schemas.openxmlformats.org/officeDocument/2006/relationships/slide" Target="slide23.xml"/><Relationship Id="rId5" Type="http://schemas.openxmlformats.org/officeDocument/2006/relationships/slide" Target="slide33.xml"/><Relationship Id="rId6" Type="http://schemas.openxmlformats.org/officeDocument/2006/relationships/slide" Target="slide43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ru-RU" sz="11500" spc="-1" strike="noStrike">
                <a:solidFill>
                  <a:srgbClr val="ffffcc"/>
                </a:solidFill>
                <a:latin typeface="Tahoma"/>
              </a:rPr>
              <a:t>Э Т И К Е Т</a:t>
            </a:r>
            <a:br>
              <a:rPr sz="11500"/>
            </a:br>
            <a:r>
              <a:rPr b="0" lang="ru-RU" sz="11500" spc="-1" strike="noStrike">
                <a:solidFill>
                  <a:srgbClr val="ffffcc"/>
                </a:solidFill>
                <a:latin typeface="Tahoma"/>
              </a:rPr>
              <a:t>и мы</a:t>
            </a:r>
            <a:br>
              <a:rPr sz="8800"/>
            </a:br>
            <a:r>
              <a:rPr b="0" lang="ru-RU" sz="8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ервой входит всегда женщи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 входе или выходе и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щественного транспорта кому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дается предпочтен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ервой заходит дам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тем – мужчин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ходят – наоборо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 кого – то нечаянно толкну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сказать: « Извините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ли « Извиняюсь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звини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 разговоре по телефон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здоровается первым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вонивш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сли при разговоре по телефон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рвалась связь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должен перезвони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вонивш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 приглашаете гостей за сто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должен сесть первым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08000" y="765000"/>
          <a:ext cx="8929800" cy="5400720"/>
        </p:xfrm>
        <a:graphic>
          <a:graphicData uri="http://schemas.openxmlformats.org/drawingml/2006/table">
            <a:tbl>
              <a:tblPr/>
              <a:tblGrid>
                <a:gridCol w="2808360"/>
                <a:gridCol w="1295280"/>
                <a:gridCol w="1297080"/>
                <a:gridCol w="1224000"/>
                <a:gridCol w="1224000"/>
                <a:gridCol w="108108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вседнев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этик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Общ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Этикет за стол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Этикет в театре 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инотеат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Раз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AutoShape 110">
            <a:hlinkClick r:id="rId1" action="ppaction://hlinksldjump"/>
          </p:cNvPr>
          <p:cNvSpPr/>
          <p:nvPr/>
        </p:nvSpPr>
        <p:spPr>
          <a:xfrm>
            <a:off x="2916360" y="76500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11">
            <a:hlinkClick r:id="rId2" action="ppaction://hlinksldjump"/>
          </p:cNvPr>
          <p:cNvSpPr/>
          <p:nvPr/>
        </p:nvSpPr>
        <p:spPr>
          <a:xfrm>
            <a:off x="4211640" y="76500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12">
            <a:hlinkClick r:id="rId3" action="ppaction://hlinksldjump"/>
          </p:cNvPr>
          <p:cNvSpPr/>
          <p:nvPr/>
        </p:nvSpPr>
        <p:spPr>
          <a:xfrm>
            <a:off x="2916360" y="184464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13">
            <a:hlinkClick r:id="rId4" action="ppaction://hlinksldjump"/>
          </p:cNvPr>
          <p:cNvSpPr/>
          <p:nvPr/>
        </p:nvSpPr>
        <p:spPr>
          <a:xfrm>
            <a:off x="2916360" y="2924280"/>
            <a:ext cx="1295280" cy="107928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14">
            <a:hlinkClick r:id="rId5" action="ppaction://hlinksldjump"/>
          </p:cNvPr>
          <p:cNvSpPr/>
          <p:nvPr/>
        </p:nvSpPr>
        <p:spPr>
          <a:xfrm>
            <a:off x="2916360" y="4005360"/>
            <a:ext cx="1295280" cy="107928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115">
            <a:hlinkClick r:id="rId6" action="ppaction://hlinksldjump"/>
          </p:cNvPr>
          <p:cNvSpPr/>
          <p:nvPr/>
        </p:nvSpPr>
        <p:spPr>
          <a:xfrm>
            <a:off x="2916360" y="508464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116">
            <a:hlinkClick r:id="rId7" action="ppaction://hlinksldjump"/>
          </p:cNvPr>
          <p:cNvSpPr/>
          <p:nvPr/>
        </p:nvSpPr>
        <p:spPr>
          <a:xfrm>
            <a:off x="4211640" y="184464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17">
            <a:hlinkClick r:id="rId8" action="ppaction://hlinksldjump"/>
          </p:cNvPr>
          <p:cNvSpPr/>
          <p:nvPr/>
        </p:nvSpPr>
        <p:spPr>
          <a:xfrm>
            <a:off x="4211640" y="2924280"/>
            <a:ext cx="1295280" cy="107928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8">
            <a:hlinkClick r:id="rId9" action="ppaction://hlinksldjump"/>
          </p:cNvPr>
          <p:cNvSpPr/>
          <p:nvPr/>
        </p:nvSpPr>
        <p:spPr>
          <a:xfrm>
            <a:off x="4211640" y="4005360"/>
            <a:ext cx="1295280" cy="107928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119">
            <a:hlinkClick r:id="rId10" action="ppaction://hlinksldjump"/>
          </p:cNvPr>
          <p:cNvSpPr/>
          <p:nvPr/>
        </p:nvSpPr>
        <p:spPr>
          <a:xfrm>
            <a:off x="4211640" y="508464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20">
            <a:hlinkClick r:id="rId11" action="ppaction://hlinksldjump"/>
          </p:cNvPr>
          <p:cNvSpPr/>
          <p:nvPr/>
        </p:nvSpPr>
        <p:spPr>
          <a:xfrm>
            <a:off x="5508720" y="76500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21">
            <a:hlinkClick r:id="rId12" action="ppaction://hlinksldjump"/>
          </p:cNvPr>
          <p:cNvSpPr/>
          <p:nvPr/>
        </p:nvSpPr>
        <p:spPr>
          <a:xfrm>
            <a:off x="5508720" y="184464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122">
            <a:hlinkClick r:id="rId13" action="ppaction://hlinksldjump"/>
          </p:cNvPr>
          <p:cNvSpPr/>
          <p:nvPr/>
        </p:nvSpPr>
        <p:spPr>
          <a:xfrm>
            <a:off x="5508720" y="2924280"/>
            <a:ext cx="1222200" cy="107928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123">
            <a:hlinkClick r:id="rId14" action="ppaction://hlinksldjump"/>
          </p:cNvPr>
          <p:cNvSpPr/>
          <p:nvPr/>
        </p:nvSpPr>
        <p:spPr>
          <a:xfrm>
            <a:off x="5508720" y="4005360"/>
            <a:ext cx="1222200" cy="107928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124">
            <a:hlinkClick r:id="rId15" action="ppaction://hlinksldjump"/>
          </p:cNvPr>
          <p:cNvSpPr/>
          <p:nvPr/>
        </p:nvSpPr>
        <p:spPr>
          <a:xfrm>
            <a:off x="5508720" y="508464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125">
            <a:hlinkClick r:id="rId16" action="ppaction://hlinksldjump"/>
          </p:cNvPr>
          <p:cNvSpPr/>
          <p:nvPr/>
        </p:nvSpPr>
        <p:spPr>
          <a:xfrm>
            <a:off x="6732720" y="76500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26">
            <a:hlinkClick r:id="rId17" action="ppaction://hlinksldjump"/>
          </p:cNvPr>
          <p:cNvSpPr/>
          <p:nvPr/>
        </p:nvSpPr>
        <p:spPr>
          <a:xfrm>
            <a:off x="6732720" y="184464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7">
            <a:hlinkClick r:id="rId18" action="ppaction://hlinksldjump"/>
          </p:cNvPr>
          <p:cNvSpPr/>
          <p:nvPr/>
        </p:nvSpPr>
        <p:spPr>
          <a:xfrm>
            <a:off x="6732720" y="2924280"/>
            <a:ext cx="1222200" cy="107928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28">
            <a:hlinkClick r:id="rId19" action="ppaction://hlinksldjump"/>
          </p:cNvPr>
          <p:cNvSpPr/>
          <p:nvPr/>
        </p:nvSpPr>
        <p:spPr>
          <a:xfrm>
            <a:off x="6732720" y="4005360"/>
            <a:ext cx="1222200" cy="107928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29">
            <a:hlinkClick r:id="rId20" action="ppaction://hlinksldjump"/>
          </p:cNvPr>
          <p:cNvSpPr/>
          <p:nvPr/>
        </p:nvSpPr>
        <p:spPr>
          <a:xfrm>
            <a:off x="6732720" y="508464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30">
            <a:hlinkClick r:id="rId21" action="ppaction://hlinksldjump"/>
          </p:cNvPr>
          <p:cNvSpPr/>
          <p:nvPr/>
        </p:nvSpPr>
        <p:spPr>
          <a:xfrm>
            <a:off x="7956720" y="76500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33">
            <a:hlinkClick r:id="rId22" action="ppaction://hlinksldjump"/>
          </p:cNvPr>
          <p:cNvSpPr/>
          <p:nvPr/>
        </p:nvSpPr>
        <p:spPr>
          <a:xfrm>
            <a:off x="7956720" y="184464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34">
            <a:hlinkClick r:id="rId23" action="ppaction://hlinksldjump"/>
          </p:cNvPr>
          <p:cNvSpPr/>
          <p:nvPr/>
        </p:nvSpPr>
        <p:spPr>
          <a:xfrm>
            <a:off x="7956720" y="2924280"/>
            <a:ext cx="1079280" cy="10792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135">
            <a:hlinkClick r:id="rId24" action="ppaction://hlinksldjump"/>
          </p:cNvPr>
          <p:cNvSpPr/>
          <p:nvPr/>
        </p:nvSpPr>
        <p:spPr>
          <a:xfrm>
            <a:off x="7956720" y="4005360"/>
            <a:ext cx="1079280" cy="10792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136">
            <a:hlinkClick r:id="rId25" action="ppaction://hlinksldjump"/>
          </p:cNvPr>
          <p:cNvSpPr/>
          <p:nvPr/>
        </p:nvSpPr>
        <p:spPr>
          <a:xfrm>
            <a:off x="7956720" y="508464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гда гости собрались, хозяйк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глашая их к столу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дится за стол перва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 пришел по приглашению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о  в доме  уже много гос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вои действ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ать руку хозяйке и хозяину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остальным, слегка поклоняясь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казать: « Здравствуйте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берут из общего блюда хлеб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ук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 размешали сахар в ча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то делать с ложко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ладут на блюдечк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без слов сказать, что в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кончили куш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ож и вилка крест-накрест  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уза в е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раллельно – окончание трапез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ас угостили стаканом компот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вы выпьете ег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428840" y="107172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можно  приветствоват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начала надо выпить жидкость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том  с помощью ложечки доста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яго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сточку выплюнуть сначала 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ожечку, потом положить е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блюд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 какой стороны подаю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ушанья, а с какой забирают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ают кушанья со стороны левой ру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упы и напитки – со стороны прав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бирают тарелки с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 собираетесь в теат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 сколько минут до нача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ектакля нужно приходи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 30 минут, чтобы успе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ез спешки раздеться, пройти 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рительный зал и занять мест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то нельзя дела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о время спектакл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говаривать, шуршать бумажкам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ерзать, есть, делиться впечатлениям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ставать и уходи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быть с мороженым в театр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ли кинотеатре, если ты не успе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го  съесть, а звонок уже зо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 зрительный за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бросить в урн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сли ты опоздал в театр  и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инотеатр, нужно 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кать свое мест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ивок, жест, рукопожати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лово,    объят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обходимо сесть 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лижайшее свободное мест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ре нужно в театре ( кинотеатр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йти до мес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идет первым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дет и ведет до места мужчин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чем лицом к сидящи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ожно ли обратиться 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знакомому человеку словам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 Эй, ты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ем чистят мандарин и апельсин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андарин – рукой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пельсин – нож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первым кладет телефонную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бку – мужчина или женщин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енщи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должен здороваться первы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оящий или проходящи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первым здоровается пр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ходе в помещен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ервым здороваетс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ходящ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выйти из-за сто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 окончании обед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з-за стола выходя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месте  с другим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благодарив хозяев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 собой  задвигают сту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ервым здоровается всег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ходящий, независимо от пол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 возрас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кого должен пропустить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от, кто входит в магазин, и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от, кто выходит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до пропустить того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выходит из магази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ужчина и женщина входя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 помещени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должен войти первым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3">
            <a:hlinkClick r:id="rId1" action="ppaction://hlinksldjump"/>
          </p:cNvPr>
          <p:cNvSpPr/>
          <p:nvPr/>
        </p:nvSpPr>
        <p:spPr>
          <a:xfrm>
            <a:off x="39528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4">
            <a:hlinkClick r:id="rId2" action="ppaction://hlinksldjump"/>
          </p:cNvPr>
          <p:cNvSpPr/>
          <p:nvPr/>
        </p:nvSpPr>
        <p:spPr>
          <a:xfrm>
            <a:off x="6084720" y="587700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9:29:22Z</dcterms:created>
  <dc:creator>1</dc:creator>
  <dc:description/>
  <dc:language>en-US</dc:language>
  <cp:lastModifiedBy>Admin</cp:lastModifiedBy>
  <dcterms:modified xsi:type="dcterms:W3CDTF">2010-04-20T11:52:53Z</dcterms:modified>
  <cp:revision>68</cp:revision>
  <dc:subject/>
  <dc:title>«Дмитрий Иванович Менделеев – великий ученый»</dc:title>
</cp:coreProperties>
</file>