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661-803C-4F0F-AACE-59E3F4C0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B5C-2BFF-4364-906E-54A2B12A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FE5-ED32-4679-895E-7142A96B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E1F-6227-4EC4-8B9E-D35C57C2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0D0F-255B-4BB0-BBA1-92D25256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28EE-9BC8-4413-B0E3-F0EB9311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1C5E-AA15-4B98-BA45-D95CDE5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A80-1468-4446-BE72-B57D056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6B2C-0EA4-4A77-A3BE-BA2B265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7F06-A687-47F6-AE1D-670E5C17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521-4D11-40CE-828A-1D3588F7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991-3A2F-48E1-8959-5BD628E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A0D-8BC1-44B7-B696-3D7A8DB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D958-B721-45FA-9287-8561BEE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EBA0-4FE0-4140-8474-2169BD63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5AAB-9B44-453D-B7A6-16D21EDD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593-E366-47B9-9780-0E7C55A7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634-A742-45B1-84C8-7DCA8E9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052-8040-408D-B24E-AC9AFEA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155-3864-4951-9A44-62E6DF4E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480-36B9-4F64-9666-B69DF02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4DD-0BD4-4AE6-A611-5CF659FB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483-6A2E-4F13-AC2C-5B507B1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C0E-42BB-4453-8106-D484856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D70D-F9B5-450C-A9BD-6C30D53959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B5AF-7D22-4A83-8AB7-C880D4300E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5400" spc="-1" strike="noStrike">
                <a:solidFill>
                  <a:srgbClr val="eaeaea"/>
                </a:solidFill>
                <a:latin typeface="Tahoma"/>
              </a:rPr>
              <a:t>Создание учителем творческих условий для эффективности урока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333360"/>
          <a:ext cx="7543800" cy="602604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одит индивидуальные занятия с отстающими или наиболее подготовленными деть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дет индивидуальную работу с каждым учащим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ует и направляет детскую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могает детям самостоятельно спланировать свою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ивает результаты работы детей, подмечая и исправляя допущенные ошиб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ощряет детей самостоятельно оценивать результаты их работы и исправлять допущенные ошиб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 правила поведения в классе и следит за их соблюдением детьм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 детей самостоятельно вырабатывать правила поведения и контролировать их соблю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ешает возникающие конфликты между детьми: поощряет правых и наказывает виноваты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буждает детей обсуждать возникающие между ними конфликтные ситуации и самостоятельно искать пути их разреше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Личность учителя является ведущим фактором любого обуч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из Рабочей концепции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Наша новая школа»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Цель создания творческих условий на уроке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интереса к предме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 коммуникативной, информационной, социальной  компетен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имуляция познавательного интере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творческих умений и самореализация в учебном процес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особности учител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844640"/>
            <a:ext cx="3168720" cy="1079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тор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1916280"/>
            <a:ext cx="3095640" cy="93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цеп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068640"/>
            <a:ext cx="309564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муник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797360"/>
            <a:ext cx="3166920" cy="1347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следователь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35640" y="4005360"/>
            <a:ext cx="2808360" cy="769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д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933720"/>
            <a:ext cx="3311280" cy="1008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нава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лементы методики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оздание "проблемных ситуаций" в процессе изложения учебного материала (использование видеофрагментов с противоположными точками зрения на одну и ту же проблему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иды заняти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, лекция, беседа, киноурок (использование аудио-видео материало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Формы работы учеников: работа с книгой, анализ произведения, исследовательская работа, сочинение, создание презент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Оценка качества усвоенных знаний на занятиях в форме тестирования, тест – опрос. Материал урока должен быть разбит на чёткие, законченные части, логично соединённые друг с другом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оды и формы обуч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797360"/>
            <a:ext cx="2303640" cy="1008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бот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1700280"/>
            <a:ext cx="496764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чностно-ориентирова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3240360" cy="1079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ровн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фференци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5734080"/>
            <a:ext cx="2879640" cy="1008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ври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т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4869000"/>
            <a:ext cx="2303640" cy="1008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т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б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29000"/>
            <a:ext cx="3384720" cy="10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и с непол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лов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Учебная деятельн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тоды формир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ллюстративно- объясни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продуктив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следователь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ично поиск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иск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вор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блем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ронт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иоритеты личностно- ориентированного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1981080"/>
          <a:ext cx="7543800" cy="490392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традиционном уроке учитель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но- ориентированном уроке учитель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учает всех детей установленной сумме ЗУН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ствует эффективному накоплению каждым ребёнком своего личностного оп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 задания, форму работы и демонстрирует образец выполненного зад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агает детям учебные задания и формы работы на выбор, поощряет детей к самостоятельному поиску путей решения этих задан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рается заинтересовать детей в том учебном материале, который предлагает с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емиться выявить реальные интересы детей и согласовывать с ними подбор и организац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б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6:46:47Z</dcterms:created>
  <dc:creator>12</dc:creator>
  <dc:description/>
  <dc:language>en-US</dc:language>
  <cp:lastModifiedBy>12</cp:lastModifiedBy>
  <dcterms:modified xsi:type="dcterms:W3CDTF">2010-11-30T14:09:51Z</dcterms:modified>
  <cp:revision>5</cp:revision>
  <dc:subject/>
  <dc:title>    Создание учителем творческих условий для эффективности урока</dc:title>
</cp:coreProperties>
</file>